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9B9E-55BF-404C-A577-51E5F739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CA05-D6AC-4EA8-AF78-D2D86571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F22-0312-4BB1-A217-ADC0D0AC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0CE3-54B5-430D-A27A-D10B60DA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F6EC-971B-4BE4-BDB9-A029C942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D2DE-99B3-4093-A7C7-6BA3830B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849E-ECFF-4F43-89D6-4A1064A7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1035-F687-4B34-8D74-500B366A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972-6391-4189-8464-0AB5312F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B6CD-FA69-47A8-A3BC-9BE76986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BAE7-BF35-43D8-82DC-05511B9D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927-0FD3-4EF4-BA6B-96C6167A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E62D-599C-4D99-939B-4B9C2941A6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40306s016.edusite.ru/images/p17_book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0400" y="189000"/>
            <a:ext cx="738360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ворческая группа учителей,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ализующих ФГОС ООО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Заседание на тему</a:t>
            </a:r>
            <a:br>
              <a:rPr sz="3200"/>
            </a:b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«Такие разные УУД»</a:t>
            </a:r>
            <a:br>
              <a:rPr sz="32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орма: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еминар – практикум взаимо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image006"/>
          <p:cNvPicPr/>
          <p:nvPr/>
        </p:nvPicPr>
        <p:blipFill>
          <a:blip r:embed="rId1"/>
          <a:stretch/>
        </p:blipFill>
        <p:spPr>
          <a:xfrm>
            <a:off x="23760" y="4680"/>
            <a:ext cx="2463840" cy="26323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1"/>
          <p:cNvSpPr/>
          <p:nvPr/>
        </p:nvSpPr>
        <p:spPr>
          <a:xfrm>
            <a:off x="4859280" y="587700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Заместитель директора по УР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Щергунова Лариса Евген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11280" y="765000"/>
            <a:ext cx="806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снове стандарта лежит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333399"/>
                </a:solidFill>
                <a:latin typeface="Times New Roman"/>
              </a:rPr>
              <a:t>системно-деятельностный подх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03280" y="357336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универсальных учебных действ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бщенных способов действия, обеспечивающих высокую эффективность решения жизненных задач и возможность саморазвития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Вопрос 4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расшифроват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понятие УУД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1"/>
          <a:stretch/>
        </p:blipFill>
        <p:spPr>
          <a:xfrm>
            <a:off x="5286240" y="214200"/>
            <a:ext cx="3857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54480" y="2606760"/>
            <a:ext cx="3526560" cy="34441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широком значении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умение учитьс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т.е. способность субъекта к саморазвитию и самосовершенствованию путем сознательного и активного присвоения нового социального опы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6"/>
          <p:cNvSpPr/>
          <p:nvPr/>
        </p:nvSpPr>
        <p:spPr>
          <a:xfrm>
            <a:off x="4643280" y="2492280"/>
            <a:ext cx="4105440" cy="374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узком знач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совокупность способов действия учащегося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(а также связанных с ними навыков учебной работы), обеспечивающих его способность к самостоятельному усвоению новых знаний и умений, включая организацию эт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5"/>
          <p:cNvSpPr/>
          <p:nvPr/>
        </p:nvSpPr>
        <p:spPr>
          <a:xfrm>
            <a:off x="684360" y="404640"/>
            <a:ext cx="8001000" cy="1368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84360" y="40464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ниверсальные учебн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H="1">
            <a:off x="3058920" y="1773360"/>
            <a:ext cx="93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5003640" y="1773360"/>
            <a:ext cx="8636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0" y="357120"/>
            <a:ext cx="7215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00240" indent="-743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опрос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ы универсальных учебных действ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1"/>
          <a:stretch/>
        </p:blipFill>
        <p:spPr>
          <a:xfrm>
            <a:off x="6429240" y="2836800"/>
            <a:ext cx="2714760" cy="4021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2"/>
          <a:stretch/>
        </p:blipFill>
        <p:spPr>
          <a:xfrm>
            <a:off x="6581880" y="2989440"/>
            <a:ext cx="2714400" cy="40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универсальных учебных действ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5"/>
          <p:cNvSpPr/>
          <p:nvPr/>
        </p:nvSpPr>
        <p:spPr>
          <a:xfrm>
            <a:off x="0" y="1989000"/>
            <a:ext cx="2928960" cy="14288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61"/>
          <p:cNvSpPr/>
          <p:nvPr/>
        </p:nvSpPr>
        <p:spPr>
          <a:xfrm>
            <a:off x="386640" y="2565360"/>
            <a:ext cx="20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7"/>
          <p:cNvSpPr/>
          <p:nvPr/>
        </p:nvSpPr>
        <p:spPr>
          <a:xfrm>
            <a:off x="1979640" y="2924280"/>
            <a:ext cx="2857320" cy="1428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0"/>
          <p:cNvSpPr/>
          <p:nvPr/>
        </p:nvSpPr>
        <p:spPr>
          <a:xfrm>
            <a:off x="2234160" y="335772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УЛЯ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8"/>
          <p:cNvSpPr/>
          <p:nvPr/>
        </p:nvSpPr>
        <p:spPr>
          <a:xfrm>
            <a:off x="4788000" y="2852640"/>
            <a:ext cx="2857320" cy="1428840"/>
          </a:xfrm>
          <a:prstGeom prst="ellipse">
            <a:avLst/>
          </a:prstGeom>
          <a:solidFill>
            <a:srgbClr val="6666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9"/>
          <p:cNvSpPr/>
          <p:nvPr/>
        </p:nvSpPr>
        <p:spPr>
          <a:xfrm>
            <a:off x="4898160" y="3429000"/>
            <a:ext cx="26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НАВ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6"/>
          <p:cNvSpPr/>
          <p:nvPr/>
        </p:nvSpPr>
        <p:spPr>
          <a:xfrm>
            <a:off x="6084720" y="1700280"/>
            <a:ext cx="2857680" cy="1428840"/>
          </a:xfrm>
          <a:prstGeom prst="ellipse">
            <a:avLst/>
          </a:prstGeom>
          <a:solidFill>
            <a:srgbClr val="7575d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8"/>
          <p:cNvSpPr/>
          <p:nvPr/>
        </p:nvSpPr>
        <p:spPr>
          <a:xfrm>
            <a:off x="6006960" y="227664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8"/>
          <p:cNvSpPr/>
          <p:nvPr/>
        </p:nvSpPr>
        <p:spPr>
          <a:xfrm flipH="1">
            <a:off x="2556000" y="1557360"/>
            <a:ext cx="1079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9"/>
          <p:cNvSpPr/>
          <p:nvPr/>
        </p:nvSpPr>
        <p:spPr>
          <a:xfrm>
            <a:off x="3924360" y="1484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1"/>
          <p:cNvSpPr/>
          <p:nvPr/>
        </p:nvSpPr>
        <p:spPr>
          <a:xfrm>
            <a:off x="5148360" y="148428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2"/>
          <p:cNvSpPr/>
          <p:nvPr/>
        </p:nvSpPr>
        <p:spPr>
          <a:xfrm>
            <a:off x="4500720" y="1557360"/>
            <a:ext cx="576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опрос 6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ируемые результат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стижений обучающихс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1"/>
          <a:stretch/>
        </p:blipFill>
        <p:spPr>
          <a:xfrm>
            <a:off x="6143760" y="579600"/>
            <a:ext cx="300024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1078920" y="214200"/>
            <a:ext cx="7194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ируемые результа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стижений обучающих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108000" y="2637000"/>
            <a:ext cx="2736720" cy="92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ЛИЧНОС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3059280" y="2637000"/>
            <a:ext cx="2665080" cy="100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6012000" y="2637000"/>
            <a:ext cx="2663640" cy="100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 flipH="1">
            <a:off x="1835280" y="1700280"/>
            <a:ext cx="194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4427640" y="1628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1"/>
          <p:cNvSpPr/>
          <p:nvPr/>
        </p:nvSpPr>
        <p:spPr>
          <a:xfrm>
            <a:off x="5435640" y="1628640"/>
            <a:ext cx="136836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1151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ru-RU" sz="3600" spc="-1" strike="noStrike">
                <a:solidFill>
                  <a:srgbClr val="c00000"/>
                </a:solidFill>
                <a:latin typeface="Arial"/>
              </a:rPr>
              <a:t>Приёмы «Дай себе помочь»</a:t>
            </a:r>
            <a:br>
              <a:rPr sz="3600"/>
            </a:br>
            <a:r>
              <a:rPr b="0" i="1" lang="ru-RU" sz="3600" spc="-1" strike="noStrike">
                <a:solidFill>
                  <a:srgbClr val="c00000"/>
                </a:solidFill>
                <a:latin typeface="Arial"/>
              </a:rPr>
              <a:t>«Работа в группах»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основе текст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оставить кластер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1"/>
          <a:stretch/>
        </p:blipFill>
        <p:spPr>
          <a:xfrm>
            <a:off x="5946840" y="2428920"/>
            <a:ext cx="31971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Diagram 5"/>
          <p:cNvGrpSpPr/>
          <p:nvPr/>
        </p:nvGrpSpPr>
        <p:grpSpPr>
          <a:xfrm>
            <a:off x="666360" y="513000"/>
            <a:ext cx="7810200" cy="4822560"/>
            <a:chOff x="666360" y="513000"/>
            <a:chExt cx="7810200" cy="4822560"/>
          </a:xfrm>
        </p:grpSpPr>
        <p:sp>
          <p:nvSpPr>
            <p:cNvPr id="98" name="_s1028"/>
            <p:cNvSpPr/>
            <p:nvPr/>
          </p:nvSpPr>
          <p:spPr>
            <a:xfrm flipH="1">
              <a:off x="2688480" y="3849480"/>
              <a:ext cx="939240" cy="37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29"/>
            <p:cNvSpPr/>
            <p:nvPr/>
          </p:nvSpPr>
          <p:spPr>
            <a:xfrm>
              <a:off x="666360" y="3852000"/>
              <a:ext cx="2171160" cy="1483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Осозн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0"/>
            <p:cNvSpPr/>
            <p:nvPr/>
          </p:nvSpPr>
          <p:spPr>
            <a:xfrm>
              <a:off x="5511240" y="3852000"/>
              <a:ext cx="939240" cy="37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1"/>
            <p:cNvSpPr/>
            <p:nvPr/>
          </p:nvSpPr>
          <p:spPr>
            <a:xfrm>
              <a:off x="6304680" y="3849480"/>
              <a:ext cx="2171880" cy="148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Принят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жизненны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ценносте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2"/>
            <p:cNvSpPr/>
            <p:nvPr/>
          </p:nvSpPr>
          <p:spPr>
            <a:xfrm flipV="1">
              <a:off x="4571640" y="1997280"/>
              <a:ext cx="0" cy="74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3"/>
            <p:cNvSpPr/>
            <p:nvPr/>
          </p:nvSpPr>
          <p:spPr>
            <a:xfrm>
              <a:off x="3485880" y="513000"/>
              <a:ext cx="2171160" cy="148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Осмыс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4"/>
            <p:cNvSpPr/>
            <p:nvPr/>
          </p:nvSpPr>
          <p:spPr>
            <a:xfrm>
              <a:off x="3485880" y="2739240"/>
              <a:ext cx="2171160" cy="14835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Личност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Diagram 5"/>
          <p:cNvGrpSpPr/>
          <p:nvPr/>
        </p:nvGrpSpPr>
        <p:grpSpPr>
          <a:xfrm>
            <a:off x="310680" y="765360"/>
            <a:ext cx="8520840" cy="5715000"/>
            <a:chOff x="310680" y="765360"/>
            <a:chExt cx="8520840" cy="5715000"/>
          </a:xfrm>
        </p:grpSpPr>
        <p:sp>
          <p:nvSpPr>
            <p:cNvPr id="106" name="_s2052"/>
            <p:cNvSpPr/>
            <p:nvPr/>
          </p:nvSpPr>
          <p:spPr>
            <a:xfrm flipH="1" flipV="1">
              <a:off x="2875680" y="2808720"/>
              <a:ext cx="847080" cy="45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2053"/>
            <p:cNvSpPr/>
            <p:nvPr/>
          </p:nvSpPr>
          <p:spPr>
            <a:xfrm>
              <a:off x="939240" y="1602720"/>
              <a:ext cx="2171160" cy="148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Само-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регуляци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2054"/>
            <p:cNvSpPr/>
            <p:nvPr/>
          </p:nvSpPr>
          <p:spPr>
            <a:xfrm flipH="1">
              <a:off x="2459520" y="3896280"/>
              <a:ext cx="105372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055"/>
            <p:cNvSpPr/>
            <p:nvPr/>
          </p:nvSpPr>
          <p:spPr>
            <a:xfrm>
              <a:off x="310680" y="3485880"/>
              <a:ext cx="2171160" cy="1483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Оценк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2056"/>
            <p:cNvSpPr/>
            <p:nvPr/>
          </p:nvSpPr>
          <p:spPr>
            <a:xfrm flipH="1">
              <a:off x="3634560" y="4399560"/>
              <a:ext cx="466200" cy="66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057"/>
            <p:cNvSpPr/>
            <p:nvPr/>
          </p:nvSpPr>
          <p:spPr>
            <a:xfrm>
              <a:off x="2076120" y="4996080"/>
              <a:ext cx="2171160" cy="148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Коррекци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058"/>
            <p:cNvSpPr/>
            <p:nvPr/>
          </p:nvSpPr>
          <p:spPr>
            <a:xfrm>
              <a:off x="5041080" y="4399560"/>
              <a:ext cx="472680" cy="66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2059"/>
            <p:cNvSpPr/>
            <p:nvPr/>
          </p:nvSpPr>
          <p:spPr>
            <a:xfrm>
              <a:off x="4901400" y="4993920"/>
              <a:ext cx="2171880" cy="1483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060"/>
            <p:cNvSpPr/>
            <p:nvPr/>
          </p:nvSpPr>
          <p:spPr>
            <a:xfrm>
              <a:off x="5628600" y="3896280"/>
              <a:ext cx="1057320" cy="16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061"/>
            <p:cNvSpPr/>
            <p:nvPr/>
          </p:nvSpPr>
          <p:spPr>
            <a:xfrm>
              <a:off x="6660360" y="3484080"/>
              <a:ext cx="2171160" cy="1483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Прогнози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р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062"/>
            <p:cNvSpPr/>
            <p:nvPr/>
          </p:nvSpPr>
          <p:spPr>
            <a:xfrm flipV="1">
              <a:off x="5419080" y="2806560"/>
              <a:ext cx="847080" cy="46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2063"/>
            <p:cNvSpPr/>
            <p:nvPr/>
          </p:nvSpPr>
          <p:spPr>
            <a:xfrm>
              <a:off x="6031800" y="1602720"/>
              <a:ext cx="2171160" cy="148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500" spc="-1" strike="noStrike">
                  <a:solidFill>
                    <a:srgbClr val="000000"/>
                  </a:solidFill>
                  <a:latin typeface="Arial"/>
                </a:rPr>
                <a:t>Плани-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500" spc="-1" strike="noStrike">
                  <a:solidFill>
                    <a:srgbClr val="000000"/>
                  </a:solidFill>
                  <a:latin typeface="Arial"/>
                </a:rPr>
                <a:t>ровани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064"/>
            <p:cNvSpPr/>
            <p:nvPr/>
          </p:nvSpPr>
          <p:spPr>
            <a:xfrm flipV="1">
              <a:off x="4571640" y="2249640"/>
              <a:ext cx="0" cy="74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065"/>
            <p:cNvSpPr/>
            <p:nvPr/>
          </p:nvSpPr>
          <p:spPr>
            <a:xfrm>
              <a:off x="3485880" y="765360"/>
              <a:ext cx="2171160" cy="148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500" spc="-1" strike="noStrike">
                  <a:solidFill>
                    <a:srgbClr val="000000"/>
                  </a:solidFill>
                  <a:latin typeface="Arial"/>
                </a:rPr>
                <a:t>Целе-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500" spc="-1" strike="noStrike">
                  <a:solidFill>
                    <a:srgbClr val="000000"/>
                  </a:solidFill>
                  <a:latin typeface="Arial"/>
                </a:rPr>
                <a:t>полагани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066"/>
            <p:cNvSpPr/>
            <p:nvPr/>
          </p:nvSpPr>
          <p:spPr>
            <a:xfrm>
              <a:off x="3485880" y="2991600"/>
              <a:ext cx="2171160" cy="14835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Регулятив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99680" y="500040"/>
            <a:ext cx="86439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«Наша задача не в том, чтобы сделать себя необходимыми нашим детям, а напротив, в том, чтобы помочь им научиться по возможности обходиться без нас»        Конради К.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&amp;Fcy;&amp;Gcy;&amp;Ocy;&amp;Scy;: &amp;ocy;&amp;tcy; &amp;tcy;&amp;iecy;&amp;ocy;&amp;rcy;&amp;icy;&amp;icy; &amp;kcy; &amp;pcy;&amp;rcy;&amp;acy;&amp;kcy;&amp;tcy;&amp;icy;&amp;kcy;&amp;iecy; - &amp;Kcy;&amp;acy;&amp;rcy;&amp;tcy;&amp;icy;&amp;ncy;&amp;kcy;&amp;acy; 9362/8"/>
          <p:cNvPicPr/>
          <p:nvPr/>
        </p:nvPicPr>
        <p:blipFill>
          <a:blip r:embed="rId1"/>
          <a:stretch/>
        </p:blipFill>
        <p:spPr>
          <a:xfrm>
            <a:off x="2714760" y="0"/>
            <a:ext cx="3571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Diagram 5"/>
          <p:cNvGrpSpPr/>
          <p:nvPr/>
        </p:nvGrpSpPr>
        <p:grpSpPr>
          <a:xfrm>
            <a:off x="227880" y="424800"/>
            <a:ext cx="8686440" cy="6267600"/>
            <a:chOff x="227880" y="424800"/>
            <a:chExt cx="8686440" cy="6267600"/>
          </a:xfrm>
        </p:grpSpPr>
        <p:sp>
          <p:nvSpPr>
            <p:cNvPr id="122" name="_s3076"/>
            <p:cNvSpPr/>
            <p:nvPr/>
          </p:nvSpPr>
          <p:spPr>
            <a:xfrm flipH="1">
              <a:off x="2399040" y="35589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3077"/>
            <p:cNvSpPr/>
            <p:nvPr/>
          </p:nvSpPr>
          <p:spPr>
            <a:xfrm>
              <a:off x="227880" y="2775600"/>
              <a:ext cx="2171160" cy="156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Способ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решен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зада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3078"/>
            <p:cNvSpPr/>
            <p:nvPr/>
          </p:nvSpPr>
          <p:spPr>
            <a:xfrm>
              <a:off x="4571640" y="4342320"/>
              <a:ext cx="0" cy="78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3079"/>
            <p:cNvSpPr/>
            <p:nvPr/>
          </p:nvSpPr>
          <p:spPr>
            <a:xfrm>
              <a:off x="3485880" y="5125680"/>
              <a:ext cx="2171160" cy="156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Логическ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действия 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опер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3080"/>
            <p:cNvSpPr/>
            <p:nvPr/>
          </p:nvSpPr>
          <p:spPr>
            <a:xfrm>
              <a:off x="5657400" y="3558960"/>
              <a:ext cx="108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3081"/>
            <p:cNvSpPr/>
            <p:nvPr/>
          </p:nvSpPr>
          <p:spPr>
            <a:xfrm>
              <a:off x="6743160" y="2775600"/>
              <a:ext cx="2171160" cy="156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Модел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3082"/>
            <p:cNvSpPr/>
            <p:nvPr/>
          </p:nvSpPr>
          <p:spPr>
            <a:xfrm flipV="1">
              <a:off x="4571640" y="1992240"/>
              <a:ext cx="0" cy="78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3083"/>
            <p:cNvSpPr/>
            <p:nvPr/>
          </p:nvSpPr>
          <p:spPr>
            <a:xfrm>
              <a:off x="3485880" y="424800"/>
              <a:ext cx="2171160" cy="1567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Поиск, отбор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структурирова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3084"/>
            <p:cNvSpPr/>
            <p:nvPr/>
          </p:nvSpPr>
          <p:spPr>
            <a:xfrm>
              <a:off x="3485880" y="2775600"/>
              <a:ext cx="2171160" cy="1566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ознаватель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Diagram 5"/>
          <p:cNvGrpSpPr/>
          <p:nvPr/>
        </p:nvGrpSpPr>
        <p:grpSpPr>
          <a:xfrm>
            <a:off x="666360" y="765360"/>
            <a:ext cx="7810200" cy="5933520"/>
            <a:chOff x="666360" y="765360"/>
            <a:chExt cx="7810200" cy="5933520"/>
          </a:xfrm>
        </p:grpSpPr>
        <p:sp>
          <p:nvSpPr>
            <p:cNvPr id="132" name="_s4100"/>
            <p:cNvSpPr/>
            <p:nvPr/>
          </p:nvSpPr>
          <p:spPr>
            <a:xfrm flipH="1" flipV="1">
              <a:off x="2691360" y="2989080"/>
              <a:ext cx="939240" cy="37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4101"/>
            <p:cNvSpPr/>
            <p:nvPr/>
          </p:nvSpPr>
          <p:spPr>
            <a:xfrm>
              <a:off x="666360" y="1876320"/>
              <a:ext cx="2171160" cy="1483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Владе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монологическ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и диалогическ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формами реч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4102"/>
            <p:cNvSpPr/>
            <p:nvPr/>
          </p:nvSpPr>
          <p:spPr>
            <a:xfrm flipH="1">
              <a:off x="2691360" y="4101840"/>
              <a:ext cx="939240" cy="37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4103"/>
            <p:cNvSpPr/>
            <p:nvPr/>
          </p:nvSpPr>
          <p:spPr>
            <a:xfrm>
              <a:off x="666360" y="4101840"/>
              <a:ext cx="2171160" cy="148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Ум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полно и яс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выража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свои мыс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4104"/>
            <p:cNvSpPr/>
            <p:nvPr/>
          </p:nvSpPr>
          <p:spPr>
            <a:xfrm>
              <a:off x="4571640" y="4473360"/>
              <a:ext cx="0" cy="74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4105"/>
            <p:cNvSpPr/>
            <p:nvPr/>
          </p:nvSpPr>
          <p:spPr>
            <a:xfrm>
              <a:off x="3485880" y="5215320"/>
              <a:ext cx="2171160" cy="1483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Контроль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коррекция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оценка действи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партнера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4106"/>
            <p:cNvSpPr/>
            <p:nvPr/>
          </p:nvSpPr>
          <p:spPr>
            <a:xfrm>
              <a:off x="5511240" y="4101840"/>
              <a:ext cx="939240" cy="37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4107"/>
            <p:cNvSpPr/>
            <p:nvPr/>
          </p:nvSpPr>
          <p:spPr>
            <a:xfrm>
              <a:off x="6304680" y="4101840"/>
              <a:ext cx="2171880" cy="148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Разреше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конфлик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4108"/>
            <p:cNvSpPr/>
            <p:nvPr/>
          </p:nvSpPr>
          <p:spPr>
            <a:xfrm flipV="1">
              <a:off x="5511240" y="2991600"/>
              <a:ext cx="939240" cy="37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4109"/>
            <p:cNvSpPr/>
            <p:nvPr/>
          </p:nvSpPr>
          <p:spPr>
            <a:xfrm>
              <a:off x="6304680" y="1878480"/>
              <a:ext cx="2171880" cy="1483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Постанов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вопрос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4110"/>
            <p:cNvSpPr/>
            <p:nvPr/>
          </p:nvSpPr>
          <p:spPr>
            <a:xfrm flipV="1">
              <a:off x="4571640" y="2249640"/>
              <a:ext cx="0" cy="74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4111"/>
            <p:cNvSpPr/>
            <p:nvPr/>
          </p:nvSpPr>
          <p:spPr>
            <a:xfrm>
              <a:off x="3485880" y="765360"/>
              <a:ext cx="2171160" cy="1484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Планирова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учеб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сотруднич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4112"/>
            <p:cNvSpPr/>
            <p:nvPr/>
          </p:nvSpPr>
          <p:spPr>
            <a:xfrm>
              <a:off x="3485880" y="2991600"/>
              <a:ext cx="2171160" cy="14835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Коммуникатив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дачей современной системы образования становится освоение   учащимися не только конкретных предметных знаний и навыков в рамках отдельных дисциплин, но и совокупност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ниверсальных учебных действи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УД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должны быть положены в основу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ора и структурирования содержа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образования, приемов, методов, форм обучения, а также построения целостного учебно-воспит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владен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УД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происходит в контексте разных учебных предметов и в конечном счете ведет к формированию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особности самостоятельно успешно усваивать новые знания, умения и компетентност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включая самостоятельную организацию процесса усвоения, т. е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мение учитьс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этом смысл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УД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ставляют собой 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результа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разовательного процесса, 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услов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своения знаний, умений и компетентност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i="1" lang="ru-RU" sz="3600" spc="-1" strike="noStrike">
                <a:solidFill>
                  <a:srgbClr val="c00000"/>
                </a:solidFill>
                <a:latin typeface="Arial"/>
              </a:rPr>
              <a:t>ПРАКТИЧЕСКАЯ РАБОТА </a:t>
            </a:r>
            <a:br>
              <a:rPr sz="3600"/>
            </a:br>
            <a:r>
              <a:rPr b="0" i="1" lang="ru-RU" sz="3600" spc="-1" strike="noStrike">
                <a:solidFill>
                  <a:srgbClr val="c00000"/>
                </a:solidFill>
                <a:latin typeface="Arial"/>
              </a:rPr>
              <a:t>по группам</a:t>
            </a:r>
            <a:br>
              <a:rPr sz="3600"/>
            </a:br>
            <a:r>
              <a:rPr b="0" i="1" lang="ru-RU" sz="3600" spc="-1" strike="noStrike">
                <a:solidFill>
                  <a:srgbClr val="c00000"/>
                </a:solidFill>
                <a:latin typeface="Arial"/>
              </a:rPr>
              <a:t>Приём «Советуйся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42640"/>
            <a:ext cx="804384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еделяем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ответств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 классификацией У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1"/>
          <a:stretch/>
        </p:blipFill>
        <p:spPr>
          <a:xfrm>
            <a:off x="6715080" y="2071800"/>
            <a:ext cx="2428920" cy="478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2"/>
          <a:stretch/>
        </p:blipFill>
        <p:spPr>
          <a:xfrm>
            <a:off x="6715080" y="2071800"/>
            <a:ext cx="2428920" cy="4786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3"/>
          <a:stretch/>
        </p:blipFill>
        <p:spPr>
          <a:xfrm>
            <a:off x="6319800" y="1893960"/>
            <a:ext cx="282420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1143000" y="135864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9280" y="2786040"/>
          <a:ext cx="8964720" cy="3535560"/>
        </p:xfrm>
        <a:graphic>
          <a:graphicData uri="http://schemas.openxmlformats.org/drawingml/2006/table">
            <a:tbl>
              <a:tblPr/>
              <a:tblGrid>
                <a:gridCol w="2057400"/>
                <a:gridCol w="1970280"/>
                <a:gridCol w="2440080"/>
                <a:gridCol w="2496960"/>
              </a:tblGrid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тив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ша выделила в словах одни окончания, Алёша – другие. А как ты считаешь? С чьим мнением согласен ты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есите предметы и звуковые модели сл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усском языке существует два слова – омонима ЛИСТ.  Подумайте, какой справочной литературой нужно воспользоваться  для выяснения значения слов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бы ты объяснил своему однокласснику, что такое родственные слов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Rectangle 56"/>
          <p:cNvSpPr/>
          <p:nvPr/>
        </p:nvSpPr>
        <p:spPr>
          <a:xfrm>
            <a:off x="0" y="466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5" descr="rj / VFL.Ru &amp;ecy;&amp;tcy;&amp;ocy;, &amp;fcy;&amp;ocy;&amp;tcy;&amp;ocy;&amp;khcy;&amp;ocy;&amp;scy;&amp;tcy;&amp;icy;&amp;ncy;&amp;gcy; &amp;bcy;&amp;iecy;&amp;zcy; &amp;rcy;&amp;iecy;&amp;gcy;&amp;icy;&amp;scy;&amp;tcy;&amp;rcy;&amp;acy;&amp;tscy;&amp;icy;&amp;icy;, &amp;icy; &amp;bcy;&amp;ycy;&amp;scy;&amp;tcy;&amp;rcy;&amp;ycy;&amp;jcy; &amp;khcy;&amp;ocy;&amp;scy;&amp;tcy;&amp;icy;&amp;ncy;&amp;gcy; &amp;icy;&amp;zcy;&amp;ocy;&amp;bcy;&amp;rcy;&amp;acy;&amp;zhcy;&amp;iecy;&amp;ncy;&amp;icy;&amp;jcy;."/>
          <p:cNvPicPr/>
          <p:nvPr/>
        </p:nvPicPr>
        <p:blipFill>
          <a:blip r:embed="rId1"/>
          <a:stretch/>
        </p:blipFill>
        <p:spPr>
          <a:xfrm>
            <a:off x="6678720" y="0"/>
            <a:ext cx="20365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928800" y="128736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24000" y="2643120"/>
          <a:ext cx="8640720" cy="3475080"/>
        </p:xfrm>
        <a:graphic>
          <a:graphicData uri="http://schemas.openxmlformats.org/drawingml/2006/table">
            <a:tbl>
              <a:tblPr/>
              <a:tblGrid>
                <a:gridCol w="2085840"/>
                <a:gridCol w="1787400"/>
                <a:gridCol w="2384640"/>
                <a:gridCol w="238284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тивные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е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ив природные зоны России, подумай и ответь, где бы ты хотел жить и почему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упомянутых в статье растений выбери группу травянистых растений,  которые никогда не цветут и не имеют семя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акой природной зоне обитают белки? Подготовьте устный рассказ об  этой природной зон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дите в паре пути решения экологических проблем природной зоны степ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8" name="Picture 62" descr="&amp;Ucy;&amp;chcy;&amp;iecy;&amp;bcy;&amp;ncy;&amp;icy;&amp;kcy;&amp;icy; &amp;pcy;&amp;iecy;&amp;rcy;&amp;scy;&amp;pcy;&amp;iecy;&amp;kcy;&amp;tcy;&amp;icy;&amp;vcy;&amp;ncy;&amp;acy;&amp;yacy; &amp;ncy;&amp;acy;&amp;chcy;&amp;acy;&amp;lcy;&amp;softcy;&amp;ncy;&amp;acy;&amp;yacy; &amp;shcy;&amp;kcy;&amp;ocy;&amp;lcy;&amp;acy; 2 &amp;kcy;&amp;lcy;&amp;acy;&amp;scy;&amp;scy;. &amp;Bcy;&amp;iecy;&amp;scy;&amp;pcy;&amp;lcy;&amp;acy;&amp;tcy;&amp;ncy;&amp;ycy;&amp;iecy; &amp;ocy;&amp;bcy;&amp;hardcy;&amp;yacy;&amp;vcy;&amp;lcy;&amp;iecy;&amp;ncy;&amp;icy;&amp;yacy; &amp;ncy;&amp;acy; &amp;scy;&amp;acy;&amp;jcy;&amp;tcy;&amp;iecy; &amp;Tcy;&amp;vcy;&amp;ocy;&amp;jcy; &amp;Rcy;&amp;iecy;&amp;gcy;&amp;icy;&amp;ocy;&amp;ncy;.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285840" y="1539720"/>
            <a:ext cx="521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Литературное чт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85840" y="3214800"/>
          <a:ext cx="8642160" cy="2620800"/>
        </p:xfrm>
        <a:graphic>
          <a:graphicData uri="http://schemas.openxmlformats.org/drawingml/2006/table">
            <a:tbl>
              <a:tblPr/>
              <a:tblGrid>
                <a:gridCol w="2098440"/>
                <a:gridCol w="1800360"/>
                <a:gridCol w="2222640"/>
                <a:gridCol w="2520720"/>
              </a:tblGrid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т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бы ты позвал Мышку, если бы ты  был Жучко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нужно было ухаживать за репкой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му репка выросла большая – пребольшая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ни продолжение сказки с друзьями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70" descr="&amp;Acy;&amp;rcy;&amp;khcy;&amp;icy;&amp;vcy; &amp;tcy;&amp;ocy;&amp;vcy;&amp;acy;&amp;rcy;&amp;ocy;&amp;vcy; &amp;gcy;&amp;rcy;&amp;ucy;&amp;pcy;&amp;pcy;&amp;ycy; &quot;&amp;Ucy;&amp;chcy;&amp;iecy;&amp;bcy;&amp;ncy;&amp;icy;&amp;kcy;&amp;icy;, &amp;ncy;&amp;acy;&amp;chcy;&amp;acy;&amp;lcy;&amp;softcy;&amp;ncy;&amp;acy;&amp;yacy; &amp;shcy;&amp;kcy;&amp;ocy;&amp;lcy;&amp;acy; (1-4 &amp;kcy;&amp;lcy;&amp;acy;&amp;scy;&amp;scy;)&quot;"/>
          <p:cNvPicPr/>
          <p:nvPr/>
        </p:nvPicPr>
        <p:blipFill>
          <a:blip r:embed="rId1"/>
          <a:stretch/>
        </p:blipFill>
        <p:spPr>
          <a:xfrm>
            <a:off x="4929120" y="0"/>
            <a:ext cx="4214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285920" y="135864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нглий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95280" y="2857680"/>
          <a:ext cx="8497800" cy="3230280"/>
        </p:xfrm>
        <a:graphic>
          <a:graphicData uri="http://schemas.openxmlformats.org/drawingml/2006/table">
            <a:tbl>
              <a:tblPr/>
              <a:tblGrid>
                <a:gridCol w="1633680"/>
                <a:gridCol w="1966680"/>
                <a:gridCol w="2016360"/>
                <a:gridCol w="2881080"/>
              </a:tblGrid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тив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ие из достопримечательностей Лондона тебе понравились больше? Почему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жи о праздниках в Англии. Какие традиции объединяют наши страны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тай текст и найди описание погоды в разные времена год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ьте диалог, который поможет вам познакомиться с партнером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4" name="Picture 64" descr="Enjoy English-1. &amp;Acy;&amp;ncy;&amp;gcy;&amp;lcy;&amp;icy;&amp;jcy;&amp;scy;&amp;kcy;&amp;icy;&amp;jcy; &amp;scy; &amp;ucy;&amp;dcy;&amp;ocy;&amp;vcy;&amp;ocy;&amp;lcy;&amp;softcy;&amp;scy;&amp;tcy;&amp;vcy;&amp;icy;&amp;iecy;&amp;mcy;. &amp;Ucy;&amp;chcy;&amp;iecy;&amp;bcy;&amp;ncy;&amp;icy;&amp;kcy; &amp;dcy;&amp;lcy;&amp;yacy; 2-3 &amp;kcy;&amp;lcy;&amp;acy;&amp;scy;&amp;scy;&amp;ocy;&amp;vcy;"/>
          <p:cNvPicPr/>
          <p:nvPr/>
        </p:nvPicPr>
        <p:blipFill>
          <a:blip r:embed="rId1"/>
          <a:stretch/>
        </p:blipFill>
        <p:spPr>
          <a:xfrm>
            <a:off x="5929200" y="0"/>
            <a:ext cx="32148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14200" y="1644480"/>
            <a:ext cx="61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образительное искус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42920" y="3357720"/>
          <a:ext cx="8497800" cy="3071520"/>
        </p:xfrm>
        <a:graphic>
          <a:graphicData uri="http://schemas.openxmlformats.org/drawingml/2006/table">
            <a:tbl>
              <a:tblPr/>
              <a:tblGrid>
                <a:gridCol w="1873080"/>
                <a:gridCol w="1963800"/>
                <a:gridCol w="2139840"/>
                <a:gridCol w="2521080"/>
              </a:tblGrid>
              <a:tr h="1150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тив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 цвет является твоим любимым и поче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акой последовательности будет выполнен портр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мощью каких цветов получится наиболее выразительный зимний пейзаж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е критерии оценивания работы, обсудив их в групп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Picture 68" descr="&amp;Acy;&amp;vcy;&amp;tcy;&amp;ocy;&amp;rcy; &amp;Kcy;&amp;acy;&amp;shcy;&amp;iecy;&amp;kcy;&amp;ocy;&amp;vcy;&amp;acy; &amp;Icy;.&amp;Ecy;."/>
          <p:cNvPicPr/>
          <p:nvPr/>
        </p:nvPicPr>
        <p:blipFill>
          <a:blip r:embed="rId1"/>
          <a:stretch/>
        </p:blipFill>
        <p:spPr>
          <a:xfrm>
            <a:off x="6762600" y="0"/>
            <a:ext cx="23814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47208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Приём</a:t>
            </a:r>
            <a:br>
              <a:rPr sz="3200"/>
            </a:b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 «Обсуждаем домашнее задание»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ы Ваши приемы педагогической техники по формированию УУД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1"/>
          <a:stretch/>
        </p:blipFill>
        <p:spPr>
          <a:xfrm>
            <a:off x="7000920" y="500040"/>
            <a:ext cx="2143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ышение компетентности педагогов в освоении активных и интерактивных приемов педагогической техники для формирования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дагогические приё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9280" y="1600200"/>
          <a:ext cx="8507520" cy="4754520"/>
        </p:xfrm>
        <a:graphic>
          <a:graphicData uri="http://schemas.openxmlformats.org/drawingml/2006/table">
            <a:tbl>
              <a:tblPr/>
              <a:tblGrid>
                <a:gridCol w="1557360"/>
                <a:gridCol w="2835360"/>
                <a:gridCol w="411480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ы педагогической тех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развития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0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 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 массив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 за предел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роченная реакц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ви ошибк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атрализац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альное зада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ообразование — установление учащимися связи между целью учебной деятельности и ее мотивом. 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равственно-этическая ориентация, в том числе и оценивание усваиваемого содержания. Самоопределение. 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пределение, смыслообразов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250920" y="260280"/>
          <a:ext cx="8507160" cy="6540480"/>
        </p:xfrm>
        <a:graphic>
          <a:graphicData uri="http://schemas.openxmlformats.org/drawingml/2006/table">
            <a:tbl>
              <a:tblPr/>
              <a:tblGrid>
                <a:gridCol w="1557360"/>
                <a:gridCol w="2835000"/>
                <a:gridCol w="4114800"/>
              </a:tblGrid>
              <a:tr h="1008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ы педагогической тех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развития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2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тивные</a:t>
                      </a:r>
                      <a:br>
                        <a:rPr sz="16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«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ст защиты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уждаем домашнее зад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ю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ход в уро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деальный 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сроченная реа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 к текс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ви ошибку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вторяем с контро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омьтесь с критер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ьный 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регуляция как способность к преодолению препятствий.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— выделение и осознание учащимися того, что уже усвоено и что еще нужно усвоить, осознание качества и уровня усвоения. Прогнозирование, контроль, коррекция, оценка. Саморегуляция как способность к мобилизации сил, к волевому усилию.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 в форме сличения способа действия и его результата с заданным эталоном для обнаружения отклонений и отличий от эталона. Планирование, коррекция.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полагание как постановка учебной задачи на основе соотнесения того/что уже известно и усвоено учащимися, и того, что еще неизвестно. Контроль в форме сличения способа действия и его результата с заданным эталон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50920" y="512640"/>
          <a:ext cx="8642160" cy="5851800"/>
        </p:xfrm>
        <a:graphic>
          <a:graphicData uri="http://schemas.openxmlformats.org/drawingml/2006/table">
            <a:tbl>
              <a:tblPr/>
              <a:tblGrid>
                <a:gridCol w="1584360"/>
                <a:gridCol w="2241360"/>
                <a:gridCol w="4816440"/>
              </a:tblGrid>
              <a:tr h="6126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и примеры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ивляй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нтастическая добавка. Пересечение тем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Дай себе помочь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яем с контролем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Да" и "Нет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е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ос "по цепочке"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Опрос-итог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ровочная контрольная работа. </a:t>
                      </a:r>
                      <a:br>
                        <a:rPr sz="1800"/>
                      </a:b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ицконтрольн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и выделение необходимой информации; рефлексия способов и условий действия, контроль и оценка процесса и результатов деятельности.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е создание алгоритмов деятельности при решении проблем творческого и поискового характера.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учебные универсальные действия — поиск и выделение необходимой информации, структурирование знаний.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ические универсальные действия: построение логической цепи рассуждений; подведение под понятие, выведение следствий.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учебные универсальные действия (рефлексия способов и условий действия, контроль и оценка процесса и результатов деятельно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79280" y="765000"/>
          <a:ext cx="8507520" cy="4884840"/>
        </p:xfrm>
        <a:graphic>
          <a:graphicData uri="http://schemas.openxmlformats.org/drawingml/2006/table">
            <a:tbl>
              <a:tblPr/>
              <a:tblGrid>
                <a:gridCol w="2016360"/>
                <a:gridCol w="2376360"/>
                <a:gridCol w="4114800"/>
              </a:tblGrid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ы педагогической тех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развития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работы в групп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Да" и "Нет" говорит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туйте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е учебного сотрудничества со сверстниками, постановка вопросов — инициативное сотрудничество в поиске и сборе информации, умение полно и точно выражать свои мысли. Планирование учебного сотрудничества с учителем, инициативное сотрудничество в поиске и сборе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0" y="119880"/>
            <a:ext cx="91440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  <a:ea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Проанализируем свою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.Оргмомент.      Мотивация к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данном этапе  создавались усло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возникновения внутренней потреб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ключения в деятельность. ( Какие УУД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.Актуализация знаний. Постановка пробле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данном этапе происход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рмирование умений ориентироваться в систе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аний, отличать новое от уже известного, оценивать свои знания (Какие  УУД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.Формулировка темы  занятия, цели и задачи. (Какие УУД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1"/>
          <a:stretch/>
        </p:blipFill>
        <p:spPr>
          <a:xfrm>
            <a:off x="7143840" y="0"/>
            <a:ext cx="20001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1"/>
          <a:stretch/>
        </p:blipFill>
        <p:spPr>
          <a:xfrm>
            <a:off x="6735600" y="2643120"/>
            <a:ext cx="2408400" cy="421488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4"/>
          <p:cNvSpPr/>
          <p:nvPr/>
        </p:nvSpPr>
        <p:spPr>
          <a:xfrm>
            <a:off x="214200" y="285840"/>
            <a:ext cx="6643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.Работа по теме занятия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ение и самостоятельное изучение предложенного материала. (Какие  УУД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. Выполнение практической работы в группах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определению действий, относящихся к личностным, регулятивным, познавательным, коммуникативным УУД. Распределение заданий в соответствии с УУД. Самооценка. Рефлексия (Какие  УУД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.Знакомство с педагогическими приемам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рмирования УУД (Какие УУД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Рефлексия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Методика «Дерево»</a:t>
            </a:r>
            <a:br>
              <a:rPr sz="4400"/>
            </a:br>
            <a:br>
              <a:rPr sz="4400"/>
            </a:b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Оцени свои успехи ! </a:t>
            </a: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смотрите это дерево. Вы видите на нем и рядом с ним множество человечков. У каждого из них—разное настроение и они занимают различное положение. Возьмите  фломастер и обведите того человечка, который напоминает вам себя, похож на вас, ваше настроение . Обратите внимание, что каждая ветка дерева может быть равна вашим достижениям и успехам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http://go3.imgsmail.ru/imgpreview?key=6b7fd68b0bc1bc57&amp;mb=imgdb_preview_411"/>
          <p:cNvPicPr/>
          <p:nvPr/>
        </p:nvPicPr>
        <p:blipFill>
          <a:blip r:embed="rId1"/>
          <a:stretch/>
        </p:blipFill>
        <p:spPr>
          <a:xfrm>
            <a:off x="6357960" y="214200"/>
            <a:ext cx="27860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1187280" y="83664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</a:rPr>
              <a:t>Спасибо за работу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6" descr="p17_boo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2205000"/>
            <a:ext cx="4267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84358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рыть и осмыслить понятие «универсальные учебные действ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еть виды УУД, их содержание, требования к результатам сформирова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ся с методическими приемами, помогающими формировать У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диалоговое  общение педагогов, рефлек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сить уровень активности и самостоятельности педагогов в решении проблем, развивать стремление к сотрудниче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0" y="285840"/>
            <a:ext cx="5857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Arial"/>
              </a:rPr>
              <a:t>Методическая разми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Arial"/>
              </a:rPr>
              <a:t>Приём «Вход в занят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опрос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кома ли вам аббревиатура “ФГОС НОО,ФГОС ООО” ? Расшифруем е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&amp;Fcy;&amp;gcy;&amp;ocy;&amp;scy; &amp;kcy;&amp;rcy;&amp;ucy;&amp;zhcy;&amp;ocy;&amp;kcy; &amp;vcy;&amp;yacy;&amp;zcy;&amp;acy;&amp;ncy;&amp;icy;&amp;iecy; &amp;kcy;&amp;rcy;&amp;yucy;&amp;chcy;&amp;kcy;&amp;ocy;&amp;mcy; &amp;ncy;&amp;acy;&amp;chcy;&amp;acy;&amp;lcy;&amp;softcy;&amp;ncy;&amp;acy;&amp;yacy; &amp;shcy;&amp;kcy;&amp;ocy;&amp;lcy;&amp;acy; - Master class"/>
          <p:cNvPicPr/>
          <p:nvPr/>
        </p:nvPicPr>
        <p:blipFill>
          <a:blip r:embed="rId1"/>
          <a:stretch/>
        </p:blipFill>
        <p:spPr>
          <a:xfrm>
            <a:off x="3952800" y="6421320"/>
            <a:ext cx="63720" cy="46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2"/>
          <a:stretch/>
        </p:blipFill>
        <p:spPr>
          <a:xfrm>
            <a:off x="5572080" y="1566720"/>
            <a:ext cx="35719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468360" y="33336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&amp;Fcy;&amp;gcy;&amp;ocy;&amp;scy; &amp;kcy;&amp;rcy;&amp;ucy;&amp;zhcy;&amp;ocy;&amp;kcy; &amp;vcy;&amp;yacy;&amp;zcy;&amp;acy;&amp;ncy;&amp;icy;&amp;iecy; &amp;kcy;&amp;rcy;&amp;yucy;&amp;chcy;&amp;kcy;&amp;ocy;&amp;mcy; &amp;ncy;&amp;acy;&amp;chcy;&amp;acy;&amp;lcy;&amp;softcy;&amp;ncy;&amp;acy;&amp;yacy; &amp;shcy;&amp;kcy;&amp;ocy;&amp;lcy;&amp;acy; - Master class"/>
          <p:cNvPicPr/>
          <p:nvPr/>
        </p:nvPicPr>
        <p:blipFill>
          <a:blip r:embed="rId1"/>
          <a:stretch/>
        </p:blipFill>
        <p:spPr>
          <a:xfrm>
            <a:off x="428760" y="214200"/>
            <a:ext cx="84294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0" y="303480"/>
            <a:ext cx="5715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Вопрос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Этот новый стандарт в профессиональной среде называют стандартом трех “Т”. Почему? О каких трёх “Т” идет реч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1"/>
          <a:stretch/>
        </p:blipFill>
        <p:spPr>
          <a:xfrm>
            <a:off x="6202440" y="2500200"/>
            <a:ext cx="29415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3" descr=""/>
          <p:cNvPicPr/>
          <p:nvPr/>
        </p:nvPicPr>
        <p:blipFill>
          <a:blip r:embed="rId1"/>
          <a:stretch/>
        </p:blipFill>
        <p:spPr>
          <a:xfrm>
            <a:off x="171360" y="692280"/>
            <a:ext cx="8217000" cy="57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2"/>
          <p:cNvSpPr/>
          <p:nvPr/>
        </p:nvSpPr>
        <p:spPr>
          <a:xfrm>
            <a:off x="0" y="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Вопрос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снове стандарта лежит  </a:t>
            </a: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          _______________________________                                       подх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&amp;Kcy;&amp;ocy;&amp;ncy;&amp;scy;&amp;ucy;&amp;lcy;&amp;softcy;&amp;tcy;&amp;acy;&amp;tscy;&amp;icy;&amp;icy; &amp;dcy;&amp;lcy;&amp;yacy; &amp;rcy;&amp;ocy;&amp;dcy;&amp;icy;&amp;tcy;&amp;iecy;&amp;lcy;&amp;iecy;&amp;jcy; &amp;Scy;&amp;acy;&amp;jcy;&amp;tcy; &amp;dcy;&amp;iecy;&amp;tcy;&amp;scy;&amp;kcy;&amp;ocy;&amp;gcy;&amp;ocy; &amp;scy;&amp;acy;&amp;dcy;&amp;acy; 23 &amp;gcy;. &amp;Icy;&amp;shcy;&amp;icy;&amp;mcy;&amp;acy;"/>
          <p:cNvPicPr/>
          <p:nvPr/>
        </p:nvPicPr>
        <p:blipFill>
          <a:blip r:embed="rId1"/>
          <a:stretch/>
        </p:blipFill>
        <p:spPr>
          <a:xfrm>
            <a:off x="6202440" y="2500200"/>
            <a:ext cx="29415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3:32:57Z</dcterms:created>
  <dc:creator>Marie</dc:creator>
  <dc:description/>
  <dc:language>en-US</dc:language>
  <cp:lastModifiedBy>Надежда</cp:lastModifiedBy>
  <dcterms:modified xsi:type="dcterms:W3CDTF">2015-08-11T12:58:49Z</dcterms:modified>
  <cp:revision>80</cp:revision>
  <dc:subject/>
  <dc:title>Методическое совещание  «Приёмы педагогической техники для формирования универсальных учебных действий»</dc:title>
</cp:coreProperties>
</file>