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6A6-48EF-4FE3-A2C2-8E37242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31B-B1EF-4FCE-815E-9FDC03B3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C57-DFD6-48B8-B1C1-E2589517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5D0-EEB0-44B5-A455-EED5D1AF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11D-BF56-4813-ADE8-E9821119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386-69D5-41CB-B686-978BF33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178-3332-4822-8A8C-EF19B533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698-2AC5-4506-9296-0CA7FCF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736-DF5D-471F-AAA0-59CBDEC2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940-FA17-4760-8043-A7F2242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AA2-9FD0-4A5A-A9F6-7A30526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873-0051-4C3E-B111-DF1B142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9D2-A817-4F9E-98E7-7414A990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9080"/>
            <a:ext cx="6781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19080"/>
            <a:ext cx="67694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20:55Z</dcterms:modified>
  <cp:revision>8</cp:revision>
  <dc:subject/>
  <dc:title>Слайд 1</dc:title>
</cp:coreProperties>
</file>