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AC3-3018-49DE-A6ED-C2E92C17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99F-E8A8-46AA-A78F-AE29D4DD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1D75-0AFA-4FE9-A8C3-86F85FD0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51BB-F3F9-4F66-A217-81EB71D1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D5B7-3C70-4733-A610-52D96209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DE2B-31F4-4819-9F4C-154A7339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B852-5411-46E1-A3A8-1025FB13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276A-C7FE-44BF-9E17-E8A290A7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C030-D89F-44FB-BA72-90984910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084C-0413-4BBF-9278-37E721B7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07E1-19AB-480B-B885-3E2201A1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B4B5-06C1-4A50-8528-149577A2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70FE-9618-4B31-B5E4-EC21806E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398B-E465-49DF-BAAC-F4AE481E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0D5A-0DF1-4014-B68C-EEF2C3B9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3AA7-804F-4706-A627-FBE0FEA2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7658-0F57-4DF2-A12C-B639715F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EFF1D-11FF-4F93-88F2-7F03DA97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3C607-53B8-46DF-9C7A-4C9B1602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51E51-4D56-4938-A64A-CE7CD069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8C5B4-0FDC-4FA4-962F-BEC24B07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E6DC7-86C9-401D-8C4E-5F3FA3EC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73E-8D95-47D2-B1B7-4674C1B1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EE6C0-0201-422B-9EC7-07D4334A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8C71A-2D7E-4D70-8433-8E2BBC13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73B66-2732-4672-99B8-C7B0605B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75956-21D0-456B-B892-C1F2915F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E0D3C-6419-4C20-8FAB-7046858B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9B724-C51B-411F-9438-046D6A1D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B4E01-F5E3-4F33-A17C-0DF048D8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2EAD-34F3-46D2-9F33-2576FE47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97B8-AC31-4824-8F8B-E66DFBAA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226-E911-4E6D-8DD8-CB324162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342C-C718-45F9-9079-35E86A61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A00A-B9FD-4866-AB7E-C04E3E05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2443-756A-439C-B2E7-E5E7AFD3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01B7-7320-4F13-9A94-D798CC5341F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3779-5BD9-43FC-9E6F-9E7B4A3755E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лилиния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лилиния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5283-76A2-4F83-AA79-2401842A9BD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8_56.avi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8_59.avi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2_5.swf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936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22120" y="1969920"/>
            <a:ext cx="6584760" cy="1802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Что такое кипение?</a:t>
            </a: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2286000" y="2967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ОУ СОШ№5 Л.В.Поп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E:\кипение\30R2.gif"/>
          <p:cNvPicPr/>
          <p:nvPr/>
        </p:nvPicPr>
        <p:blipFill>
          <a:blip r:embed="rId1"/>
          <a:stretch/>
        </p:blipFill>
        <p:spPr>
          <a:xfrm>
            <a:off x="7786800" y="785880"/>
            <a:ext cx="1143000" cy="1904760"/>
          </a:xfrm>
          <a:prstGeom prst="rect">
            <a:avLst/>
          </a:prstGeom>
          <a:ln w="0">
            <a:noFill/>
          </a:ln>
        </p:spPr>
      </p:pic>
      <p:pic>
        <p:nvPicPr>
          <p:cNvPr id="164" name="Заголовок 1" descr=""/>
          <p:cNvPicPr/>
          <p:nvPr/>
        </p:nvPicPr>
        <p:blipFill>
          <a:blip r:embed="rId2"/>
          <a:stretch/>
        </p:blipFill>
        <p:spPr>
          <a:xfrm>
            <a:off x="-42840" y="2103480"/>
            <a:ext cx="8564400" cy="140184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5" descr=""/>
          <p:cNvPicPr/>
          <p:nvPr/>
        </p:nvPicPr>
        <p:blipFill>
          <a:blip r:embed="rId3"/>
          <a:stretch/>
        </p:blipFill>
        <p:spPr>
          <a:xfrm>
            <a:off x="6480" y="3645000"/>
            <a:ext cx="7229520" cy="11649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"/>
          <p:cNvSpPr/>
          <p:nvPr/>
        </p:nvSpPr>
        <p:spPr>
          <a:xfrm>
            <a:off x="428760" y="9309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  <a:ea typeface="Calibri"/>
              </a:rPr>
              <a:t>Попробуй пар не выпускать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  <a:ea typeface="Calibri"/>
              </a:rPr>
              <a:t>И чайник может бомбой ста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  <a:ea typeface="Calibri"/>
              </a:rPr>
              <a:t>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  <a:ea typeface="Calibri"/>
              </a:rPr>
              <a:t>В. Мар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Управляющая кнопка: фильм 5"/>
          <p:cNvSpPr/>
          <p:nvPr/>
        </p:nvSpPr>
        <p:spPr>
          <a:xfrm>
            <a:off x="571680" y="5643720"/>
            <a:ext cx="1071360" cy="785520"/>
          </a:xfrm>
          <a:custGeom>
            <a:avLst/>
            <a:gdLst>
              <a:gd name="textAreaLeft" fmla="*/ 50760 w 1071360"/>
              <a:gd name="textAreaRight" fmla="*/ 1020600 w 1071360"/>
              <a:gd name="textAreaTop" fmla="*/ 50760 h 785520"/>
              <a:gd name="textAreaBottom" fmla="*/ 734760 h 785520"/>
            </a:gdLst>
            <a:ahLst/>
            <a:rect l="textAreaLeft" t="textAreaTop" r="textAreaRight" b="textAreaBottom"/>
            <a:pathLst>
              <a:path w="29456" h="21600">
                <a:moveTo>
                  <a:pt x="0" y="0"/>
                </a:moveTo>
                <a:lnTo>
                  <a:pt x="29456" y="0"/>
                </a:lnTo>
                <a:lnTo>
                  <a:pt x="29456" y="21600"/>
                </a:lnTo>
                <a:lnTo>
                  <a:pt x="0" y="21600"/>
                </a:lnTo>
                <a:close/>
              </a:path>
              <a:path fill="lightenLess" w="29456" h="21600">
                <a:moveTo>
                  <a:pt x="0" y="0"/>
                </a:moveTo>
                <a:lnTo>
                  <a:pt x="29456" y="0"/>
                </a:lnTo>
                <a:lnTo>
                  <a:pt x="28056" y="1400"/>
                </a:lnTo>
                <a:lnTo>
                  <a:pt x="1400" y="1400"/>
                </a:lnTo>
                <a:close/>
              </a:path>
              <a:path fill="darken" w="29456" h="21600">
                <a:moveTo>
                  <a:pt x="29456" y="0"/>
                </a:moveTo>
                <a:lnTo>
                  <a:pt x="29456" y="21600"/>
                </a:lnTo>
                <a:lnTo>
                  <a:pt x="28056" y="20200"/>
                </a:lnTo>
                <a:lnTo>
                  <a:pt x="28056" y="1400"/>
                </a:lnTo>
                <a:close/>
              </a:path>
              <a:path fill="darkenLess" w="29456" h="21600">
                <a:moveTo>
                  <a:pt x="29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6" y="20200"/>
                </a:lnTo>
                <a:close/>
              </a:path>
              <a:path fill="lighten" w="29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6" h="21600">
                <a:moveTo>
                  <a:pt x="7722" y="7301"/>
                </a:moveTo>
                <a:lnTo>
                  <a:pt x="8636" y="7301"/>
                </a:lnTo>
                <a:lnTo>
                  <a:pt x="9019" y="7667"/>
                </a:lnTo>
                <a:lnTo>
                  <a:pt x="18227" y="7667"/>
                </a:lnTo>
                <a:lnTo>
                  <a:pt x="18784" y="8224"/>
                </a:lnTo>
                <a:lnTo>
                  <a:pt x="18784" y="8772"/>
                </a:lnTo>
                <a:lnTo>
                  <a:pt x="20629" y="8772"/>
                </a:lnTo>
                <a:lnTo>
                  <a:pt x="20995" y="8224"/>
                </a:lnTo>
                <a:lnTo>
                  <a:pt x="21735" y="8224"/>
                </a:lnTo>
                <a:lnTo>
                  <a:pt x="21735" y="13376"/>
                </a:lnTo>
                <a:lnTo>
                  <a:pt x="20995" y="13376"/>
                </a:lnTo>
                <a:lnTo>
                  <a:pt x="20629" y="12828"/>
                </a:lnTo>
                <a:lnTo>
                  <a:pt x="18784" y="12828"/>
                </a:lnTo>
                <a:lnTo>
                  <a:pt x="18784" y="14107"/>
                </a:lnTo>
                <a:lnTo>
                  <a:pt x="9201" y="14107"/>
                </a:lnTo>
                <a:lnTo>
                  <a:pt x="9201" y="9877"/>
                </a:lnTo>
                <a:lnTo>
                  <a:pt x="9019" y="9877"/>
                </a:lnTo>
                <a:lnTo>
                  <a:pt x="8636" y="10243"/>
                </a:lnTo>
                <a:lnTo>
                  <a:pt x="7722" y="10243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№</a:t>
            </a: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186334 «</a:t>
            </a:r>
            <a:r>
              <a:rPr b="0" lang="ru-RU" sz="11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Парообразование </a:t>
            </a: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при кипени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9840" y="1170000"/>
            <a:ext cx="8226360" cy="2757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Парообразование, происходящее по всему объему жидкости вследствие возникновения и всплытия на поверхность многочисленных пузырей насыщенного пара, называетс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пением</a:t>
            </a:r>
            <a:r>
              <a:rPr b="0" lang="ru-RU" sz="32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9" name="Рисунок 11" descr="30R2.gif"/>
          <p:cNvPicPr/>
          <p:nvPr/>
        </p:nvPicPr>
        <p:blipFill>
          <a:blip r:embed="rId2"/>
          <a:stretch/>
        </p:blipFill>
        <p:spPr>
          <a:xfrm>
            <a:off x="7740720" y="2565360"/>
            <a:ext cx="114300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68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ЧТО ЖЕ ПРОИСХОДИТ 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НУТРИ ЖИДКОСТИ ПРИ КИПЕНИИ?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0004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появляются пузырьк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2" name="Рисунок 3" descr="C:\Documents and Settings\uchitel\Рабочий стол\5pic1.gif"/>
          <p:cNvPicPr/>
          <p:nvPr/>
        </p:nvPicPr>
        <p:blipFill>
          <a:blip r:embed="rId1"/>
          <a:stretch/>
        </p:blipFill>
        <p:spPr>
          <a:xfrm>
            <a:off x="857160" y="2643120"/>
            <a:ext cx="4857840" cy="30718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0" y="5718240"/>
            <a:ext cx="1089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ри нагревании воды образуются  воздушные пузырь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зырек, наполненный паром, при достаточно высокой температу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инает разду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Управляющая кнопка: фильм 8"/>
          <p:cNvSpPr/>
          <p:nvPr/>
        </p:nvSpPr>
        <p:spPr>
          <a:xfrm>
            <a:off x="7929720" y="5786280"/>
            <a:ext cx="928440" cy="785880"/>
          </a:xfrm>
          <a:custGeom>
            <a:avLst/>
            <a:gdLst>
              <a:gd name="textAreaLeft" fmla="*/ 50760 w 928440"/>
              <a:gd name="textAreaRight" fmla="*/ 877680 w 9284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5516" h="21600">
                <a:moveTo>
                  <a:pt x="0" y="0"/>
                </a:moveTo>
                <a:lnTo>
                  <a:pt x="25516" y="0"/>
                </a:lnTo>
                <a:lnTo>
                  <a:pt x="25516" y="21600"/>
                </a:lnTo>
                <a:lnTo>
                  <a:pt x="0" y="21600"/>
                </a:lnTo>
                <a:close/>
              </a:path>
              <a:path fill="lightenLess" w="25516" h="21600">
                <a:moveTo>
                  <a:pt x="0" y="0"/>
                </a:moveTo>
                <a:lnTo>
                  <a:pt x="25516" y="0"/>
                </a:lnTo>
                <a:lnTo>
                  <a:pt x="24116" y="1400"/>
                </a:lnTo>
                <a:lnTo>
                  <a:pt x="1400" y="1400"/>
                </a:lnTo>
                <a:close/>
              </a:path>
              <a:path fill="darken" w="25516" h="21600">
                <a:moveTo>
                  <a:pt x="25516" y="0"/>
                </a:moveTo>
                <a:lnTo>
                  <a:pt x="25516" y="21600"/>
                </a:lnTo>
                <a:lnTo>
                  <a:pt x="24116" y="20200"/>
                </a:lnTo>
                <a:lnTo>
                  <a:pt x="24116" y="1400"/>
                </a:lnTo>
                <a:close/>
              </a:path>
              <a:path fill="darkenLess" w="25516" h="21600">
                <a:moveTo>
                  <a:pt x="25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6" y="20200"/>
                </a:lnTo>
                <a:close/>
              </a:path>
              <a:path fill="lighten" w="25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16" h="21600">
                <a:moveTo>
                  <a:pt x="5752" y="7301"/>
                </a:moveTo>
                <a:lnTo>
                  <a:pt x="6666" y="7301"/>
                </a:lnTo>
                <a:lnTo>
                  <a:pt x="7049" y="7667"/>
                </a:lnTo>
                <a:lnTo>
                  <a:pt x="16257" y="7667"/>
                </a:lnTo>
                <a:lnTo>
                  <a:pt x="16814" y="8224"/>
                </a:lnTo>
                <a:lnTo>
                  <a:pt x="16814" y="8772"/>
                </a:lnTo>
                <a:lnTo>
                  <a:pt x="18659" y="8772"/>
                </a:lnTo>
                <a:lnTo>
                  <a:pt x="19025" y="8224"/>
                </a:lnTo>
                <a:lnTo>
                  <a:pt x="19765" y="8224"/>
                </a:lnTo>
                <a:lnTo>
                  <a:pt x="19765" y="13376"/>
                </a:lnTo>
                <a:lnTo>
                  <a:pt x="19025" y="13376"/>
                </a:lnTo>
                <a:lnTo>
                  <a:pt x="18659" y="12828"/>
                </a:lnTo>
                <a:lnTo>
                  <a:pt x="16814" y="12828"/>
                </a:lnTo>
                <a:lnTo>
                  <a:pt x="16814" y="14107"/>
                </a:lnTo>
                <a:lnTo>
                  <a:pt x="7231" y="14107"/>
                </a:lnTo>
                <a:lnTo>
                  <a:pt x="7231" y="9877"/>
                </a:lnTo>
                <a:lnTo>
                  <a:pt x="7049" y="9877"/>
                </a:lnTo>
                <a:lnTo>
                  <a:pt x="6666" y="10243"/>
                </a:lnTo>
                <a:lnTo>
                  <a:pt x="5752" y="10243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№</a:t>
            </a: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186485 «Что </a:t>
            </a:r>
            <a:r>
              <a:rPr b="0" lang="ru-RU" sz="11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такое </a:t>
            </a:r>
            <a:r>
              <a:rPr b="0" lang="ru-RU" sz="1100" spc="-1" strike="noStrike">
                <a:solidFill>
                  <a:srgbClr val="ffffff"/>
                </a:solidFill>
                <a:latin typeface="Constantia"/>
              </a:rPr>
              <a:t>кипение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28760" y="207144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пузырьки увеличиваются и поднимаются вверх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6" name="Рисунок 5" descr="C:\Documents and Settings\uchitel\Рабочий стол\5pic2.gif"/>
          <p:cNvPicPr/>
          <p:nvPr/>
        </p:nvPicPr>
        <p:blipFill>
          <a:blip r:embed="rId1"/>
          <a:stretch/>
        </p:blipFill>
        <p:spPr>
          <a:xfrm>
            <a:off x="250920" y="2637000"/>
            <a:ext cx="4643280" cy="27860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0040" y="164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ЧТО ЖЕ ПРОИСХОДИТ 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НУТРИ ЖИДКОСТИ ПРИ КИПЕНИИ?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Прямоугольник 7"/>
          <p:cNvSpPr/>
          <p:nvPr/>
        </p:nvSpPr>
        <p:spPr>
          <a:xfrm>
            <a:off x="500040" y="542916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стигнув определенных размеров он отрывается от дна, поднимается к поверхности воды и лопается. При этом пар покидает жидкость. Если вода прогрета недостаточно, то пузырек пара, поднимаясь в холодные слои, схлопыва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85480" y="5572080"/>
            <a:ext cx="86439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 нагреве пузырек увеличивается за счет выделения в него газа и отрывается от дна, когда подъемная сила будет немного больше прижимающей. Размер пузырька, способного оторваться от дна, зависит от его форм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0" name="Рисунок 3" descr="C:\Documents and Settings\uchitel\Рабочий стол\5pic3.gif"/>
          <p:cNvPicPr/>
          <p:nvPr/>
        </p:nvPicPr>
        <p:blipFill>
          <a:blip r:embed="rId1"/>
          <a:stretch/>
        </p:blipFill>
        <p:spPr>
          <a:xfrm>
            <a:off x="1000080" y="2643120"/>
            <a:ext cx="3929040" cy="2928960"/>
          </a:xfrm>
          <a:prstGeom prst="rect">
            <a:avLst/>
          </a:prstGeom>
          <a:ln w="0">
            <a:noFill/>
          </a:ln>
        </p:spPr>
      </p:pic>
      <p:sp>
        <p:nvSpPr>
          <p:cNvPr id="181" name="Заголовок 1"/>
          <p:cNvSpPr/>
          <p:nvPr/>
        </p:nvSpPr>
        <p:spPr>
          <a:xfrm>
            <a:off x="500040" y="1571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ЧТО ЖЕ ПРОИСХОДИТ 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НУТРИ ЖИДКОСТИ ПРИ КИПЕНИИ?</a:t>
            </a:r>
            <a:br>
              <a:rPr sz="5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одержимое 2"/>
          <p:cNvSpPr/>
          <p:nvPr/>
        </p:nvSpPr>
        <p:spPr>
          <a:xfrm>
            <a:off x="428760" y="2000160"/>
            <a:ext cx="84009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пузырьки увеличиваются и поднимаются вверх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" descr="st1"/>
          <p:cNvPicPr/>
          <p:nvPr/>
        </p:nvPicPr>
        <p:blipFill>
          <a:blip r:embed="rId2"/>
          <a:stretch/>
        </p:blipFill>
        <p:spPr>
          <a:xfrm>
            <a:off x="6286680" y="2643120"/>
            <a:ext cx="17143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286000" y="2357280"/>
            <a:ext cx="54021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слышен шум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Заголовок 1"/>
          <p:cNvSpPr/>
          <p:nvPr/>
        </p:nvSpPr>
        <p:spPr>
          <a:xfrm>
            <a:off x="500040" y="16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ЧТО ЖЕ ПРОИСХОДИТ 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НУТРИ ЖИДКОСТИ ПРИ КИПЕНИИ?</a:t>
            </a:r>
            <a:br>
              <a:rPr sz="5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426240" y="585972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ри схлопывании лопающихся пузырьков в жидкости распространя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дарные волны ультразвуковых частот, сопровождаемые слышимым шу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500040" y="342936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тура, при которой жидкость кипит – называетс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турой кип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ЧТО ЖЕ ПРОИСХОДИТ 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НУТРИ ЖИДКОСТИ ПРИ КИПЕНИИ?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9" name="Рисунок 4" descr="C:\Documents and Settings\uchitel\Рабочий стол\5pic5.gif"/>
          <p:cNvPicPr/>
          <p:nvPr/>
        </p:nvPicPr>
        <p:blipFill>
          <a:blip r:embed="rId1"/>
          <a:stretch/>
        </p:blipFill>
        <p:spPr>
          <a:xfrm>
            <a:off x="357120" y="3000240"/>
            <a:ext cx="4429080" cy="25718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"/>
          <p:cNvSpPr/>
          <p:nvPr/>
        </p:nvSpPr>
        <p:spPr>
          <a:xfrm>
            <a:off x="285840" y="5505480"/>
            <a:ext cx="85010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да пузырек лопается, вся окружающая его жидкость устремляется внутр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мыкаясь, она выбрасывает вверх столбик воды. Испарение с поверхности жидкости усиливается по мере увеличения температуры. Иногда может наблюдаться туман (сам пар не виден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st2"/>
          <p:cNvPicPr/>
          <p:nvPr/>
        </p:nvPicPr>
        <p:blipFill>
          <a:blip r:embed="rId2"/>
          <a:stretch/>
        </p:blipFill>
        <p:spPr>
          <a:xfrm>
            <a:off x="6429240" y="2500200"/>
            <a:ext cx="17161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28760" y="2928600"/>
            <a:ext cx="822960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разных жидкостей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º  кипения разные, даже у такой жидкости как вода. А почему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Управляющая кнопка: фильм 3"/>
          <p:cNvSpPr/>
          <p:nvPr/>
        </p:nvSpPr>
        <p:spPr>
          <a:xfrm>
            <a:off x="571680" y="5857920"/>
            <a:ext cx="1500120" cy="785880"/>
          </a:xfrm>
          <a:custGeom>
            <a:avLst/>
            <a:gdLst>
              <a:gd name="textAreaLeft" fmla="*/ 50760 w 1500120"/>
              <a:gd name="textAreaRight" fmla="*/ 1449360 w 150012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41222" h="21600">
                <a:moveTo>
                  <a:pt x="0" y="0"/>
                </a:moveTo>
                <a:lnTo>
                  <a:pt x="41222" y="0"/>
                </a:lnTo>
                <a:lnTo>
                  <a:pt x="41222" y="21600"/>
                </a:lnTo>
                <a:lnTo>
                  <a:pt x="0" y="21600"/>
                </a:lnTo>
                <a:close/>
              </a:path>
              <a:path fill="lightenLess" w="41222" h="21600">
                <a:moveTo>
                  <a:pt x="0" y="0"/>
                </a:moveTo>
                <a:lnTo>
                  <a:pt x="41222" y="0"/>
                </a:lnTo>
                <a:lnTo>
                  <a:pt x="39822" y="1400"/>
                </a:lnTo>
                <a:lnTo>
                  <a:pt x="1400" y="1400"/>
                </a:lnTo>
                <a:close/>
              </a:path>
              <a:path fill="darken" w="41222" h="21600">
                <a:moveTo>
                  <a:pt x="41222" y="0"/>
                </a:moveTo>
                <a:lnTo>
                  <a:pt x="41222" y="21600"/>
                </a:lnTo>
                <a:lnTo>
                  <a:pt x="39822" y="20200"/>
                </a:lnTo>
                <a:lnTo>
                  <a:pt x="39822" y="1400"/>
                </a:lnTo>
                <a:close/>
              </a:path>
              <a:path fill="darkenLess" w="41222" h="21600">
                <a:moveTo>
                  <a:pt x="41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2" y="20200"/>
                </a:lnTo>
                <a:close/>
              </a:path>
              <a:path fill="lighten" w="41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2" h="21600">
                <a:moveTo>
                  <a:pt x="13605" y="7301"/>
                </a:moveTo>
                <a:lnTo>
                  <a:pt x="14518" y="7301"/>
                </a:lnTo>
                <a:lnTo>
                  <a:pt x="14901" y="7667"/>
                </a:lnTo>
                <a:lnTo>
                  <a:pt x="24110" y="7667"/>
                </a:lnTo>
                <a:lnTo>
                  <a:pt x="24667" y="8224"/>
                </a:lnTo>
                <a:lnTo>
                  <a:pt x="24667" y="8772"/>
                </a:lnTo>
                <a:lnTo>
                  <a:pt x="26512" y="8772"/>
                </a:lnTo>
                <a:lnTo>
                  <a:pt x="26878" y="8224"/>
                </a:lnTo>
                <a:lnTo>
                  <a:pt x="27617" y="8224"/>
                </a:lnTo>
                <a:lnTo>
                  <a:pt x="27617" y="13376"/>
                </a:lnTo>
                <a:lnTo>
                  <a:pt x="26878" y="13376"/>
                </a:lnTo>
                <a:lnTo>
                  <a:pt x="26512" y="12828"/>
                </a:lnTo>
                <a:lnTo>
                  <a:pt x="24667" y="12828"/>
                </a:lnTo>
                <a:lnTo>
                  <a:pt x="24667" y="14107"/>
                </a:lnTo>
                <a:lnTo>
                  <a:pt x="15084" y="14107"/>
                </a:lnTo>
                <a:lnTo>
                  <a:pt x="15084" y="9877"/>
                </a:lnTo>
                <a:lnTo>
                  <a:pt x="14901" y="9877"/>
                </a:lnTo>
                <a:lnTo>
                  <a:pt x="14518" y="10243"/>
                </a:lnTo>
                <a:lnTo>
                  <a:pt x="13605" y="10243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ипение. Удельная </a:t>
            </a:r>
            <a:r>
              <a:rPr b="0" lang="ru-RU" sz="11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теплота</a:t>
            </a: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арообразования»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№ 205984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54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1600" spc="-1" strike="noStrike">
                <a:solidFill>
                  <a:srgbClr val="cc3399"/>
                </a:solidFill>
                <a:latin typeface="Calibri"/>
              </a:rPr>
              <a:t>Ответ: Старшая и средняя дочери очень хотели, чтоб их чайники закипели быстрее, и часто поднимали крышки чайников, проверяя, не кипит ли в них вода. Младшая дочь замуж не хотела и в чайник не заглядывала!</a:t>
            </a:r>
            <a:br>
              <a:rPr sz="1600"/>
            </a:b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2960" y="999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Жил - был царь. У него были три дочери: старшая, средняя и младшая. Младшая была самая красивая, самая любимая.  Царь был стар и умен. Он давно издал указ, по которому первая дочь, выходящая замуж получит пол - царства. Зная указ, средняя и старшая дочери очень хотели замуж,  и часто из-за этого ссорились. Младшая дочь замуж не собиралась. Чтобы разрешить все вопросы с замужеством и уладить ссоры, царь предложил провести такое соревнование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н поставил на стол три чайника. Они были совершенно одинаковы, как по внешнему виду, так и по вместимости.  Царь налил в каждый чайник равное  количество воды из ведр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«Мои любимые дочери, - начал свою речь царь, - сейчас каждая из вас возьмет по чайнику и отправиться вместе со мной на кухню. Там вы поставите чайники на плиту и дождетесь, пока они закипят. Та дочь, у которой закипит чайник раньше, выйдет замуж первой»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ак не странно, но расчеты царя были точными, первым закипел чайник у младшей дочери.   Почему?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E:\кипение\30R2.gif"/>
          <p:cNvPicPr/>
          <p:nvPr/>
        </p:nvPicPr>
        <p:blipFill>
          <a:blip r:embed="rId1"/>
          <a:stretch/>
        </p:blipFill>
        <p:spPr>
          <a:xfrm>
            <a:off x="7786800" y="785880"/>
            <a:ext cx="1143000" cy="1904760"/>
          </a:xfrm>
          <a:prstGeom prst="rect">
            <a:avLst/>
          </a:prstGeom>
          <a:ln w="0">
            <a:noFill/>
          </a:ln>
        </p:spPr>
      </p:pic>
      <p:pic>
        <p:nvPicPr>
          <p:cNvPr id="140" name="Заголовок 1" descr=""/>
          <p:cNvPicPr/>
          <p:nvPr/>
        </p:nvPicPr>
        <p:blipFill>
          <a:blip r:embed="rId2"/>
          <a:stretch/>
        </p:blipFill>
        <p:spPr>
          <a:xfrm>
            <a:off x="-42840" y="2103480"/>
            <a:ext cx="8564400" cy="140184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5" descr=""/>
          <p:cNvPicPr/>
          <p:nvPr/>
        </p:nvPicPr>
        <p:blipFill>
          <a:blip r:embed="rId3"/>
          <a:stretch/>
        </p:blipFill>
        <p:spPr>
          <a:xfrm>
            <a:off x="42840" y="3664080"/>
            <a:ext cx="722952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1. Парообразованием называют….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ереход из состояния «твердое тело» в состояние «газообразное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) переход из состояния газообразного в состояние жидк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ход из жидкого состояния в газообразно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2. Единицей измерения количеством теплоты называют…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) Джоул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) Дж/к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) Дж/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1714680" y="2928960"/>
            <a:ext cx="2919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3. Удельная теплота парообразования показывает, что какое …</a:t>
            </a:r>
            <a:br>
              <a:rPr sz="32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) количество теплоты при парообразовании поглощается и конденсации выделяется при массе вещества 1 килограм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) количество теплоты при парообразовании поглощается при массе вещества 1 килограм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) количество теплоты при конденсации  выделяется при массе вещества 1 килограм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4.Что называют испарением?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арообразование с берегов ре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) парообразование с поверхности жидк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) такого определения дать нельз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5.Когда происходит испарение?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) никог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) всег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) при определенных условия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6. По какой формуле можно рассчитать количество теплоты при конденсации: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=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=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285840" cy="8031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1428840" y="3286080"/>
            <a:ext cx="285840" cy="7509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8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7. Почему происходит испарение?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) потому что повышается температу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) появляется вет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разрываются связи между частицами жидк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2:48:08Z</dcterms:created>
  <dc:creator>www.PHILka.RU</dc:creator>
  <dc:description/>
  <dc:language>en-US</dc:language>
  <cp:lastModifiedBy>наталья</cp:lastModifiedBy>
  <dcterms:modified xsi:type="dcterms:W3CDTF">2013-12-05T07:35:50Z</dcterms:modified>
  <cp:revision>24</cp:revision>
  <dc:subject/>
  <dc:title>Урок физики. 8 класс.  Учитель физики Вагина Татьяна Николаевна</dc:title>
</cp:coreProperties>
</file>