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30C-A149-4077-B70F-509C83F9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BB9-99BA-43A0-82DD-6E77A439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983-E6E6-4460-A571-10C5BF14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F57-509C-4F61-A356-5194485D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F51-38F5-402B-B3F1-24B6150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DBD-1F90-4ECB-95FD-26389A39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B38-9445-43BB-AC4E-B644EF49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571-974C-4B47-88AA-FA04DCA1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C03-427E-4C6E-AAD0-F88CE71B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EB5-257F-4832-B9D7-0782CA01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08E-CF98-41E9-B0C1-30F07C0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A09-3B46-4BE1-97CD-DF59AFA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1FEE-C48C-48E1-AE33-24887CAD5C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00hitov.ru/upload/iblock/37c/22195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razymama.ru/images/forumgallary/5319.jpe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ма урока:    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Закон Ома.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-й клас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836640"/>
            <a:ext cx="81327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Calibri"/>
              </a:rPr>
              <a:t>Образовательная: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накомство с новым материалом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работа по формированию навыков (сравнение физических величин, построение графиков)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усвоить зависимость между физическими величинами, закрепление знаний и умений.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Calibri"/>
              </a:rPr>
              <a:t>Развивающая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развитие навыков и умений (сравнивать, составлять таблицы, анализировать результаты опыта, формулировать выводы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амостоятельности мышления и интеллекта, грамотной устной речи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Calibri"/>
              </a:rPr>
              <a:t>Воспитательная:</a:t>
            </a:r>
            <a:r>
              <a:rPr b="1" i="1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воспитание мировоззренческих понятий (познаваемость мира, причинно-следственные связи в окружающем мире)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показать роль ученого в развитии науки (на примере биографии Г.Ома)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Тип урока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бинированный (изучение нового материала, фронтальная лабораторная работ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Оборудование</a:t>
            </a:r>
            <a:r>
              <a:rPr b="1" lang="en-US" sz="1400" spc="-1" strike="noStrike">
                <a:solidFill>
                  <a:srgbClr val="632523"/>
                </a:solidFill>
                <a:latin typeface="Calibri"/>
              </a:rPr>
              <a:t>: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абораторное оборудование по электричеств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читель  физики МАОУ СОШ№5  Людмила Васильевна Поп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он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м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л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частк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п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560" y="184428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Сила тока в участке цепи прямо пропорциональна напряжению на концах этого участка и обратно пропорциональна его сопротивлению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132000" y="4653000"/>
            <a:ext cx="19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I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643280" y="4265640"/>
            <a:ext cx="212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66"/>
                </a:solidFill>
                <a:uFillTx/>
                <a:latin typeface="Times New Roman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baseline="30000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 знаешь, как, работая с формулой закона Ома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егко написать формулу для любой входящей величины 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помощью треугольн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class-fizika.narod.ru/8_class/8_urok/8_el/02.gif"/>
          <p:cNvPicPr/>
          <p:nvPr/>
        </p:nvPicPr>
        <p:blipFill>
          <a:blip r:embed="rId1"/>
          <a:stretch/>
        </p:blipFill>
        <p:spPr>
          <a:xfrm>
            <a:off x="725400" y="2421000"/>
            <a:ext cx="7561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1484280"/>
            <a:ext cx="8061120" cy="50925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немецкий электротехник Георг Симон Ом положил на стол ректора Берлинского университета свою диссертацию, где впервые был сформулирован этот закон, без которого невозможе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 один электротехнический расчет, он получил весьма резкую резолюцию. В ней говорилось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электричество не поддается никакому математическом описанию, так как электриче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собственный гнев, собственное бушевание тела, его гневное Я, которое проявляется в каждом теле, когда его раздражают. Ректором Берлинского университета был в те годы  Георг Вильгельм Фридрих Геге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Прямоугольник 3" descr=""/>
          <p:cNvPicPr/>
          <p:nvPr/>
        </p:nvPicPr>
        <p:blipFill>
          <a:blip r:embed="rId1"/>
          <a:stretch/>
        </p:blipFill>
        <p:spPr>
          <a:xfrm>
            <a:off x="1560600" y="79200"/>
            <a:ext cx="58338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684360" y="177336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пределите силу тока в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лектрочайнике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если он включен в сеть с напряжением 220 В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а сопротивление нити накала  при работе чайника 40 О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3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3640" y="1449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е силу тока в электрочайни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он включен в сеть с напряжением 220 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 сопротивление нити накала  при работе чайника 40 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892080" y="364176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=2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4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652120" y="385128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U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481280" y="415620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2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 Ом=5,5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370760" y="5680080"/>
            <a:ext cx="27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2133720" y="4038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55640" y="5181480"/>
            <a:ext cx="137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4191120" y="4038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2" descr="Картинка 182 из 120308">
            <a:hlinkClick r:id="rId1"/>
          </p:cNvPr>
          <p:cNvPicPr/>
          <p:nvPr/>
        </p:nvPicPr>
        <p:blipFill>
          <a:blip r:embed="rId2"/>
          <a:srcRect l="19989" t="6151" r="13591" b="12262"/>
          <a:stretch/>
        </p:blipFill>
        <p:spPr>
          <a:xfrm>
            <a:off x="7245360" y="4673520"/>
            <a:ext cx="161280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900000" y="2133720"/>
            <a:ext cx="755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 напряжении 1,2кВ сила тока в цепи одной из секций телевизора 50м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у равно сопротивление цепи этой се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 напряжении 1,2кВ сила тока в цепи одной из секций телевизора 50мА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у равно сопротивление цепи этой секции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053000" y="2556000"/>
            <a:ext cx="22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=1.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В=1200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5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=0,05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-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252320" y="247968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U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U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410080" y="2403360"/>
            <a:ext cx="399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0.0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=24000 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164840" y="508464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00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м = 24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733920" y="2514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838080" y="36576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334120" y="2514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1" descr="C:\Users\Наташа\AppData\Local\Microsoft\Windows\Temporary Internet Files\Content.IE5\DJ009U4G\MC900150365[1].wmf"/>
          <p:cNvPicPr/>
          <p:nvPr/>
        </p:nvPicPr>
        <p:blipFill>
          <a:blip r:embed="rId1"/>
          <a:stretch/>
        </p:blipFill>
        <p:spPr>
          <a:xfrm>
            <a:off x="838080" y="4653000"/>
            <a:ext cx="1238400" cy="179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755640" y="2060640"/>
            <a:ext cx="610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ите напряжение на концах проводника сопротивлением 20 О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сли сила тока в проводнике 400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ли сила тока в проводнике 400мА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052640" y="2631960"/>
            <a:ext cx="209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2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4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=0,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795840" y="2556000"/>
            <a:ext cx="10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U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=I*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625720" y="24796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 Ом*0,4А=8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486400" y="4003560"/>
            <a:ext cx="30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=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3352680" y="2362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5334120" y="2514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762120" y="3581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762120" y="3581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6" descr="C:\Users\Наташа\AppData\Local\Microsoft\Windows\Temporary Internet Files\Content.IE5\VQBQ71DP\MP900401969[1].jpg"/>
          <p:cNvPicPr/>
          <p:nvPr/>
        </p:nvPicPr>
        <p:blipFill>
          <a:blip r:embed="rId1"/>
          <a:stretch/>
        </p:blipFill>
        <p:spPr>
          <a:xfrm>
            <a:off x="179280" y="4649760"/>
            <a:ext cx="28288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е самостоятель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ое нужно приложить напряжение к проводнику сопротивлением 0,25 О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в проводнике была сила тока 30 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айдите сопротивление обмотки ампермет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у которого сила тока 30А при напряжении 60м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Начертите схему включения лампы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льтметра и ампермет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считайте показания ампермет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ли вольтметр показывает 120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сопротивление лампы240 О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17" descr="10022"/>
          <p:cNvPicPr/>
          <p:nvPr/>
        </p:nvPicPr>
        <p:blipFill>
          <a:blip r:embed="rId1"/>
          <a:stretch/>
        </p:blipFill>
        <p:spPr>
          <a:xfrm>
            <a:off x="-15840" y="2317680"/>
            <a:ext cx="9159840" cy="45147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" descr=""/>
          <p:cNvPicPr/>
          <p:nvPr/>
        </p:nvPicPr>
        <p:blipFill>
          <a:blip r:embed="rId2"/>
          <a:stretch/>
        </p:blipFill>
        <p:spPr>
          <a:xfrm>
            <a:off x="712800" y="622440"/>
            <a:ext cx="758340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1403280" y="90792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помните изученно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азывается силой то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    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а для расч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азывается напряжени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а для расч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ор для измерения силы то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ор для измерения напряж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одключения приборов в цеп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Как определить цену деления прибо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56040" y="4652640"/>
            <a:ext cx="330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орг Симон 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 1787-185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2160" y="534600"/>
            <a:ext cx="5759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мецкий физик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дился в 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рлангене в семье ремесленни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кончив гимнази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м поступил в университе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о прервал обучение из-за материальных затруднени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ал учителем в Годштадт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город в Швейцари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амостоятельно подготовил докторскую диссертацию и защитил  ее в  университете в 1811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сле этого Ом преподавал математик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зику в школах Германи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 1826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32523"/>
                </a:solidFill>
                <a:latin typeface="Calibri"/>
              </a:rPr>
              <a:t>Ом установил формулу для постоянного тока в электрической цепи</a:t>
            </a:r>
            <a:r>
              <a:rPr b="1" i="1" lang="en-US" sz="2200" spc="-1" strike="noStrike">
                <a:solidFill>
                  <a:srgbClr val="632523"/>
                </a:solidFill>
                <a:latin typeface="Calibri"/>
              </a:rPr>
              <a:t>,</a:t>
            </a:r>
            <a:r>
              <a:rPr b="1" i="1" lang="ru-RU" sz="2200" spc="-1" strike="noStrike">
                <a:solidFill>
                  <a:srgbClr val="632523"/>
                </a:solidFill>
                <a:latin typeface="Calibri"/>
              </a:rPr>
              <a:t> известную теперь как закон Ома</a:t>
            </a:r>
            <a:r>
              <a:rPr b="1" i="1" lang="en-US" sz="2200" spc="-1" strike="noStrike">
                <a:solidFill>
                  <a:srgbClr val="632523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971800" y="22096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413160" y="2327400"/>
            <a:ext cx="519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8" descr="Картинка 57 из 11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3920" y="115920"/>
            <a:ext cx="2984400" cy="398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927000" y="79200"/>
            <a:ext cx="7510680" cy="1140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50920" y="1484280"/>
            <a:ext cx="8893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. Собрать электрическую цепь включающую в себ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истор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оста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мперметр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льтметр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рисовать схему собранной цеп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ическая цеп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опы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6247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ая серия опы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анавливается зависимос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ется неизменной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=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AutoShape 5"/>
          <p:cNvCxnSpPr/>
          <p:nvPr/>
        </p:nvCxnSpPr>
        <p:spPr>
          <a:xfrm>
            <a:off x="1294920" y="4723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AutoShape 6"/>
          <p:cNvCxnSpPr/>
          <p:nvPr/>
        </p:nvCxnSpPr>
        <p:spPr>
          <a:xfrm>
            <a:off x="1294920" y="4723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AutoShape 41"/>
          <p:cNvCxnSpPr/>
          <p:nvPr/>
        </p:nvCxnSpPr>
        <p:spPr>
          <a:xfrm>
            <a:off x="1828800" y="4405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Line 59"/>
          <p:cNvSpPr/>
          <p:nvPr/>
        </p:nvSpPr>
        <p:spPr>
          <a:xfrm flipV="1">
            <a:off x="9144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0"/>
          <p:cNvSpPr/>
          <p:nvPr/>
        </p:nvSpPr>
        <p:spPr>
          <a:xfrm>
            <a:off x="914400" y="6477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 flipV="1">
            <a:off x="914400" y="4495680"/>
            <a:ext cx="3276720" cy="19814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2"/>
          <p:cNvSpPr/>
          <p:nvPr/>
        </p:nvSpPr>
        <p:spPr>
          <a:xfrm>
            <a:off x="914400" y="5867280"/>
            <a:ext cx="99072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4"/>
          <p:cNvSpPr/>
          <p:nvPr/>
        </p:nvSpPr>
        <p:spPr>
          <a:xfrm>
            <a:off x="914400" y="5257800"/>
            <a:ext cx="1981080" cy="1219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5"/>
          <p:cNvSpPr/>
          <p:nvPr/>
        </p:nvSpPr>
        <p:spPr>
          <a:xfrm>
            <a:off x="914400" y="4648320"/>
            <a:ext cx="3048120" cy="1828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7"/>
          <p:cNvSpPr/>
          <p:nvPr/>
        </p:nvSpPr>
        <p:spPr>
          <a:xfrm>
            <a:off x="443160" y="36226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124080" y="3276720"/>
          <a:ext cx="5562720" cy="1050840"/>
        </p:xfrm>
        <a:graphic>
          <a:graphicData uri="http://schemas.openxmlformats.org/drawingml/2006/table">
            <a:tbl>
              <a:tblPr/>
              <a:tblGrid>
                <a:gridCol w="1143000"/>
                <a:gridCol w="838440"/>
                <a:gridCol w="914400"/>
                <a:gridCol w="914400"/>
                <a:gridCol w="914400"/>
                <a:gridCol w="8380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114"/>
          <p:cNvSpPr/>
          <p:nvPr/>
        </p:nvSpPr>
        <p:spPr>
          <a:xfrm>
            <a:off x="4863600" y="651816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6"/>
          <p:cNvSpPr/>
          <p:nvPr/>
        </p:nvSpPr>
        <p:spPr>
          <a:xfrm>
            <a:off x="747720" y="651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7"/>
          <p:cNvSpPr/>
          <p:nvPr/>
        </p:nvSpPr>
        <p:spPr>
          <a:xfrm>
            <a:off x="1814760" y="651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8"/>
          <p:cNvSpPr/>
          <p:nvPr/>
        </p:nvSpPr>
        <p:spPr>
          <a:xfrm>
            <a:off x="2805120" y="651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9"/>
          <p:cNvSpPr/>
          <p:nvPr/>
        </p:nvSpPr>
        <p:spPr>
          <a:xfrm>
            <a:off x="3795840" y="651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0"/>
          <p:cNvSpPr/>
          <p:nvPr/>
        </p:nvSpPr>
        <p:spPr>
          <a:xfrm>
            <a:off x="5353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1"/>
          <p:cNvSpPr/>
          <p:nvPr/>
        </p:nvSpPr>
        <p:spPr>
          <a:xfrm>
            <a:off x="5353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2"/>
          <p:cNvSpPr/>
          <p:nvPr/>
        </p:nvSpPr>
        <p:spPr>
          <a:xfrm>
            <a:off x="595440" y="446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3"/>
          <p:cNvSpPr/>
          <p:nvPr/>
        </p:nvSpPr>
        <p:spPr>
          <a:xfrm>
            <a:off x="5092560" y="4842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елайте выв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4"/>
          <p:cNvSpPr/>
          <p:nvPr/>
        </p:nvSpPr>
        <p:spPr>
          <a:xfrm>
            <a:off x="5105520" y="5603760"/>
            <a:ext cx="3504960" cy="82548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иси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я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порцион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25"/>
          <p:cNvSpPr/>
          <p:nvPr/>
        </p:nvSpPr>
        <p:spPr>
          <a:xfrm>
            <a:off x="2895480" y="5257800"/>
            <a:ext cx="7632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26"/>
          <p:cNvSpPr/>
          <p:nvPr/>
        </p:nvSpPr>
        <p:spPr>
          <a:xfrm>
            <a:off x="1828800" y="5867280"/>
            <a:ext cx="7632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27"/>
          <p:cNvSpPr/>
          <p:nvPr/>
        </p:nvSpPr>
        <p:spPr>
          <a:xfrm>
            <a:off x="3886200" y="4648320"/>
            <a:ext cx="76320" cy="759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28"/>
          <p:cNvSpPr/>
          <p:nvPr/>
        </p:nvSpPr>
        <p:spPr>
          <a:xfrm>
            <a:off x="914400" y="6400800"/>
            <a:ext cx="7632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торая серия опы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авливается зависим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тается неизменны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=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057400"/>
          <a:ext cx="6019560" cy="1295280"/>
        </p:xfrm>
        <a:graphic>
          <a:graphicData uri="http://schemas.openxmlformats.org/drawingml/2006/table">
            <a:tbl>
              <a:tblPr/>
              <a:tblGrid>
                <a:gridCol w="1447560"/>
                <a:gridCol w="762120"/>
                <a:gridCol w="762120"/>
                <a:gridCol w="761760"/>
                <a:gridCol w="762120"/>
                <a:gridCol w="685800"/>
                <a:gridCol w="8380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Line 109"/>
          <p:cNvSpPr/>
          <p:nvPr/>
        </p:nvSpPr>
        <p:spPr>
          <a:xfrm flipV="1">
            <a:off x="9144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10"/>
          <p:cNvSpPr/>
          <p:nvPr/>
        </p:nvSpPr>
        <p:spPr>
          <a:xfrm>
            <a:off x="914400" y="6477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1"/>
          <p:cNvSpPr/>
          <p:nvPr/>
        </p:nvSpPr>
        <p:spPr>
          <a:xfrm>
            <a:off x="367200" y="36226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2"/>
          <p:cNvSpPr/>
          <p:nvPr/>
        </p:nvSpPr>
        <p:spPr>
          <a:xfrm>
            <a:off x="4863600" y="651816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rc 114"/>
          <p:cNvSpPr/>
          <p:nvPr/>
        </p:nvSpPr>
        <p:spPr>
          <a:xfrm rot="10625400">
            <a:off x="1295280" y="3809880"/>
            <a:ext cx="2438640" cy="2438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5"/>
          <p:cNvSpPr/>
          <p:nvPr/>
        </p:nvSpPr>
        <p:spPr>
          <a:xfrm>
            <a:off x="914400" y="4114800"/>
            <a:ext cx="380880" cy="2362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6"/>
          <p:cNvSpPr/>
          <p:nvPr/>
        </p:nvSpPr>
        <p:spPr>
          <a:xfrm>
            <a:off x="914400" y="5257800"/>
            <a:ext cx="762120" cy="1219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7"/>
          <p:cNvSpPr/>
          <p:nvPr/>
        </p:nvSpPr>
        <p:spPr>
          <a:xfrm>
            <a:off x="914400" y="5562720"/>
            <a:ext cx="1143000" cy="914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8"/>
          <p:cNvSpPr/>
          <p:nvPr/>
        </p:nvSpPr>
        <p:spPr>
          <a:xfrm>
            <a:off x="914400" y="5867280"/>
            <a:ext cx="152388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9"/>
          <p:cNvSpPr/>
          <p:nvPr/>
        </p:nvSpPr>
        <p:spPr>
          <a:xfrm>
            <a:off x="914400" y="6095880"/>
            <a:ext cx="1905120" cy="381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0"/>
          <p:cNvSpPr/>
          <p:nvPr/>
        </p:nvSpPr>
        <p:spPr>
          <a:xfrm>
            <a:off x="914400" y="6172200"/>
            <a:ext cx="2286000" cy="304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1"/>
          <p:cNvSpPr/>
          <p:nvPr/>
        </p:nvSpPr>
        <p:spPr>
          <a:xfrm>
            <a:off x="829800" y="64911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    1     2    3    4     5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3"/>
          <p:cNvSpPr/>
          <p:nvPr/>
        </p:nvSpPr>
        <p:spPr>
          <a:xfrm>
            <a:off x="533520" y="38512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4"/>
          <p:cNvSpPr/>
          <p:nvPr/>
        </p:nvSpPr>
        <p:spPr>
          <a:xfrm>
            <a:off x="458280" y="510228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5"/>
          <p:cNvSpPr/>
          <p:nvPr/>
        </p:nvSpPr>
        <p:spPr>
          <a:xfrm>
            <a:off x="457200" y="57150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6"/>
          <p:cNvSpPr/>
          <p:nvPr/>
        </p:nvSpPr>
        <p:spPr>
          <a:xfrm>
            <a:off x="4635360" y="43084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елайте выв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7"/>
          <p:cNvSpPr/>
          <p:nvPr/>
        </p:nvSpPr>
        <p:spPr>
          <a:xfrm>
            <a:off x="4251240" y="4917960"/>
            <a:ext cx="3978360" cy="8254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исимость обрат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порцион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29"/>
          <p:cNvSpPr/>
          <p:nvPr/>
        </p:nvSpPr>
        <p:spPr>
          <a:xfrm>
            <a:off x="1219320" y="4038480"/>
            <a:ext cx="7596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30"/>
          <p:cNvSpPr/>
          <p:nvPr/>
        </p:nvSpPr>
        <p:spPr>
          <a:xfrm>
            <a:off x="1676520" y="5181480"/>
            <a:ext cx="7596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31"/>
          <p:cNvSpPr/>
          <p:nvPr/>
        </p:nvSpPr>
        <p:spPr>
          <a:xfrm>
            <a:off x="1981080" y="5486400"/>
            <a:ext cx="7632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32"/>
          <p:cNvSpPr/>
          <p:nvPr/>
        </p:nvSpPr>
        <p:spPr>
          <a:xfrm>
            <a:off x="2819520" y="6019920"/>
            <a:ext cx="75960" cy="759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33"/>
          <p:cNvSpPr/>
          <p:nvPr/>
        </p:nvSpPr>
        <p:spPr>
          <a:xfrm>
            <a:off x="3124080" y="6095880"/>
            <a:ext cx="7632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34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3:26:34Z</dcterms:created>
  <dc:creator>user</dc:creator>
  <dc:description/>
  <dc:language>en-US</dc:language>
  <cp:lastModifiedBy>наталья</cp:lastModifiedBy>
  <dcterms:modified xsi:type="dcterms:W3CDTF">2013-12-05T07:33:33Z</dcterms:modified>
  <cp:revision>39</cp:revision>
  <dc:subject/>
  <dc:title>Презентация PowerPoint</dc:title>
</cp:coreProperties>
</file>