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media/image6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BD2-A0FE-47BA-A700-106AE5CB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48D-DAFB-4996-B08F-74461738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526-A36D-4EA3-B274-43F46AE2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28B-3561-425A-AE34-2F37B719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D1F-A34C-4B25-BB52-97D5D2C8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D6E-C7B1-4F5E-AFB9-072BC299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092-FC1B-4A5F-9E4B-CBAA6896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D5D-5922-4FC5-B836-8B162397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450-18DB-4C54-A194-5AAD147B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D43-F900-4CA3-BC96-8E47EF60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DAF-C216-409C-9628-4C931403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3DA-AC4B-4551-8A7A-08DFE531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0B07-9791-4A98-85BD-6D0F60DF3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33336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"/>
              </a:rPr>
              <a:t>Презентация к уроку математи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1 клас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Тема: «Задача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54200" y="5229360"/>
            <a:ext cx="505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манцова О.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ОУ СОШ № 5 г.Туап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588000" y="4292640"/>
            <a:ext cx="18003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1998720" cy="266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987640" y="981000"/>
            <a:ext cx="1297080" cy="172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859280" y="1052640"/>
            <a:ext cx="1297080" cy="172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659640" y="1125360"/>
            <a:ext cx="1297080" cy="1729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48320" y="3976560"/>
            <a:ext cx="713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1 + 3 = 4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4 – 1 = 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3 + 1 = 4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4 – 3 = 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6"/>
          <a:stretch/>
        </p:blipFill>
        <p:spPr>
          <a:xfrm rot="1122600">
            <a:off x="4066920" y="5157360"/>
            <a:ext cx="10792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476280"/>
            <a:ext cx="42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Петя  поймал утром двух крабов, а вечером еще одного. Сколько всего крабов поймал Пет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549360"/>
            <a:ext cx="359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Петя  поймал утром двух крабов, а вечером еще одного.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9640" y="2997360"/>
            <a:ext cx="25196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ч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0" y="2997360"/>
            <a:ext cx="403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словие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5373720"/>
            <a:ext cx="122580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5373720"/>
            <a:ext cx="122580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5373720"/>
            <a:ext cx="1225440" cy="122400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275280" y="2780280"/>
            <a:ext cx="1008000" cy="4321080"/>
          </a:xfrm>
          <a:custGeom>
            <a:avLst/>
            <a:gdLst>
              <a:gd name="textAreaLeft" fmla="*/ 644040 w 1008000"/>
              <a:gd name="textAreaRight" fmla="*/ 1008360 w 100800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92360" y="3645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ставить схем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77336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177336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95640" y="177336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2060640"/>
            <a:ext cx="53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132000" y="-1250640"/>
            <a:ext cx="285840" cy="5470560"/>
          </a:xfrm>
          <a:custGeom>
            <a:avLst/>
            <a:gdLst>
              <a:gd name="textAreaLeft" fmla="*/ 0 w 285840"/>
              <a:gd name="textAreaRight" fmla="*/ 200520 w 285840"/>
              <a:gd name="textAreaTop" fmla="*/ 227880 h 5470560"/>
              <a:gd name="textAreaBottom" fmla="*/ 5242680 h 547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76360" y="2133720"/>
            <a:ext cx="115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7 цв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356000" y="2133720"/>
            <a:ext cx="1224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2 цв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00360" y="836640"/>
            <a:ext cx="115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? цв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5960" y="2781360"/>
            <a:ext cx="607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Составим выражение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619200" y="4005360"/>
            <a:ext cx="78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Найдем значение выраже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688680" y="5661000"/>
            <a:ext cx="442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Получим отве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195640" y="3500280"/>
          <a:ext cx="1944720" cy="59220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72072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124000" y="4869000"/>
          <a:ext cx="3456000" cy="577800"/>
        </p:xfrm>
        <a:graphic>
          <a:graphicData uri="http://schemas.openxmlformats.org/drawingml/2006/table">
            <a:tbl>
              <a:tblPr/>
              <a:tblGrid>
                <a:gridCol w="692280"/>
                <a:gridCol w="690480"/>
                <a:gridCol w="690480"/>
                <a:gridCol w="690840"/>
                <a:gridCol w="691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 txBox="1"/>
          <p:nvPr/>
        </p:nvSpPr>
        <p:spPr>
          <a:xfrm>
            <a:off x="5508720" y="5661000"/>
            <a:ext cx="2305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9 цвет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575400" y="0"/>
            <a:ext cx="24703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4" descr="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5400000">
            <a:off x="2987640" y="-747720"/>
            <a:ext cx="432000" cy="4464000"/>
          </a:xfrm>
          <a:custGeom>
            <a:avLst/>
            <a:gdLst>
              <a:gd name="textAreaLeft" fmla="*/ 127080 w 432000"/>
              <a:gd name="textAreaRight" fmla="*/ 432360 w 432000"/>
              <a:gd name="textAreaTop" fmla="*/ 185760 h 4464000"/>
              <a:gd name="textAreaBottom" fmla="*/ 427824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060640"/>
            <a:ext cx="41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1773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773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3203640" y="1773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627280" y="620640"/>
            <a:ext cx="115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 ш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63640" y="2133720"/>
            <a:ext cx="115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 ш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708360" y="2133720"/>
            <a:ext cx="115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ш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71640" y="335772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-3=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00000" y="4581360"/>
            <a:ext cx="482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твет: 2 шар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964120" y="476280"/>
            <a:ext cx="31798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1557360"/>
            <a:ext cx="41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3573360"/>
            <a:ext cx="41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661000"/>
            <a:ext cx="41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26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13413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3413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335772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3284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537372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537372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537372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987640" y="3284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2340000" y="-1035000"/>
            <a:ext cx="432000" cy="4464000"/>
          </a:xfrm>
          <a:custGeom>
            <a:avLst/>
            <a:gdLst>
              <a:gd name="textAreaLeft" fmla="*/ 127080 w 432000"/>
              <a:gd name="textAreaRight" fmla="*/ 432360 w 432000"/>
              <a:gd name="textAreaTop" fmla="*/ 185760 h 4464000"/>
              <a:gd name="textAreaBottom" fmla="*/ 427824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340000" y="907920"/>
            <a:ext cx="431640" cy="4464000"/>
          </a:xfrm>
          <a:custGeom>
            <a:avLst/>
            <a:gdLst>
              <a:gd name="textAreaLeft" fmla="*/ 126720 w 431640"/>
              <a:gd name="textAreaRight" fmla="*/ 432000 w 431640"/>
              <a:gd name="textAreaTop" fmla="*/ 185760 h 4464000"/>
              <a:gd name="textAreaBottom" fmla="*/ 427824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2340000" y="2925360"/>
            <a:ext cx="432000" cy="4464000"/>
          </a:xfrm>
          <a:custGeom>
            <a:avLst/>
            <a:gdLst>
              <a:gd name="textAreaLeft" fmla="*/ 127080 w 432000"/>
              <a:gd name="textAreaRight" fmla="*/ 432360 w 432000"/>
              <a:gd name="textAreaTop" fmla="*/ 185760 h 4464000"/>
              <a:gd name="textAreaBottom" fmla="*/ 427824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24000" y="47628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00000" y="1628640"/>
            <a:ext cx="360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71640" y="1628640"/>
            <a:ext cx="360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340000" y="2492280"/>
            <a:ext cx="360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03280" y="5734080"/>
            <a:ext cx="360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32000" y="3645000"/>
            <a:ext cx="360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348000" y="3645000"/>
            <a:ext cx="360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340000" y="4508640"/>
            <a:ext cx="36036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03640" y="5734080"/>
            <a:ext cx="360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68360" y="260280"/>
            <a:ext cx="1152720" cy="960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2920" y="1413000"/>
            <a:ext cx="1152720" cy="960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987640" y="1413000"/>
            <a:ext cx="1152720" cy="960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700360" y="2205000"/>
            <a:ext cx="519120" cy="647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708360" y="3500280"/>
            <a:ext cx="519120" cy="64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763640" y="3500280"/>
            <a:ext cx="519120" cy="64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2771640" y="4365720"/>
            <a:ext cx="505080" cy="57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3635280" y="5661000"/>
            <a:ext cx="505080" cy="57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1835280" y="5661000"/>
            <a:ext cx="504720" cy="57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5724360" y="4869000"/>
            <a:ext cx="288000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-3=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867280" y="2852640"/>
            <a:ext cx="28800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5+3=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96000" y="1052640"/>
            <a:ext cx="287964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7-3=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4" descr="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332000" y="1268280"/>
            <a:ext cx="6769080" cy="266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979640" y="2205000"/>
            <a:ext cx="482436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8:54:09Z</dcterms:created>
  <dc:creator>санек</dc:creator>
  <dc:description/>
  <dc:language>en-US</dc:language>
  <cp:lastModifiedBy>XP GAME 2009</cp:lastModifiedBy>
  <dcterms:modified xsi:type="dcterms:W3CDTF">2014-01-20T15:47:28Z</dcterms:modified>
  <cp:revision>63</cp:revision>
  <dc:subject/>
  <dc:title>Слайд 1</dc:title>
</cp:coreProperties>
</file>