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001C-9B35-4F1C-AF1D-57469F904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EA89-F850-4019-A880-83EA0306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34B2-D264-45D0-934B-0DF0D0151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1E06-BBB2-416D-BAB9-B9CB1D044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2F48-0DE8-4CC0-819D-7421412EF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8881-9CEA-4E44-8585-8EC30FF9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5B01-09E7-491D-96E1-4827C3C3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4748-2C99-4FC9-B9E2-8EC864B9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72DF-09E2-439B-8772-6D01C65B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4E3A-82DF-45BA-B93E-1F51BE41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9BDC-ABA4-4C3E-AA69-B2335647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C1EF-BDDD-41BA-A56B-9C1C1116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D75E5-72E5-4E14-BF93-8B5FDFBA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047E-AE90-48C1-89C2-373148FE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B69D-C23F-4E02-A1C5-9B3258FE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DB2C-024E-4C94-ABCB-E49C11FBF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D6EC-C04A-426E-9A85-AFBC0DA07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BABC-3AF4-496B-BFE8-99A47D36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E2DD-AEDB-46EE-8F6D-31CC73A9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36EE-F106-410E-9818-72C970BE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8F73-7D2F-4A17-B270-0B0A2742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12B6-5EB5-4059-B859-C70EE447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48FE-713B-498E-B510-00768E91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9840-C0C6-4636-AC7C-0DE1EAFC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CBA4-60C2-46EA-AEEA-6CAFEEA01C0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8680" y="-83520"/>
            <a:ext cx="2433240" cy="2254680"/>
            <a:chOff x="7168680" y="-83520"/>
            <a:chExt cx="2433240" cy="225468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8680" y="-83520"/>
              <a:ext cx="2433240" cy="2254680"/>
              <a:chOff x="7168680" y="-83520"/>
              <a:chExt cx="2433240" cy="225468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8680" y="-83520"/>
                <a:ext cx="2433240" cy="2254680"/>
                <a:chOff x="7168680" y="-83520"/>
                <a:chExt cx="2433240" cy="225468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4800" cy="198720"/>
                </a:xfrm>
                <a:custGeom>
                  <a:avLst/>
                  <a:gdLst>
                    <a:gd name="textAreaLeft" fmla="*/ 0 w 244800"/>
                    <a:gd name="textAreaRight" fmla="*/ 245160 w 2448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5480" y="518760"/>
                  <a:ext cx="430200" cy="695520"/>
                </a:xfrm>
                <a:custGeom>
                  <a:avLst/>
                  <a:gdLst>
                    <a:gd name="textAreaLeft" fmla="*/ 0 w 430200"/>
                    <a:gd name="textAreaRight" fmla="*/ 430560 w 43020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2000" y="282240"/>
                  <a:ext cx="808200" cy="1425600"/>
                </a:xfrm>
                <a:custGeom>
                  <a:avLst/>
                  <a:gdLst>
                    <a:gd name="textAreaLeft" fmla="*/ 0 w 808200"/>
                    <a:gd name="textAreaRight" fmla="*/ 808560 w 80820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8520" y="-22680"/>
                  <a:ext cx="1213200" cy="2133360"/>
                </a:xfrm>
                <a:custGeom>
                  <a:avLst/>
                  <a:gdLst>
                    <a:gd name="textAreaLeft" fmla="*/ 0 w 1213200"/>
                    <a:gd name="textAreaRight" fmla="*/ 1213560 w 121320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1120" y="14212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5840"/>
                  <a:ext cx="289440" cy="228600"/>
                </a:xfrm>
                <a:custGeom>
                  <a:avLst/>
                  <a:gdLst>
                    <a:gd name="textAreaLeft" fmla="*/ 0 w 289440"/>
                    <a:gd name="textAreaRight" fmla="*/ 289800 w 2894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440" y="335520"/>
                  <a:ext cx="289440" cy="233640"/>
                </a:xfrm>
                <a:custGeom>
                  <a:avLst/>
                  <a:gdLst>
                    <a:gd name="textAreaLeft" fmla="*/ 0 w 289440"/>
                    <a:gd name="textAreaRight" fmla="*/ 289800 w 28944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5280" y="213840"/>
                  <a:ext cx="286560" cy="218880"/>
                </a:xfrm>
                <a:custGeom>
                  <a:avLst/>
                  <a:gdLst>
                    <a:gd name="textAreaLeft" fmla="*/ 0 w 286560"/>
                    <a:gd name="textAreaRight" fmla="*/ 286920 w 28656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0D68-76D9-449F-BD03-E81F9360794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142920" y="1285920"/>
          <a:ext cx="8786880" cy="4545000"/>
        </p:xfrm>
        <a:graphic>
          <a:graphicData uri="http://schemas.openxmlformats.org/drawingml/2006/table">
            <a:tbl>
              <a:tblPr/>
              <a:tblGrid>
                <a:gridCol w="3286080"/>
                <a:gridCol w="1000080"/>
                <a:gridCol w="1035000"/>
                <a:gridCol w="1155960"/>
                <a:gridCol w="1153800"/>
                <a:gridCol w="1155960"/>
              </a:tblGrid>
              <a:tr h="113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Достопримечательности Краснодарского кр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4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з истории нашей станиц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6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8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9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0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танция «Историческа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2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4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агад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6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8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9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0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убанский гов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2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4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680" y="152280"/>
            <a:ext cx="7385040" cy="106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omic Sans MS"/>
              </a:rPr>
              <a:t>Знай и люби свой кра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AutoShape 7">
            <a:hlinkClick r:id="" action="ppaction://hlinkshowjump?jump=lastslide"/>
          </p:cNvPr>
          <p:cNvSpPr/>
          <p:nvPr/>
        </p:nvSpPr>
        <p:spPr>
          <a:xfrm>
            <a:off x="8317080" y="6093000"/>
            <a:ext cx="502920" cy="5745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75">
                <a:moveTo>
                  <a:pt x="0" y="0"/>
                </a:moveTo>
                <a:lnTo>
                  <a:pt x="21600" y="0"/>
                </a:lnTo>
                <a:lnTo>
                  <a:pt x="21600" y="24675"/>
                </a:lnTo>
                <a:lnTo>
                  <a:pt x="0" y="24675"/>
                </a:lnTo>
                <a:close/>
              </a:path>
              <a:path fill="lightenLess" w="21600" h="246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5">
                <a:moveTo>
                  <a:pt x="21600" y="0"/>
                </a:moveTo>
                <a:lnTo>
                  <a:pt x="21600" y="24675"/>
                </a:lnTo>
                <a:lnTo>
                  <a:pt x="20200" y="23275"/>
                </a:lnTo>
                <a:lnTo>
                  <a:pt x="20200" y="1400"/>
                </a:lnTo>
                <a:close/>
              </a:path>
              <a:path fill="darkenLess" w="21600" h="24675">
                <a:moveTo>
                  <a:pt x="21600" y="24675"/>
                </a:moveTo>
                <a:lnTo>
                  <a:pt x="0" y="24675"/>
                </a:lnTo>
                <a:lnTo>
                  <a:pt x="1400" y="23275"/>
                </a:lnTo>
                <a:lnTo>
                  <a:pt x="20200" y="23275"/>
                </a:lnTo>
                <a:close/>
              </a:path>
              <a:path fill="lighten" w="21600" h="24675">
                <a:moveTo>
                  <a:pt x="0" y="246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5"/>
                </a:lnTo>
                <a:close/>
              </a:path>
              <a:path fill="darken" w="21600" h="24675">
                <a:moveTo>
                  <a:pt x="3794" y="9030"/>
                </a:moveTo>
                <a:lnTo>
                  <a:pt x="7301" y="9030"/>
                </a:lnTo>
                <a:lnTo>
                  <a:pt x="7301" y="14365"/>
                </a:lnTo>
                <a:cubicBezTo>
                  <a:pt x="7301" y="15288"/>
                  <a:pt x="8102" y="16019"/>
                  <a:pt x="9138" y="16019"/>
                </a:cubicBezTo>
                <a:lnTo>
                  <a:pt x="10800" y="16019"/>
                </a:lnTo>
                <a:cubicBezTo>
                  <a:pt x="11836" y="16019"/>
                  <a:pt x="12636" y="15288"/>
                  <a:pt x="12636" y="14365"/>
                </a:cubicBezTo>
                <a:lnTo>
                  <a:pt x="12636" y="9030"/>
                </a:lnTo>
                <a:lnTo>
                  <a:pt x="10800" y="9030"/>
                </a:lnTo>
                <a:lnTo>
                  <a:pt x="14308" y="5522"/>
                </a:lnTo>
                <a:lnTo>
                  <a:pt x="17981" y="9030"/>
                </a:lnTo>
                <a:lnTo>
                  <a:pt x="16144" y="9030"/>
                </a:lnTo>
                <a:lnTo>
                  <a:pt x="16144" y="14365"/>
                </a:lnTo>
                <a:cubicBezTo>
                  <a:pt x="16144" y="17133"/>
                  <a:pt x="13568" y="19692"/>
                  <a:pt x="10800" y="19692"/>
                </a:cubicBezTo>
                <a:lnTo>
                  <a:pt x="9138" y="19692"/>
                </a:lnTo>
                <a:cubicBezTo>
                  <a:pt x="6370" y="19692"/>
                  <a:pt x="3794" y="17133"/>
                  <a:pt x="3794" y="14365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70"/>
          <p:cNvSpPr/>
          <p:nvPr/>
        </p:nvSpPr>
        <p:spPr>
          <a:xfrm>
            <a:off x="3184560" y="5202360"/>
            <a:ext cx="1839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71"/>
          <p:cNvSpPr/>
          <p:nvPr/>
        </p:nvSpPr>
        <p:spPr>
          <a:xfrm>
            <a:off x="3832200" y="5418000"/>
            <a:ext cx="1747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14680" y="999720"/>
            <a:ext cx="5900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прос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стоимостью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40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очк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71320" y="2928600"/>
            <a:ext cx="78102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аком году станица получила свое окончательное назва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AutoShape 5">
            <a:hlinkClick r:id="" action="ppaction://hlinkshowjump?jump=firstslide"/>
          </p:cNvPr>
          <p:cNvSpPr/>
          <p:nvPr/>
        </p:nvSpPr>
        <p:spPr>
          <a:xfrm>
            <a:off x="8172360" y="5734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9021"/>
                </a:moveTo>
                <a:lnTo>
                  <a:pt x="7301" y="9021"/>
                </a:lnTo>
                <a:lnTo>
                  <a:pt x="7301" y="14356"/>
                </a:lnTo>
                <a:cubicBezTo>
                  <a:pt x="7301" y="15279"/>
                  <a:pt x="8102" y="16010"/>
                  <a:pt x="9138" y="16010"/>
                </a:cubicBezTo>
                <a:lnTo>
                  <a:pt x="10800" y="16010"/>
                </a:lnTo>
                <a:cubicBezTo>
                  <a:pt x="11836" y="16010"/>
                  <a:pt x="12636" y="15279"/>
                  <a:pt x="12636" y="14356"/>
                </a:cubicBezTo>
                <a:lnTo>
                  <a:pt x="12636" y="9021"/>
                </a:lnTo>
                <a:lnTo>
                  <a:pt x="10800" y="9021"/>
                </a:lnTo>
                <a:lnTo>
                  <a:pt x="14308" y="5514"/>
                </a:lnTo>
                <a:lnTo>
                  <a:pt x="17981" y="9021"/>
                </a:lnTo>
                <a:lnTo>
                  <a:pt x="16144" y="9021"/>
                </a:lnTo>
                <a:lnTo>
                  <a:pt x="16144" y="14356"/>
                </a:lnTo>
                <a:cubicBezTo>
                  <a:pt x="16144" y="17124"/>
                  <a:pt x="13568" y="19683"/>
                  <a:pt x="10800" y="19683"/>
                </a:cubicBezTo>
                <a:lnTo>
                  <a:pt x="9138" y="19683"/>
                </a:lnTo>
                <a:cubicBezTo>
                  <a:pt x="6370" y="19683"/>
                  <a:pt x="3794" y="17124"/>
                  <a:pt x="3794" y="14356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1619280" y="551664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1863 год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108000" y="357120"/>
            <a:ext cx="208764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з истории нашей станиц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55280" y="152280"/>
            <a:ext cx="5900760" cy="127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прос стоимостью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50 очк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116000" y="1628280"/>
            <a:ext cx="741672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ток убегал от Невы, возвращался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ому ериком он называлс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л ерик в ту пору еще безымянным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вот рядом с ним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д разбили фонтанн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ерик фонтаны водой напоил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какой реке идет речь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AutoShape 5">
            <a:hlinkClick r:id="" action="ppaction://hlinkshowjump?jump=firstslide"/>
          </p:cNvPr>
          <p:cNvSpPr/>
          <p:nvPr/>
        </p:nvSpPr>
        <p:spPr>
          <a:xfrm>
            <a:off x="8172360" y="5734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9021"/>
                </a:moveTo>
                <a:lnTo>
                  <a:pt x="7301" y="9021"/>
                </a:lnTo>
                <a:lnTo>
                  <a:pt x="7301" y="14356"/>
                </a:lnTo>
                <a:cubicBezTo>
                  <a:pt x="7301" y="15279"/>
                  <a:pt x="8102" y="16010"/>
                  <a:pt x="9138" y="16010"/>
                </a:cubicBezTo>
                <a:lnTo>
                  <a:pt x="10800" y="16010"/>
                </a:lnTo>
                <a:cubicBezTo>
                  <a:pt x="11836" y="16010"/>
                  <a:pt x="12636" y="15279"/>
                  <a:pt x="12636" y="14356"/>
                </a:cubicBezTo>
                <a:lnTo>
                  <a:pt x="12636" y="9021"/>
                </a:lnTo>
                <a:lnTo>
                  <a:pt x="10800" y="9021"/>
                </a:lnTo>
                <a:lnTo>
                  <a:pt x="14308" y="5514"/>
                </a:lnTo>
                <a:lnTo>
                  <a:pt x="17981" y="9021"/>
                </a:lnTo>
                <a:lnTo>
                  <a:pt x="16144" y="9021"/>
                </a:lnTo>
                <a:lnTo>
                  <a:pt x="16144" y="14356"/>
                </a:lnTo>
                <a:cubicBezTo>
                  <a:pt x="16144" y="17124"/>
                  <a:pt x="13568" y="19683"/>
                  <a:pt x="10800" y="19683"/>
                </a:cubicBezTo>
                <a:lnTo>
                  <a:pt x="9138" y="19683"/>
                </a:lnTo>
                <a:cubicBezTo>
                  <a:pt x="6370" y="19683"/>
                  <a:pt x="3794" y="17124"/>
                  <a:pt x="3794" y="14356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324000" y="260280"/>
            <a:ext cx="1439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2700360" y="59691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Фонтан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772080" cy="36576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11"/>
          <p:cNvSpPr/>
          <p:nvPr/>
        </p:nvSpPr>
        <p:spPr>
          <a:xfrm>
            <a:off x="108000" y="357120"/>
            <a:ext cx="208764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з истории нашей станиц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23640" y="836280"/>
            <a:ext cx="54133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прос стоимостью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10 очк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-360"/>
            <a:ext cx="2843280" cy="8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танция «Историческая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11280" y="2205000"/>
            <a:ext cx="7697520" cy="27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AutoShape 5">
            <a:hlinkClick r:id="" action="ppaction://hlinkshowjump?jump=firstslide"/>
          </p:cNvPr>
          <p:cNvSpPr/>
          <p:nvPr/>
        </p:nvSpPr>
        <p:spPr>
          <a:xfrm>
            <a:off x="8172360" y="5734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9021"/>
                </a:moveTo>
                <a:lnTo>
                  <a:pt x="7301" y="9021"/>
                </a:lnTo>
                <a:lnTo>
                  <a:pt x="7301" y="14356"/>
                </a:lnTo>
                <a:cubicBezTo>
                  <a:pt x="7301" y="15279"/>
                  <a:pt x="8102" y="16010"/>
                  <a:pt x="9138" y="16010"/>
                </a:cubicBezTo>
                <a:lnTo>
                  <a:pt x="10800" y="16010"/>
                </a:lnTo>
                <a:cubicBezTo>
                  <a:pt x="11836" y="16010"/>
                  <a:pt x="12636" y="15279"/>
                  <a:pt x="12636" y="14356"/>
                </a:cubicBezTo>
                <a:lnTo>
                  <a:pt x="12636" y="9021"/>
                </a:lnTo>
                <a:lnTo>
                  <a:pt x="10800" y="9021"/>
                </a:lnTo>
                <a:lnTo>
                  <a:pt x="14308" y="5514"/>
                </a:lnTo>
                <a:lnTo>
                  <a:pt x="17981" y="9021"/>
                </a:lnTo>
                <a:lnTo>
                  <a:pt x="16144" y="9021"/>
                </a:lnTo>
                <a:lnTo>
                  <a:pt x="16144" y="14356"/>
                </a:lnTo>
                <a:cubicBezTo>
                  <a:pt x="16144" y="17124"/>
                  <a:pt x="13568" y="19683"/>
                  <a:pt x="10800" y="19683"/>
                </a:cubicBezTo>
                <a:lnTo>
                  <a:pt x="9138" y="19683"/>
                </a:lnTo>
                <a:cubicBezTo>
                  <a:pt x="6370" y="19683"/>
                  <a:pt x="3794" y="17124"/>
                  <a:pt x="3794" y="14356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1619280" y="2716200"/>
            <a:ext cx="6265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каком году на Кубани планируются Олимпийские игры, в каком городе они будут проводиться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3492360" y="5589720"/>
            <a:ext cx="417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Г. Сочи – 2014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edg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07640" y="907560"/>
            <a:ext cx="56991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прос стоимостью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20 очк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95280" y="2997000"/>
            <a:ext cx="8424720" cy="16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зовите традиционные блюда казак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AutoShape 5">
            <a:hlinkClick r:id="" action="ppaction://hlinkshowjump?jump=firstslide"/>
          </p:cNvPr>
          <p:cNvSpPr/>
          <p:nvPr/>
        </p:nvSpPr>
        <p:spPr>
          <a:xfrm>
            <a:off x="8172360" y="5734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9021"/>
                </a:moveTo>
                <a:lnTo>
                  <a:pt x="7301" y="9021"/>
                </a:lnTo>
                <a:lnTo>
                  <a:pt x="7301" y="14356"/>
                </a:lnTo>
                <a:cubicBezTo>
                  <a:pt x="7301" y="15279"/>
                  <a:pt x="8102" y="16010"/>
                  <a:pt x="9138" y="16010"/>
                </a:cubicBezTo>
                <a:lnTo>
                  <a:pt x="10800" y="16010"/>
                </a:lnTo>
                <a:cubicBezTo>
                  <a:pt x="11836" y="16010"/>
                  <a:pt x="12636" y="15279"/>
                  <a:pt x="12636" y="14356"/>
                </a:cubicBezTo>
                <a:lnTo>
                  <a:pt x="12636" y="9021"/>
                </a:lnTo>
                <a:lnTo>
                  <a:pt x="10800" y="9021"/>
                </a:lnTo>
                <a:lnTo>
                  <a:pt x="14308" y="5514"/>
                </a:lnTo>
                <a:lnTo>
                  <a:pt x="17981" y="9021"/>
                </a:lnTo>
                <a:lnTo>
                  <a:pt x="16144" y="9021"/>
                </a:lnTo>
                <a:lnTo>
                  <a:pt x="16144" y="14356"/>
                </a:lnTo>
                <a:cubicBezTo>
                  <a:pt x="16144" y="17124"/>
                  <a:pt x="13568" y="19683"/>
                  <a:pt x="10800" y="19683"/>
                </a:cubicBezTo>
                <a:lnTo>
                  <a:pt x="9138" y="19683"/>
                </a:lnTo>
                <a:cubicBezTo>
                  <a:pt x="6370" y="19683"/>
                  <a:pt x="3794" y="17124"/>
                  <a:pt x="3794" y="14356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763640" y="472428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Кубанский борщ, вареники, галуш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0" y="0"/>
            <a:ext cx="284328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танция «Историческая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edg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55280" y="620280"/>
            <a:ext cx="590076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прос стоимостью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30 очк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42600" y="2428560"/>
            <a:ext cx="807228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1924 году для охраны высокогорного комплекса в крае был создан заповедник, в котором выделяется бальнеологическая курортная местность Красная Поляна - центр туризма и горнолыжного спорта с музеем флоры и фауны Кавказа. Как называется этот заповедник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AutoShape 5">
            <a:hlinkClick r:id="" action="ppaction://hlinkshowjump?jump=firstslide"/>
          </p:cNvPr>
          <p:cNvSpPr/>
          <p:nvPr/>
        </p:nvSpPr>
        <p:spPr>
          <a:xfrm>
            <a:off x="8172360" y="5734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9021"/>
                </a:moveTo>
                <a:lnTo>
                  <a:pt x="7301" y="9021"/>
                </a:lnTo>
                <a:lnTo>
                  <a:pt x="7301" y="14356"/>
                </a:lnTo>
                <a:cubicBezTo>
                  <a:pt x="7301" y="15279"/>
                  <a:pt x="8102" y="16010"/>
                  <a:pt x="9138" y="16010"/>
                </a:cubicBezTo>
                <a:lnTo>
                  <a:pt x="10800" y="16010"/>
                </a:lnTo>
                <a:cubicBezTo>
                  <a:pt x="11836" y="16010"/>
                  <a:pt x="12636" y="15279"/>
                  <a:pt x="12636" y="14356"/>
                </a:cubicBezTo>
                <a:lnTo>
                  <a:pt x="12636" y="9021"/>
                </a:lnTo>
                <a:lnTo>
                  <a:pt x="10800" y="9021"/>
                </a:lnTo>
                <a:lnTo>
                  <a:pt x="14308" y="5514"/>
                </a:lnTo>
                <a:lnTo>
                  <a:pt x="17981" y="9021"/>
                </a:lnTo>
                <a:lnTo>
                  <a:pt x="16144" y="9021"/>
                </a:lnTo>
                <a:lnTo>
                  <a:pt x="16144" y="14356"/>
                </a:lnTo>
                <a:cubicBezTo>
                  <a:pt x="16144" y="17124"/>
                  <a:pt x="13568" y="19683"/>
                  <a:pt x="10800" y="19683"/>
                </a:cubicBezTo>
                <a:lnTo>
                  <a:pt x="9138" y="19683"/>
                </a:lnTo>
                <a:cubicBezTo>
                  <a:pt x="6370" y="19683"/>
                  <a:pt x="3794" y="17124"/>
                  <a:pt x="3794" y="14356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2124000" y="5445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Кавказский заповедни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0" y="0"/>
            <a:ext cx="284328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танция «Историческая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edg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02920" y="1125360"/>
            <a:ext cx="6808680" cy="119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прос стоимостью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40 очк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26560" y="2997000"/>
            <a:ext cx="770436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колько куреней было основано казаками – переселенцами на Кубани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AutoShape 5">
            <a:hlinkClick r:id="" action="ppaction://hlinkshowjump?jump=firstslide"/>
          </p:cNvPr>
          <p:cNvSpPr/>
          <p:nvPr/>
        </p:nvSpPr>
        <p:spPr>
          <a:xfrm>
            <a:off x="8172360" y="5734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9021"/>
                </a:moveTo>
                <a:lnTo>
                  <a:pt x="7301" y="9021"/>
                </a:lnTo>
                <a:lnTo>
                  <a:pt x="7301" y="14356"/>
                </a:lnTo>
                <a:cubicBezTo>
                  <a:pt x="7301" y="15279"/>
                  <a:pt x="8102" y="16010"/>
                  <a:pt x="9138" y="16010"/>
                </a:cubicBezTo>
                <a:lnTo>
                  <a:pt x="10800" y="16010"/>
                </a:lnTo>
                <a:cubicBezTo>
                  <a:pt x="11836" y="16010"/>
                  <a:pt x="12636" y="15279"/>
                  <a:pt x="12636" y="14356"/>
                </a:cubicBezTo>
                <a:lnTo>
                  <a:pt x="12636" y="9021"/>
                </a:lnTo>
                <a:lnTo>
                  <a:pt x="10800" y="9021"/>
                </a:lnTo>
                <a:lnTo>
                  <a:pt x="14308" y="5514"/>
                </a:lnTo>
                <a:lnTo>
                  <a:pt x="17981" y="9021"/>
                </a:lnTo>
                <a:lnTo>
                  <a:pt x="16144" y="9021"/>
                </a:lnTo>
                <a:lnTo>
                  <a:pt x="16144" y="14356"/>
                </a:lnTo>
                <a:cubicBezTo>
                  <a:pt x="16144" y="17124"/>
                  <a:pt x="13568" y="19683"/>
                  <a:pt x="10800" y="19683"/>
                </a:cubicBezTo>
                <a:lnTo>
                  <a:pt x="9138" y="19683"/>
                </a:lnTo>
                <a:cubicBezTo>
                  <a:pt x="6370" y="19683"/>
                  <a:pt x="3794" y="17124"/>
                  <a:pt x="3794" y="14356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2916360" y="5445000"/>
            <a:ext cx="41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0" y="0"/>
            <a:ext cx="284328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танция «Историческая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edg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92000" y="836280"/>
            <a:ext cx="59007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прос стоимостью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50 очк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929120" y="2781360"/>
            <a:ext cx="3603600" cy="186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каком году было образовано Краснодарское водохранилище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AutoShape 5">
            <a:hlinkClick r:id="" action="ppaction://hlinkshowjump?jump=firstslide"/>
          </p:cNvPr>
          <p:cNvSpPr/>
          <p:nvPr/>
        </p:nvSpPr>
        <p:spPr>
          <a:xfrm>
            <a:off x="8172360" y="5734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9021"/>
                </a:moveTo>
                <a:lnTo>
                  <a:pt x="7301" y="9021"/>
                </a:lnTo>
                <a:lnTo>
                  <a:pt x="7301" y="14356"/>
                </a:lnTo>
                <a:cubicBezTo>
                  <a:pt x="7301" y="15279"/>
                  <a:pt x="8102" y="16010"/>
                  <a:pt x="9138" y="16010"/>
                </a:cubicBezTo>
                <a:lnTo>
                  <a:pt x="10800" y="16010"/>
                </a:lnTo>
                <a:cubicBezTo>
                  <a:pt x="11836" y="16010"/>
                  <a:pt x="12636" y="15279"/>
                  <a:pt x="12636" y="14356"/>
                </a:cubicBezTo>
                <a:lnTo>
                  <a:pt x="12636" y="9021"/>
                </a:lnTo>
                <a:lnTo>
                  <a:pt x="10800" y="9021"/>
                </a:lnTo>
                <a:lnTo>
                  <a:pt x="14308" y="5514"/>
                </a:lnTo>
                <a:lnTo>
                  <a:pt x="17981" y="9021"/>
                </a:lnTo>
                <a:lnTo>
                  <a:pt x="16144" y="9021"/>
                </a:lnTo>
                <a:lnTo>
                  <a:pt x="16144" y="14356"/>
                </a:lnTo>
                <a:cubicBezTo>
                  <a:pt x="16144" y="17124"/>
                  <a:pt x="13568" y="19683"/>
                  <a:pt x="10800" y="19683"/>
                </a:cubicBezTo>
                <a:lnTo>
                  <a:pt x="9138" y="19683"/>
                </a:lnTo>
                <a:cubicBezTo>
                  <a:pt x="6370" y="19683"/>
                  <a:pt x="3794" y="17124"/>
                  <a:pt x="3794" y="14356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5580000" y="5805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1972-75г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0" y="0"/>
            <a:ext cx="284328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танция «Историческая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5" name="Picture 7" descr="C:\Users\USER\Desktop\photo-009.jpg"/>
          <p:cNvPicPr/>
          <p:nvPr/>
        </p:nvPicPr>
        <p:blipFill>
          <a:blip r:embed="rId1"/>
          <a:stretch/>
        </p:blipFill>
        <p:spPr>
          <a:xfrm>
            <a:off x="357120" y="2428920"/>
            <a:ext cx="459576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14680" y="856800"/>
            <a:ext cx="5900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прос стоимостью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10 очк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78920" y="0"/>
            <a:ext cx="180036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035000" y="1828800"/>
            <a:ext cx="7346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AutoShape 5">
            <a:hlinkClick r:id="" action="ppaction://hlinkshowjump?jump=firstslide"/>
          </p:cNvPr>
          <p:cNvSpPr/>
          <p:nvPr/>
        </p:nvSpPr>
        <p:spPr>
          <a:xfrm>
            <a:off x="8172360" y="5734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9021"/>
                </a:moveTo>
                <a:lnTo>
                  <a:pt x="7301" y="9021"/>
                </a:lnTo>
                <a:lnTo>
                  <a:pt x="7301" y="14356"/>
                </a:lnTo>
                <a:cubicBezTo>
                  <a:pt x="7301" y="15279"/>
                  <a:pt x="8102" y="16010"/>
                  <a:pt x="9138" y="16010"/>
                </a:cubicBezTo>
                <a:lnTo>
                  <a:pt x="10800" y="16010"/>
                </a:lnTo>
                <a:cubicBezTo>
                  <a:pt x="11836" y="16010"/>
                  <a:pt x="12636" y="15279"/>
                  <a:pt x="12636" y="14356"/>
                </a:cubicBezTo>
                <a:lnTo>
                  <a:pt x="12636" y="9021"/>
                </a:lnTo>
                <a:lnTo>
                  <a:pt x="10800" y="9021"/>
                </a:lnTo>
                <a:lnTo>
                  <a:pt x="14308" y="5514"/>
                </a:lnTo>
                <a:lnTo>
                  <a:pt x="17981" y="9021"/>
                </a:lnTo>
                <a:lnTo>
                  <a:pt x="16144" y="9021"/>
                </a:lnTo>
                <a:lnTo>
                  <a:pt x="16144" y="14356"/>
                </a:lnTo>
                <a:cubicBezTo>
                  <a:pt x="16144" y="17124"/>
                  <a:pt x="13568" y="19683"/>
                  <a:pt x="10800" y="19683"/>
                </a:cubicBezTo>
                <a:lnTo>
                  <a:pt x="9138" y="19683"/>
                </a:lnTo>
                <a:cubicBezTo>
                  <a:pt x="6370" y="19683"/>
                  <a:pt x="3794" y="17124"/>
                  <a:pt x="3794" y="14356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1258920" y="1916280"/>
            <a:ext cx="6769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179280" y="260280"/>
            <a:ext cx="189252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агадк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500040" y="3430440"/>
            <a:ext cx="83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то раньше всех встает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1547640" y="488952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Петух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4" name="Picture 10" descr="C:\Users\USER\Desktop\76571711_petuh.jpg"/>
          <p:cNvPicPr/>
          <p:nvPr/>
        </p:nvPicPr>
        <p:blipFill>
          <a:blip r:embed="rId1"/>
          <a:stretch/>
        </p:blipFill>
        <p:spPr>
          <a:xfrm>
            <a:off x="5643720" y="4286160"/>
            <a:ext cx="1944360" cy="20941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14680" y="714240"/>
            <a:ext cx="6084720" cy="16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прос стоимостью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20 очк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50920" y="260280"/>
            <a:ext cx="2017440" cy="8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AutoShape 5">
            <a:hlinkClick r:id="" action="ppaction://hlinkshowjump?jump=firstslide"/>
          </p:cNvPr>
          <p:cNvSpPr/>
          <p:nvPr/>
        </p:nvSpPr>
        <p:spPr>
          <a:xfrm>
            <a:off x="8172360" y="5734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9021"/>
                </a:moveTo>
                <a:lnTo>
                  <a:pt x="7301" y="9021"/>
                </a:lnTo>
                <a:lnTo>
                  <a:pt x="7301" y="14356"/>
                </a:lnTo>
                <a:cubicBezTo>
                  <a:pt x="7301" y="15279"/>
                  <a:pt x="8102" y="16010"/>
                  <a:pt x="9138" y="16010"/>
                </a:cubicBezTo>
                <a:lnTo>
                  <a:pt x="10800" y="16010"/>
                </a:lnTo>
                <a:cubicBezTo>
                  <a:pt x="11836" y="16010"/>
                  <a:pt x="12636" y="15279"/>
                  <a:pt x="12636" y="14356"/>
                </a:cubicBezTo>
                <a:lnTo>
                  <a:pt x="12636" y="9021"/>
                </a:lnTo>
                <a:lnTo>
                  <a:pt x="10800" y="9021"/>
                </a:lnTo>
                <a:lnTo>
                  <a:pt x="14308" y="5514"/>
                </a:lnTo>
                <a:lnTo>
                  <a:pt x="17981" y="9021"/>
                </a:lnTo>
                <a:lnTo>
                  <a:pt x="16144" y="9021"/>
                </a:lnTo>
                <a:lnTo>
                  <a:pt x="16144" y="14356"/>
                </a:lnTo>
                <a:cubicBezTo>
                  <a:pt x="16144" y="17124"/>
                  <a:pt x="13568" y="19683"/>
                  <a:pt x="10800" y="19683"/>
                </a:cubicBezTo>
                <a:lnTo>
                  <a:pt x="9138" y="19683"/>
                </a:lnTo>
                <a:cubicBezTo>
                  <a:pt x="6370" y="19683"/>
                  <a:pt x="3794" y="17124"/>
                  <a:pt x="3794" y="14356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-1044720" y="3129120"/>
            <a:ext cx="18332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Rectangle 9"/>
          <p:cNvSpPr/>
          <p:nvPr/>
        </p:nvSpPr>
        <p:spPr>
          <a:xfrm>
            <a:off x="571680" y="2205000"/>
            <a:ext cx="7961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ами не едим, а людей корми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Rectangle 10"/>
          <p:cNvSpPr/>
          <p:nvPr/>
        </p:nvSpPr>
        <p:spPr>
          <a:xfrm>
            <a:off x="2286000" y="1700280"/>
            <a:ext cx="457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0" y="285840"/>
            <a:ext cx="1892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агадк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5219640" y="46004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Ложк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3" name="Picture 3" descr=""/>
          <p:cNvPicPr/>
          <p:nvPr/>
        </p:nvPicPr>
        <p:blipFill>
          <a:blip r:embed="rId1"/>
          <a:stretch/>
        </p:blipFill>
        <p:spPr>
          <a:xfrm>
            <a:off x="1643040" y="3214800"/>
            <a:ext cx="3338640" cy="2881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56880" y="642600"/>
            <a:ext cx="5900760" cy="116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прос стоимостью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30 очк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13840" y="214200"/>
            <a:ext cx="200052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857680" y="2356920"/>
            <a:ext cx="68212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Жило четыре братц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нались друг за друго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 так и не догнал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AutoShape 5">
            <a:hlinkClick r:id="" action="ppaction://hlinkshowjump?jump=firstslide"/>
          </p:cNvPr>
          <p:cNvSpPr/>
          <p:nvPr/>
        </p:nvSpPr>
        <p:spPr>
          <a:xfrm>
            <a:off x="8172360" y="5734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9021"/>
                </a:moveTo>
                <a:lnTo>
                  <a:pt x="7301" y="9021"/>
                </a:lnTo>
                <a:lnTo>
                  <a:pt x="7301" y="14356"/>
                </a:lnTo>
                <a:cubicBezTo>
                  <a:pt x="7301" y="15279"/>
                  <a:pt x="8102" y="16010"/>
                  <a:pt x="9138" y="16010"/>
                </a:cubicBezTo>
                <a:lnTo>
                  <a:pt x="10800" y="16010"/>
                </a:lnTo>
                <a:cubicBezTo>
                  <a:pt x="11836" y="16010"/>
                  <a:pt x="12636" y="15279"/>
                  <a:pt x="12636" y="14356"/>
                </a:cubicBezTo>
                <a:lnTo>
                  <a:pt x="12636" y="9021"/>
                </a:lnTo>
                <a:lnTo>
                  <a:pt x="10800" y="9021"/>
                </a:lnTo>
                <a:lnTo>
                  <a:pt x="14308" y="5514"/>
                </a:lnTo>
                <a:lnTo>
                  <a:pt x="17981" y="9021"/>
                </a:lnTo>
                <a:lnTo>
                  <a:pt x="16144" y="9021"/>
                </a:lnTo>
                <a:lnTo>
                  <a:pt x="16144" y="14356"/>
                </a:lnTo>
                <a:cubicBezTo>
                  <a:pt x="16144" y="17124"/>
                  <a:pt x="13568" y="19683"/>
                  <a:pt x="10800" y="19683"/>
                </a:cubicBezTo>
                <a:lnTo>
                  <a:pt x="9138" y="19683"/>
                </a:lnTo>
                <a:cubicBezTo>
                  <a:pt x="6370" y="19683"/>
                  <a:pt x="3794" y="17124"/>
                  <a:pt x="3794" y="14356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324000" y="0"/>
            <a:ext cx="16380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агадк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4572000" y="54291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Телега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0" name="Picture 9" descr="C:\Users\USER\Desktop\телега.jpg"/>
          <p:cNvPicPr/>
          <p:nvPr/>
        </p:nvPicPr>
        <p:blipFill>
          <a:blip r:embed="rId1"/>
          <a:stretch/>
        </p:blipFill>
        <p:spPr>
          <a:xfrm>
            <a:off x="1357200" y="3929040"/>
            <a:ext cx="3706920" cy="2779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57280" y="-360"/>
            <a:ext cx="5469120" cy="21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прос стоимостью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10 очков</a:t>
            </a:r>
            <a:br>
              <a:rPr sz="36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13840" y="260280"/>
            <a:ext cx="2428920" cy="8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з истории Краснодарского кра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AutoShape 7">
            <a:hlinkClick r:id="" action="ppaction://hlinkshowjump?jump=firstslide"/>
          </p:cNvPr>
          <p:cNvSpPr/>
          <p:nvPr/>
        </p:nvSpPr>
        <p:spPr>
          <a:xfrm>
            <a:off x="8172360" y="5734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9021"/>
                </a:moveTo>
                <a:lnTo>
                  <a:pt x="7301" y="9021"/>
                </a:lnTo>
                <a:lnTo>
                  <a:pt x="7301" y="14356"/>
                </a:lnTo>
                <a:cubicBezTo>
                  <a:pt x="7301" y="15279"/>
                  <a:pt x="8102" y="16010"/>
                  <a:pt x="9138" y="16010"/>
                </a:cubicBezTo>
                <a:lnTo>
                  <a:pt x="10800" y="16010"/>
                </a:lnTo>
                <a:cubicBezTo>
                  <a:pt x="11836" y="16010"/>
                  <a:pt x="12636" y="15279"/>
                  <a:pt x="12636" y="14356"/>
                </a:cubicBezTo>
                <a:lnTo>
                  <a:pt x="12636" y="9021"/>
                </a:lnTo>
                <a:lnTo>
                  <a:pt x="10800" y="9021"/>
                </a:lnTo>
                <a:lnTo>
                  <a:pt x="14308" y="5514"/>
                </a:lnTo>
                <a:lnTo>
                  <a:pt x="17981" y="9021"/>
                </a:lnTo>
                <a:lnTo>
                  <a:pt x="16144" y="9021"/>
                </a:lnTo>
                <a:lnTo>
                  <a:pt x="16144" y="14356"/>
                </a:lnTo>
                <a:cubicBezTo>
                  <a:pt x="16144" y="17124"/>
                  <a:pt x="13568" y="19683"/>
                  <a:pt x="10800" y="19683"/>
                </a:cubicBezTo>
                <a:lnTo>
                  <a:pt x="9138" y="19683"/>
                </a:lnTo>
                <a:cubicBezTo>
                  <a:pt x="6370" y="19683"/>
                  <a:pt x="3794" y="17124"/>
                  <a:pt x="3794" y="14356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Box 9"/>
          <p:cNvSpPr/>
          <p:nvPr/>
        </p:nvSpPr>
        <p:spPr>
          <a:xfrm>
            <a:off x="428760" y="1785960"/>
            <a:ext cx="242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то основал наш город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Содержимое 6" descr="peter[1].jpg"/>
          <p:cNvPicPr/>
          <p:nvPr/>
        </p:nvPicPr>
        <p:blipFill>
          <a:blip r:embed="rId1"/>
          <a:stretch/>
        </p:blipFill>
        <p:spPr>
          <a:xfrm>
            <a:off x="3714840" y="1571760"/>
            <a:ext cx="3238560" cy="48574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9"/>
          <p:cNvSpPr/>
          <p:nvPr/>
        </p:nvSpPr>
        <p:spPr>
          <a:xfrm>
            <a:off x="539640" y="3448080"/>
            <a:ext cx="20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Петр Первы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14680" y="999720"/>
            <a:ext cx="5900400" cy="149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прос стоимостью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40 очк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260280"/>
            <a:ext cx="19080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агадк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713880" y="3357720"/>
            <a:ext cx="799308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mic Sans MS"/>
              </a:rPr>
              <a:t>Одну меня не едят, а без меня едят редко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AutoShape 5">
            <a:hlinkClick r:id="" action="ppaction://hlinkshowjump?jump=firstslide"/>
          </p:cNvPr>
          <p:cNvSpPr/>
          <p:nvPr/>
        </p:nvSpPr>
        <p:spPr>
          <a:xfrm>
            <a:off x="8172360" y="5734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9021"/>
                </a:moveTo>
                <a:lnTo>
                  <a:pt x="7301" y="9021"/>
                </a:lnTo>
                <a:lnTo>
                  <a:pt x="7301" y="14356"/>
                </a:lnTo>
                <a:cubicBezTo>
                  <a:pt x="7301" y="15279"/>
                  <a:pt x="8102" y="16010"/>
                  <a:pt x="9138" y="16010"/>
                </a:cubicBezTo>
                <a:lnTo>
                  <a:pt x="10800" y="16010"/>
                </a:lnTo>
                <a:cubicBezTo>
                  <a:pt x="11836" y="16010"/>
                  <a:pt x="12636" y="15279"/>
                  <a:pt x="12636" y="14356"/>
                </a:cubicBezTo>
                <a:lnTo>
                  <a:pt x="12636" y="9021"/>
                </a:lnTo>
                <a:lnTo>
                  <a:pt x="10800" y="9021"/>
                </a:lnTo>
                <a:lnTo>
                  <a:pt x="14308" y="5514"/>
                </a:lnTo>
                <a:lnTo>
                  <a:pt x="17981" y="9021"/>
                </a:lnTo>
                <a:lnTo>
                  <a:pt x="16144" y="9021"/>
                </a:lnTo>
                <a:lnTo>
                  <a:pt x="16144" y="14356"/>
                </a:lnTo>
                <a:cubicBezTo>
                  <a:pt x="16144" y="17124"/>
                  <a:pt x="13568" y="19683"/>
                  <a:pt x="10800" y="19683"/>
                </a:cubicBezTo>
                <a:lnTo>
                  <a:pt x="9138" y="19683"/>
                </a:lnTo>
                <a:cubicBezTo>
                  <a:pt x="6370" y="19683"/>
                  <a:pt x="3794" y="17124"/>
                  <a:pt x="3794" y="14356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2627280" y="5248440"/>
            <a:ext cx="375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Соль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6000840" y="4000680"/>
            <a:ext cx="2038320" cy="26334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43040" y="1285920"/>
            <a:ext cx="58644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прос стоимостью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50 очк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285840"/>
            <a:ext cx="1979640" cy="8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агадк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71680" y="2642760"/>
            <a:ext cx="78501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уть дрожит на ветерк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Лента на пригорк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зкий кончик в родник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 широкий в мор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AutoShape 5">
            <a:hlinkClick r:id="" action="ppaction://hlinkshowjump?jump=firstslide"/>
          </p:cNvPr>
          <p:cNvSpPr/>
          <p:nvPr/>
        </p:nvSpPr>
        <p:spPr>
          <a:xfrm>
            <a:off x="8172360" y="5734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9021"/>
                </a:moveTo>
                <a:lnTo>
                  <a:pt x="7301" y="9021"/>
                </a:lnTo>
                <a:lnTo>
                  <a:pt x="7301" y="14356"/>
                </a:lnTo>
                <a:cubicBezTo>
                  <a:pt x="7301" y="15279"/>
                  <a:pt x="8102" y="16010"/>
                  <a:pt x="9138" y="16010"/>
                </a:cubicBezTo>
                <a:lnTo>
                  <a:pt x="10800" y="16010"/>
                </a:lnTo>
                <a:cubicBezTo>
                  <a:pt x="11836" y="16010"/>
                  <a:pt x="12636" y="15279"/>
                  <a:pt x="12636" y="14356"/>
                </a:cubicBezTo>
                <a:lnTo>
                  <a:pt x="12636" y="9021"/>
                </a:lnTo>
                <a:lnTo>
                  <a:pt x="10800" y="9021"/>
                </a:lnTo>
                <a:lnTo>
                  <a:pt x="14308" y="5514"/>
                </a:lnTo>
                <a:lnTo>
                  <a:pt x="17981" y="9021"/>
                </a:lnTo>
                <a:lnTo>
                  <a:pt x="16144" y="9021"/>
                </a:lnTo>
                <a:lnTo>
                  <a:pt x="16144" y="14356"/>
                </a:lnTo>
                <a:cubicBezTo>
                  <a:pt x="16144" y="17124"/>
                  <a:pt x="13568" y="19683"/>
                  <a:pt x="10800" y="19683"/>
                </a:cubicBezTo>
                <a:lnTo>
                  <a:pt x="9138" y="19683"/>
                </a:lnTo>
                <a:cubicBezTo>
                  <a:pt x="6370" y="19683"/>
                  <a:pt x="3794" y="17124"/>
                  <a:pt x="3794" y="14356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5929200" y="550080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Река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2" name="Picture 7" descr="C:\Users\USER\Desktop\vorona1.jpg"/>
          <p:cNvPicPr/>
          <p:nvPr/>
        </p:nvPicPr>
        <p:blipFill>
          <a:blip r:embed="rId1"/>
          <a:stretch/>
        </p:blipFill>
        <p:spPr>
          <a:xfrm>
            <a:off x="2071800" y="4857840"/>
            <a:ext cx="3419280" cy="1646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714680" y="928800"/>
            <a:ext cx="5900400" cy="14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прос стоимостью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10 очк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79280" y="259920"/>
            <a:ext cx="1656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убанский говор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28400" y="2928960"/>
            <a:ext cx="84294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чи бояться, а руки робля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AutoShape 5">
            <a:hlinkClick r:id="" action="ppaction://hlinkshowjump?jump=firstslide"/>
          </p:cNvPr>
          <p:cNvSpPr/>
          <p:nvPr/>
        </p:nvSpPr>
        <p:spPr>
          <a:xfrm>
            <a:off x="8172360" y="5734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9021"/>
                </a:moveTo>
                <a:lnTo>
                  <a:pt x="7301" y="9021"/>
                </a:lnTo>
                <a:lnTo>
                  <a:pt x="7301" y="14356"/>
                </a:lnTo>
                <a:cubicBezTo>
                  <a:pt x="7301" y="15279"/>
                  <a:pt x="8102" y="16010"/>
                  <a:pt x="9138" y="16010"/>
                </a:cubicBezTo>
                <a:lnTo>
                  <a:pt x="10800" y="16010"/>
                </a:lnTo>
                <a:cubicBezTo>
                  <a:pt x="11836" y="16010"/>
                  <a:pt x="12636" y="15279"/>
                  <a:pt x="12636" y="14356"/>
                </a:cubicBezTo>
                <a:lnTo>
                  <a:pt x="12636" y="9021"/>
                </a:lnTo>
                <a:lnTo>
                  <a:pt x="10800" y="9021"/>
                </a:lnTo>
                <a:lnTo>
                  <a:pt x="14308" y="5514"/>
                </a:lnTo>
                <a:lnTo>
                  <a:pt x="17981" y="9021"/>
                </a:lnTo>
                <a:lnTo>
                  <a:pt x="16144" y="9021"/>
                </a:lnTo>
                <a:lnTo>
                  <a:pt x="16144" y="14356"/>
                </a:lnTo>
                <a:cubicBezTo>
                  <a:pt x="16144" y="17124"/>
                  <a:pt x="13568" y="19683"/>
                  <a:pt x="10800" y="19683"/>
                </a:cubicBezTo>
                <a:lnTo>
                  <a:pt x="9138" y="19683"/>
                </a:lnTo>
                <a:cubicBezTo>
                  <a:pt x="6370" y="19683"/>
                  <a:pt x="3794" y="17124"/>
                  <a:pt x="3794" y="14356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2357280" y="6027840"/>
            <a:ext cx="492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Глаза бояться, а руки делаю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strips dir="rd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642680" y="856800"/>
            <a:ext cx="59007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прос стоимостью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20 очк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85480" y="259920"/>
            <a:ext cx="140652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убанский гово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785880" y="2928960"/>
            <a:ext cx="74167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ишки марш граю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AutoShape 5">
            <a:hlinkClick r:id="" action="ppaction://hlinkshowjump?jump=firstslide"/>
          </p:cNvPr>
          <p:cNvSpPr/>
          <p:nvPr/>
        </p:nvSpPr>
        <p:spPr>
          <a:xfrm>
            <a:off x="8172360" y="5734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9021"/>
                </a:moveTo>
                <a:lnTo>
                  <a:pt x="7301" y="9021"/>
                </a:lnTo>
                <a:lnTo>
                  <a:pt x="7301" y="14356"/>
                </a:lnTo>
                <a:cubicBezTo>
                  <a:pt x="7301" y="15279"/>
                  <a:pt x="8102" y="16010"/>
                  <a:pt x="9138" y="16010"/>
                </a:cubicBezTo>
                <a:lnTo>
                  <a:pt x="10800" y="16010"/>
                </a:lnTo>
                <a:cubicBezTo>
                  <a:pt x="11836" y="16010"/>
                  <a:pt x="12636" y="15279"/>
                  <a:pt x="12636" y="14356"/>
                </a:cubicBezTo>
                <a:lnTo>
                  <a:pt x="12636" y="9021"/>
                </a:lnTo>
                <a:lnTo>
                  <a:pt x="10800" y="9021"/>
                </a:lnTo>
                <a:lnTo>
                  <a:pt x="14308" y="5514"/>
                </a:lnTo>
                <a:lnTo>
                  <a:pt x="17981" y="9021"/>
                </a:lnTo>
                <a:lnTo>
                  <a:pt x="16144" y="9021"/>
                </a:lnTo>
                <a:lnTo>
                  <a:pt x="16144" y="14356"/>
                </a:lnTo>
                <a:cubicBezTo>
                  <a:pt x="16144" y="17124"/>
                  <a:pt x="13568" y="19683"/>
                  <a:pt x="10800" y="19683"/>
                </a:cubicBezTo>
                <a:lnTo>
                  <a:pt x="9138" y="19683"/>
                </a:lnTo>
                <a:cubicBezTo>
                  <a:pt x="6370" y="19683"/>
                  <a:pt x="3794" y="17124"/>
                  <a:pt x="3794" y="14356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3689280" y="4959360"/>
            <a:ext cx="25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Кушать хочетс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28880" y="928440"/>
            <a:ext cx="56642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прос стоимостью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30 очк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50560" y="214200"/>
            <a:ext cx="165708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убанский говор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142640" y="2786040"/>
            <a:ext cx="6993000" cy="9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делать до пут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AutoShape 5">
            <a:hlinkClick r:id="" action="ppaction://hlinkshowjump?jump=firstslide"/>
          </p:cNvPr>
          <p:cNvSpPr/>
          <p:nvPr/>
        </p:nvSpPr>
        <p:spPr>
          <a:xfrm>
            <a:off x="8172360" y="5734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9021"/>
                </a:moveTo>
                <a:lnTo>
                  <a:pt x="7301" y="9021"/>
                </a:lnTo>
                <a:lnTo>
                  <a:pt x="7301" y="14356"/>
                </a:lnTo>
                <a:cubicBezTo>
                  <a:pt x="7301" y="15279"/>
                  <a:pt x="8102" y="16010"/>
                  <a:pt x="9138" y="16010"/>
                </a:cubicBezTo>
                <a:lnTo>
                  <a:pt x="10800" y="16010"/>
                </a:lnTo>
                <a:cubicBezTo>
                  <a:pt x="11836" y="16010"/>
                  <a:pt x="12636" y="15279"/>
                  <a:pt x="12636" y="14356"/>
                </a:cubicBezTo>
                <a:lnTo>
                  <a:pt x="12636" y="9021"/>
                </a:lnTo>
                <a:lnTo>
                  <a:pt x="10800" y="9021"/>
                </a:lnTo>
                <a:lnTo>
                  <a:pt x="14308" y="5514"/>
                </a:lnTo>
                <a:lnTo>
                  <a:pt x="17981" y="9021"/>
                </a:lnTo>
                <a:lnTo>
                  <a:pt x="16144" y="9021"/>
                </a:lnTo>
                <a:lnTo>
                  <a:pt x="16144" y="14356"/>
                </a:lnTo>
                <a:cubicBezTo>
                  <a:pt x="16144" y="17124"/>
                  <a:pt x="13568" y="19683"/>
                  <a:pt x="10800" y="19683"/>
                </a:cubicBezTo>
                <a:lnTo>
                  <a:pt x="9138" y="19683"/>
                </a:lnTo>
                <a:cubicBezTo>
                  <a:pt x="6370" y="19683"/>
                  <a:pt x="3794" y="17124"/>
                  <a:pt x="3794" y="14356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1835280" y="438480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Сделать хорошо, качественн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ipe dir="r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42680" y="928800"/>
            <a:ext cx="5900760" cy="134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прос стоимостью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40 очк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250920" y="214200"/>
            <a:ext cx="18000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убанский гово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85840" y="2428560"/>
            <a:ext cx="85341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огато языком робыть – без гроша в кармане бу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AutoShape 5">
            <a:hlinkClick r:id="" action="ppaction://hlinkshowjump?jump=firstslide"/>
          </p:cNvPr>
          <p:cNvSpPr/>
          <p:nvPr/>
        </p:nvSpPr>
        <p:spPr>
          <a:xfrm>
            <a:off x="8215200" y="5786280"/>
            <a:ext cx="503280" cy="5749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920"/>
              <a:gd name="textAreaBottom" fmla="*/ 542520 h 574920"/>
            </a:gdLst>
            <a:ahLst/>
            <a:rect l="textAreaLeft" t="textAreaTop" r="textAreaRight" b="textAreaBottom"/>
            <a:pathLst>
              <a:path w="21600" h="24672">
                <a:moveTo>
                  <a:pt x="0" y="0"/>
                </a:moveTo>
                <a:lnTo>
                  <a:pt x="21600" y="0"/>
                </a:lnTo>
                <a:lnTo>
                  <a:pt x="21600" y="24672"/>
                </a:lnTo>
                <a:lnTo>
                  <a:pt x="0" y="24672"/>
                </a:lnTo>
                <a:close/>
              </a:path>
              <a:path fill="lightenLess" w="21600" h="24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2">
                <a:moveTo>
                  <a:pt x="21600" y="0"/>
                </a:moveTo>
                <a:lnTo>
                  <a:pt x="21600" y="24672"/>
                </a:lnTo>
                <a:lnTo>
                  <a:pt x="20200" y="23272"/>
                </a:lnTo>
                <a:lnTo>
                  <a:pt x="20200" y="1400"/>
                </a:lnTo>
                <a:close/>
              </a:path>
              <a:path fill="darkenLess" w="21600" h="24672">
                <a:moveTo>
                  <a:pt x="21600" y="24672"/>
                </a:moveTo>
                <a:lnTo>
                  <a:pt x="0" y="24672"/>
                </a:lnTo>
                <a:lnTo>
                  <a:pt x="1400" y="23272"/>
                </a:lnTo>
                <a:lnTo>
                  <a:pt x="20200" y="23272"/>
                </a:lnTo>
                <a:close/>
              </a:path>
              <a:path fill="lighten" w="21600" h="24672">
                <a:moveTo>
                  <a:pt x="0" y="24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2"/>
                </a:lnTo>
                <a:close/>
              </a:path>
              <a:path fill="darken" w="21600" h="24672">
                <a:moveTo>
                  <a:pt x="3794" y="9029"/>
                </a:moveTo>
                <a:lnTo>
                  <a:pt x="7301" y="9029"/>
                </a:lnTo>
                <a:lnTo>
                  <a:pt x="7301" y="14364"/>
                </a:lnTo>
                <a:cubicBezTo>
                  <a:pt x="7301" y="15287"/>
                  <a:pt x="8102" y="16018"/>
                  <a:pt x="9138" y="16018"/>
                </a:cubicBezTo>
                <a:lnTo>
                  <a:pt x="10800" y="16018"/>
                </a:lnTo>
                <a:cubicBezTo>
                  <a:pt x="11836" y="16018"/>
                  <a:pt x="12636" y="15287"/>
                  <a:pt x="12636" y="14364"/>
                </a:cubicBezTo>
                <a:lnTo>
                  <a:pt x="12636" y="9029"/>
                </a:lnTo>
                <a:lnTo>
                  <a:pt x="10800" y="9029"/>
                </a:lnTo>
                <a:lnTo>
                  <a:pt x="14308" y="5521"/>
                </a:lnTo>
                <a:lnTo>
                  <a:pt x="17981" y="9029"/>
                </a:lnTo>
                <a:lnTo>
                  <a:pt x="16144" y="9029"/>
                </a:lnTo>
                <a:lnTo>
                  <a:pt x="16144" y="14364"/>
                </a:lnTo>
                <a:cubicBezTo>
                  <a:pt x="16144" y="17132"/>
                  <a:pt x="13568" y="19691"/>
                  <a:pt x="10800" y="19691"/>
                </a:cubicBezTo>
                <a:lnTo>
                  <a:pt x="9138" y="19691"/>
                </a:lnTo>
                <a:cubicBezTo>
                  <a:pt x="6370" y="19691"/>
                  <a:pt x="3794" y="17132"/>
                  <a:pt x="3794" y="14364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1643040" y="445608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Много болтать - без денег бы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ipe dir="r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00120" y="928440"/>
            <a:ext cx="6237360" cy="138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прос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стоимостью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50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очк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928440" y="2857680"/>
            <a:ext cx="753588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ва гарбуза в одной руке не удержиш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250920" y="260280"/>
            <a:ext cx="15843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AutoShape 5">
            <a:hlinkClick r:id="" action="ppaction://hlinkshowjump?jump=firstslide"/>
          </p:cNvPr>
          <p:cNvSpPr/>
          <p:nvPr/>
        </p:nvSpPr>
        <p:spPr>
          <a:xfrm>
            <a:off x="8215200" y="5786280"/>
            <a:ext cx="503280" cy="5749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920"/>
              <a:gd name="textAreaBottom" fmla="*/ 542520 h 574920"/>
            </a:gdLst>
            <a:ahLst/>
            <a:rect l="textAreaLeft" t="textAreaTop" r="textAreaRight" b="textAreaBottom"/>
            <a:pathLst>
              <a:path w="21600" h="24672">
                <a:moveTo>
                  <a:pt x="0" y="0"/>
                </a:moveTo>
                <a:lnTo>
                  <a:pt x="21600" y="0"/>
                </a:lnTo>
                <a:lnTo>
                  <a:pt x="21600" y="24672"/>
                </a:lnTo>
                <a:lnTo>
                  <a:pt x="0" y="24672"/>
                </a:lnTo>
                <a:close/>
              </a:path>
              <a:path fill="lightenLess" w="21600" h="24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2">
                <a:moveTo>
                  <a:pt x="21600" y="0"/>
                </a:moveTo>
                <a:lnTo>
                  <a:pt x="21600" y="24672"/>
                </a:lnTo>
                <a:lnTo>
                  <a:pt x="20200" y="23272"/>
                </a:lnTo>
                <a:lnTo>
                  <a:pt x="20200" y="1400"/>
                </a:lnTo>
                <a:close/>
              </a:path>
              <a:path fill="darkenLess" w="21600" h="24672">
                <a:moveTo>
                  <a:pt x="21600" y="24672"/>
                </a:moveTo>
                <a:lnTo>
                  <a:pt x="0" y="24672"/>
                </a:lnTo>
                <a:lnTo>
                  <a:pt x="1400" y="23272"/>
                </a:lnTo>
                <a:lnTo>
                  <a:pt x="20200" y="23272"/>
                </a:lnTo>
                <a:close/>
              </a:path>
              <a:path fill="lighten" w="21600" h="24672">
                <a:moveTo>
                  <a:pt x="0" y="24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2"/>
                </a:lnTo>
                <a:close/>
              </a:path>
              <a:path fill="darken" w="21600" h="24672">
                <a:moveTo>
                  <a:pt x="3794" y="9029"/>
                </a:moveTo>
                <a:lnTo>
                  <a:pt x="7301" y="9029"/>
                </a:lnTo>
                <a:lnTo>
                  <a:pt x="7301" y="14364"/>
                </a:lnTo>
                <a:cubicBezTo>
                  <a:pt x="7301" y="15287"/>
                  <a:pt x="8102" y="16018"/>
                  <a:pt x="9138" y="16018"/>
                </a:cubicBezTo>
                <a:lnTo>
                  <a:pt x="10800" y="16018"/>
                </a:lnTo>
                <a:cubicBezTo>
                  <a:pt x="11836" y="16018"/>
                  <a:pt x="12636" y="15287"/>
                  <a:pt x="12636" y="14364"/>
                </a:cubicBezTo>
                <a:lnTo>
                  <a:pt x="12636" y="9029"/>
                </a:lnTo>
                <a:lnTo>
                  <a:pt x="10800" y="9029"/>
                </a:lnTo>
                <a:lnTo>
                  <a:pt x="14308" y="5521"/>
                </a:lnTo>
                <a:lnTo>
                  <a:pt x="17981" y="9029"/>
                </a:lnTo>
                <a:lnTo>
                  <a:pt x="16144" y="9029"/>
                </a:lnTo>
                <a:lnTo>
                  <a:pt x="16144" y="14364"/>
                </a:lnTo>
                <a:cubicBezTo>
                  <a:pt x="16144" y="17132"/>
                  <a:pt x="13568" y="19691"/>
                  <a:pt x="10800" y="19691"/>
                </a:cubicBezTo>
                <a:lnTo>
                  <a:pt x="9138" y="19691"/>
                </a:lnTo>
                <a:cubicBezTo>
                  <a:pt x="6370" y="19691"/>
                  <a:pt x="3794" y="17132"/>
                  <a:pt x="3794" y="14364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Прямоугольник 6"/>
          <p:cNvSpPr/>
          <p:nvPr/>
        </p:nvSpPr>
        <p:spPr>
          <a:xfrm>
            <a:off x="285840" y="214200"/>
            <a:ext cx="162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убанский гово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 Box 9"/>
          <p:cNvSpPr/>
          <p:nvPr/>
        </p:nvSpPr>
        <p:spPr>
          <a:xfrm>
            <a:off x="785880" y="4643280"/>
            <a:ext cx="717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За двумя зайцами погонишься – ни одного не поймаеш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ipe dir="r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85600" y="357120"/>
            <a:ext cx="6170760" cy="13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прос стоимостью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20 очк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10920" y="1844640"/>
            <a:ext cx="7777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ервая постройка город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AutoShape 7">
            <a:hlinkClick r:id="" action="ppaction://hlinkshowjump?jump=firstslide"/>
          </p:cNvPr>
          <p:cNvSpPr/>
          <p:nvPr/>
        </p:nvSpPr>
        <p:spPr>
          <a:xfrm>
            <a:off x="8172360" y="5734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9021"/>
                </a:moveTo>
                <a:lnTo>
                  <a:pt x="7301" y="9021"/>
                </a:lnTo>
                <a:lnTo>
                  <a:pt x="7301" y="14356"/>
                </a:lnTo>
                <a:cubicBezTo>
                  <a:pt x="7301" y="15279"/>
                  <a:pt x="8102" y="16010"/>
                  <a:pt x="9138" y="16010"/>
                </a:cubicBezTo>
                <a:lnTo>
                  <a:pt x="10800" y="16010"/>
                </a:lnTo>
                <a:cubicBezTo>
                  <a:pt x="11836" y="16010"/>
                  <a:pt x="12636" y="15279"/>
                  <a:pt x="12636" y="14356"/>
                </a:cubicBezTo>
                <a:lnTo>
                  <a:pt x="12636" y="9021"/>
                </a:lnTo>
                <a:lnTo>
                  <a:pt x="10800" y="9021"/>
                </a:lnTo>
                <a:lnTo>
                  <a:pt x="14308" y="5514"/>
                </a:lnTo>
                <a:lnTo>
                  <a:pt x="17981" y="9021"/>
                </a:lnTo>
                <a:lnTo>
                  <a:pt x="16144" y="9021"/>
                </a:lnTo>
                <a:lnTo>
                  <a:pt x="16144" y="14356"/>
                </a:lnTo>
                <a:cubicBezTo>
                  <a:pt x="16144" y="17124"/>
                  <a:pt x="13568" y="19683"/>
                  <a:pt x="10800" y="19683"/>
                </a:cubicBezTo>
                <a:lnTo>
                  <a:pt x="9138" y="19683"/>
                </a:lnTo>
                <a:cubicBezTo>
                  <a:pt x="6370" y="19683"/>
                  <a:pt x="3794" y="17124"/>
                  <a:pt x="3794" y="14356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AutoShape 7">
            <a:hlinkClick r:id="" action="ppaction://hlinkshowjump?jump=firstslide"/>
          </p:cNvPr>
          <p:cNvSpPr/>
          <p:nvPr/>
        </p:nvSpPr>
        <p:spPr>
          <a:xfrm>
            <a:off x="8143920" y="571500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9021"/>
                </a:moveTo>
                <a:lnTo>
                  <a:pt x="7301" y="9021"/>
                </a:lnTo>
                <a:lnTo>
                  <a:pt x="7301" y="14356"/>
                </a:lnTo>
                <a:cubicBezTo>
                  <a:pt x="7301" y="15279"/>
                  <a:pt x="8102" y="16010"/>
                  <a:pt x="9138" y="16010"/>
                </a:cubicBezTo>
                <a:lnTo>
                  <a:pt x="10800" y="16010"/>
                </a:lnTo>
                <a:cubicBezTo>
                  <a:pt x="11836" y="16010"/>
                  <a:pt x="12636" y="15279"/>
                  <a:pt x="12636" y="14356"/>
                </a:cubicBezTo>
                <a:lnTo>
                  <a:pt x="12636" y="9021"/>
                </a:lnTo>
                <a:lnTo>
                  <a:pt x="10800" y="9021"/>
                </a:lnTo>
                <a:lnTo>
                  <a:pt x="14308" y="5514"/>
                </a:lnTo>
                <a:lnTo>
                  <a:pt x="17981" y="9021"/>
                </a:lnTo>
                <a:lnTo>
                  <a:pt x="16144" y="9021"/>
                </a:lnTo>
                <a:lnTo>
                  <a:pt x="16144" y="14356"/>
                </a:lnTo>
                <a:cubicBezTo>
                  <a:pt x="16144" y="17124"/>
                  <a:pt x="13568" y="19683"/>
                  <a:pt x="10800" y="19683"/>
                </a:cubicBezTo>
                <a:lnTo>
                  <a:pt x="9138" y="19683"/>
                </a:lnTo>
                <a:cubicBezTo>
                  <a:pt x="6370" y="19683"/>
                  <a:pt x="3794" y="17124"/>
                  <a:pt x="3794" y="14356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Содержимое 7" descr="domik[1].jpg"/>
          <p:cNvPicPr/>
          <p:nvPr/>
        </p:nvPicPr>
        <p:blipFill>
          <a:blip r:embed="rId1"/>
          <a:stretch/>
        </p:blipFill>
        <p:spPr>
          <a:xfrm>
            <a:off x="1908000" y="2349360"/>
            <a:ext cx="5378760" cy="33624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9"/>
          <p:cNvSpPr/>
          <p:nvPr/>
        </p:nvSpPr>
        <p:spPr>
          <a:xfrm>
            <a:off x="1979640" y="604044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Домик Петра Первог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3772080" cy="36576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5"/>
          <p:cNvSpPr/>
          <p:nvPr/>
        </p:nvSpPr>
        <p:spPr>
          <a:xfrm>
            <a:off x="0" y="260280"/>
            <a:ext cx="242892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з истории Краснодарского кра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893600" y="151920"/>
            <a:ext cx="56624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прос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стоимостью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очк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1773360"/>
            <a:ext cx="72723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каком острове  идет речь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арь этот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тр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брал сам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Твердыней грозной будет он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ною прочной окружен»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AutoShape 5">
            <a:hlinkClick r:id="" action="ppaction://hlinkshowjump?jump=firstslide"/>
          </p:cNvPr>
          <p:cNvSpPr/>
          <p:nvPr/>
        </p:nvSpPr>
        <p:spPr>
          <a:xfrm>
            <a:off x="8172360" y="5734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9021"/>
                </a:moveTo>
                <a:lnTo>
                  <a:pt x="7301" y="9021"/>
                </a:lnTo>
                <a:lnTo>
                  <a:pt x="7301" y="14356"/>
                </a:lnTo>
                <a:cubicBezTo>
                  <a:pt x="7301" y="15279"/>
                  <a:pt x="8102" y="16010"/>
                  <a:pt x="9138" y="16010"/>
                </a:cubicBezTo>
                <a:lnTo>
                  <a:pt x="10800" y="16010"/>
                </a:lnTo>
                <a:cubicBezTo>
                  <a:pt x="11836" y="16010"/>
                  <a:pt x="12636" y="15279"/>
                  <a:pt x="12636" y="14356"/>
                </a:cubicBezTo>
                <a:lnTo>
                  <a:pt x="12636" y="9021"/>
                </a:lnTo>
                <a:lnTo>
                  <a:pt x="10800" y="9021"/>
                </a:lnTo>
                <a:lnTo>
                  <a:pt x="14308" y="5514"/>
                </a:lnTo>
                <a:lnTo>
                  <a:pt x="17981" y="9021"/>
                </a:lnTo>
                <a:lnTo>
                  <a:pt x="16144" y="9021"/>
                </a:lnTo>
                <a:lnTo>
                  <a:pt x="16144" y="14356"/>
                </a:lnTo>
                <a:cubicBezTo>
                  <a:pt x="16144" y="17124"/>
                  <a:pt x="13568" y="19683"/>
                  <a:pt x="10800" y="19683"/>
                </a:cubicBezTo>
                <a:lnTo>
                  <a:pt x="9138" y="19683"/>
                </a:lnTo>
                <a:cubicBezTo>
                  <a:pt x="6370" y="19683"/>
                  <a:pt x="3794" y="17124"/>
                  <a:pt x="3794" y="14356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7" descr="2_petropavlovka1"/>
          <p:cNvPicPr/>
          <p:nvPr/>
        </p:nvPicPr>
        <p:blipFill>
          <a:blip r:embed="rId1"/>
          <a:stretch/>
        </p:blipFill>
        <p:spPr>
          <a:xfrm>
            <a:off x="1979640" y="3860640"/>
            <a:ext cx="3959280" cy="27036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8"/>
          <p:cNvSpPr/>
          <p:nvPr/>
        </p:nvSpPr>
        <p:spPr>
          <a:xfrm>
            <a:off x="5724360" y="4797360"/>
            <a:ext cx="28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О Заячьем остров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0" y="189000"/>
            <a:ext cx="242892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з истории Краснодарского кра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377208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93600" y="151920"/>
            <a:ext cx="56624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034640" y="1428840"/>
            <a:ext cx="7202520" cy="28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AutoShape 5">
            <a:hlinkClick r:id="" action="ppaction://hlinkshowjump?jump=firstslide"/>
          </p:cNvPr>
          <p:cNvSpPr/>
          <p:nvPr/>
        </p:nvSpPr>
        <p:spPr>
          <a:xfrm>
            <a:off x="8172360" y="5734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9021"/>
                </a:moveTo>
                <a:lnTo>
                  <a:pt x="7301" y="9021"/>
                </a:lnTo>
                <a:lnTo>
                  <a:pt x="7301" y="14356"/>
                </a:lnTo>
                <a:cubicBezTo>
                  <a:pt x="7301" y="15279"/>
                  <a:pt x="8102" y="16010"/>
                  <a:pt x="9138" y="16010"/>
                </a:cubicBezTo>
                <a:lnTo>
                  <a:pt x="10800" y="16010"/>
                </a:lnTo>
                <a:cubicBezTo>
                  <a:pt x="11836" y="16010"/>
                  <a:pt x="12636" y="15279"/>
                  <a:pt x="12636" y="14356"/>
                </a:cubicBezTo>
                <a:lnTo>
                  <a:pt x="12636" y="9021"/>
                </a:lnTo>
                <a:lnTo>
                  <a:pt x="10800" y="9021"/>
                </a:lnTo>
                <a:lnTo>
                  <a:pt x="14308" y="5514"/>
                </a:lnTo>
                <a:lnTo>
                  <a:pt x="17981" y="9021"/>
                </a:lnTo>
                <a:lnTo>
                  <a:pt x="16144" y="9021"/>
                </a:lnTo>
                <a:lnTo>
                  <a:pt x="16144" y="14356"/>
                </a:lnTo>
                <a:cubicBezTo>
                  <a:pt x="16144" y="17124"/>
                  <a:pt x="13568" y="19683"/>
                  <a:pt x="10800" y="19683"/>
                </a:cubicBezTo>
                <a:lnTo>
                  <a:pt x="9138" y="19683"/>
                </a:lnTo>
                <a:cubicBezTo>
                  <a:pt x="6370" y="19683"/>
                  <a:pt x="3794" y="17124"/>
                  <a:pt x="3794" y="14356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2268360" y="263520"/>
            <a:ext cx="569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прос стоимостью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40 очк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250920" y="189000"/>
            <a:ext cx="1873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611280" y="24210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названия носил наш город на протяжении своей истории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250920" y="42400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Санкт -Петербург – Петроград – Ленинград - Санкт -Петербург</a:t>
            </a: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772080" cy="36576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5"/>
          <p:cNvSpPr/>
          <p:nvPr/>
        </p:nvSpPr>
        <p:spPr>
          <a:xfrm>
            <a:off x="0" y="260280"/>
            <a:ext cx="242892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з истории Краснодарского кра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893600" y="151920"/>
            <a:ext cx="5662440" cy="149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прос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стоимостью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50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очк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900000" y="1773360"/>
            <a:ext cx="70567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357120" indent="-357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чем идет речь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57120" indent="-357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57120" indent="-357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золотой игле –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57120" indent="-357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аблик золотой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57120" indent="-357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т двести пятьдеся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57120" indent="-357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оит он над Нево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57120" indent="-357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олных паруса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57120" indent="-357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ходит в море фло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57120" indent="-357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шь этот никуд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57120" indent="-357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аблик не плыве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57120" indent="-357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57120" indent="-357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57120" indent="-357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57120" indent="-357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57120" indent="-357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57120" indent="-357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57120" indent="-357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57120" indent="-357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57120" indent="-357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AutoShape 5">
            <a:hlinkClick r:id="" action="ppaction://hlinkshowjump?jump=firstslide"/>
          </p:cNvPr>
          <p:cNvSpPr/>
          <p:nvPr/>
        </p:nvSpPr>
        <p:spPr>
          <a:xfrm>
            <a:off x="8172360" y="5734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9021"/>
                </a:moveTo>
                <a:lnTo>
                  <a:pt x="7301" y="9021"/>
                </a:lnTo>
                <a:lnTo>
                  <a:pt x="7301" y="14356"/>
                </a:lnTo>
                <a:cubicBezTo>
                  <a:pt x="7301" y="15279"/>
                  <a:pt x="8102" y="16010"/>
                  <a:pt x="9138" y="16010"/>
                </a:cubicBezTo>
                <a:lnTo>
                  <a:pt x="10800" y="16010"/>
                </a:lnTo>
                <a:cubicBezTo>
                  <a:pt x="11836" y="16010"/>
                  <a:pt x="12636" y="15279"/>
                  <a:pt x="12636" y="14356"/>
                </a:cubicBezTo>
                <a:lnTo>
                  <a:pt x="12636" y="9021"/>
                </a:lnTo>
                <a:lnTo>
                  <a:pt x="10800" y="9021"/>
                </a:lnTo>
                <a:lnTo>
                  <a:pt x="14308" y="5514"/>
                </a:lnTo>
                <a:lnTo>
                  <a:pt x="17981" y="9021"/>
                </a:lnTo>
                <a:lnTo>
                  <a:pt x="16144" y="9021"/>
                </a:lnTo>
                <a:lnTo>
                  <a:pt x="16144" y="14356"/>
                </a:lnTo>
                <a:cubicBezTo>
                  <a:pt x="16144" y="17124"/>
                  <a:pt x="13568" y="19683"/>
                  <a:pt x="10800" y="19683"/>
                </a:cubicBezTo>
                <a:lnTo>
                  <a:pt x="9138" y="19683"/>
                </a:lnTo>
                <a:cubicBezTo>
                  <a:pt x="6370" y="19683"/>
                  <a:pt x="3794" y="17124"/>
                  <a:pt x="3794" y="14356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2771640" y="62373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Адмиралтейств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260280"/>
            <a:ext cx="242892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з истории Краснодарского кра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77208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55280" y="151920"/>
            <a:ext cx="59007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прос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стоимостью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очк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07640" y="357120"/>
            <a:ext cx="2087640" cy="9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з истории нашей станиц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755640" y="2421000"/>
            <a:ext cx="76262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аком году была основана станица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AutoShape 13">
            <a:hlinkClick r:id="" action="ppaction://hlinkshowjump?jump=firstslide"/>
          </p:cNvPr>
          <p:cNvSpPr/>
          <p:nvPr/>
        </p:nvSpPr>
        <p:spPr>
          <a:xfrm>
            <a:off x="8172360" y="5734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9021"/>
                </a:moveTo>
                <a:lnTo>
                  <a:pt x="7301" y="9021"/>
                </a:lnTo>
                <a:lnTo>
                  <a:pt x="7301" y="14356"/>
                </a:lnTo>
                <a:cubicBezTo>
                  <a:pt x="7301" y="15279"/>
                  <a:pt x="8102" y="16010"/>
                  <a:pt x="9138" y="16010"/>
                </a:cubicBezTo>
                <a:lnTo>
                  <a:pt x="10800" y="16010"/>
                </a:lnTo>
                <a:cubicBezTo>
                  <a:pt x="11836" y="16010"/>
                  <a:pt x="12636" y="15279"/>
                  <a:pt x="12636" y="14356"/>
                </a:cubicBezTo>
                <a:lnTo>
                  <a:pt x="12636" y="9021"/>
                </a:lnTo>
                <a:lnTo>
                  <a:pt x="10800" y="9021"/>
                </a:lnTo>
                <a:lnTo>
                  <a:pt x="14308" y="5514"/>
                </a:lnTo>
                <a:lnTo>
                  <a:pt x="17981" y="9021"/>
                </a:lnTo>
                <a:lnTo>
                  <a:pt x="16144" y="9021"/>
                </a:lnTo>
                <a:lnTo>
                  <a:pt x="16144" y="14356"/>
                </a:lnTo>
                <a:cubicBezTo>
                  <a:pt x="16144" y="17124"/>
                  <a:pt x="13568" y="19683"/>
                  <a:pt x="10800" y="19683"/>
                </a:cubicBezTo>
                <a:lnTo>
                  <a:pt x="9138" y="19683"/>
                </a:lnTo>
                <a:cubicBezTo>
                  <a:pt x="6370" y="19683"/>
                  <a:pt x="3794" y="17124"/>
                  <a:pt x="3794" y="14356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1547640" y="443700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В августе 1861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55280" y="152280"/>
            <a:ext cx="5900760" cy="134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прос стоимостью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20 очк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547280" y="2565360"/>
            <a:ext cx="64803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расположена станица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AutoShape 5">
            <a:hlinkClick r:id="" action="ppaction://hlinkshowjump?jump=firstslide"/>
          </p:cNvPr>
          <p:cNvSpPr/>
          <p:nvPr/>
        </p:nvSpPr>
        <p:spPr>
          <a:xfrm>
            <a:off x="8172360" y="5734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9021"/>
                </a:moveTo>
                <a:lnTo>
                  <a:pt x="7301" y="9021"/>
                </a:lnTo>
                <a:lnTo>
                  <a:pt x="7301" y="14356"/>
                </a:lnTo>
                <a:cubicBezTo>
                  <a:pt x="7301" y="15279"/>
                  <a:pt x="8102" y="16010"/>
                  <a:pt x="9138" y="16010"/>
                </a:cubicBezTo>
                <a:lnTo>
                  <a:pt x="10800" y="16010"/>
                </a:lnTo>
                <a:cubicBezTo>
                  <a:pt x="11836" y="16010"/>
                  <a:pt x="12636" y="15279"/>
                  <a:pt x="12636" y="14356"/>
                </a:cubicBezTo>
                <a:lnTo>
                  <a:pt x="12636" y="9021"/>
                </a:lnTo>
                <a:lnTo>
                  <a:pt x="10800" y="9021"/>
                </a:lnTo>
                <a:lnTo>
                  <a:pt x="14308" y="5514"/>
                </a:lnTo>
                <a:lnTo>
                  <a:pt x="17981" y="9021"/>
                </a:lnTo>
                <a:lnTo>
                  <a:pt x="16144" y="9021"/>
                </a:lnTo>
                <a:lnTo>
                  <a:pt x="16144" y="14356"/>
                </a:lnTo>
                <a:cubicBezTo>
                  <a:pt x="16144" y="17124"/>
                  <a:pt x="13568" y="19683"/>
                  <a:pt x="10800" y="19683"/>
                </a:cubicBezTo>
                <a:lnTo>
                  <a:pt x="9138" y="19683"/>
                </a:lnTo>
                <a:cubicBezTo>
                  <a:pt x="6370" y="19683"/>
                  <a:pt x="3794" y="17124"/>
                  <a:pt x="3794" y="14356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1908000" y="4724280"/>
            <a:ext cx="518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Станица Бесленеевская расположена в глубоком ущелье лесных хребт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ectangle 11"/>
          <p:cNvSpPr/>
          <p:nvPr/>
        </p:nvSpPr>
        <p:spPr>
          <a:xfrm>
            <a:off x="108000" y="357120"/>
            <a:ext cx="208764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з истории нашей станиц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42680" y="857160"/>
            <a:ext cx="604836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прос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стоимостью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очков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713880" y="2571480"/>
            <a:ext cx="76964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первоначально была названа станиц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AutoShape 5">
            <a:hlinkClick r:id="" action="ppaction://hlinkshowjump?jump=firstslide"/>
          </p:cNvPr>
          <p:cNvSpPr/>
          <p:nvPr/>
        </p:nvSpPr>
        <p:spPr>
          <a:xfrm>
            <a:off x="8172360" y="5734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9021"/>
                </a:moveTo>
                <a:lnTo>
                  <a:pt x="7301" y="9021"/>
                </a:lnTo>
                <a:lnTo>
                  <a:pt x="7301" y="14356"/>
                </a:lnTo>
                <a:cubicBezTo>
                  <a:pt x="7301" y="15279"/>
                  <a:pt x="8102" y="16010"/>
                  <a:pt x="9138" y="16010"/>
                </a:cubicBezTo>
                <a:lnTo>
                  <a:pt x="10800" y="16010"/>
                </a:lnTo>
                <a:cubicBezTo>
                  <a:pt x="11836" y="16010"/>
                  <a:pt x="12636" y="15279"/>
                  <a:pt x="12636" y="14356"/>
                </a:cubicBezTo>
                <a:lnTo>
                  <a:pt x="12636" y="9021"/>
                </a:lnTo>
                <a:lnTo>
                  <a:pt x="10800" y="9021"/>
                </a:lnTo>
                <a:lnTo>
                  <a:pt x="14308" y="5514"/>
                </a:lnTo>
                <a:lnTo>
                  <a:pt x="17981" y="9021"/>
                </a:lnTo>
                <a:lnTo>
                  <a:pt x="16144" y="9021"/>
                </a:lnTo>
                <a:lnTo>
                  <a:pt x="16144" y="14356"/>
                </a:lnTo>
                <a:cubicBezTo>
                  <a:pt x="16144" y="17124"/>
                  <a:pt x="13568" y="19683"/>
                  <a:pt x="10800" y="19683"/>
                </a:cubicBezTo>
                <a:lnTo>
                  <a:pt x="9138" y="19683"/>
                </a:lnTo>
                <a:cubicBezTo>
                  <a:pt x="6370" y="19683"/>
                  <a:pt x="3794" y="17124"/>
                  <a:pt x="3794" y="14356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1908000" y="4653000"/>
            <a:ext cx="54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Ирисская, вскоре переименованна в Промежудочную и, наконец спустя некоторое время получила свое окончательное названи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108000" y="357120"/>
            <a:ext cx="208764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з истории нашей станиц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9:28:00Z</dcterms:created>
  <dc:creator>Admin</dc:creator>
  <dc:description/>
  <dc:language>en-US</dc:language>
  <cp:lastModifiedBy>USER</cp:lastModifiedBy>
  <dcterms:modified xsi:type="dcterms:W3CDTF">2012-08-16T17:23:40Z</dcterms:modified>
  <cp:revision>129</cp:revision>
  <dc:subject/>
  <dc:title> Турнир знатоков</dc:title>
</cp:coreProperties>
</file>