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B71-4D46-4C56-B14E-65E8B90F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9B9-414C-4618-8B54-608EE616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D90-7AD6-4224-B8BD-9D3DEE4D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AD1-443B-4E20-8ECC-EA2C386C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C443-FC52-4BCB-A8BB-56BF15BC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13A6-59D8-4CBE-9819-0946002D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1EC9-C00C-46DE-92FA-76348897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FC3B-2EAA-47A8-BED5-C54F224D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B3B1-D74B-4BFB-BC09-BEBC6C5D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671A-5DA9-40DC-9C63-91CB850D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0EC7-B9AC-40EA-BDB3-555A9F62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D22-0411-4A26-ABA3-4EB9D431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A68C-056A-4DEA-A3C0-76F9AB09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542C-386E-4DB4-AAB3-9EA29260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185E-D87D-4587-B8D6-4196FA74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8017-2923-4707-8C5A-236C797C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BB26-A62F-4FD3-8FE5-2B4AD9FA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35A-5E5C-4E38-A41E-5606B913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543-BE62-4B05-8DF7-CCD4B6DF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F86-D21E-4ABE-BD1A-93B54329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1FC-B6D3-4387-81FB-12BA92C6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9E0-91C2-49AF-B9B8-9CE2026F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DD3-1C85-4A74-8555-E01B9316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DCF-A023-486F-A1CB-B1EB9ACD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B404-D6E7-41B1-BA1C-26223F30140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custGeom>
                  <a:avLst/>
                  <a:gdLst>
                    <a:gd name="textAreaLeft" fmla="*/ 0 w 430200"/>
                    <a:gd name="textAreaRight" fmla="*/ 430560 w 43020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custGeom>
                  <a:avLst/>
                  <a:gdLst>
                    <a:gd name="textAreaLeft" fmla="*/ 0 w 808200"/>
                    <a:gd name="textAreaRight" fmla="*/ 808560 w 80820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custGeom>
                  <a:avLst/>
                  <a:gdLst>
                    <a:gd name="textAreaLeft" fmla="*/ 0 w 1213200"/>
                    <a:gd name="textAreaRight" fmla="*/ 1213560 w 12132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custGeom>
                  <a:avLst/>
                  <a:gdLst>
                    <a:gd name="textAreaLeft" fmla="*/ 0 w 289440"/>
                    <a:gd name="textAreaRight" fmla="*/ 289800 w 2894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custGeom>
                  <a:avLst/>
                  <a:gdLst>
                    <a:gd name="textAreaLeft" fmla="*/ 0 w 289440"/>
                    <a:gd name="textAreaRight" fmla="*/ 289800 w 2894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custGeom>
                  <a:avLst/>
                  <a:gdLst>
                    <a:gd name="textAreaLeft" fmla="*/ 0 w 286560"/>
                    <a:gd name="textAreaRight" fmla="*/ 286920 w 2865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5D85-7585-40EB-BB5D-D67CE178342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42920" y="1285920"/>
          <a:ext cx="8786880" cy="4545000"/>
        </p:xfrm>
        <a:graphic>
          <a:graphicData uri="http://schemas.openxmlformats.org/drawingml/2006/table">
            <a:tbl>
              <a:tblPr/>
              <a:tblGrid>
                <a:gridCol w="3286080"/>
                <a:gridCol w="1000080"/>
                <a:gridCol w="1035000"/>
                <a:gridCol w="1155960"/>
                <a:gridCol w="1153800"/>
                <a:gridCol w="1155960"/>
              </a:tblGrid>
              <a:tr h="113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остопримечательности Краснодарского кр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 истории нашей ста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нция «Историческ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гад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убанский 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680" y="152280"/>
            <a:ext cx="738504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Знай и люби свой кра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AutoShape 7">
            <a:hlinkClick r:id="" action="ppaction://hlinkshowjump?jump=lastslide"/>
          </p:cNvPr>
          <p:cNvSpPr/>
          <p:nvPr/>
        </p:nvSpPr>
        <p:spPr>
          <a:xfrm>
            <a:off x="8317080" y="6093000"/>
            <a:ext cx="502920" cy="5745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75">
                <a:moveTo>
                  <a:pt x="0" y="0"/>
                </a:moveTo>
                <a:lnTo>
                  <a:pt x="21600" y="0"/>
                </a:lnTo>
                <a:lnTo>
                  <a:pt x="21600" y="24675"/>
                </a:lnTo>
                <a:lnTo>
                  <a:pt x="0" y="24675"/>
                </a:lnTo>
                <a:close/>
              </a:path>
              <a:path fill="lightenLess" w="21600" h="246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5">
                <a:moveTo>
                  <a:pt x="21600" y="0"/>
                </a:moveTo>
                <a:lnTo>
                  <a:pt x="21600" y="24675"/>
                </a:lnTo>
                <a:lnTo>
                  <a:pt x="20200" y="23275"/>
                </a:lnTo>
                <a:lnTo>
                  <a:pt x="20200" y="1400"/>
                </a:lnTo>
                <a:close/>
              </a:path>
              <a:path fill="darkenLess" w="21600" h="24675">
                <a:moveTo>
                  <a:pt x="21600" y="24675"/>
                </a:moveTo>
                <a:lnTo>
                  <a:pt x="0" y="24675"/>
                </a:lnTo>
                <a:lnTo>
                  <a:pt x="1400" y="23275"/>
                </a:lnTo>
                <a:lnTo>
                  <a:pt x="20200" y="23275"/>
                </a:lnTo>
                <a:close/>
              </a:path>
              <a:path fill="lighten" w="21600" h="24675">
                <a:moveTo>
                  <a:pt x="0" y="246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5"/>
                </a:lnTo>
                <a:close/>
              </a:path>
              <a:path fill="darken" w="21600" h="24675">
                <a:moveTo>
                  <a:pt x="3794" y="9030"/>
                </a:moveTo>
                <a:lnTo>
                  <a:pt x="7301" y="9030"/>
                </a:lnTo>
                <a:lnTo>
                  <a:pt x="7301" y="14365"/>
                </a:lnTo>
                <a:cubicBezTo>
                  <a:pt x="7301" y="15288"/>
                  <a:pt x="8102" y="16019"/>
                  <a:pt x="9138" y="16019"/>
                </a:cubicBezTo>
                <a:lnTo>
                  <a:pt x="10800" y="16019"/>
                </a:lnTo>
                <a:cubicBezTo>
                  <a:pt x="11836" y="16019"/>
                  <a:pt x="12636" y="15288"/>
                  <a:pt x="12636" y="14365"/>
                </a:cubicBezTo>
                <a:lnTo>
                  <a:pt x="12636" y="9030"/>
                </a:lnTo>
                <a:lnTo>
                  <a:pt x="10800" y="9030"/>
                </a:lnTo>
                <a:lnTo>
                  <a:pt x="14308" y="5522"/>
                </a:lnTo>
                <a:lnTo>
                  <a:pt x="17981" y="9030"/>
                </a:lnTo>
                <a:lnTo>
                  <a:pt x="16144" y="9030"/>
                </a:lnTo>
                <a:lnTo>
                  <a:pt x="16144" y="14365"/>
                </a:lnTo>
                <a:cubicBezTo>
                  <a:pt x="16144" y="17133"/>
                  <a:pt x="13568" y="19692"/>
                  <a:pt x="10800" y="19692"/>
                </a:cubicBezTo>
                <a:lnTo>
                  <a:pt x="9138" y="19692"/>
                </a:lnTo>
                <a:cubicBezTo>
                  <a:pt x="6370" y="19692"/>
                  <a:pt x="3794" y="17133"/>
                  <a:pt x="3794" y="14365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70"/>
          <p:cNvSpPr/>
          <p:nvPr/>
        </p:nvSpPr>
        <p:spPr>
          <a:xfrm>
            <a:off x="3184560" y="520236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71"/>
          <p:cNvSpPr/>
          <p:nvPr/>
        </p:nvSpPr>
        <p:spPr>
          <a:xfrm>
            <a:off x="3832200" y="5418000"/>
            <a:ext cx="1747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14680" y="999720"/>
            <a:ext cx="5900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71320" y="2928600"/>
            <a:ext cx="78102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м году станица получила свое окончательное назв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619280" y="5516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1863 год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108000" y="357120"/>
            <a:ext cx="2087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нашей станиц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55280" y="152280"/>
            <a:ext cx="590076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16000" y="1628280"/>
            <a:ext cx="7416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к убегал от Невы, возвращалс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ериком он называл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 ерик в ту пору еще безымянны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вот рядом с ним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д разбили фонтан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ерик фонтаны водой напоил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какой реке идет реч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24000" y="260280"/>
            <a:ext cx="143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700360" y="59691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Фонтан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1"/>
          <p:cNvSpPr/>
          <p:nvPr/>
        </p:nvSpPr>
        <p:spPr>
          <a:xfrm>
            <a:off x="108000" y="357120"/>
            <a:ext cx="2087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нашей станиц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3640" y="836280"/>
            <a:ext cx="54133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-360"/>
            <a:ext cx="284328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нция «Историческая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1280" y="2205000"/>
            <a:ext cx="7697520" cy="27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1619280" y="2716200"/>
            <a:ext cx="626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каком году на Кубани планируются Олимпийские игры, в каком городе они будут проводиться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3492360" y="5589720"/>
            <a:ext cx="41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Г. Сочи – 2014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7640" y="907560"/>
            <a:ext cx="56991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5280" y="2997000"/>
            <a:ext cx="842472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овите традиционные блюда каза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63640" y="4724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Кубанский борщ, вареники, галуш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0"/>
            <a:ext cx="2843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нция «Историческая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55280" y="620280"/>
            <a:ext cx="590076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42600" y="2428560"/>
            <a:ext cx="80722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924 году для охраны высокогорного комплекса в крае был создан заповедник, в котором выделяется бальнеологическая курортная местность Красная Поляна - центр туризма и горнолыжного спорта с музеем флоры и фауны Кавказа. Как называется этот заповедник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124000" y="5445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Кавказский заповедни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0" y="0"/>
            <a:ext cx="2843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нция «Историческая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02920" y="1125360"/>
            <a:ext cx="680868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2997000"/>
            <a:ext cx="7704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олько куреней было основано казаками – переселенцами на Кубани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2916360" y="5445000"/>
            <a:ext cx="41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0"/>
            <a:ext cx="2843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нция «Историческая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9007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29120" y="2781360"/>
            <a:ext cx="3603600" cy="18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каком году было образовано Краснодарское водохранилищ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5580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1972-75г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0"/>
            <a:ext cx="2843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нция «Историческая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7" descr="C:\Users\USER\Desktop\photo-009.jpg"/>
          <p:cNvPicPr/>
          <p:nvPr/>
        </p:nvPicPr>
        <p:blipFill>
          <a:blip r:embed="rId1"/>
          <a:stretch/>
        </p:blipFill>
        <p:spPr>
          <a:xfrm>
            <a:off x="357120" y="2428920"/>
            <a:ext cx="45957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14680" y="856800"/>
            <a:ext cx="5900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8920" y="0"/>
            <a:ext cx="18003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5000" y="1828800"/>
            <a:ext cx="7346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1258920" y="1916280"/>
            <a:ext cx="676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179280" y="260280"/>
            <a:ext cx="189252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гад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500040" y="343044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то раньше всех встает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1547640" y="48895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Пету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10" descr="C:\Users\USER\Desktop\76571711_petuh.jpg"/>
          <p:cNvPicPr/>
          <p:nvPr/>
        </p:nvPicPr>
        <p:blipFill>
          <a:blip r:embed="rId1"/>
          <a:stretch/>
        </p:blipFill>
        <p:spPr>
          <a:xfrm>
            <a:off x="5643720" y="4286160"/>
            <a:ext cx="1944360" cy="2094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14680" y="714240"/>
            <a:ext cx="608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0 оч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920" y="260280"/>
            <a:ext cx="20174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-1044720" y="3129120"/>
            <a:ext cx="1833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571680" y="2205000"/>
            <a:ext cx="7961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и не едим, а людей корм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2286000" y="1700280"/>
            <a:ext cx="45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0" y="285840"/>
            <a:ext cx="1892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гад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5219640" y="460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Ложк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1643040" y="3214800"/>
            <a:ext cx="3338640" cy="2881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56880" y="642600"/>
            <a:ext cx="590076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3840" y="214200"/>
            <a:ext cx="20005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57680" y="2356920"/>
            <a:ext cx="6821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ило четыре брат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нались друг за друг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так и не догна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24000" y="0"/>
            <a:ext cx="1638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гад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4572000" y="54291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Телег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9" descr="C:\Users\USER\Desktop\телега.jpg"/>
          <p:cNvPicPr/>
          <p:nvPr/>
        </p:nvPicPr>
        <p:blipFill>
          <a:blip r:embed="rId1"/>
          <a:stretch/>
        </p:blipFill>
        <p:spPr>
          <a:xfrm>
            <a:off x="1357200" y="3929040"/>
            <a:ext cx="3706920" cy="2779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7280" y="-360"/>
            <a:ext cx="546912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 очков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3840" y="260280"/>
            <a:ext cx="242892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Краснодарского кр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7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428760" y="178596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то основал наш город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Содержимое 6" descr="peter[1].jpg"/>
          <p:cNvPicPr/>
          <p:nvPr/>
        </p:nvPicPr>
        <p:blipFill>
          <a:blip r:embed="rId1"/>
          <a:stretch/>
        </p:blipFill>
        <p:spPr>
          <a:xfrm>
            <a:off x="3714840" y="1571760"/>
            <a:ext cx="3238560" cy="48574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539640" y="34480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Петр Перв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14680" y="999720"/>
            <a:ext cx="59004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260280"/>
            <a:ext cx="1908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гад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13880" y="3357720"/>
            <a:ext cx="79930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mic Sans MS"/>
              </a:rPr>
              <a:t>Одну меня не едят, а без меня едят редк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627280" y="5248440"/>
            <a:ext cx="37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Сол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6000840" y="4000680"/>
            <a:ext cx="2038320" cy="2633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43040" y="1285920"/>
            <a:ext cx="58644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285840"/>
            <a:ext cx="19796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гад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680" y="2642760"/>
            <a:ext cx="78501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уть дрожит на ветерк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ента на пригорк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зкий кончик в родник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широкий в мор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929200" y="5500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Рек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7" descr="C:\Users\USER\Desktop\vorona1.jpg"/>
          <p:cNvPicPr/>
          <p:nvPr/>
        </p:nvPicPr>
        <p:blipFill>
          <a:blip r:embed="rId1"/>
          <a:stretch/>
        </p:blipFill>
        <p:spPr>
          <a:xfrm>
            <a:off x="2071800" y="4857840"/>
            <a:ext cx="3419280" cy="1646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14680" y="928800"/>
            <a:ext cx="5900400" cy="14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79280" y="259920"/>
            <a:ext cx="1656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убанский гово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8400" y="2928960"/>
            <a:ext cx="84294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чи бояться, а руки робля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2357280" y="602784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Глаза бояться, а руки делаю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trips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42680" y="856800"/>
            <a:ext cx="59007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480" y="259920"/>
            <a:ext cx="14065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убанский гово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85880" y="2928960"/>
            <a:ext cx="7416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ишки марш гр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689280" y="495936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Кушать хоче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28880" y="928440"/>
            <a:ext cx="56642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560" y="214200"/>
            <a:ext cx="16570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убанский говор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142640" y="2786040"/>
            <a:ext cx="69930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делать до пут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835280" y="43848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Сделать хорошо, качествен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42680" y="928800"/>
            <a:ext cx="590076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50920" y="214200"/>
            <a:ext cx="1800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убанский гово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85840" y="2428560"/>
            <a:ext cx="8534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гато языком робыть – без гроша в кармане бу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AutoShape 5">
            <a:hlinkClick r:id="" action="ppaction://hlinkshowjump?jump=firstslide"/>
          </p:cNvPr>
          <p:cNvSpPr/>
          <p:nvPr/>
        </p:nvSpPr>
        <p:spPr>
          <a:xfrm>
            <a:off x="8215200" y="578628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9029"/>
                </a:moveTo>
                <a:lnTo>
                  <a:pt x="7301" y="9029"/>
                </a:lnTo>
                <a:lnTo>
                  <a:pt x="7301" y="14364"/>
                </a:lnTo>
                <a:cubicBezTo>
                  <a:pt x="7301" y="15287"/>
                  <a:pt x="8102" y="16018"/>
                  <a:pt x="9138" y="16018"/>
                </a:cubicBezTo>
                <a:lnTo>
                  <a:pt x="10800" y="16018"/>
                </a:lnTo>
                <a:cubicBezTo>
                  <a:pt x="11836" y="16018"/>
                  <a:pt x="12636" y="15287"/>
                  <a:pt x="12636" y="14364"/>
                </a:cubicBezTo>
                <a:lnTo>
                  <a:pt x="12636" y="9029"/>
                </a:lnTo>
                <a:lnTo>
                  <a:pt x="10800" y="9029"/>
                </a:lnTo>
                <a:lnTo>
                  <a:pt x="14308" y="5521"/>
                </a:lnTo>
                <a:lnTo>
                  <a:pt x="17981" y="9029"/>
                </a:lnTo>
                <a:lnTo>
                  <a:pt x="16144" y="9029"/>
                </a:lnTo>
                <a:lnTo>
                  <a:pt x="16144" y="14364"/>
                </a:lnTo>
                <a:cubicBezTo>
                  <a:pt x="16144" y="17132"/>
                  <a:pt x="13568" y="19691"/>
                  <a:pt x="10800" y="19691"/>
                </a:cubicBezTo>
                <a:lnTo>
                  <a:pt x="9138" y="19691"/>
                </a:lnTo>
                <a:cubicBezTo>
                  <a:pt x="6370" y="19691"/>
                  <a:pt x="3794" y="17132"/>
                  <a:pt x="3794" y="14364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643040" y="445608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Много болтать - без денег бы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00120" y="928440"/>
            <a:ext cx="6237360" cy="138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тоимостью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28440" y="2857680"/>
            <a:ext cx="75358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а гарбуза в одной руке не удержиш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250920" y="260280"/>
            <a:ext cx="1584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AutoShape 5">
            <a:hlinkClick r:id="" action="ppaction://hlinkshowjump?jump=firstslide"/>
          </p:cNvPr>
          <p:cNvSpPr/>
          <p:nvPr/>
        </p:nvSpPr>
        <p:spPr>
          <a:xfrm>
            <a:off x="8215200" y="578628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9029"/>
                </a:moveTo>
                <a:lnTo>
                  <a:pt x="7301" y="9029"/>
                </a:lnTo>
                <a:lnTo>
                  <a:pt x="7301" y="14364"/>
                </a:lnTo>
                <a:cubicBezTo>
                  <a:pt x="7301" y="15287"/>
                  <a:pt x="8102" y="16018"/>
                  <a:pt x="9138" y="16018"/>
                </a:cubicBezTo>
                <a:lnTo>
                  <a:pt x="10800" y="16018"/>
                </a:lnTo>
                <a:cubicBezTo>
                  <a:pt x="11836" y="16018"/>
                  <a:pt x="12636" y="15287"/>
                  <a:pt x="12636" y="14364"/>
                </a:cubicBezTo>
                <a:lnTo>
                  <a:pt x="12636" y="9029"/>
                </a:lnTo>
                <a:lnTo>
                  <a:pt x="10800" y="9029"/>
                </a:lnTo>
                <a:lnTo>
                  <a:pt x="14308" y="5521"/>
                </a:lnTo>
                <a:lnTo>
                  <a:pt x="17981" y="9029"/>
                </a:lnTo>
                <a:lnTo>
                  <a:pt x="16144" y="9029"/>
                </a:lnTo>
                <a:lnTo>
                  <a:pt x="16144" y="14364"/>
                </a:lnTo>
                <a:cubicBezTo>
                  <a:pt x="16144" y="17132"/>
                  <a:pt x="13568" y="19691"/>
                  <a:pt x="10800" y="19691"/>
                </a:cubicBezTo>
                <a:lnTo>
                  <a:pt x="9138" y="19691"/>
                </a:lnTo>
                <a:cubicBezTo>
                  <a:pt x="6370" y="19691"/>
                  <a:pt x="3794" y="17132"/>
                  <a:pt x="3794" y="14364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оугольник 6"/>
          <p:cNvSpPr/>
          <p:nvPr/>
        </p:nvSpPr>
        <p:spPr>
          <a:xfrm>
            <a:off x="285840" y="214200"/>
            <a:ext cx="16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убанский гово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785880" y="4643280"/>
            <a:ext cx="71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За двумя зайцами погонишься – ни одного не поймаеш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r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85600" y="357120"/>
            <a:ext cx="617076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0920" y="184464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вая постройка горо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7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7">
            <a:hlinkClick r:id="" action="ppaction://hlinkshowjump?jump=firstslide"/>
          </p:cNvPr>
          <p:cNvSpPr/>
          <p:nvPr/>
        </p:nvSpPr>
        <p:spPr>
          <a:xfrm>
            <a:off x="8143920" y="571500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Содержимое 7" descr="domik[1].jpg"/>
          <p:cNvPicPr/>
          <p:nvPr/>
        </p:nvPicPr>
        <p:blipFill>
          <a:blip r:embed="rId1"/>
          <a:stretch/>
        </p:blipFill>
        <p:spPr>
          <a:xfrm>
            <a:off x="1908000" y="2349360"/>
            <a:ext cx="5378760" cy="33624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1979640" y="60404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Домик Петра Перв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0" y="260280"/>
            <a:ext cx="24289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Краснодарского кр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93600" y="151920"/>
            <a:ext cx="5662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177336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каком острове  идет реч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рь это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брал са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Твердыней грозной будет он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ною прочной окружен»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2_petropavlovka1"/>
          <p:cNvPicPr/>
          <p:nvPr/>
        </p:nvPicPr>
        <p:blipFill>
          <a:blip r:embed="rId1"/>
          <a:stretch/>
        </p:blipFill>
        <p:spPr>
          <a:xfrm>
            <a:off x="1979640" y="3860640"/>
            <a:ext cx="3959280" cy="2703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5724360" y="4797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О Заячьем остров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189000"/>
            <a:ext cx="24289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Краснодарского кр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93600" y="151920"/>
            <a:ext cx="5662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34640" y="1428840"/>
            <a:ext cx="720252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268360" y="263520"/>
            <a:ext cx="56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50920" y="189000"/>
            <a:ext cx="1873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11280" y="2421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названия носил наш город на протяжении своей истори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250920" y="4240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Санкт -Петербург – Петроград – Ленинград - Санкт -Петербург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0" y="260280"/>
            <a:ext cx="24289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Краснодарского кр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93600" y="151920"/>
            <a:ext cx="566244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00" y="1773360"/>
            <a:ext cx="705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чем идет реч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олотой игле 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аблик золото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 двести пять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т он над Нев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олных парус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ходит в море фло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ь этот нику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аблик не плы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771640" y="6237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Адмиралтейст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260280"/>
            <a:ext cx="24289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Краснодарского кр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55280" y="151920"/>
            <a:ext cx="59007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7640" y="357120"/>
            <a:ext cx="208764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нашей станиц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55640" y="2421000"/>
            <a:ext cx="7626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м году была основана станиц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3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547640" y="4437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В августе 1861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55280" y="152280"/>
            <a:ext cx="590076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47280" y="2565360"/>
            <a:ext cx="648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расположена станиц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908000" y="4724280"/>
            <a:ext cx="51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Станица Бесленеевская расположена в глубоком ущелье лесных хреб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108000" y="357120"/>
            <a:ext cx="2087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нашей станиц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42680" y="857160"/>
            <a:ext cx="60483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тоимостью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чков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13880" y="2571480"/>
            <a:ext cx="7696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ервоначально была названа станиц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908000" y="4653000"/>
            <a:ext cx="54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Ирисская, вскоре переименованна в Промежудочную и, наконец спустя некоторое время получила свое окончательное назва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108000" y="357120"/>
            <a:ext cx="2087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нашей станиц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9:28:00Z</dcterms:created>
  <dc:creator>Admin</dc:creator>
  <dc:description/>
  <dc:language>en-US</dc:language>
  <cp:lastModifiedBy>USER</cp:lastModifiedBy>
  <dcterms:modified xsi:type="dcterms:W3CDTF">2012-08-16T17:23:40Z</dcterms:modified>
  <cp:revision>129</cp:revision>
  <dc:subject/>
  <dc:title> Турнир знатоков</dc:title>
</cp:coreProperties>
</file>