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13.wmf" ContentType="image/x-wmf"/>
  <Override PartName="/ppt/media/image55.png" ContentType="image/png"/>
  <Override PartName="/ppt/media/image12.wmf" ContentType="image/x-wmf"/>
  <Override PartName="/ppt/media/image54.png" ContentType="image/png"/>
  <Override PartName="/ppt/media/image53.png" ContentType="image/png"/>
  <Override PartName="/ppt/media/image50.png" ContentType="image/png"/>
  <Override PartName="/ppt/media/image49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29.wmf" ContentType="image/x-wmf"/>
  <Override PartName="/ppt/media/image1.png" ContentType="image/png"/>
  <Override PartName="/ppt/media/image68.png" ContentType="image/png"/>
  <Override PartName="/ppt/media/image31.png" ContentType="image/png"/>
  <Override PartName="/ppt/media/image17.png" ContentType="image/png"/>
  <Override PartName="/ppt/media/image19.png" ContentType="image/png"/>
  <Override PartName="/ppt/media/image61.png" ContentType="image/png"/>
  <Override PartName="/ppt/media/image21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23.png" ContentType="image/png"/>
  <Override PartName="/ppt/media/image60.png" ContentType="image/png"/>
  <Override PartName="/ppt/media/image16.png" ContentType="image/png"/>
  <Override PartName="/ppt/media/image73.wmf" ContentType="image/x-wmf"/>
  <Override PartName="/ppt/media/image33.png" ContentType="image/png"/>
  <Override PartName="/ppt/media/image25.png" ContentType="image/png"/>
  <Override PartName="/ppt/media/image62.png" ContentType="image/png"/>
  <Override PartName="/ppt/media/image15.png" ContentType="image/png"/>
  <Override PartName="/ppt/media/image72.wmf" ContentType="image/x-wmf"/>
  <Override PartName="/ppt/media/image69.png" ContentType="image/png"/>
  <Override PartName="/ppt/media/image32.png" ContentType="image/png"/>
  <Override PartName="/ppt/media/image24.png" ContentType="image/png"/>
  <Override PartName="/ppt/media/image71.png" ContentType="image/png"/>
  <Override PartName="/ppt/media/image70.png" ContentType="image/png"/>
  <Override PartName="/ppt/media/image67.png" ContentType="image/png"/>
  <Override PartName="/ppt/media/image28.wmf" ContentType="image/x-wmf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.png" ContentType="image/png"/>
  <Override PartName="/ppt/media/image14.png" ContentType="image/png"/>
  <Override PartName="/ppt/media/image58.png" ContentType="image/png"/>
  <Override PartName="/ppt/media/image3.wmf" ContentType="image/x-wmf"/>
  <Override PartName="/ppt/media/image59.png" ContentType="image/png"/>
  <Override PartName="/ppt/media/image4.wmf" ContentType="image/x-wmf"/>
  <Override PartName="/ppt/media/image10.png" ContentType="image/png"/>
  <Override PartName="/ppt/media/image47.png" ContentType="image/png"/>
  <Override PartName="/ppt/media/image5.wmf" ContentType="image/x-wmf"/>
  <Override PartName="/ppt/media/image11.png" ContentType="image/png"/>
  <Override PartName="/ppt/media/image48.png" ContentType="image/png"/>
  <Override PartName="/ppt/media/image18.wmf" ContentType="image/x-wmf"/>
  <Override PartName="/ppt/media/image6.wmf" ContentType="image/x-wmf"/>
  <Override PartName="/ppt/media/image7.wmf" ContentType="image/x-wmf"/>
  <Override PartName="/ppt/media/image27.png" ContentType="image/png"/>
  <Override PartName="/ppt/media/image30.wmf" ContentType="image/x-wmf"/>
  <Override PartName="/ppt/media/image51.png" ContentType="image/png"/>
  <Override PartName="/ppt/media/image8.wmf" ContentType="image/x-wmf"/>
  <Override PartName="/ppt/media/image40.png" ContentType="image/png"/>
  <Override PartName="/ppt/media/image9.png" ContentType="image/png"/>
  <Override PartName="/ppt/media/image39.png" ContentType="image/png"/>
  <Override PartName="/ppt/media/image52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3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EF9A-7764-4DC4-AF06-D4BEDFB7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BC52-7795-4E70-B982-940F0F06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44D5-FCD2-448B-A65A-5DAE8FBC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82B7-37F9-4222-8946-A3A8FB20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1D98-3EE9-4C51-AB1A-3BF0884D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81E6-BAE9-4D66-B80E-12480F8E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6040-F9FA-429C-BBBB-4138202A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E5D1-ECDE-494F-A749-A7F298AA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967F-ECC6-4F4E-928C-6A80B417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2103-195D-4328-8FE5-0FA9B5D7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5985-DF92-4815-947A-3DC1501C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0E67-310F-4812-8B9D-777AF972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8450-78BC-41DA-94D9-E6AE016A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7943-6B8E-4646-B68A-948DA326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5343-93B9-41D4-A438-3E583E91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0C47-36FA-465B-9AA1-DA98AD34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76DB-651C-4238-9483-E0AC725A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341E-CE11-4CB6-9B23-4B937C7F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8CF4-72BC-46BD-B4CB-ACE5D9F8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64B9-72F0-4B81-AF06-ABF39730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5AD6-F96E-412E-A6E6-B11F9B75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3C8F-B212-4079-98A3-3D022495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5F50-DDAC-44B1-9F87-667D9267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C828-3F5C-4971-9AF2-066E9AE4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F044-E766-4450-B24B-DD7B5D9FAA5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74DC-3696-4BEA-A2C7-361C32B141A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4.png"/><Relationship Id="rId12" Type="http://schemas.openxmlformats.org/officeDocument/2006/relationships/image" Target="../media/image26.png"/><Relationship Id="rId13" Type="http://schemas.openxmlformats.org/officeDocument/2006/relationships/image" Target="../media/image24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49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image" Target="../media/image64.png"/><Relationship Id="rId10" Type="http://schemas.openxmlformats.org/officeDocument/2006/relationships/image" Target="../media/image65.png"/><Relationship Id="rId11" Type="http://schemas.openxmlformats.org/officeDocument/2006/relationships/image" Target="../media/image66.png"/><Relationship Id="rId12" Type="http://schemas.openxmlformats.org/officeDocument/2006/relationships/image" Target="../media/image67.png"/><Relationship Id="rId1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6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Ну-ка, проверь дружок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Ты готов начать урок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Всё ль на месте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Всё ль в порядке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Ручка, книжка и тетрадк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Все ли правильно сидят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Все ль внимательно глядят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Каждый хочет получа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Толька лишь оценку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пя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400800" y="3733920"/>
            <a:ext cx="221940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Подумай и ответь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образуются до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гда один предмет или единица измерения делятся на равные ча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показывает число под черто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исло под чертой показывает на сколько равных долей разделили единиц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Половина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амая известная доля – это, конечно, половина. Слова с приставкой «пол» можно услышать часто: полчаса, полкилометра… Разделили целое на две части – «половина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олю     называют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половина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200400" y="4648320"/>
            <a:ext cx="417600" cy="1476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1150920" cy="1100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934320" y="3886200"/>
            <a:ext cx="126828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Треть.</a:t>
            </a: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вание доли зависит от того,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на сколько равных частей разделил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единицу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Разделили на три части – «треть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олю       называют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«треть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324480" y="3581280"/>
            <a:ext cx="1743120" cy="1675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828800" y="3886200"/>
            <a:ext cx="3412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Четверть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Если целое разделили на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асти, т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лучается     или по другому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оворят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«четверть»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87280" cy="7239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166716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87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Как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называются другие доли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если разделить на пять частей, то что ли «пятерть», на шесть – «шестерть»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ких смешных слов в русском языке нет. Чтобы назвать доли пользуются словами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«пятая»,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«шестая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 rot="21215400">
            <a:off x="457200" y="2971440"/>
            <a:ext cx="114768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Выполни задани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читайте до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по другому можно назвать до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етверть, треть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лови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057320" y="2438280"/>
            <a:ext cx="542880" cy="9622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2286000" y="2514600"/>
            <a:ext cx="569880" cy="9237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429000" y="2514600"/>
            <a:ext cx="542880" cy="866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4495680" y="2514600"/>
            <a:ext cx="277920" cy="8762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5257800" y="2514600"/>
            <a:ext cx="547560" cy="981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1676520" y="2743200"/>
            <a:ext cx="250560" cy="533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2971800" y="2743200"/>
            <a:ext cx="250920" cy="5335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4038480" y="2743200"/>
            <a:ext cx="250920" cy="5335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4876920" y="2743200"/>
            <a:ext cx="250560" cy="533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0"/>
          <a:stretch/>
        </p:blipFill>
        <p:spPr>
          <a:xfrm>
            <a:off x="1127160" y="4419720"/>
            <a:ext cx="387360" cy="9525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1"/>
          <a:stretch/>
        </p:blipFill>
        <p:spPr>
          <a:xfrm>
            <a:off x="1600200" y="4648320"/>
            <a:ext cx="250920" cy="5331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2"/>
          <a:stretch/>
        </p:blipFill>
        <p:spPr>
          <a:xfrm>
            <a:off x="2286000" y="4419720"/>
            <a:ext cx="349200" cy="961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3"/>
          <a:stretch/>
        </p:blipFill>
        <p:spPr>
          <a:xfrm>
            <a:off x="2743200" y="4648320"/>
            <a:ext cx="250920" cy="5331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4"/>
          <a:stretch/>
        </p:blipFill>
        <p:spPr>
          <a:xfrm>
            <a:off x="3200400" y="4419720"/>
            <a:ext cx="4190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4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8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8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Одолела нас дремота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Шевельнуться неохо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Ну-ка делайте со мною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Упражнение тако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Раз – поднялись, потянулись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Два – нагнулись, разогнулись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Три – в ладоши три хлоп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Головою три кив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075360" y="685800"/>
            <a:ext cx="1515960" cy="2128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095880" y="4648320"/>
            <a:ext cx="1121040" cy="19191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7134120" y="2895480"/>
            <a:ext cx="141948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згадайте ребус и узнаете с чем мы сейчас познакомимся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«Дроб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9880" y="2590920"/>
            <a:ext cx="986040" cy="19573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362320" y="3048120"/>
            <a:ext cx="1218960" cy="103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800600" y="3048120"/>
            <a:ext cx="114300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Обыкновенная дробь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писи вида       называю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обыкновенными дробями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ислитель дроб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ерта дроби (дробная черт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наменатель дроб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352680" y="1371600"/>
            <a:ext cx="351000" cy="819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7467480" y="3429000"/>
            <a:ext cx="590760" cy="1467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191120" y="3048120"/>
            <a:ext cx="3200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4114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648320" y="4571640"/>
            <a:ext cx="2819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650"/>
                            </p:stCondLst>
                            <p:childTnLst>
                              <p:par>
                                <p:cTn id="7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Обыкновенные дроб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ждый может за версту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идеть дробную черт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д  чертой –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числител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знайте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д чертою –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знаменател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робь такую, непременно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до звать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обыкновенной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Назовите числитель и знаменате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каждой     дроб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353360" y="3124080"/>
            <a:ext cx="419040" cy="11145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133720" y="5410080"/>
            <a:ext cx="574560" cy="962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324480" y="5257800"/>
            <a:ext cx="665280" cy="12384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5105520" y="5257800"/>
            <a:ext cx="563400" cy="12477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7238880" y="1219320"/>
            <a:ext cx="7891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4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7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9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2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917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Доли </a:t>
            </a:r>
            <a:br>
              <a:rPr sz="4400"/>
            </a:b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Обыкновенные дроби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 чтении дробей надо помнить: числитель дроби – количественное числительное женского рода (одна, две, восемь и т.д.), а знаменатель – порядковое числительное (седьмая, сотая, двести тридцатая и т.д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пример:       - одна пятая;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две шестых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восемьдесят три ст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ятьдесят вторы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200400" y="3505320"/>
            <a:ext cx="343080" cy="7333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838080" y="4114800"/>
            <a:ext cx="314280" cy="6951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295280" y="4724280"/>
            <a:ext cx="6001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6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9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2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Что показывают числитель  и  знаменатель дроби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наменатель показывает, на сколько долей делят, а числитель – сколько таких долей взят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Прочитайте дроби. Что показывает числитель и знаменатель каждой дроб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755880" y="5410080"/>
            <a:ext cx="549360" cy="7714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876920" y="5410080"/>
            <a:ext cx="468360" cy="819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5765760" y="5257800"/>
            <a:ext cx="345960" cy="10382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6553080" y="5410080"/>
            <a:ext cx="527040" cy="819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7467480" y="5257800"/>
            <a:ext cx="524160" cy="10476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6"/>
          <a:stretch/>
        </p:blipFill>
        <p:spPr>
          <a:xfrm>
            <a:off x="4419720" y="5638680"/>
            <a:ext cx="228600" cy="4572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5410080" y="5638680"/>
            <a:ext cx="228600" cy="4572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8"/>
          <a:stretch/>
        </p:blipFill>
        <p:spPr>
          <a:xfrm>
            <a:off x="6172200" y="5486400"/>
            <a:ext cx="304920" cy="6094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9"/>
          <a:stretch/>
        </p:blipFill>
        <p:spPr>
          <a:xfrm>
            <a:off x="7162920" y="5562720"/>
            <a:ext cx="3045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Запишите в виде обыкновенной дроб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ве седьмы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етыре девяты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дна сота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Шесть восьмы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и двадцать пяты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ловин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561960" cy="8665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304920" cy="8096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4648320" y="3505320"/>
            <a:ext cx="404640" cy="7617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3733920" y="2971800"/>
            <a:ext cx="550800" cy="6858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>
            <a:off x="5486400" y="4038480"/>
            <a:ext cx="762120" cy="9050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6"/>
          <a:stretch/>
        </p:blipFill>
        <p:spPr>
          <a:xfrm>
            <a:off x="3657600" y="4724280"/>
            <a:ext cx="4381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2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7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7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Подумай и ответь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1695600" cy="13143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2590920" y="2286000"/>
            <a:ext cx="2466720" cy="11145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6019920" y="2057400"/>
            <a:ext cx="1724040" cy="16574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3429000" y="4191120"/>
            <a:ext cx="1676520" cy="13618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5562720" y="4191120"/>
            <a:ext cx="2095560" cy="12096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762120" y="4114800"/>
            <a:ext cx="1371600" cy="12384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5181480" y="2133720"/>
            <a:ext cx="428760" cy="9334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8001000" y="2133720"/>
            <a:ext cx="523800" cy="9144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9"/>
          <a:stretch/>
        </p:blipFill>
        <p:spPr>
          <a:xfrm>
            <a:off x="2286000" y="3886200"/>
            <a:ext cx="343080" cy="8859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0"/>
          <a:stretch/>
        </p:blipFill>
        <p:spPr>
          <a:xfrm>
            <a:off x="4724280" y="3809880"/>
            <a:ext cx="409680" cy="8953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1"/>
          <a:stretch/>
        </p:blipFill>
        <p:spPr>
          <a:xfrm>
            <a:off x="7772400" y="3962520"/>
            <a:ext cx="371520" cy="904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2"/>
          <a:stretch/>
        </p:blipFill>
        <p:spPr>
          <a:xfrm>
            <a:off x="1752480" y="1981080"/>
            <a:ext cx="360360" cy="84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0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768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3" dur="768" fill="hold"/>
                                        <p:tgtEl>
                                          <p:spTgt spid="2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5" dur="768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7" dur="768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Работа в тетради. №868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2193840" cy="2286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6324480" y="2133720"/>
            <a:ext cx="2286000" cy="22478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3124080" y="2057400"/>
            <a:ext cx="2295720" cy="22575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5867280" y="1905120"/>
            <a:ext cx="409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ставьте задания по тем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быкновенные дроби,п.23, №901, 90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Окончен урок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И опять переме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И шум в коридоре опя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Друг другу должны 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Успеть непременно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Скорей обо всём рассказа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2001960" cy="20635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6477120" y="1981080"/>
            <a:ext cx="225720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0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Цели и задач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знакомить с понятием доля, половина, треть, четверть, обыкновенная дробь, числитель и знаменатель дроб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звивать умение  читать и записывать обыкновенную дробь по числителю и знаменател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оспитывать уважительное отношение к окружающим, внимание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Вопросы к рассмотрению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ол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ловина, треть, четвер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быкновенная дроб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показывают числитель и знаменатель дроб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з истории дроб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Мама купила арбуз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Разрезала его на 6 равных частей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705720" y="1981080"/>
            <a:ext cx="1685880" cy="16858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371600" y="3200400"/>
            <a:ext cx="1333440" cy="882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962520" y="4724280"/>
            <a:ext cx="1333440" cy="882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3809880" y="3276720"/>
            <a:ext cx="1333800" cy="882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1447920" y="4648320"/>
            <a:ext cx="1333440" cy="882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6477120" y="4648320"/>
            <a:ext cx="1333440" cy="882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6324480" y="3276720"/>
            <a:ext cx="1333800" cy="88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85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абушке, дедушке, папе, дву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етям и себ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1255680" cy="2430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90720" y="3124080"/>
            <a:ext cx="1241280" cy="2079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7086600" y="1600200"/>
            <a:ext cx="1044720" cy="18763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3886200" y="990720"/>
            <a:ext cx="1077840" cy="2412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2286000" y="762120"/>
            <a:ext cx="1146240" cy="2597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638680" y="1600200"/>
            <a:ext cx="1001880" cy="1800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1295280" y="2057400"/>
            <a:ext cx="952560" cy="630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>
            <a:off x="2819520" y="2057400"/>
            <a:ext cx="952560" cy="630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9"/>
          <a:stretch/>
        </p:blipFill>
        <p:spPr>
          <a:xfrm>
            <a:off x="4495680" y="1981080"/>
            <a:ext cx="952560" cy="630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0"/>
          <a:stretch/>
        </p:blipFill>
        <p:spPr>
          <a:xfrm>
            <a:off x="5715000" y="2209680"/>
            <a:ext cx="952560" cy="630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1"/>
          <a:stretch/>
        </p:blipFill>
        <p:spPr>
          <a:xfrm>
            <a:off x="7238880" y="2209680"/>
            <a:ext cx="952560" cy="630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2"/>
          <a:stretch/>
        </p:blipFill>
        <p:spPr>
          <a:xfrm>
            <a:off x="2057400" y="4114800"/>
            <a:ext cx="95256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Что такое доля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Доля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– каждая из равных частей единицы.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ак как арбуз разрезали на 6 равных частей, значит его разделили на 6 долей и каждый получил «одну шестую» долю арбуза, или, короче  «одну шестую арбуза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Как записывают доли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ля записи любой доли используют горизонтальную чёрточку. Её называют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робной чертой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ишут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819520" y="3505320"/>
            <a:ext cx="201924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Что показывает число под чертой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исло под чертой показывает на сколько равных частей (долей) разделили единиц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целое разделили на 5 равны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астей (долей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19320" y="3657600"/>
            <a:ext cx="3823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sha</cp:lastModifiedBy>
  <dcterms:modified xsi:type="dcterms:W3CDTF">2008-01-29T05:18:36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