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4A7D-F5CD-4FB4-83ED-02EB65E8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B6D-6B8B-4C73-A360-CC80DDEB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B7F9D-972A-4F92-850F-65AEF28C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9B30D-FE4F-4E8D-9338-8893C6A9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F3C3B-4984-40C7-9685-A8B31547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BCAC5-8C3E-41ED-9461-13021549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C0292-094D-4A13-9F0A-ED9054BC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B22E5-32F4-437D-B201-A9C5DCA8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55346-801A-48F9-B54A-B1A2B98D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4419D-2F44-4946-BB09-35078057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8356F-BE1B-44D0-B962-662772C4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83A1-1632-4FCE-9545-3542F3CC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6A20-CE63-476B-ADCA-E74A4C33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1046-9320-4681-871E-941F5A72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2AA9-AE30-4652-BFA5-865A38E4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AB67-8658-476E-9168-D9DA56A0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1533-F600-4C41-A17D-8FCCBC8D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BD6D-49B1-467E-AAE0-648BA8AE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B3E6-AC68-416D-A851-0C529B94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C67F-0E3A-44FC-9724-27E8D50F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7915-8A3D-49F0-AE3F-F978445D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31F5-3D8D-47AA-8823-FF5086AF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E210-5580-44CA-826A-BF0B5D67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930A-BC30-40BF-8716-E28A5EDF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DEBE-F071-4F45-8010-AF21FED3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E1AE-AD90-44D9-8933-9A311C51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0BD8D-8C2B-4AB6-9161-28E976C6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A8587-48B3-49D3-A0AB-9B109EFF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B259A-14A2-4A07-A1B2-588570F0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637E4-5056-4C22-AEB3-DEC0843D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8D9EE-1C15-4411-B03A-133CFDBF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0243-9C1C-4910-A66C-3B4FCB49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A0EB0-F831-4BDD-A04F-F3E14614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0DC91-6296-4252-9CA8-AF8443B1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BFDB0-7AF9-4648-92DC-CEEE688C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528D6-40C7-42EB-A094-7F3C41FD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403E4-CF88-4695-8A97-244D8833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785DF-1A28-4FC5-A3AE-E8D9C188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308BA-8D29-4FE6-AB7B-7D5C0C58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2DB25-2D83-4FF3-9552-EEB1463D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D8132-56A5-45C9-B363-129AA2AC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F2482-55C5-4EF7-A1FC-9CE26FED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A531-AC33-40B3-873A-72086B8F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FFB9F-583A-49E0-8C64-1177ADFC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4D3F4-67CF-4E08-93A3-CD86710B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9EBBA-0F4B-44B8-B047-A50466B8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27116-0DFC-471A-A19B-597D94AC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E5BC2-0E39-4B12-9F6B-1041DF3E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72B18-7CEE-4A03-BED5-281403F8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23D2C-EC52-4C06-8D89-B3CE3AF0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8CFC2-82CF-4560-88EA-86E24D68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405C4-B8C3-4F35-BC5A-D2D89CF9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8562E-AD6E-4194-940A-B1A7DCD9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B5CA-778A-43AE-BADB-BDA0F552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01E45-35FF-47AE-B0AD-2C345C44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68BE7-07AA-4235-960F-4AACA8F0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481B9-6B0D-4963-951B-0A61A7AE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7DE1D-E667-4CE0-8358-7FC79701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B1588-D2CE-48BD-A2AA-D44A15FE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4D320-9075-4F02-8CE6-19212733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B196C-043D-49A2-9504-6CD9ABF3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DC77B-3840-4D81-9FCB-14AD23B2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DC86B-62B7-4A50-BFD1-1817573A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F520D-6330-4616-979A-3C011135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D47-EE63-4E69-9172-68946844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9A9D2-3408-4ACE-A952-8C441D54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66CF4-40F9-45AC-AE98-B1120025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71518-91F2-464F-A3F3-A47DC6B7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CCBE4-DF7B-4C43-85E1-8EDF4EE6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E9514-F12B-422D-9293-53520277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67E03-E841-4A2C-97D2-43CD775D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31E94-38B9-473C-BCB6-E632045C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38E74-C913-4774-B7A2-F9956F6D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180C6-D350-4980-8DB1-D9BB75DB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ADA72-AC47-4028-AD84-2150834A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7DE0-FE22-47D7-A2B5-B8AA66D8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9D40F-99C8-43E3-A75C-35F5DFA9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2ABF2-FEB1-4892-AEAB-4DC493B8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9D716-E910-4ED0-9A00-DB45627B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E9F09-D5B5-4B2F-B14F-810A645C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E5D4D-4282-4BEE-939F-9A3B5A3D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55B88-911E-42EE-B893-CB5CC0B1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5D4FA-61AC-453E-88C9-BB881FA8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587B5-FB3B-470A-876B-85B3B68A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8104F-61B8-4ADC-8AFB-A4C70282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5D003-604F-456C-BE97-8296017F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0A69-F032-403A-8D27-8DF75E83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E5F3C-498D-42D9-8A94-972FAB77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1DA76-6003-40BD-8245-E253DB7A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66C64-0F55-445E-A9DA-1014ED71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081DD-5B7A-48B6-919D-7D2C19F1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F37FC-5198-4D8E-81AF-261AD1E3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60FBFC-AD58-4448-99D1-E31969AF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49F735-D978-4D3F-AC29-4C33D440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5A981D-0A6F-4BA7-8A3F-6825AFAD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4CDCC8-6C24-40F6-8BE2-23B3E566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3383B7-B277-454C-821D-45E887D8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D2AB-545C-4408-AEC1-409BF64E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63A3C6-433F-4557-A66B-B022B8E6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6D0FC3-93AD-4BBB-ABAB-EE2BA621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C5E6E0-8656-416A-B7E3-4C097BB4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FE7747-9482-407D-B494-42484DB8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151ADA-D539-4EBB-B966-E3D6B239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1F25AB-A38B-4719-B284-A056FB5F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A61D85-992E-413A-9748-4646E6E8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42C9D-DE44-45D5-AD04-19A867A7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56568-B752-4C66-9728-E3917A11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4C300-22B2-4DDD-BE64-C15051E7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0763-5A3A-46BA-BC2E-996B21FA496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5484-0D34-49D2-819E-2517500274F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1337-F49D-4AB6-94B5-0DEAD4DD21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689B-28FA-4B46-BA9D-43FC459FBE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425B-2EA0-4EB9-8B44-4AAC754A23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221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CD67-617E-495E-9AAA-5464F3592E1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26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0A93-BEE8-4D0E-87D3-0856080E835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BBD1-B432-4757-A120-D7E4AF329C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5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5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35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A584-02CD-414E-80DA-E317E51129D8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hitalnya.ru/upload/298/99665140593424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edia.tumblr.com/tumblr_kyukiwQNzw1qa5a9k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Аксиомы. </a:t>
            </a:r>
            <a:br>
              <a:rPr sz="5200"/>
            </a:b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Как устроена теорема. Свойства и признаки.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3962160" y="4876920"/>
            <a:ext cx="51814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читель: Яровая Л.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5" name="Picture 9" descr="Картинка 93 из 8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048120"/>
            <a:ext cx="4191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изнаки </a:t>
            </a: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Tahoma"/>
              </a:rPr>
              <a:t>хорошей погод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светит солнце, то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огода хорош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нет ветра и дождя, то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огода хорошая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тепло и ясно, то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огода хорошая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войст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                         ,         то 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характерис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ризнак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характерист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   то     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38" descr="smiling-star-coloring-page"/>
          <p:cNvPicPr/>
          <p:nvPr/>
        </p:nvPicPr>
        <p:blipFill>
          <a:blip r:embed="rId1"/>
          <a:stretch/>
        </p:blipFill>
        <p:spPr>
          <a:xfrm>
            <a:off x="6553080" y="4876920"/>
            <a:ext cx="914400" cy="7459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9" descr="smiling-star-coloring-page"/>
          <p:cNvPicPr/>
          <p:nvPr/>
        </p:nvPicPr>
        <p:blipFill>
          <a:blip r:embed="rId2"/>
          <a:stretch/>
        </p:blipFill>
        <p:spPr>
          <a:xfrm>
            <a:off x="1676520" y="1676520"/>
            <a:ext cx="914400" cy="7459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1" descr="smiling-star-coloring-page"/>
          <p:cNvPicPr/>
          <p:nvPr/>
        </p:nvPicPr>
        <p:blipFill>
          <a:blip r:embed="rId3"/>
          <a:stretch/>
        </p:blipFill>
        <p:spPr>
          <a:xfrm>
            <a:off x="5867280" y="228600"/>
            <a:ext cx="971640" cy="7905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2" descr="smiling-star-coloring-page"/>
          <p:cNvPicPr/>
          <p:nvPr/>
        </p:nvPicPr>
        <p:blipFill>
          <a:blip r:embed="rId4"/>
          <a:stretch/>
        </p:blipFill>
        <p:spPr>
          <a:xfrm>
            <a:off x="5867280" y="3200400"/>
            <a:ext cx="971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ервый признак равенства треугольник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две стороны и угол между ни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дного треугольника соответственн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вны двум сторонам и углу межд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ими другого треугольника , то так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еугольники рав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680" y="-30492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Аксиомы геометрии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619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рез любые две точки можно провести прямую и при том только одн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 трех точек на прямой одна и только одна лежит между двумя други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любом луче от его начала можно отложить отрезок, равный данному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 при том только оди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 любого луча в заданную сторону можно отложить угол, равный данному и при том только оди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8458200" cy="26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Аксиома –</a:t>
            </a:r>
            <a:r>
              <a:rPr b="0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греческое слово, означает</a:t>
            </a:r>
            <a:br>
              <a:rPr sz="2800"/>
            </a:b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«достоинство», «уважение», «авторитет».</a:t>
            </a:r>
            <a:br>
              <a:rPr sz="2400"/>
            </a:br>
            <a:br>
              <a:rPr sz="2400"/>
            </a:b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Первоначально имело смысл </a:t>
            </a:r>
            <a:br>
              <a:rPr sz="2800"/>
            </a:b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«самоочевидная истина»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Термин впервые встречается</a:t>
            </a:r>
            <a:br>
              <a:rPr sz="2800"/>
            </a:b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у Аристотеля и перешел в </a:t>
            </a:r>
            <a:br>
              <a:rPr sz="2800"/>
            </a:b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математику от философов </a:t>
            </a:r>
            <a:br>
              <a:rPr sz="2800"/>
            </a:b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Древней Греции.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0" name="Picture 6" descr="Картинка 9 из 177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1981080"/>
            <a:ext cx="296208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Теорема – </a:t>
            </a: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греческое слово, означает </a:t>
            </a:r>
            <a:br>
              <a:rPr sz="2800"/>
            </a:b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«зрелище», «представление»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В математике греков это слово стало </a:t>
            </a:r>
            <a:br>
              <a:rPr sz="2800"/>
            </a:b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употребляться в смысле «истина, доступная созерцанию»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Само греческое слово происходит от слова «рассматриваю», «обдумываю»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Слово, как математический термин, встречается у Аристотеля.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65530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9999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Устройство  теорем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«УСЛОВИЕ»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то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«ЗАКЛЮЧЕНИ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바탕"/>
              </a:rPr>
              <a:t>дано</a:t>
            </a:r>
            <a:r>
              <a:rPr b="0" lang="ru-RU" sz="2800" spc="-1" strike="noStrike">
                <a:solidFill>
                  <a:srgbClr val="000000"/>
                </a:solidFill>
                <a:latin typeface="바탕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바탕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바탕"/>
              </a:rPr>
              <a:t>доказать</a:t>
            </a:r>
            <a:r>
              <a:rPr b="0" lang="ru-RU" sz="28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Garamond"/>
              </a:rPr>
              <a:t>Теорема о равенстве треугольников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Условие 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дано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е стороны и угол между ними одного треугольника соответственно равны двум сторонам и углу между ними другого треугольни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Заключение 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доказать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угольники рав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6" descr="Картинка 133 из 454"/>
          <p:cNvPicPr/>
          <p:nvPr/>
        </p:nvPicPr>
        <p:blipFill>
          <a:blip r:embed="rId1"/>
          <a:stretch/>
        </p:blipFill>
        <p:spPr>
          <a:xfrm>
            <a:off x="5029200" y="3429000"/>
            <a:ext cx="411480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Условие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 (дано)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вертикальные угл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Заключение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 (доказать)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эти углы рав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457200" y="457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00"/>
                </a:solidFill>
                <a:latin typeface="Tahoma"/>
              </a:rPr>
              <a:t>Если углы вертикальные, то они рав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1" name="Picture 6" descr="Картинка 2 из 29247"/>
          <p:cNvPicPr/>
          <p:nvPr/>
        </p:nvPicPr>
        <p:blipFill>
          <a:blip r:embed="rId1"/>
          <a:stretch/>
        </p:blipFill>
        <p:spPr>
          <a:xfrm>
            <a:off x="2286000" y="3200400"/>
            <a:ext cx="42861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Если углы смежные, то их сумма</a:t>
            </a:r>
            <a:r>
              <a:rPr b="0" lang="ru-RU" sz="3200" spc="-1" strike="noStrike">
                <a:solidFill>
                  <a:srgbClr val="999900"/>
                </a:solidFill>
                <a:latin typeface="Arial"/>
              </a:rPr>
              <a:t> 180</a:t>
            </a:r>
            <a:r>
              <a:rPr b="0" lang="en-US" sz="3200" spc="-1" strike="noStrike">
                <a:solidFill>
                  <a:srgbClr val="999900"/>
                </a:solidFill>
                <a:latin typeface="Arial"/>
              </a:rPr>
              <a:t>°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Условие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 (дано)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смежные угл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Заключение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 (доказать)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х сумма рав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8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5" descr="Картинка 6 из 1742"/>
          <p:cNvPicPr/>
          <p:nvPr/>
        </p:nvPicPr>
        <p:blipFill>
          <a:blip r:embed="rId1"/>
          <a:stretch/>
        </p:blipFill>
        <p:spPr>
          <a:xfrm>
            <a:off x="2057400" y="3276720"/>
            <a:ext cx="472428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войства </a:t>
            </a: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Tahoma"/>
              </a:rPr>
              <a:t>хорошей погод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огода хороша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то поют п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огода хороша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то веселое   настро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огода хороша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то можно гуля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3:06:42Z</dcterms:created>
  <dc:creator>Пользователь</dc:creator>
  <dc:description/>
  <dc:language>en-US</dc:language>
  <cp:lastModifiedBy>10 класс</cp:lastModifiedBy>
  <dcterms:modified xsi:type="dcterms:W3CDTF">2011-03-29T08:31:34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