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6.wmf" ContentType="image/x-wmf"/>
  <Override PartName="/ppt/media/image255.wmf" ContentType="image/x-wmf"/>
  <Override PartName="/ppt/media/image254.wmf" ContentType="image/x-wmf"/>
  <Override PartName="/ppt/media/image253.wmf" ContentType="image/x-wmf"/>
  <Override PartName="/ppt/media/image38.wmf" ContentType="image/x-wmf"/>
  <Override PartName="/ppt/media/image242.wmf" ContentType="image/x-wmf"/>
  <Override PartName="/ppt/media/image49.wmf" ContentType="image/x-wmf"/>
  <Override PartName="/ppt/media/image8.wmf" ContentType="image/x-wmf"/>
  <Override PartName="/ppt/media/image17.wmf" ContentType="image/x-wmf"/>
  <Override PartName="/ppt/media/image37.wmf" ContentType="image/x-wmf"/>
  <Override PartName="/ppt/media/image258.png" ContentType="image/png"/>
  <Override PartName="/ppt/media/image159.wmf" ContentType="image/x-wmf"/>
  <Override PartName="/ppt/media/image7.wmf" ContentType="image/x-wmf"/>
  <Override PartName="/ppt/media/image172.wmf" ContentType="image/x-wmf"/>
  <Override PartName="/ppt/media/image48.wmf" ContentType="image/x-wmf"/>
  <Override PartName="/ppt/media/image36.wmf" ContentType="image/x-wmf"/>
  <Override PartName="/ppt/media/image257.png" ContentType="image/png"/>
  <Override PartName="/ppt/media/image158.wmf" ContentType="image/x-wmf"/>
  <Override PartName="/ppt/media/image6.wmf" ContentType="image/x-wmf"/>
  <Override PartName="/ppt/media/image47.wmf" ContentType="image/x-wmf"/>
  <Override PartName="/ppt/media/image10.wmf" ContentType="image/x-wmf"/>
  <Override PartName="/ppt/media/image175.wmf" ContentType="image/x-wmf"/>
  <Override PartName="/ppt/media/image18.wmf" ContentType="image/x-wmf"/>
  <Override PartName="/ppt/media/image107.wmf" ContentType="image/x-wmf"/>
  <Override PartName="/ppt/media/image83.wmf" ContentType="image/x-wmf"/>
  <Override PartName="/ppt/media/image15.wmf" ContentType="image/x-wmf"/>
  <Override PartName="/ppt/media/image35.wmf" ContentType="image/x-wmf"/>
  <Override PartName="/ppt/media/image5.wmf" ContentType="image/x-wmf"/>
  <Override PartName="/ppt/media/image157.wmf" ContentType="image/x-wmf"/>
  <Override PartName="/ppt/media/image174.wmf" ContentType="image/x-wmf"/>
  <Override PartName="/ppt/media/image34.wmf" ContentType="image/x-wmf"/>
  <Override PartName="/ppt/media/image156.wmf" ContentType="image/x-wmf"/>
  <Override PartName="/ppt/media/image4.wmf" ContentType="image/x-wmf"/>
  <Override PartName="/ppt/media/image13.wmf" ContentType="image/x-wmf"/>
  <Override PartName="/ppt/media/image16.wmf" ContentType="image/x-wmf"/>
  <Override PartName="/ppt/media/image82.wmf" ContentType="image/x-wmf"/>
  <Override PartName="/ppt/media/image106.wmf" ContentType="image/x-wmf"/>
  <Override PartName="/ppt/media/image76.png" ContentType="image/png"/>
  <Override PartName="/ppt/media/image143.wmf" ContentType="image/x-wmf"/>
  <Override PartName="/ppt/media/image33.wmf" ContentType="image/x-wmf"/>
  <Override PartName="/ppt/media/image30.wmf" ContentType="image/x-wmf"/>
  <Override PartName="/ppt/media/image24.png" ContentType="image/png"/>
  <Override PartName="/ppt/media/image155.wmf" ContentType="image/x-wmf"/>
  <Override PartName="/ppt/media/image3.wmf" ContentType="image/x-wmf"/>
  <Override PartName="/ppt/media/image177.wmf" ContentType="image/x-wmf"/>
  <Override PartName="/ppt/media/image85.wmf" ContentType="image/x-wmf"/>
  <Override PartName="/ppt/media/image109.wmf" ContentType="image/x-wmf"/>
  <Override PartName="/ppt/media/image104.wmf" ContentType="image/x-wmf"/>
  <Override PartName="/ppt/media/image80.wmf" ContentType="image/x-wmf"/>
  <Override PartName="/ppt/media/image12.wmf" ContentType="image/x-wmf"/>
  <Override PartName="/ppt/media/image154.wmf" ContentType="image/x-wmf"/>
  <Override PartName="/ppt/media/image2.wmf" ContentType="image/x-wmf"/>
  <Override PartName="/ppt/media/image176.wmf" ContentType="image/x-wmf"/>
  <Override PartName="/ppt/media/image84.wmf" ContentType="image/x-wmf"/>
  <Override PartName="/ppt/media/image108.wmf" ContentType="image/x-wmf"/>
  <Override PartName="/ppt/media/image185.wmf" ContentType="image/x-wmf"/>
  <Override PartName="/ppt/media/image1.png" ContentType="image/png"/>
  <Override PartName="/ppt/media/image213.wmf" ContentType="image/x-wmf"/>
  <Override PartName="/ppt/media/image57.wmf" ContentType="image/x-wmf"/>
  <Override PartName="/ppt/media/image58.wmf" ContentType="image/x-wmf"/>
  <Override PartName="/ppt/media/image186.wmf" ContentType="image/x-wmf"/>
  <Override PartName="/ppt/media/image118.wmf" ContentType="image/x-wmf"/>
  <Override PartName="/ppt/media/image81.wmf" ContentType="image/x-wmf"/>
  <Override PartName="/ppt/media/image105.wmf" ContentType="image/x-wmf"/>
  <Override PartName="/ppt/media/image173.wmf" ContentType="image/x-wmf"/>
  <Override PartName="/ppt/media/image170.wmf" ContentType="image/x-wmf"/>
  <Override PartName="/ppt/media/image102.wmf" ContentType="image/x-wmf"/>
  <Override PartName="/ppt/media/image11.wmf" ContentType="image/x-wmf"/>
  <Override PartName="/ppt/media/image87.wmf" ContentType="image/x-wmf"/>
  <Override PartName="/ppt/media/image19.wmf" ContentType="image/x-wmf"/>
  <Override PartName="/ppt/media/image27.wmf" ContentType="image/x-wmf"/>
  <Override PartName="/ppt/media/image88.wmf" ContentType="image/x-wmf"/>
  <Override PartName="/ppt/media/image112.wmf" ContentType="image/x-wmf"/>
  <Override PartName="/ppt/media/image180.wmf" ContentType="image/x-wmf"/>
  <Override PartName="/ppt/media/image113.wmf" ContentType="image/x-wmf"/>
  <Override PartName="/ppt/media/image181.wmf" ContentType="image/x-wmf"/>
  <Override PartName="/ppt/media/image192.wmf" ContentType="image/x-wmf"/>
  <Override PartName="/ppt/media/image261.wmf" ContentType="image/x-wmf"/>
  <Override PartName="/ppt/media/image59.wmf" ContentType="image/x-wmf"/>
  <Override PartName="/ppt/media/image260.wmf" ContentType="image/x-wmf"/>
  <Override PartName="/ppt/media/image79.wmf" ContentType="image/x-wmf"/>
  <Override PartName="/ppt/media/image89.wmf" ContentType="image/x-wmf"/>
  <Override PartName="/ppt/media/image21.wmf" ContentType="image/x-wmf"/>
  <Override PartName="/ppt/media/image183.wmf" ContentType="image/x-wmf"/>
  <Override PartName="/ppt/media/image97.wmf" ContentType="image/x-wmf"/>
  <Override PartName="/ppt/media/image29.wmf" ContentType="image/x-wmf"/>
  <Override PartName="/ppt/media/image60.wmf" ContentType="image/x-wmf"/>
  <Override PartName="/ppt/media/image191.wmf" ContentType="image/x-wmf"/>
  <Override PartName="/ppt/media/image123.wmf" ContentType="image/x-wmf"/>
  <Override PartName="/ppt/media/image126.wmf" ContentType="image/x-wmf"/>
  <Override PartName="/ppt/media/image194.wmf" ContentType="image/x-wmf"/>
  <Override PartName="/ppt/media/image32.wmf" ContentType="image/x-wmf"/>
  <Override PartName="/ppt/media/image71.wmf" ContentType="image/x-wmf"/>
  <Override PartName="/ppt/media/image99.wmf" ContentType="image/x-wmf"/>
  <Override PartName="/ppt/media/image193.wmf" ContentType="image/x-wmf"/>
  <Override PartName="/ppt/media/image125.wmf" ContentType="image/x-wmf"/>
  <Override PartName="/ppt/media/image117.wmf" ContentType="image/x-wmf"/>
  <Override PartName="/ppt/media/image93.wmf" ContentType="image/x-wmf"/>
  <Override PartName="/ppt/media/image25.wmf" ContentType="image/x-wmf"/>
  <Override PartName="/ppt/media/image28.wmf" ContentType="image/x-wmf"/>
  <Override PartName="/ppt/media/image96.wmf" ContentType="image/x-wmf"/>
  <Override PartName="/ppt/media/image70.wmf" ContentType="image/x-wmf"/>
  <Override PartName="/ppt/media/image122.wmf" ContentType="image/x-wmf"/>
  <Override PartName="/ppt/media/image190.wmf" ContentType="image/x-wmf"/>
  <Override PartName="/ppt/media/image98.wmf" ContentType="image/x-wmf"/>
  <Override PartName="/ppt/media/image78.wmf" ContentType="image/x-wmf"/>
  <Override PartName="/ppt/media/image77.wmf" ContentType="image/x-wmf"/>
  <Override PartName="/ppt/media/image75.wmf" ContentType="image/x-wmf"/>
  <Override PartName="/ppt/media/image231.wmf" ContentType="image/x-wmf"/>
  <Override PartName="/ppt/media/image74.wmf" ContentType="image/x-wmf"/>
  <Override PartName="/ppt/media/image73.wmf" ContentType="image/x-wmf"/>
  <Override PartName="/ppt/media/image72.wmf" ContentType="image/x-wmf"/>
  <Override PartName="/ppt/media/image69.wmf" ContentType="image/x-wmf"/>
  <Override PartName="/ppt/media/image68.wmf" ContentType="image/x-wmf"/>
  <Override PartName="/ppt/media/image67.wmf" ContentType="image/x-wmf"/>
  <Override PartName="/ppt/media/image66.wmf" ContentType="image/x-wmf"/>
  <Override PartName="/ppt/media/image65.wmf" ContentType="image/x-wmf"/>
  <Override PartName="/ppt/media/image64.wmf" ContentType="image/x-wmf"/>
  <Override PartName="/ppt/media/image90.wmf" ContentType="image/x-wmf"/>
  <Override PartName="/ppt/media/image22.wmf" ContentType="image/x-wmf"/>
  <Override PartName="/ppt/media/image187.wmf" ContentType="image/x-wmf"/>
  <Override PartName="/ppt/media/image95.wmf" ContentType="image/x-wmf"/>
  <Override PartName="/ppt/media/image119.wmf" ContentType="image/x-wmf"/>
  <Override PartName="/ppt/media/image63.wmf" ContentType="image/x-wmf"/>
  <Override PartName="/ppt/media/image62.png" ContentType="image/png"/>
  <Override PartName="/ppt/media/image23.wmf" ContentType="image/x-wmf"/>
  <Override PartName="/ppt/media/image115.wmf" ContentType="image/x-wmf"/>
  <Override PartName="/ppt/media/image91.wmf" ContentType="image/x-wmf"/>
  <Override PartName="/ppt/media/image26.wmf" ContentType="image/x-wmf"/>
  <Override PartName="/ppt/media/image184.wmf" ContentType="image/x-wmf"/>
  <Override PartName="/ppt/media/image20.wmf" ContentType="image/x-wmf"/>
  <Override PartName="/ppt/media/image14.png" ContentType="image/png"/>
  <Override PartName="/ppt/media/image54.wmf" ContentType="image/x-wmf"/>
  <Override PartName="/ppt/media/image9.wmf" ContentType="image/x-wmf"/>
  <Override PartName="/ppt/media/image31.wmf" ContentType="image/x-wmf"/>
  <Override PartName="/ppt/media/image127.wmf" ContentType="image/x-wmf"/>
  <Override PartName="/ppt/media/image195.wmf" ContentType="image/x-wmf"/>
  <Override PartName="/ppt/media/image61.wmf" ContentType="image/x-wmf"/>
  <Override PartName="/ppt/media/image42.wmf" ContentType="image/x-wmf"/>
  <Override PartName="/ppt/media/image40.wmf" ContentType="image/x-wmf"/>
  <Override PartName="/ppt/media/image41.wmf" ContentType="image/x-wmf"/>
  <Override PartName="/ppt/media/image116.wmf" ContentType="image/x-wmf"/>
  <Override PartName="/ppt/media/image92.wmf" ContentType="image/x-wmf"/>
  <Override PartName="/ppt/media/image86.png" ContentType="image/png"/>
  <Override PartName="/ppt/media/image153.wmf" ContentType="image/x-wmf"/>
  <Override PartName="/ppt/media/image43.wmf" ContentType="image/x-wmf"/>
  <Override PartName="/ppt/media/image44.wmf" ContentType="image/x-wmf"/>
  <Override PartName="/ppt/media/image39.png" ContentType="image/png"/>
  <Override PartName="/ppt/media/image45.wmf" ContentType="image/x-wmf"/>
  <Override PartName="/ppt/media/image46.wmf" ContentType="image/x-wmf"/>
  <Override PartName="/ppt/media/image124.wmf" ContentType="image/x-wmf"/>
  <Override PartName="/ppt/media/image94.png" ContentType="image/png"/>
  <Override PartName="/ppt/media/image161.wmf" ContentType="image/x-wmf"/>
  <Override PartName="/ppt/media/image51.wmf" ContentType="image/x-wmf"/>
  <Override PartName="/ppt/media/image52.wmf" ContentType="image/x-wmf"/>
  <Override PartName="/ppt/media/image53.wmf" ContentType="image/x-wmf"/>
  <Override PartName="/ppt/media/image55.wmf" ContentType="image/x-wmf"/>
  <Override PartName="/ppt/media/image56.wmf" ContentType="image/x-wmf"/>
  <Override PartName="/ppt/media/image128.wmf" ContentType="image/x-wmf"/>
  <Override PartName="/ppt/media/image196.wmf" ContentType="image/x-wmf"/>
  <Override PartName="/ppt/media/image129.wmf" ContentType="image/x-wmf"/>
  <Override PartName="/ppt/media/image197.wmf" ContentType="image/x-wmf"/>
  <Override PartName="/ppt/media/image130.wmf" ContentType="image/x-wmf"/>
  <Override PartName="/ppt/media/image259.wmf" ContentType="image/x-wmf"/>
  <Override PartName="/ppt/media/image131.wmf" ContentType="image/x-wmf"/>
  <Override PartName="/ppt/media/image132.wmf" ContentType="image/x-wmf"/>
  <Override PartName="/ppt/media/image133.wmf" ContentType="image/x-wmf"/>
  <Override PartName="/ppt/media/image134.wmf" ContentType="image/x-wmf"/>
  <Override PartName="/ppt/media/image135.wmf" ContentType="image/x-wmf"/>
  <Override PartName="/ppt/media/image136.wmf" ContentType="image/x-wmf"/>
  <Override PartName="/ppt/media/image137.wmf" ContentType="image/x-wmf"/>
  <Override PartName="/ppt/media/image138.wmf" ContentType="image/x-wmf"/>
  <Override PartName="/ppt/media/image139.wmf" ContentType="image/x-wmf"/>
  <Override PartName="/ppt/media/image230.png" ContentType="image/png"/>
  <Override PartName="/ppt/media/image140.wmf" ContentType="image/x-wmf"/>
  <Override PartName="/ppt/media/image141.wmf" ContentType="image/x-wmf"/>
  <Override PartName="/ppt/media/image142.wmf" ContentType="image/x-wmf"/>
  <Override PartName="/ppt/media/image144.wmf" ContentType="image/x-wmf"/>
  <Override PartName="/ppt/media/image145.wmf" ContentType="image/x-wmf"/>
  <Override PartName="/ppt/media/image146.wmf" ContentType="image/x-wmf"/>
  <Override PartName="/ppt/media/image147.wmf" ContentType="image/x-wmf"/>
  <Override PartName="/ppt/media/image148.wmf" ContentType="image/x-wmf"/>
  <Override PartName="/ppt/media/image149.wmf" ContentType="image/x-wmf"/>
  <Override PartName="/ppt/media/image150.wmf" ContentType="image/x-wmf"/>
  <Override PartName="/ppt/media/image151.wmf" ContentType="image/x-wmf"/>
  <Override PartName="/ppt/media/image152.wmf" ContentType="image/x-wmf"/>
  <Override PartName="/ppt/media/image160.wmf" ContentType="image/x-wmf"/>
  <Override PartName="/ppt/media/image162.wmf" ContentType="image/x-wmf"/>
  <Override PartName="/ppt/media/image163.wmf" ContentType="image/x-wmf"/>
  <Override PartName="/ppt/media/image164.wmf" ContentType="image/x-wmf"/>
  <Override PartName="/ppt/media/image165.wmf" ContentType="image/x-wmf"/>
  <Override PartName="/ppt/media/image166.wmf" ContentType="image/x-wmf"/>
  <Override PartName="/ppt/media/image167.wmf" ContentType="image/x-wmf"/>
  <Override PartName="/ppt/media/image168.wmf" ContentType="image/x-wmf"/>
  <Override PartName="/ppt/media/image169.wmf" ContentType="image/x-wmf"/>
  <Override PartName="/ppt/media/image171.wmf" ContentType="image/x-wmf"/>
  <Override PartName="/ppt/media/image178.wmf" ContentType="image/x-wmf"/>
  <Override PartName="/ppt/media/image201.png" ContentType="image/png"/>
  <Override PartName="/ppt/media/image179.wmf" ContentType="image/x-wmf"/>
  <Override PartName="/ppt/media/image182.wmf" ContentType="image/x-wmf"/>
  <Override PartName="/ppt/media/image188.wmf" ContentType="image/x-wmf"/>
  <Override PartName="/ppt/media/image189.wmf" ContentType="image/x-wmf"/>
  <Override PartName="/ppt/media/image198.wmf" ContentType="image/x-wmf"/>
  <Override PartName="/ppt/media/image199.wmf" ContentType="image/x-wmf"/>
  <Override PartName="/ppt/media/image200.wmf" ContentType="image/x-wmf"/>
  <Override PartName="/ppt/media/image202.wmf" ContentType="image/x-wmf"/>
  <Override PartName="/ppt/media/image203.wmf" ContentType="image/x-wmf"/>
  <Override PartName="/ppt/media/image204.wmf" ContentType="image/x-wmf"/>
  <Override PartName="/ppt/media/image205.wmf" ContentType="image/x-wmf"/>
  <Override PartName="/ppt/media/image206.wmf" ContentType="image/x-wmf"/>
  <Override PartName="/ppt/media/image207.wmf" ContentType="image/x-wmf"/>
  <Override PartName="/ppt/media/image50.png" ContentType="image/png"/>
  <Override PartName="/ppt/media/image208.wmf" ContentType="image/x-wmf"/>
  <Override PartName="/ppt/media/image209.wmf" ContentType="image/x-wmf"/>
  <Override PartName="/ppt/media/image210.wmf" ContentType="image/x-wmf"/>
  <Override PartName="/ppt/media/image211.wmf" ContentType="image/x-wmf"/>
  <Override PartName="/ppt/media/image212.wmf" ContentType="image/x-wmf"/>
  <Override PartName="/ppt/media/image215.wmf" ContentType="image/x-wmf"/>
  <Override PartName="/ppt/media/image216.wmf" ContentType="image/x-wmf"/>
  <Override PartName="/ppt/media/image217.wmf" ContentType="image/x-wmf"/>
  <Override PartName="/ppt/media/image218.wmf" ContentType="image/x-wmf"/>
  <Override PartName="/ppt/media/image219.wmf" ContentType="image/x-wmf"/>
  <Override PartName="/ppt/media/image214.png" ContentType="image/png"/>
  <Override PartName="/ppt/media/image220.wmf" ContentType="image/x-wmf"/>
  <Override PartName="/ppt/media/image221.wmf" ContentType="image/x-wmf"/>
  <Override PartName="/ppt/media/image222.wmf" ContentType="image/x-wmf"/>
  <Override PartName="/ppt/media/image223.wmf" ContentType="image/x-wmf"/>
  <Override PartName="/ppt/media/image224.wmf" ContentType="image/x-wmf"/>
  <Override PartName="/ppt/media/image225.wmf" ContentType="image/x-wmf"/>
  <Override PartName="/ppt/media/image226.wmf" ContentType="image/x-wmf"/>
  <Override PartName="/ppt/media/image227.wmf" ContentType="image/x-wmf"/>
  <Override PartName="/ppt/media/image100.wmf" ContentType="image/x-wmf"/>
  <Override PartName="/ppt/media/image228.wmf" ContentType="image/x-wmf"/>
  <Override PartName="/ppt/media/image101.wmf" ContentType="image/x-wmf"/>
  <Override PartName="/ppt/media/image229.wmf" ContentType="image/x-wmf"/>
  <Override PartName="/ppt/media/image232.wmf" ContentType="image/x-wmf"/>
  <Override PartName="/ppt/media/image233.wmf" ContentType="image/x-wmf"/>
  <Override PartName="/ppt/media/image234.wmf" ContentType="image/x-wmf"/>
  <Override PartName="/ppt/media/image235.wmf" ContentType="image/x-wmf"/>
  <Override PartName="/ppt/media/image236.wmf" ContentType="image/x-wmf"/>
  <Override PartName="/ppt/media/image103.png" ContentType="image/png"/>
  <Override PartName="/ppt/media/image237.wmf" ContentType="image/x-wmf"/>
  <Override PartName="/ppt/media/image110.wmf" ContentType="image/x-wmf"/>
  <Override PartName="/ppt/media/image238.wmf" ContentType="image/x-wmf"/>
  <Override PartName="/ppt/media/image111.wmf" ContentType="image/x-wmf"/>
  <Override PartName="/ppt/media/image239.wmf" ContentType="image/x-wmf"/>
  <Override PartName="/ppt/media/image240.wmf" ContentType="image/x-wmf"/>
  <Override PartName="/ppt/media/image241.wmf" ContentType="image/x-wmf"/>
  <Override PartName="/ppt/media/image243.wmf" ContentType="image/x-wmf"/>
  <Override PartName="/ppt/media/image244.wmf" ContentType="image/x-wmf"/>
  <Override PartName="/ppt/media/image245.wmf" ContentType="image/x-wmf"/>
  <Override PartName="/ppt/media/image246.wmf" ContentType="image/x-wmf"/>
  <Override PartName="/ppt/media/image247.wmf" ContentType="image/x-wmf"/>
  <Override PartName="/ppt/media/image114.png" ContentType="image/png"/>
  <Override PartName="/ppt/media/image120.wmf" ContentType="image/x-wmf"/>
  <Override PartName="/ppt/media/image248.wmf" ContentType="image/x-wmf"/>
  <Override PartName="/ppt/media/image121.wmf" ContentType="image/x-wmf"/>
  <Override PartName="/ppt/media/image249.wmf" ContentType="image/x-wmf"/>
  <Override PartName="/ppt/media/image250.wmf" ContentType="image/x-wmf"/>
  <Override PartName="/ppt/media/image251.wmf" ContentType="image/x-wmf"/>
  <Override PartName="/ppt/media/image252.wmf" ContentType="image/x-wmf"/>
  <Override PartName="/ppt/embeddings/oleObject13.bin" ContentType="application/vnd.openxmlformats-officedocument.oleObject"/>
  <Override PartName="/ppt/embeddings/oleObject1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4103E0-01A0-47BD-9407-8904D817D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23EAB5-4473-4C9E-AC03-6E221AB09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FBF9D6-3293-4693-8CE8-7467CB158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E08FFA-241D-4803-B220-9CE48E2E5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92A9D0-AE7D-422C-AA9C-247AFD6D7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654922-47CC-4AE5-8567-F2EC5D541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1DE2D6-B269-4695-A793-257E1A8FB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AAE254-04FB-4C89-AC24-628FE0EE6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299EB1-CCC5-4F77-98BC-CF7A3A5BE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2E4812-494D-4A6D-BDC2-411ADC436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FDC5F9-79F0-4C0D-9D1F-20846C35B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9FD3C1-1246-4EFB-BAB8-35A7A10A6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324000" y="6568560"/>
            <a:ext cx="864072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ru-RU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mbria"/>
              </a:rPr>
              <a:t>Обухова Н.С, МОУ СОШ №17 г. Заволжья Нижегородской обла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83" name="Group 3"/>
            <p:cNvGrpSpPr/>
            <p:nvPr/>
          </p:nvGrpSpPr>
          <p:grpSpPr>
            <a:xfrm>
              <a:off x="5407560" y="63360"/>
              <a:ext cx="3623400" cy="6129000"/>
              <a:chOff x="5407560" y="63360"/>
              <a:chExt cx="3623400" cy="6129000"/>
            </a:xfrm>
          </p:grpSpPr>
          <p:sp>
            <p:nvSpPr>
              <p:cNvPr id="84" name="Freeform 4"/>
              <p:cNvSpPr/>
              <p:nvPr/>
            </p:nvSpPr>
            <p:spPr>
              <a:xfrm flipV="1" rot="11970000">
                <a:off x="6582600" y="348840"/>
                <a:ext cx="2115360" cy="2357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5" name="Freeform 5"/>
              <p:cNvSpPr/>
              <p:nvPr/>
            </p:nvSpPr>
            <p:spPr>
              <a:xfrm flipV="1" rot="11970000">
                <a:off x="7421760" y="1961280"/>
                <a:ext cx="906120" cy="843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6" name="Freeform 6"/>
              <p:cNvSpPr/>
              <p:nvPr/>
            </p:nvSpPr>
            <p:spPr>
              <a:xfrm flipV="1" rot="11970000">
                <a:off x="6827040" y="2593440"/>
                <a:ext cx="43920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7" name="Freeform 7"/>
              <p:cNvSpPr/>
              <p:nvPr/>
            </p:nvSpPr>
            <p:spPr>
              <a:xfrm flipV="1" rot="11970000">
                <a:off x="7252200" y="675360"/>
                <a:ext cx="388800" cy="551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8" name="Freeform 8"/>
              <p:cNvSpPr/>
              <p:nvPr/>
            </p:nvSpPr>
            <p:spPr>
              <a:xfrm flipV="1" rot="11970000">
                <a:off x="7155720" y="2644560"/>
                <a:ext cx="16344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" name="Freeform 9"/>
              <p:cNvSpPr/>
              <p:nvPr/>
            </p:nvSpPr>
            <p:spPr>
              <a:xfrm flipV="1" rot="11970000">
                <a:off x="7141320" y="1241640"/>
                <a:ext cx="19008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0" name="Freeform 10"/>
              <p:cNvSpPr/>
              <p:nvPr/>
            </p:nvSpPr>
            <p:spPr>
              <a:xfrm flipV="1" rot="11970000">
                <a:off x="5938200" y="293040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91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97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98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9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0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1" name="Group 21"/>
            <p:cNvGrpSpPr/>
            <p:nvPr/>
          </p:nvGrpSpPr>
          <p:grpSpPr>
            <a:xfrm>
              <a:off x="5654160" y="293040"/>
              <a:ext cx="889200" cy="834120"/>
              <a:chOff x="5654160" y="293040"/>
              <a:chExt cx="889200" cy="834120"/>
            </a:xfrm>
          </p:grpSpPr>
          <p:sp>
            <p:nvSpPr>
              <p:cNvPr id="102" name="Freeform 22"/>
              <p:cNvSpPr/>
              <p:nvPr/>
            </p:nvSpPr>
            <p:spPr>
              <a:xfrm rot="14908200">
                <a:off x="5765760" y="796680"/>
                <a:ext cx="17856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3" name="Freeform 23"/>
              <p:cNvSpPr/>
              <p:nvPr/>
            </p:nvSpPr>
            <p:spPr>
              <a:xfrm rot="14908200">
                <a:off x="5714280" y="476280"/>
                <a:ext cx="30600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14908200">
                <a:off x="6253560" y="393480"/>
                <a:ext cx="32004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5" name="Group 25"/>
            <p:cNvGrpSpPr/>
            <p:nvPr/>
          </p:nvGrpSpPr>
          <p:grpSpPr>
            <a:xfrm>
              <a:off x="960840" y="5253480"/>
              <a:ext cx="1062720" cy="834840"/>
              <a:chOff x="960840" y="5253480"/>
              <a:chExt cx="1062720" cy="834840"/>
            </a:xfrm>
          </p:grpSpPr>
          <p:sp>
            <p:nvSpPr>
              <p:cNvPr id="106" name="Freeform 26"/>
              <p:cNvSpPr/>
              <p:nvPr/>
            </p:nvSpPr>
            <p:spPr>
              <a:xfrm rot="8524800">
                <a:off x="1706760" y="5522040"/>
                <a:ext cx="250920" cy="300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8524800">
                <a:off x="1189800" y="5733360"/>
                <a:ext cx="429480" cy="2491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Freeform 28"/>
              <p:cNvSpPr/>
              <p:nvPr/>
            </p:nvSpPr>
            <p:spPr>
              <a:xfrm rot="8524800">
                <a:off x="952200" y="5378040"/>
                <a:ext cx="44892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9" name="Group 29"/>
            <p:cNvGrpSpPr/>
            <p:nvPr/>
          </p:nvGrpSpPr>
          <p:grpSpPr>
            <a:xfrm>
              <a:off x="375840" y="451080"/>
              <a:ext cx="1690200" cy="1146600"/>
              <a:chOff x="375840" y="451080"/>
              <a:chExt cx="1690200" cy="1146600"/>
            </a:xfrm>
          </p:grpSpPr>
          <p:sp>
            <p:nvSpPr>
              <p:cNvPr id="110" name="Freeform 30"/>
              <p:cNvSpPr/>
              <p:nvPr/>
            </p:nvSpPr>
            <p:spPr>
              <a:xfrm flipH="1" rot="4107000">
                <a:off x="1576080" y="10695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Freeform 31"/>
              <p:cNvSpPr/>
              <p:nvPr/>
            </p:nvSpPr>
            <p:spPr>
              <a:xfrm flipH="1" rot="4107000">
                <a:off x="1022760" y="59472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Freeform 32"/>
              <p:cNvSpPr/>
              <p:nvPr/>
            </p:nvSpPr>
            <p:spPr>
              <a:xfrm flipH="1" rot="4107000">
                <a:off x="278640" y="110844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3" name="Group 33"/>
            <p:cNvGrpSpPr/>
            <p:nvPr/>
          </p:nvGrpSpPr>
          <p:grpSpPr>
            <a:xfrm>
              <a:off x="7377480" y="3712320"/>
              <a:ext cx="1156320" cy="1607760"/>
              <a:chOff x="7377480" y="3712320"/>
              <a:chExt cx="1156320" cy="1607760"/>
            </a:xfrm>
          </p:grpSpPr>
          <p:sp>
            <p:nvSpPr>
              <p:cNvPr id="114" name="Freeform 34"/>
              <p:cNvSpPr/>
              <p:nvPr/>
            </p:nvSpPr>
            <p:spPr>
              <a:xfrm flipH="1" rot="10015800">
                <a:off x="743220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" name="Freeform 35"/>
              <p:cNvSpPr/>
              <p:nvPr/>
            </p:nvSpPr>
            <p:spPr>
              <a:xfrm flipH="1" rot="10015800">
                <a:off x="7882920" y="445536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" name="Freeform 36"/>
              <p:cNvSpPr/>
              <p:nvPr/>
            </p:nvSpPr>
            <p:spPr>
              <a:xfrm flipH="1" rot="10015800">
                <a:off x="7575840" y="378144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17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5D2E1-3A06-46B1-8470-1309C33E0241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73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74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75.wmf"/><Relationship Id="rId13" Type="http://schemas.openxmlformats.org/officeDocument/2006/relationships/image" Target="../media/image76.png"/><Relationship Id="rId14" Type="http://schemas.openxmlformats.org/officeDocument/2006/relationships/oleObject" Target="../embeddings/oleObject6.bin"/><Relationship Id="rId15" Type="http://schemas.openxmlformats.org/officeDocument/2006/relationships/image" Target="../media/image77.wmf"/><Relationship Id="rId16" Type="http://schemas.openxmlformats.org/officeDocument/2006/relationships/oleObject" Target="../embeddings/oleObject7.bin"/><Relationship Id="rId17" Type="http://schemas.openxmlformats.org/officeDocument/2006/relationships/image" Target="../media/image78.wmf"/><Relationship Id="rId18" Type="http://schemas.openxmlformats.org/officeDocument/2006/relationships/oleObject" Target="../embeddings/oleObject8.bin"/><Relationship Id="rId19" Type="http://schemas.openxmlformats.org/officeDocument/2006/relationships/image" Target="../media/image79.wmf"/><Relationship Id="rId20" Type="http://schemas.openxmlformats.org/officeDocument/2006/relationships/oleObject" Target="../embeddings/oleObject9.bin"/><Relationship Id="rId21" Type="http://schemas.openxmlformats.org/officeDocument/2006/relationships/image" Target="../media/image80.wmf"/><Relationship Id="rId22" Type="http://schemas.openxmlformats.org/officeDocument/2006/relationships/oleObject" Target="../embeddings/oleObject10.bin"/><Relationship Id="rId23" Type="http://schemas.openxmlformats.org/officeDocument/2006/relationships/image" Target="../media/image81.wmf"/><Relationship Id="rId24" Type="http://schemas.openxmlformats.org/officeDocument/2006/relationships/oleObject" Target="../embeddings/oleObject11.bin"/><Relationship Id="rId25" Type="http://schemas.openxmlformats.org/officeDocument/2006/relationships/image" Target="../media/image82.wmf"/><Relationship Id="rId26" Type="http://schemas.openxmlformats.org/officeDocument/2006/relationships/oleObject" Target="../embeddings/oleObject12.bin"/><Relationship Id="rId27" Type="http://schemas.openxmlformats.org/officeDocument/2006/relationships/image" Target="../media/image83.wmf"/><Relationship Id="rId2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84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85.wmf"/><Relationship Id="rId11" Type="http://schemas.openxmlformats.org/officeDocument/2006/relationships/image" Target="../media/image86.png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87.wmf"/><Relationship Id="rId14" Type="http://schemas.openxmlformats.org/officeDocument/2006/relationships/oleObject" Target="../embeddings/oleObject6.bin"/><Relationship Id="rId15" Type="http://schemas.openxmlformats.org/officeDocument/2006/relationships/image" Target="../media/image88.wmf"/><Relationship Id="rId16" Type="http://schemas.openxmlformats.org/officeDocument/2006/relationships/oleObject" Target="../embeddings/oleObject7.bin"/><Relationship Id="rId17" Type="http://schemas.openxmlformats.org/officeDocument/2006/relationships/image" Target="../media/image89.wmf"/><Relationship Id="rId18" Type="http://schemas.openxmlformats.org/officeDocument/2006/relationships/oleObject" Target="../embeddings/oleObject8.bin"/><Relationship Id="rId19" Type="http://schemas.openxmlformats.org/officeDocument/2006/relationships/image" Target="../media/image90.wmf"/><Relationship Id="rId2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91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92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93.wmf"/><Relationship Id="rId11" Type="http://schemas.openxmlformats.org/officeDocument/2006/relationships/image" Target="../media/image94.png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95.wmf"/><Relationship Id="rId14" Type="http://schemas.openxmlformats.org/officeDocument/2006/relationships/oleObject" Target="../embeddings/oleObject6.bin"/><Relationship Id="rId15" Type="http://schemas.openxmlformats.org/officeDocument/2006/relationships/image" Target="../media/image96.wmf"/><Relationship Id="rId16" Type="http://schemas.openxmlformats.org/officeDocument/2006/relationships/oleObject" Target="../embeddings/oleObject7.bin"/><Relationship Id="rId17" Type="http://schemas.openxmlformats.org/officeDocument/2006/relationships/image" Target="../media/image97.wmf"/><Relationship Id="rId18" Type="http://schemas.openxmlformats.org/officeDocument/2006/relationships/oleObject" Target="../embeddings/oleObject8.bin"/><Relationship Id="rId19" Type="http://schemas.openxmlformats.org/officeDocument/2006/relationships/image" Target="../media/image98.wmf"/><Relationship Id="rId2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9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0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0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02.wmf"/><Relationship Id="rId13" Type="http://schemas.openxmlformats.org/officeDocument/2006/relationships/image" Target="../media/image103.png"/><Relationship Id="rId14" Type="http://schemas.openxmlformats.org/officeDocument/2006/relationships/oleObject" Target="../embeddings/oleObject6.bin"/><Relationship Id="rId15" Type="http://schemas.openxmlformats.org/officeDocument/2006/relationships/image" Target="../media/image104.wmf"/><Relationship Id="rId16" Type="http://schemas.openxmlformats.org/officeDocument/2006/relationships/oleObject" Target="../embeddings/oleObject7.bin"/><Relationship Id="rId17" Type="http://schemas.openxmlformats.org/officeDocument/2006/relationships/image" Target="../media/image105.wmf"/><Relationship Id="rId18" Type="http://schemas.openxmlformats.org/officeDocument/2006/relationships/oleObject" Target="../embeddings/oleObject8.bin"/><Relationship Id="rId19" Type="http://schemas.openxmlformats.org/officeDocument/2006/relationships/image" Target="../media/image106.wmf"/><Relationship Id="rId20" Type="http://schemas.openxmlformats.org/officeDocument/2006/relationships/oleObject" Target="../embeddings/oleObject9.bin"/><Relationship Id="rId21" Type="http://schemas.openxmlformats.org/officeDocument/2006/relationships/image" Target="../media/image107.wmf"/><Relationship Id="rId22" Type="http://schemas.openxmlformats.org/officeDocument/2006/relationships/oleObject" Target="../embeddings/oleObject10.bin"/><Relationship Id="rId23" Type="http://schemas.openxmlformats.org/officeDocument/2006/relationships/image" Target="../media/image108.wmf"/><Relationship Id="rId24" Type="http://schemas.openxmlformats.org/officeDocument/2006/relationships/oleObject" Target="../embeddings/oleObject11.bin"/><Relationship Id="rId25" Type="http://schemas.openxmlformats.org/officeDocument/2006/relationships/image" Target="../media/image109.wmf"/><Relationship Id="rId2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10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11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12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13.wmf"/><Relationship Id="rId13" Type="http://schemas.openxmlformats.org/officeDocument/2006/relationships/image" Target="../media/image114.png"/><Relationship Id="rId14" Type="http://schemas.openxmlformats.org/officeDocument/2006/relationships/oleObject" Target="../embeddings/oleObject6.bin"/><Relationship Id="rId15" Type="http://schemas.openxmlformats.org/officeDocument/2006/relationships/image" Target="../media/image115.wmf"/><Relationship Id="rId16" Type="http://schemas.openxmlformats.org/officeDocument/2006/relationships/oleObject" Target="../embeddings/oleObject7.bin"/><Relationship Id="rId17" Type="http://schemas.openxmlformats.org/officeDocument/2006/relationships/image" Target="../media/image116.wmf"/><Relationship Id="rId18" Type="http://schemas.openxmlformats.org/officeDocument/2006/relationships/oleObject" Target="../embeddings/oleObject8.bin"/><Relationship Id="rId19" Type="http://schemas.openxmlformats.org/officeDocument/2006/relationships/image" Target="../media/image117.wmf"/><Relationship Id="rId20" Type="http://schemas.openxmlformats.org/officeDocument/2006/relationships/oleObject" Target="../embeddings/oleObject9.bin"/><Relationship Id="rId21" Type="http://schemas.openxmlformats.org/officeDocument/2006/relationships/image" Target="../media/image118.wmf"/><Relationship Id="rId22" Type="http://schemas.openxmlformats.org/officeDocument/2006/relationships/oleObject" Target="../embeddings/oleObject10.bin"/><Relationship Id="rId23" Type="http://schemas.openxmlformats.org/officeDocument/2006/relationships/image" Target="../media/image119.wmf"/><Relationship Id="rId24" Type="http://schemas.openxmlformats.org/officeDocument/2006/relationships/oleObject" Target="../embeddings/oleObject11.bin"/><Relationship Id="rId25" Type="http://schemas.openxmlformats.org/officeDocument/2006/relationships/image" Target="../media/image120.wmf"/><Relationship Id="rId2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21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22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23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24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25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126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127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128.wmf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129.wmf"/><Relationship Id="rId21" Type="http://schemas.openxmlformats.org/officeDocument/2006/relationships/oleObject" Target="../embeddings/oleObject10.bin"/><Relationship Id="rId22" Type="http://schemas.openxmlformats.org/officeDocument/2006/relationships/image" Target="../media/image130.wmf"/><Relationship Id="rId2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31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32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33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34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135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136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137.wmf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138.wmf"/><Relationship Id="rId21" Type="http://schemas.openxmlformats.org/officeDocument/2006/relationships/oleObject" Target="../embeddings/oleObject10.bin"/><Relationship Id="rId22" Type="http://schemas.openxmlformats.org/officeDocument/2006/relationships/image" Target="../media/image139.wmf"/><Relationship Id="rId23" Type="http://schemas.openxmlformats.org/officeDocument/2006/relationships/oleObject" Target="../embeddings/oleObject11.bin"/><Relationship Id="rId24" Type="http://schemas.openxmlformats.org/officeDocument/2006/relationships/image" Target="../media/image140.wmf"/><Relationship Id="rId25" Type="http://schemas.openxmlformats.org/officeDocument/2006/relationships/oleObject" Target="../embeddings/oleObject12.bin"/><Relationship Id="rId26" Type="http://schemas.openxmlformats.org/officeDocument/2006/relationships/image" Target="../media/image141.wmf"/><Relationship Id="rId27" Type="http://schemas.openxmlformats.org/officeDocument/2006/relationships/oleObject" Target="../embeddings/oleObject13.bin"/><Relationship Id="rId28" Type="http://schemas.openxmlformats.org/officeDocument/2006/relationships/image" Target="../media/image142.wmf"/><Relationship Id="rId29" Type="http://schemas.openxmlformats.org/officeDocument/2006/relationships/oleObject" Target="../embeddings/oleObject14.bin"/><Relationship Id="rId30" Type="http://schemas.openxmlformats.org/officeDocument/2006/relationships/image" Target="../media/image143.wmf"/><Relationship Id="rId3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44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45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46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47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48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149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150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151.wmf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152.wmf"/><Relationship Id="rId21" Type="http://schemas.openxmlformats.org/officeDocument/2006/relationships/oleObject" Target="../embeddings/oleObject10.bin"/><Relationship Id="rId22" Type="http://schemas.openxmlformats.org/officeDocument/2006/relationships/image" Target="../media/image153.wmf"/><Relationship Id="rId23" Type="http://schemas.openxmlformats.org/officeDocument/2006/relationships/oleObject" Target="../embeddings/oleObject11.bin"/><Relationship Id="rId24" Type="http://schemas.openxmlformats.org/officeDocument/2006/relationships/image" Target="../media/image154.wmf"/><Relationship Id="rId25" Type="http://schemas.openxmlformats.org/officeDocument/2006/relationships/oleObject" Target="../embeddings/oleObject12.bin"/><Relationship Id="rId26" Type="http://schemas.openxmlformats.org/officeDocument/2006/relationships/image" Target="../media/image155.wmf"/><Relationship Id="rId2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6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57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58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59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48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149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150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151.wmf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152.wmf"/><Relationship Id="rId21" Type="http://schemas.openxmlformats.org/officeDocument/2006/relationships/oleObject" Target="../embeddings/oleObject10.bin"/><Relationship Id="rId22" Type="http://schemas.openxmlformats.org/officeDocument/2006/relationships/image" Target="../media/image160.wmf"/><Relationship Id="rId23" Type="http://schemas.openxmlformats.org/officeDocument/2006/relationships/oleObject" Target="../embeddings/oleObject11.bin"/><Relationship Id="rId24" Type="http://schemas.openxmlformats.org/officeDocument/2006/relationships/image" Target="../media/image161.wmf"/><Relationship Id="rId2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6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48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49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50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51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52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64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65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166.wmf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167.wmf"/><Relationship Id="rId2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7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3.xml"/><Relationship Id="rId12" Type="http://schemas.openxmlformats.org/officeDocument/2006/relationships/slide" Target="slide14.xml"/><Relationship Id="rId13" Type="http://schemas.openxmlformats.org/officeDocument/2006/relationships/slide" Target="slide15.xml"/><Relationship Id="rId14" Type="http://schemas.openxmlformats.org/officeDocument/2006/relationships/slide" Target="slide16.xml"/><Relationship Id="rId15" Type="http://schemas.openxmlformats.org/officeDocument/2006/relationships/slide" Target="slide17.xml"/><Relationship Id="rId16" Type="http://schemas.openxmlformats.org/officeDocument/2006/relationships/slide" Target="slide18.xml"/><Relationship Id="rId17" Type="http://schemas.openxmlformats.org/officeDocument/2006/relationships/slide" Target="slide19.xml"/><Relationship Id="rId18" Type="http://schemas.openxmlformats.org/officeDocument/2006/relationships/slide" Target="slide22.xml"/><Relationship Id="rId19" Type="http://schemas.openxmlformats.org/officeDocument/2006/relationships/slide" Target="slide20.xml"/><Relationship Id="rId20" Type="http://schemas.openxmlformats.org/officeDocument/2006/relationships/slide" Target="slide21.xml"/><Relationship Id="rId21" Type="http://schemas.openxmlformats.org/officeDocument/2006/relationships/slide" Target="slide22.xml"/><Relationship Id="rId22" Type="http://schemas.openxmlformats.org/officeDocument/2006/relationships/slide" Target="slide23.xml"/><Relationship Id="rId23" Type="http://schemas.openxmlformats.org/officeDocument/2006/relationships/slide" Target="slide30.xml"/><Relationship Id="rId24" Type="http://schemas.openxmlformats.org/officeDocument/2006/relationships/slide" Target="slide25.xml"/><Relationship Id="rId25" Type="http://schemas.openxmlformats.org/officeDocument/2006/relationships/slide" Target="slide26.xml"/><Relationship Id="rId26" Type="http://schemas.openxmlformats.org/officeDocument/2006/relationships/slide" Target="slide27.xml"/><Relationship Id="rId27" Type="http://schemas.openxmlformats.org/officeDocument/2006/relationships/slide" Target="slide26.xml"/><Relationship Id="rId28" Type="http://schemas.openxmlformats.org/officeDocument/2006/relationships/slide" Target="slide24.xml"/><Relationship Id="rId29" Type="http://schemas.openxmlformats.org/officeDocument/2006/relationships/slide" Target="slide28.xml"/><Relationship Id="rId30" Type="http://schemas.openxmlformats.org/officeDocument/2006/relationships/slide" Target="slide29.xml"/><Relationship Id="rId3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7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71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72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73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74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75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76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77.wmf"/><Relationship Id="rId2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8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81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72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73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74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75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82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83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184.wmf"/><Relationship Id="rId2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8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88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89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90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91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92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93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94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195.wmf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196.wmf"/><Relationship Id="rId2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9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00.wmf"/><Relationship Id="rId10" Type="http://schemas.openxmlformats.org/officeDocument/2006/relationships/image" Target="../media/image201.png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0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0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0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05.wmf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206.wmf"/><Relationship Id="rId21" Type="http://schemas.openxmlformats.org/officeDocument/2006/relationships/oleObject" Target="../embeddings/oleObject10.bin"/><Relationship Id="rId22" Type="http://schemas.openxmlformats.org/officeDocument/2006/relationships/image" Target="../media/image207.wmf"/><Relationship Id="rId23" Type="http://schemas.openxmlformats.org/officeDocument/2006/relationships/oleObject" Target="../embeddings/oleObject11.bin"/><Relationship Id="rId24" Type="http://schemas.openxmlformats.org/officeDocument/2006/relationships/image" Target="../media/image208.wmf"/><Relationship Id="rId25" Type="http://schemas.openxmlformats.org/officeDocument/2006/relationships/oleObject" Target="../embeddings/oleObject12.bin"/><Relationship Id="rId26" Type="http://schemas.openxmlformats.org/officeDocument/2006/relationships/image" Target="../media/image209.wmf"/><Relationship Id="rId2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1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13.wmf"/><Relationship Id="rId10" Type="http://schemas.openxmlformats.org/officeDocument/2006/relationships/image" Target="../media/image214.png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15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16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17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18.wmf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219.wmf"/><Relationship Id="rId21" Type="http://schemas.openxmlformats.org/officeDocument/2006/relationships/oleObject" Target="../embeddings/oleObject10.bin"/><Relationship Id="rId22" Type="http://schemas.openxmlformats.org/officeDocument/2006/relationships/image" Target="../media/image220.wmf"/><Relationship Id="rId2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2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2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24.wmf"/><Relationship Id="rId10" Type="http://schemas.openxmlformats.org/officeDocument/2006/relationships/image" Target="../media/image214.png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15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16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17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25.wmf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226.wmf"/><Relationship Id="rId2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29.wmf"/><Relationship Id="rId8" Type="http://schemas.openxmlformats.org/officeDocument/2006/relationships/image" Target="../media/image230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3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3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3.wmf"/><Relationship Id="rId1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3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72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73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74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75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236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237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238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239.wmf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240.wmf"/><Relationship Id="rId2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4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4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4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45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46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247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248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249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250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251.wmf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252.wmf"/><Relationship Id="rId2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5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5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4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45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46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250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256.wmf"/><Relationship Id="rId18" Type="http://schemas.openxmlformats.org/officeDocument/2006/relationships/image" Target="../media/image257.png"/><Relationship Id="rId19" Type="http://schemas.openxmlformats.org/officeDocument/2006/relationships/image" Target="../media/image258.png"/><Relationship Id="rId20" Type="http://schemas.openxmlformats.org/officeDocument/2006/relationships/oleObject" Target="../embeddings/oleObject9.bin"/><Relationship Id="rId21" Type="http://schemas.openxmlformats.org/officeDocument/2006/relationships/image" Target="../media/image259.wmf"/><Relationship Id="rId22" Type="http://schemas.openxmlformats.org/officeDocument/2006/relationships/oleObject" Target="../embeddings/oleObject10.bin"/><Relationship Id="rId23" Type="http://schemas.openxmlformats.org/officeDocument/2006/relationships/image" Target="../media/image260.wmf"/><Relationship Id="rId24" Type="http://schemas.openxmlformats.org/officeDocument/2006/relationships/oleObject" Target="../embeddings/oleObject11.bin"/><Relationship Id="rId25" Type="http://schemas.openxmlformats.org/officeDocument/2006/relationships/image" Target="../media/image261.wmf"/><Relationship Id="rId2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0.bin"/><Relationship Id="rId22" Type="http://schemas.openxmlformats.org/officeDocument/2006/relationships/image" Target="../media/image11.wmf"/><Relationship Id="rId23" Type="http://schemas.openxmlformats.org/officeDocument/2006/relationships/oleObject" Target="../embeddings/oleObject11.bin"/><Relationship Id="rId24" Type="http://schemas.openxmlformats.org/officeDocument/2006/relationships/image" Target="../media/image12.wmf"/><Relationship Id="rId2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3.wmf"/><Relationship Id="rId5" Type="http://schemas.openxmlformats.org/officeDocument/2006/relationships/image" Target="../media/image14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1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1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17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8.wmf"/><Relationship Id="rId14" Type="http://schemas.openxmlformats.org/officeDocument/2006/relationships/oleObject" Target="../embeddings/oleObject6.bin"/><Relationship Id="rId15" Type="http://schemas.openxmlformats.org/officeDocument/2006/relationships/image" Target="../media/image19.wmf"/><Relationship Id="rId16" Type="http://schemas.openxmlformats.org/officeDocument/2006/relationships/oleObject" Target="../embeddings/oleObject7.bin"/><Relationship Id="rId17" Type="http://schemas.openxmlformats.org/officeDocument/2006/relationships/image" Target="../media/image20.wmf"/><Relationship Id="rId18" Type="http://schemas.openxmlformats.org/officeDocument/2006/relationships/oleObject" Target="../embeddings/oleObject8.bin"/><Relationship Id="rId19" Type="http://schemas.openxmlformats.org/officeDocument/2006/relationships/image" Target="../media/image21.wmf"/><Relationship Id="rId20" Type="http://schemas.openxmlformats.org/officeDocument/2006/relationships/oleObject" Target="../embeddings/oleObject9.bin"/><Relationship Id="rId21" Type="http://schemas.openxmlformats.org/officeDocument/2006/relationships/image" Target="../media/image22.wmf"/><Relationship Id="rId2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3.wmf"/><Relationship Id="rId5" Type="http://schemas.openxmlformats.org/officeDocument/2006/relationships/image" Target="../media/image24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2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2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27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28.wmf"/><Relationship Id="rId14" Type="http://schemas.openxmlformats.org/officeDocument/2006/relationships/oleObject" Target="../embeddings/oleObject6.bin"/><Relationship Id="rId15" Type="http://schemas.openxmlformats.org/officeDocument/2006/relationships/image" Target="../media/image29.wmf"/><Relationship Id="rId16" Type="http://schemas.openxmlformats.org/officeDocument/2006/relationships/oleObject" Target="../embeddings/oleObject7.bin"/><Relationship Id="rId17" Type="http://schemas.openxmlformats.org/officeDocument/2006/relationships/image" Target="../media/image30.wmf"/><Relationship Id="rId18" Type="http://schemas.openxmlformats.org/officeDocument/2006/relationships/oleObject" Target="../embeddings/oleObject8.bin"/><Relationship Id="rId19" Type="http://schemas.openxmlformats.org/officeDocument/2006/relationships/image" Target="../media/image31.wmf"/><Relationship Id="rId20" Type="http://schemas.openxmlformats.org/officeDocument/2006/relationships/oleObject" Target="../embeddings/oleObject9.bin"/><Relationship Id="rId21" Type="http://schemas.openxmlformats.org/officeDocument/2006/relationships/image" Target="../media/image32.wmf"/><Relationship Id="rId22" Type="http://schemas.openxmlformats.org/officeDocument/2006/relationships/oleObject" Target="../embeddings/oleObject10.bin"/><Relationship Id="rId23" Type="http://schemas.openxmlformats.org/officeDocument/2006/relationships/image" Target="../media/image33.wmf"/><Relationship Id="rId24" Type="http://schemas.openxmlformats.org/officeDocument/2006/relationships/oleObject" Target="../embeddings/oleObject11.bin"/><Relationship Id="rId25" Type="http://schemas.openxmlformats.org/officeDocument/2006/relationships/image" Target="../media/image34.wmf"/><Relationship Id="rId2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36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37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38.wmf"/><Relationship Id="rId11" Type="http://schemas.openxmlformats.org/officeDocument/2006/relationships/image" Target="../media/image39.png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40.wmf"/><Relationship Id="rId14" Type="http://schemas.openxmlformats.org/officeDocument/2006/relationships/oleObject" Target="../embeddings/oleObject6.bin"/><Relationship Id="rId15" Type="http://schemas.openxmlformats.org/officeDocument/2006/relationships/image" Target="../media/image41.wmf"/><Relationship Id="rId16" Type="http://schemas.openxmlformats.org/officeDocument/2006/relationships/oleObject" Target="../embeddings/oleObject7.bin"/><Relationship Id="rId17" Type="http://schemas.openxmlformats.org/officeDocument/2006/relationships/image" Target="../media/image42.wmf"/><Relationship Id="rId18" Type="http://schemas.openxmlformats.org/officeDocument/2006/relationships/oleObject" Target="../embeddings/oleObject8.bin"/><Relationship Id="rId19" Type="http://schemas.openxmlformats.org/officeDocument/2006/relationships/image" Target="../media/image43.wmf"/><Relationship Id="rId20" Type="http://schemas.openxmlformats.org/officeDocument/2006/relationships/oleObject" Target="../embeddings/oleObject9.bin"/><Relationship Id="rId21" Type="http://schemas.openxmlformats.org/officeDocument/2006/relationships/image" Target="../media/image44.wmf"/><Relationship Id="rId22" Type="http://schemas.openxmlformats.org/officeDocument/2006/relationships/oleObject" Target="../embeddings/oleObject10.bin"/><Relationship Id="rId23" Type="http://schemas.openxmlformats.org/officeDocument/2006/relationships/image" Target="../media/image45.wmf"/><Relationship Id="rId2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6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47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48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49.wmf"/><Relationship Id="rId11" Type="http://schemas.openxmlformats.org/officeDocument/2006/relationships/image" Target="../media/image50.png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51.wmf"/><Relationship Id="rId14" Type="http://schemas.openxmlformats.org/officeDocument/2006/relationships/oleObject" Target="../embeddings/oleObject6.bin"/><Relationship Id="rId15" Type="http://schemas.openxmlformats.org/officeDocument/2006/relationships/image" Target="../media/image52.wmf"/><Relationship Id="rId16" Type="http://schemas.openxmlformats.org/officeDocument/2006/relationships/oleObject" Target="../embeddings/oleObject7.bin"/><Relationship Id="rId17" Type="http://schemas.openxmlformats.org/officeDocument/2006/relationships/image" Target="../media/image53.wmf"/><Relationship Id="rId18" Type="http://schemas.openxmlformats.org/officeDocument/2006/relationships/oleObject" Target="../embeddings/oleObject8.bin"/><Relationship Id="rId19" Type="http://schemas.openxmlformats.org/officeDocument/2006/relationships/image" Target="../media/image54.wmf"/><Relationship Id="rId20" Type="http://schemas.openxmlformats.org/officeDocument/2006/relationships/oleObject" Target="../embeddings/oleObject9.bin"/><Relationship Id="rId21" Type="http://schemas.openxmlformats.org/officeDocument/2006/relationships/image" Target="../media/image55.wmf"/><Relationship Id="rId22" Type="http://schemas.openxmlformats.org/officeDocument/2006/relationships/oleObject" Target="../embeddings/oleObject10.bin"/><Relationship Id="rId23" Type="http://schemas.openxmlformats.org/officeDocument/2006/relationships/image" Target="../media/image56.wmf"/><Relationship Id="rId24" Type="http://schemas.openxmlformats.org/officeDocument/2006/relationships/oleObject" Target="../embeddings/oleObject11.bin"/><Relationship Id="rId25" Type="http://schemas.openxmlformats.org/officeDocument/2006/relationships/image" Target="../media/image57.wmf"/><Relationship Id="rId2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5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6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61.wmf"/><Relationship Id="rId11" Type="http://schemas.openxmlformats.org/officeDocument/2006/relationships/image" Target="../media/image62.png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63.wmf"/><Relationship Id="rId14" Type="http://schemas.openxmlformats.org/officeDocument/2006/relationships/oleObject" Target="../embeddings/oleObject6.bin"/><Relationship Id="rId15" Type="http://schemas.openxmlformats.org/officeDocument/2006/relationships/image" Target="../media/image64.wmf"/><Relationship Id="rId16" Type="http://schemas.openxmlformats.org/officeDocument/2006/relationships/oleObject" Target="../embeddings/oleObject7.bin"/><Relationship Id="rId17" Type="http://schemas.openxmlformats.org/officeDocument/2006/relationships/image" Target="../media/image65.wmf"/><Relationship Id="rId18" Type="http://schemas.openxmlformats.org/officeDocument/2006/relationships/oleObject" Target="../embeddings/oleObject8.bin"/><Relationship Id="rId19" Type="http://schemas.openxmlformats.org/officeDocument/2006/relationships/image" Target="../media/image66.wmf"/><Relationship Id="rId20" Type="http://schemas.openxmlformats.org/officeDocument/2006/relationships/oleObject" Target="../embeddings/oleObject9.bin"/><Relationship Id="rId21" Type="http://schemas.openxmlformats.org/officeDocument/2006/relationships/image" Target="../media/image67.wmf"/><Relationship Id="rId22" Type="http://schemas.openxmlformats.org/officeDocument/2006/relationships/oleObject" Target="../embeddings/oleObject10.bin"/><Relationship Id="rId23" Type="http://schemas.openxmlformats.org/officeDocument/2006/relationships/image" Target="../media/image68.wmf"/><Relationship Id="rId2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9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70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32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33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71.wmf"/><Relationship Id="rId13" Type="http://schemas.openxmlformats.org/officeDocument/2006/relationships/image" Target="../media/image24.png"/><Relationship Id="rId14" Type="http://schemas.openxmlformats.org/officeDocument/2006/relationships/oleObject" Target="../embeddings/oleObject6.bin"/><Relationship Id="rId15" Type="http://schemas.openxmlformats.org/officeDocument/2006/relationships/image" Target="../media/image25.wmf"/><Relationship Id="rId16" Type="http://schemas.openxmlformats.org/officeDocument/2006/relationships/oleObject" Target="../embeddings/oleObject7.bin"/><Relationship Id="rId17" Type="http://schemas.openxmlformats.org/officeDocument/2006/relationships/image" Target="../media/image26.wmf"/><Relationship Id="rId18" Type="http://schemas.openxmlformats.org/officeDocument/2006/relationships/oleObject" Target="../embeddings/oleObject8.bin"/><Relationship Id="rId19" Type="http://schemas.openxmlformats.org/officeDocument/2006/relationships/image" Target="../media/image27.wmf"/><Relationship Id="rId20" Type="http://schemas.openxmlformats.org/officeDocument/2006/relationships/oleObject" Target="../embeddings/oleObject9.bin"/><Relationship Id="rId21" Type="http://schemas.openxmlformats.org/officeDocument/2006/relationships/image" Target="../media/image28.wmf"/><Relationship Id="rId22" Type="http://schemas.openxmlformats.org/officeDocument/2006/relationships/oleObject" Target="../embeddings/oleObject10.bin"/><Relationship Id="rId23" Type="http://schemas.openxmlformats.org/officeDocument/2006/relationships/image" Target="../media/image29.wmf"/><Relationship Id="rId24" Type="http://schemas.openxmlformats.org/officeDocument/2006/relationships/oleObject" Target="../embeddings/oleObject11.bin"/><Relationship Id="rId25" Type="http://schemas.openxmlformats.org/officeDocument/2006/relationships/image" Target="../media/image72.wmf"/><Relationship Id="rId2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Нижний колонтитул 3"/>
          <p:cNvSpPr/>
          <p:nvPr/>
        </p:nvSpPr>
        <p:spPr>
          <a:xfrm>
            <a:off x="324000" y="6568920"/>
            <a:ext cx="8640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mbria"/>
              </a:rPr>
              <a:t>Обухова Н.С, МОУ СОШ №17 г. Заволжья Нижегородской обла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WordArt 2"/>
          <p:cNvSpPr txBox="1"/>
          <p:nvPr/>
        </p:nvSpPr>
        <p:spPr>
          <a:xfrm>
            <a:off x="971640" y="1125360"/>
            <a:ext cx="748800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6666"/>
                  </a:solidFill>
                  <a:miter/>
                </a:ln>
                <a:solidFill>
                  <a:srgbClr val="5c008a"/>
                </a:solidFill>
                <a:effectLst>
                  <a:outerShdw dist="107932" dir="18900000" blurRad="0" rotWithShape="0">
                    <a:srgbClr val="ffff99">
                      <a:alpha val="50000"/>
                    </a:srgbClr>
                  </a:outerShdw>
                </a:effectLst>
                <a:latin typeface="Tahoma"/>
              </a:rPr>
              <a:t>Устные задачи </a:t>
            </a:r>
            <a:endParaRPr b="1" lang="en-US" sz="1800" spc="1" strike="noStrike">
              <a:ln w="9360">
                <a:solidFill>
                  <a:srgbClr val="006666"/>
                </a:solidFill>
                <a:miter/>
              </a:ln>
              <a:solidFill>
                <a:srgbClr val="5c008a"/>
              </a:solidFill>
              <a:effectLst>
                <a:outerShdw dist="107932" dir="18900000" blurRad="0" rotWithShape="0">
                  <a:srgbClr val="ffff99">
                    <a:alpha val="50000"/>
                  </a:srgbClr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6666"/>
                  </a:solidFill>
                  <a:miter/>
                </a:ln>
                <a:solidFill>
                  <a:srgbClr val="5c008a"/>
                </a:solidFill>
                <a:effectLst>
                  <a:outerShdw dist="107932" dir="18900000" blurRad="0" rotWithShape="0">
                    <a:srgbClr val="ffff99">
                      <a:alpha val="50000"/>
                    </a:srgbClr>
                  </a:outerShdw>
                </a:effectLst>
                <a:latin typeface="Tahoma"/>
              </a:rPr>
              <a:t>на  готовых  чертежах</a:t>
            </a:r>
            <a:endParaRPr b="1" lang="en-US" sz="1800" spc="1" strike="noStrike">
              <a:ln w="9360">
                <a:solidFill>
                  <a:srgbClr val="006666"/>
                </a:solidFill>
                <a:miter/>
              </a:ln>
              <a:solidFill>
                <a:srgbClr val="5c008a"/>
              </a:solidFill>
              <a:effectLst>
                <a:outerShdw dist="107932" dir="18900000" blurRad="0" rotWithShape="0">
                  <a:srgbClr val="ffff99">
                    <a:alpha val="50000"/>
                  </a:srgbClr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3492360" y="3933720"/>
            <a:ext cx="50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000a2"/>
                </a:solidFill>
                <a:latin typeface="Cambria"/>
              </a:rPr>
              <a:t>Составитель: Яровая Л.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Нижний колонтитул 1"/>
          <p:cNvSpPr/>
          <p:nvPr/>
        </p:nvSpPr>
        <p:spPr>
          <a:xfrm>
            <a:off x="324000" y="6568920"/>
            <a:ext cx="8640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mbria"/>
              </a:rPr>
              <a:t>Обухова Н.С, МОУ СОШ №17 г. Заволжья Нижегородской обла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AutoShape 29">
            <a:hlinkClick r:id="rId1" action="ppaction://hlinksldjump"/>
          </p:cNvPr>
          <p:cNvSpPr/>
          <p:nvPr/>
        </p:nvSpPr>
        <p:spPr>
          <a:xfrm>
            <a:off x="395280" y="6021360"/>
            <a:ext cx="649440" cy="647640"/>
          </a:xfrm>
          <a:custGeom>
            <a:avLst/>
            <a:gdLst>
              <a:gd name="textAreaLeft" fmla="*/ 41760 w 649440"/>
              <a:gd name="textAreaRight" fmla="*/ 607680 w 6494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60" h="21600">
                <a:moveTo>
                  <a:pt x="0" y="0"/>
                </a:moveTo>
                <a:lnTo>
                  <a:pt x="21660" y="0"/>
                </a:lnTo>
                <a:lnTo>
                  <a:pt x="21660" y="21600"/>
                </a:lnTo>
                <a:lnTo>
                  <a:pt x="0" y="21600"/>
                </a:lnTo>
                <a:close/>
              </a:path>
              <a:path fill="lightenLess" w="21660" h="21600">
                <a:moveTo>
                  <a:pt x="0" y="0"/>
                </a:moveTo>
                <a:lnTo>
                  <a:pt x="21660" y="0"/>
                </a:lnTo>
                <a:lnTo>
                  <a:pt x="20260" y="1400"/>
                </a:lnTo>
                <a:lnTo>
                  <a:pt x="1400" y="1400"/>
                </a:lnTo>
                <a:close/>
              </a:path>
              <a:path fill="darken" w="21660" h="21600">
                <a:moveTo>
                  <a:pt x="21660" y="0"/>
                </a:moveTo>
                <a:lnTo>
                  <a:pt x="21660" y="21600"/>
                </a:lnTo>
                <a:lnTo>
                  <a:pt x="20260" y="20200"/>
                </a:lnTo>
                <a:lnTo>
                  <a:pt x="20260" y="1400"/>
                </a:lnTo>
                <a:close/>
              </a:path>
              <a:path fill="darkenLess" w="21660" h="21600">
                <a:moveTo>
                  <a:pt x="216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0" y="20200"/>
                </a:lnTo>
                <a:close/>
              </a:path>
              <a:path fill="lighten" w="216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0" h="21600">
                <a:moveTo>
                  <a:pt x="10830" y="3837"/>
                </a:moveTo>
                <a:lnTo>
                  <a:pt x="13406" y="6448"/>
                </a:lnTo>
                <a:lnTo>
                  <a:pt x="13406" y="4707"/>
                </a:lnTo>
                <a:lnTo>
                  <a:pt x="15182" y="4707"/>
                </a:lnTo>
                <a:lnTo>
                  <a:pt x="15182" y="8224"/>
                </a:lnTo>
                <a:lnTo>
                  <a:pt x="17793" y="10800"/>
                </a:lnTo>
                <a:lnTo>
                  <a:pt x="16139" y="10800"/>
                </a:lnTo>
                <a:lnTo>
                  <a:pt x="16139" y="17989"/>
                </a:lnTo>
                <a:lnTo>
                  <a:pt x="5521" y="17989"/>
                </a:lnTo>
                <a:lnTo>
                  <a:pt x="5521" y="10800"/>
                </a:lnTo>
                <a:lnTo>
                  <a:pt x="3867" y="10800"/>
                </a:lnTo>
                <a:close/>
              </a:path>
              <a:path fill="darkenLess" w="21660" h="21600">
                <a:moveTo>
                  <a:pt x="13406" y="6448"/>
                </a:moveTo>
                <a:lnTo>
                  <a:pt x="13406" y="4707"/>
                </a:lnTo>
                <a:lnTo>
                  <a:pt x="15182" y="4707"/>
                </a:lnTo>
                <a:lnTo>
                  <a:pt x="15182" y="8224"/>
                </a:lnTo>
                <a:close/>
              </a:path>
              <a:path fill="darkenLess" w="21660" h="21600">
                <a:moveTo>
                  <a:pt x="9907" y="14299"/>
                </a:moveTo>
                <a:lnTo>
                  <a:pt x="11753" y="14299"/>
                </a:lnTo>
                <a:lnTo>
                  <a:pt x="11753" y="17989"/>
                </a:lnTo>
                <a:lnTo>
                  <a:pt x="16139" y="17989"/>
                </a:lnTo>
                <a:lnTo>
                  <a:pt x="16139" y="10800"/>
                </a:lnTo>
                <a:lnTo>
                  <a:pt x="5521" y="10800"/>
                </a:lnTo>
                <a:lnTo>
                  <a:pt x="5521" y="17989"/>
                </a:lnTo>
                <a:lnTo>
                  <a:pt x="9907" y="1798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Text Box 30"/>
          <p:cNvSpPr/>
          <p:nvPr/>
        </p:nvSpPr>
        <p:spPr>
          <a:xfrm>
            <a:off x="7179120" y="260280"/>
            <a:ext cx="1600920" cy="459720"/>
          </a:xfrm>
          <a:prstGeom prst="rect">
            <a:avLst/>
          </a:prstGeom>
          <a:noFill/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ff"/>
                </a:solidFill>
                <a:latin typeface="Cambria"/>
              </a:rPr>
              <a:t>Задача 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65" name="Object 46"/>
          <p:cNvGraphicFramePr/>
          <p:nvPr/>
        </p:nvGraphicFramePr>
        <p:xfrm>
          <a:off x="4859280" y="3284640"/>
          <a:ext cx="114480" cy="177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6" name="Object 4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9280" y="3284640"/>
                    <a:ext cx="11448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7" name="Object 49"/>
          <p:cNvGraphicFramePr/>
          <p:nvPr/>
        </p:nvGraphicFramePr>
        <p:xfrm>
          <a:off x="5651640" y="3573360"/>
          <a:ext cx="2463840" cy="406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8" name="Object 4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51640" y="3573360"/>
                    <a:ext cx="24638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9" name="Object 50"/>
          <p:cNvGraphicFramePr/>
          <p:nvPr/>
        </p:nvGraphicFramePr>
        <p:xfrm>
          <a:off x="5711760" y="4076640"/>
          <a:ext cx="2108160" cy="432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70" name="Object 5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11760" y="4076640"/>
                    <a:ext cx="2108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1" name="Line 51"/>
          <p:cNvSpPr/>
          <p:nvPr/>
        </p:nvSpPr>
        <p:spPr>
          <a:xfrm>
            <a:off x="5724360" y="4797360"/>
            <a:ext cx="309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72" name="Object 52"/>
          <p:cNvGraphicFramePr/>
          <p:nvPr/>
        </p:nvGraphicFramePr>
        <p:xfrm>
          <a:off x="5724360" y="5013360"/>
          <a:ext cx="1105200" cy="342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73" name="Object 5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724360" y="5013360"/>
                    <a:ext cx="110520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4" name="Text Box 53"/>
          <p:cNvSpPr/>
          <p:nvPr/>
        </p:nvSpPr>
        <p:spPr>
          <a:xfrm>
            <a:off x="4066920" y="5661000"/>
            <a:ext cx="1607040" cy="581400"/>
          </a:xfrm>
          <a:prstGeom prst="rect">
            <a:avLst/>
          </a:prstGeom>
          <a:gradFill rotWithShape="0">
            <a:gsLst>
              <a:gs pos="0">
                <a:srgbClr val="cc99ff">
                  <a:alpha val="44313"/>
                </a:srgbClr>
              </a:gs>
              <a:gs pos="50000">
                <a:srgbClr val="ffffff"/>
              </a:gs>
              <a:gs pos="100000">
                <a:srgbClr val="cc99ff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75" name="Object 54"/>
          <p:cNvGraphicFramePr/>
          <p:nvPr/>
        </p:nvGraphicFramePr>
        <p:xfrm>
          <a:off x="5692680" y="5672160"/>
          <a:ext cx="1701720" cy="507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76" name="Object 5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692680" y="5672160"/>
                    <a:ext cx="170172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7" name="Freeform 55"/>
          <p:cNvSpPr/>
          <p:nvPr/>
        </p:nvSpPr>
        <p:spPr>
          <a:xfrm rot="19158600">
            <a:off x="307440" y="1789200"/>
            <a:ext cx="3889440" cy="2448000"/>
          </a:xfrm>
          <a:prstGeom prst="pie">
            <a:avLst/>
          </a:prstGeom>
          <a:blipFill rotWithShape="0">
            <a:blip r:embed="rId13"/>
            <a:srcRect/>
            <a:stretch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Freeform 56"/>
          <p:cNvSpPr/>
          <p:nvPr/>
        </p:nvSpPr>
        <p:spPr>
          <a:xfrm>
            <a:off x="3745080" y="2563920"/>
            <a:ext cx="914400" cy="7714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Arc 57"/>
          <p:cNvSpPr/>
          <p:nvPr/>
        </p:nvSpPr>
        <p:spPr>
          <a:xfrm>
            <a:off x="3573360" y="2763720"/>
            <a:ext cx="542880" cy="26676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80" name="Object 58"/>
          <p:cNvGraphicFramePr/>
          <p:nvPr/>
        </p:nvGraphicFramePr>
        <p:xfrm>
          <a:off x="1258920" y="5229360"/>
          <a:ext cx="330120" cy="3301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481" name="Object 58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258920" y="5229360"/>
                    <a:ext cx="33012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2" name="Object 59"/>
          <p:cNvGraphicFramePr/>
          <p:nvPr/>
        </p:nvGraphicFramePr>
        <p:xfrm>
          <a:off x="4643280" y="2637000"/>
          <a:ext cx="330480" cy="3301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483" name="Object 59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643280" y="2637000"/>
                    <a:ext cx="33048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4" name="Object 60"/>
          <p:cNvGraphicFramePr/>
          <p:nvPr/>
        </p:nvGraphicFramePr>
        <p:xfrm>
          <a:off x="2987640" y="404640"/>
          <a:ext cx="291960" cy="33048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485" name="Object 60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2987640" y="404640"/>
                    <a:ext cx="291960" cy="3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6" name="Object 61"/>
          <p:cNvGraphicFramePr/>
          <p:nvPr/>
        </p:nvGraphicFramePr>
        <p:xfrm>
          <a:off x="3780000" y="3357720"/>
          <a:ext cx="291960" cy="34272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487" name="Object 61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3780000" y="3357720"/>
                    <a:ext cx="29196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8" name="Object 62"/>
          <p:cNvGraphicFramePr/>
          <p:nvPr/>
        </p:nvGraphicFramePr>
        <p:xfrm>
          <a:off x="3419640" y="1773360"/>
          <a:ext cx="203040" cy="34272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489" name="Object 62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3419640" y="1773360"/>
                    <a:ext cx="20304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0" name="Object 63"/>
          <p:cNvGraphicFramePr/>
          <p:nvPr/>
        </p:nvGraphicFramePr>
        <p:xfrm>
          <a:off x="2843280" y="4221000"/>
          <a:ext cx="228600" cy="33048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491" name="Object 63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2843280" y="4221000"/>
                    <a:ext cx="228600" cy="3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2" name="Object 64"/>
          <p:cNvGraphicFramePr/>
          <p:nvPr/>
        </p:nvGraphicFramePr>
        <p:xfrm>
          <a:off x="3708360" y="2276640"/>
          <a:ext cx="558720" cy="43164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493" name="Object 64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3708360" y="2276640"/>
                    <a:ext cx="5587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restart="whenNotActive" nodeType="interactiveSeq" fill="hold">
                <p:stCondLst>
                  <p:cond evt="onClick">
                    <p:tgtEl>
                      <p:spTgt spid="474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474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Нижний колонтитул 1"/>
          <p:cNvSpPr/>
          <p:nvPr/>
        </p:nvSpPr>
        <p:spPr>
          <a:xfrm>
            <a:off x="324000" y="6568920"/>
            <a:ext cx="8640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mbria"/>
              </a:rPr>
              <a:t>Обухова Н.С, МОУ СОШ №17 г. Заволжья Нижегородской обла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AutoShape 67">
            <a:hlinkClick r:id="rId1" action="ppaction://hlinksldjump"/>
          </p:cNvPr>
          <p:cNvSpPr/>
          <p:nvPr/>
        </p:nvSpPr>
        <p:spPr>
          <a:xfrm>
            <a:off x="395280" y="6021360"/>
            <a:ext cx="649440" cy="647640"/>
          </a:xfrm>
          <a:custGeom>
            <a:avLst/>
            <a:gdLst>
              <a:gd name="textAreaLeft" fmla="*/ 41760 w 649440"/>
              <a:gd name="textAreaRight" fmla="*/ 607680 w 6494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60" h="21600">
                <a:moveTo>
                  <a:pt x="0" y="0"/>
                </a:moveTo>
                <a:lnTo>
                  <a:pt x="21660" y="0"/>
                </a:lnTo>
                <a:lnTo>
                  <a:pt x="21660" y="21600"/>
                </a:lnTo>
                <a:lnTo>
                  <a:pt x="0" y="21600"/>
                </a:lnTo>
                <a:close/>
              </a:path>
              <a:path fill="lightenLess" w="21660" h="21600">
                <a:moveTo>
                  <a:pt x="0" y="0"/>
                </a:moveTo>
                <a:lnTo>
                  <a:pt x="21660" y="0"/>
                </a:lnTo>
                <a:lnTo>
                  <a:pt x="20260" y="1400"/>
                </a:lnTo>
                <a:lnTo>
                  <a:pt x="1400" y="1400"/>
                </a:lnTo>
                <a:close/>
              </a:path>
              <a:path fill="darken" w="21660" h="21600">
                <a:moveTo>
                  <a:pt x="21660" y="0"/>
                </a:moveTo>
                <a:lnTo>
                  <a:pt x="21660" y="21600"/>
                </a:lnTo>
                <a:lnTo>
                  <a:pt x="20260" y="20200"/>
                </a:lnTo>
                <a:lnTo>
                  <a:pt x="20260" y="1400"/>
                </a:lnTo>
                <a:close/>
              </a:path>
              <a:path fill="darkenLess" w="21660" h="21600">
                <a:moveTo>
                  <a:pt x="216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0" y="20200"/>
                </a:lnTo>
                <a:close/>
              </a:path>
              <a:path fill="lighten" w="216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0" h="21600">
                <a:moveTo>
                  <a:pt x="10830" y="3837"/>
                </a:moveTo>
                <a:lnTo>
                  <a:pt x="13406" y="6448"/>
                </a:lnTo>
                <a:lnTo>
                  <a:pt x="13406" y="4707"/>
                </a:lnTo>
                <a:lnTo>
                  <a:pt x="15182" y="4707"/>
                </a:lnTo>
                <a:lnTo>
                  <a:pt x="15182" y="8224"/>
                </a:lnTo>
                <a:lnTo>
                  <a:pt x="17793" y="10800"/>
                </a:lnTo>
                <a:lnTo>
                  <a:pt x="16139" y="10800"/>
                </a:lnTo>
                <a:lnTo>
                  <a:pt x="16139" y="17989"/>
                </a:lnTo>
                <a:lnTo>
                  <a:pt x="5521" y="17989"/>
                </a:lnTo>
                <a:lnTo>
                  <a:pt x="5521" y="10800"/>
                </a:lnTo>
                <a:lnTo>
                  <a:pt x="3867" y="10800"/>
                </a:lnTo>
                <a:close/>
              </a:path>
              <a:path fill="darkenLess" w="21660" h="21600">
                <a:moveTo>
                  <a:pt x="13406" y="6448"/>
                </a:moveTo>
                <a:lnTo>
                  <a:pt x="13406" y="4707"/>
                </a:lnTo>
                <a:lnTo>
                  <a:pt x="15182" y="4707"/>
                </a:lnTo>
                <a:lnTo>
                  <a:pt x="15182" y="8224"/>
                </a:lnTo>
                <a:close/>
              </a:path>
              <a:path fill="darkenLess" w="21660" h="21600">
                <a:moveTo>
                  <a:pt x="9907" y="14299"/>
                </a:moveTo>
                <a:lnTo>
                  <a:pt x="11753" y="14299"/>
                </a:lnTo>
                <a:lnTo>
                  <a:pt x="11753" y="17989"/>
                </a:lnTo>
                <a:lnTo>
                  <a:pt x="16139" y="17989"/>
                </a:lnTo>
                <a:lnTo>
                  <a:pt x="16139" y="10800"/>
                </a:lnTo>
                <a:lnTo>
                  <a:pt x="5521" y="10800"/>
                </a:lnTo>
                <a:lnTo>
                  <a:pt x="5521" y="17989"/>
                </a:lnTo>
                <a:lnTo>
                  <a:pt x="9907" y="1798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Text Box 68"/>
          <p:cNvSpPr/>
          <p:nvPr/>
        </p:nvSpPr>
        <p:spPr>
          <a:xfrm>
            <a:off x="7110720" y="219240"/>
            <a:ext cx="1595160" cy="459720"/>
          </a:xfrm>
          <a:prstGeom prst="rect">
            <a:avLst/>
          </a:prstGeom>
          <a:noFill/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ff"/>
                </a:solidFill>
                <a:latin typeface="Cambria"/>
              </a:rPr>
              <a:t>Задача 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97" name="Object 69"/>
          <p:cNvGraphicFramePr/>
          <p:nvPr/>
        </p:nvGraphicFramePr>
        <p:xfrm>
          <a:off x="4514760" y="3340080"/>
          <a:ext cx="114480" cy="177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8" name="Object 6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14760" y="3340080"/>
                    <a:ext cx="11448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9" name="Object 73"/>
          <p:cNvGraphicFramePr/>
          <p:nvPr/>
        </p:nvGraphicFramePr>
        <p:xfrm>
          <a:off x="5991120" y="4221000"/>
          <a:ext cx="1003320" cy="355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00" name="Object 7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91120" y="4221000"/>
                    <a:ext cx="100332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1" name="Line 74"/>
          <p:cNvSpPr/>
          <p:nvPr/>
        </p:nvSpPr>
        <p:spPr>
          <a:xfrm>
            <a:off x="5991120" y="4797360"/>
            <a:ext cx="2828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02" name="Object 75"/>
          <p:cNvGraphicFramePr/>
          <p:nvPr/>
        </p:nvGraphicFramePr>
        <p:xfrm>
          <a:off x="5925960" y="5003640"/>
          <a:ext cx="1105200" cy="343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03" name="Object 7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25960" y="5003640"/>
                    <a:ext cx="110520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4" name="Text Box 76"/>
          <p:cNvSpPr/>
          <p:nvPr/>
        </p:nvSpPr>
        <p:spPr>
          <a:xfrm>
            <a:off x="4066920" y="5661000"/>
            <a:ext cx="1607040" cy="581400"/>
          </a:xfrm>
          <a:prstGeom prst="rect">
            <a:avLst/>
          </a:prstGeom>
          <a:gradFill rotWithShape="0">
            <a:gsLst>
              <a:gs pos="0">
                <a:srgbClr val="cc99ff">
                  <a:alpha val="44313"/>
                </a:srgbClr>
              </a:gs>
              <a:gs pos="50000">
                <a:srgbClr val="ffffff"/>
              </a:gs>
              <a:gs pos="100000">
                <a:srgbClr val="cc99ff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05" name="Object 77"/>
          <p:cNvGraphicFramePr/>
          <p:nvPr/>
        </p:nvGraphicFramePr>
        <p:xfrm>
          <a:off x="5959440" y="5737320"/>
          <a:ext cx="1193760" cy="342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06" name="Object 7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959440" y="5737320"/>
                    <a:ext cx="119376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07" name="Freeform 78"/>
          <p:cNvGrpSpPr/>
          <p:nvPr/>
        </p:nvGrpSpPr>
        <p:grpSpPr>
          <a:xfrm>
            <a:off x="1536840" y="822240"/>
            <a:ext cx="2912760" cy="2987640"/>
            <a:chOff x="1536840" y="822240"/>
            <a:chExt cx="2912760" cy="2987640"/>
          </a:xfrm>
        </p:grpSpPr>
        <p:pic>
          <p:nvPicPr>
            <p:cNvPr id="508" name="Freeform 78" descr=""/>
            <p:cNvPicPr/>
            <p:nvPr/>
          </p:nvPicPr>
          <p:blipFill>
            <a:blip r:embed="rId11"/>
            <a:stretch/>
          </p:blipFill>
          <p:spPr>
            <a:xfrm>
              <a:off x="1536840" y="822240"/>
              <a:ext cx="2912760" cy="298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"/>
            <p:cNvSpPr/>
            <p:nvPr/>
          </p:nvSpPr>
          <p:spPr>
            <a:xfrm>
              <a:off x="1547640" y="836640"/>
              <a:ext cx="2881440" cy="29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510" name="Object 79"/>
          <p:cNvGraphicFramePr/>
          <p:nvPr/>
        </p:nvGraphicFramePr>
        <p:xfrm>
          <a:off x="1082520" y="3782880"/>
          <a:ext cx="330480" cy="330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511" name="Object 7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082520" y="3782880"/>
                    <a:ext cx="330480" cy="3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2" name="Object 80"/>
          <p:cNvGraphicFramePr/>
          <p:nvPr/>
        </p:nvGraphicFramePr>
        <p:xfrm>
          <a:off x="4502160" y="3768840"/>
          <a:ext cx="291960" cy="3301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513" name="Object 80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502160" y="3768840"/>
                    <a:ext cx="29196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4" name="Object 81"/>
          <p:cNvGraphicFramePr/>
          <p:nvPr/>
        </p:nvGraphicFramePr>
        <p:xfrm>
          <a:off x="4067280" y="549360"/>
          <a:ext cx="291960" cy="3427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515" name="Object 81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067280" y="549360"/>
                    <a:ext cx="29196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6" name="Arc 83"/>
          <p:cNvSpPr/>
          <p:nvPr/>
        </p:nvSpPr>
        <p:spPr>
          <a:xfrm rot="8781600">
            <a:off x="3622320" y="1201320"/>
            <a:ext cx="576360" cy="5302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17" name="Object 84"/>
          <p:cNvGraphicFramePr/>
          <p:nvPr/>
        </p:nvGraphicFramePr>
        <p:xfrm>
          <a:off x="3419640" y="1700280"/>
          <a:ext cx="558720" cy="4316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518" name="Object 84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3419640" y="1700280"/>
                    <a:ext cx="5587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restart="whenNotActive" nodeType="interactiveSeq" fill="hold">
                <p:stCondLst>
                  <p:cond evt="onClick">
                    <p:tgtEl>
                      <p:spTgt spid="504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504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Нижний колонтитул 1"/>
          <p:cNvSpPr/>
          <p:nvPr/>
        </p:nvSpPr>
        <p:spPr>
          <a:xfrm>
            <a:off x="324000" y="6568920"/>
            <a:ext cx="8640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mbria"/>
              </a:rPr>
              <a:t>Обухова Н.С, МОУ СОШ №17 г. Заволжья Нижегородской обла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AutoShape 45">
            <a:hlinkClick r:id="rId1" action="ppaction://hlinksldjump"/>
          </p:cNvPr>
          <p:cNvSpPr/>
          <p:nvPr/>
        </p:nvSpPr>
        <p:spPr>
          <a:xfrm>
            <a:off x="395280" y="6021360"/>
            <a:ext cx="649440" cy="647640"/>
          </a:xfrm>
          <a:custGeom>
            <a:avLst/>
            <a:gdLst>
              <a:gd name="textAreaLeft" fmla="*/ 41760 w 649440"/>
              <a:gd name="textAreaRight" fmla="*/ 607680 w 6494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60" h="21600">
                <a:moveTo>
                  <a:pt x="0" y="0"/>
                </a:moveTo>
                <a:lnTo>
                  <a:pt x="21660" y="0"/>
                </a:lnTo>
                <a:lnTo>
                  <a:pt x="21660" y="21600"/>
                </a:lnTo>
                <a:lnTo>
                  <a:pt x="0" y="21600"/>
                </a:lnTo>
                <a:close/>
              </a:path>
              <a:path fill="lightenLess" w="21660" h="21600">
                <a:moveTo>
                  <a:pt x="0" y="0"/>
                </a:moveTo>
                <a:lnTo>
                  <a:pt x="21660" y="0"/>
                </a:lnTo>
                <a:lnTo>
                  <a:pt x="20260" y="1400"/>
                </a:lnTo>
                <a:lnTo>
                  <a:pt x="1400" y="1400"/>
                </a:lnTo>
                <a:close/>
              </a:path>
              <a:path fill="darken" w="21660" h="21600">
                <a:moveTo>
                  <a:pt x="21660" y="0"/>
                </a:moveTo>
                <a:lnTo>
                  <a:pt x="21660" y="21600"/>
                </a:lnTo>
                <a:lnTo>
                  <a:pt x="20260" y="20200"/>
                </a:lnTo>
                <a:lnTo>
                  <a:pt x="20260" y="1400"/>
                </a:lnTo>
                <a:close/>
              </a:path>
              <a:path fill="darkenLess" w="21660" h="21600">
                <a:moveTo>
                  <a:pt x="216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0" y="20200"/>
                </a:lnTo>
                <a:close/>
              </a:path>
              <a:path fill="lighten" w="216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0" h="21600">
                <a:moveTo>
                  <a:pt x="10830" y="3837"/>
                </a:moveTo>
                <a:lnTo>
                  <a:pt x="13406" y="6448"/>
                </a:lnTo>
                <a:lnTo>
                  <a:pt x="13406" y="4707"/>
                </a:lnTo>
                <a:lnTo>
                  <a:pt x="15182" y="4707"/>
                </a:lnTo>
                <a:lnTo>
                  <a:pt x="15182" y="8224"/>
                </a:lnTo>
                <a:lnTo>
                  <a:pt x="17793" y="10800"/>
                </a:lnTo>
                <a:lnTo>
                  <a:pt x="16139" y="10800"/>
                </a:lnTo>
                <a:lnTo>
                  <a:pt x="16139" y="17989"/>
                </a:lnTo>
                <a:lnTo>
                  <a:pt x="5521" y="17989"/>
                </a:lnTo>
                <a:lnTo>
                  <a:pt x="5521" y="10800"/>
                </a:lnTo>
                <a:lnTo>
                  <a:pt x="3867" y="10800"/>
                </a:lnTo>
                <a:close/>
              </a:path>
              <a:path fill="darkenLess" w="21660" h="21600">
                <a:moveTo>
                  <a:pt x="13406" y="6448"/>
                </a:moveTo>
                <a:lnTo>
                  <a:pt x="13406" y="4707"/>
                </a:lnTo>
                <a:lnTo>
                  <a:pt x="15182" y="4707"/>
                </a:lnTo>
                <a:lnTo>
                  <a:pt x="15182" y="8224"/>
                </a:lnTo>
                <a:close/>
              </a:path>
              <a:path fill="darkenLess" w="21660" h="21600">
                <a:moveTo>
                  <a:pt x="9907" y="14299"/>
                </a:moveTo>
                <a:lnTo>
                  <a:pt x="11753" y="14299"/>
                </a:lnTo>
                <a:lnTo>
                  <a:pt x="11753" y="17989"/>
                </a:lnTo>
                <a:lnTo>
                  <a:pt x="16139" y="17989"/>
                </a:lnTo>
                <a:lnTo>
                  <a:pt x="16139" y="10800"/>
                </a:lnTo>
                <a:lnTo>
                  <a:pt x="5521" y="10800"/>
                </a:lnTo>
                <a:lnTo>
                  <a:pt x="5521" y="17989"/>
                </a:lnTo>
                <a:lnTo>
                  <a:pt x="9907" y="1798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Text Box 46"/>
          <p:cNvSpPr/>
          <p:nvPr/>
        </p:nvSpPr>
        <p:spPr>
          <a:xfrm>
            <a:off x="7129440" y="219240"/>
            <a:ext cx="1732320" cy="459720"/>
          </a:xfrm>
          <a:prstGeom prst="rect">
            <a:avLst/>
          </a:prstGeom>
          <a:noFill/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ff"/>
                </a:solidFill>
                <a:latin typeface="Cambria"/>
              </a:rPr>
              <a:t>Задача 1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22" name="Object 49"/>
          <p:cNvGraphicFramePr/>
          <p:nvPr/>
        </p:nvGraphicFramePr>
        <p:xfrm>
          <a:off x="4859280" y="3284640"/>
          <a:ext cx="114480" cy="177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3" name="Object 4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9280" y="3284640"/>
                    <a:ext cx="11448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4" name="Object 51"/>
          <p:cNvGraphicFramePr/>
          <p:nvPr/>
        </p:nvGraphicFramePr>
        <p:xfrm>
          <a:off x="5643720" y="4075200"/>
          <a:ext cx="1714320" cy="495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5" name="Object 5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43720" y="4075200"/>
                    <a:ext cx="171432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6" name="Line 52"/>
          <p:cNvSpPr/>
          <p:nvPr/>
        </p:nvSpPr>
        <p:spPr>
          <a:xfrm>
            <a:off x="5724360" y="4797360"/>
            <a:ext cx="309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27" name="Object 53"/>
          <p:cNvGraphicFramePr/>
          <p:nvPr/>
        </p:nvGraphicFramePr>
        <p:xfrm>
          <a:off x="5691240" y="5022720"/>
          <a:ext cx="863640" cy="343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28" name="Object 5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691240" y="5022720"/>
                    <a:ext cx="8636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Text Box 54"/>
          <p:cNvSpPr/>
          <p:nvPr/>
        </p:nvSpPr>
        <p:spPr>
          <a:xfrm>
            <a:off x="4066920" y="5661000"/>
            <a:ext cx="1607040" cy="581400"/>
          </a:xfrm>
          <a:prstGeom prst="rect">
            <a:avLst/>
          </a:prstGeom>
          <a:gradFill rotWithShape="0">
            <a:gsLst>
              <a:gs pos="0">
                <a:srgbClr val="cc99ff">
                  <a:alpha val="44313"/>
                </a:srgbClr>
              </a:gs>
              <a:gs pos="50000">
                <a:srgbClr val="ffffff"/>
              </a:gs>
              <a:gs pos="100000">
                <a:srgbClr val="cc99ff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30" name="Object 55"/>
          <p:cNvGraphicFramePr/>
          <p:nvPr/>
        </p:nvGraphicFramePr>
        <p:xfrm>
          <a:off x="5754600" y="5788080"/>
          <a:ext cx="939960" cy="330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31" name="Object 5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754600" y="5788080"/>
                    <a:ext cx="93996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32" name="Freeform 57"/>
          <p:cNvGrpSpPr/>
          <p:nvPr/>
        </p:nvGrpSpPr>
        <p:grpSpPr>
          <a:xfrm>
            <a:off x="1609560" y="1401840"/>
            <a:ext cx="2981520" cy="2693880"/>
            <a:chOff x="1609560" y="1401840"/>
            <a:chExt cx="2981520" cy="2693880"/>
          </a:xfrm>
        </p:grpSpPr>
        <p:pic>
          <p:nvPicPr>
            <p:cNvPr id="533" name="Freeform 57" descr=""/>
            <p:cNvPicPr/>
            <p:nvPr/>
          </p:nvPicPr>
          <p:blipFill>
            <a:blip r:embed="rId11"/>
            <a:stretch/>
          </p:blipFill>
          <p:spPr>
            <a:xfrm>
              <a:off x="1609560" y="1401840"/>
              <a:ext cx="2981520" cy="269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" name=""/>
            <p:cNvSpPr/>
            <p:nvPr/>
          </p:nvSpPr>
          <p:spPr>
            <a:xfrm>
              <a:off x="1619280" y="1413000"/>
              <a:ext cx="2952720" cy="26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5" name="Arc 58"/>
          <p:cNvSpPr/>
          <p:nvPr/>
        </p:nvSpPr>
        <p:spPr>
          <a:xfrm>
            <a:off x="1763640" y="3573360"/>
            <a:ext cx="287280" cy="5032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36" name="Object 59"/>
          <p:cNvGraphicFramePr/>
          <p:nvPr/>
        </p:nvGraphicFramePr>
        <p:xfrm>
          <a:off x="1979640" y="1052640"/>
          <a:ext cx="330120" cy="3301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537" name="Object 5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979640" y="1052640"/>
                    <a:ext cx="33012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8" name="Object 60"/>
          <p:cNvGraphicFramePr/>
          <p:nvPr/>
        </p:nvGraphicFramePr>
        <p:xfrm>
          <a:off x="1258920" y="3933720"/>
          <a:ext cx="291960" cy="3304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539" name="Object 60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258920" y="3933720"/>
                    <a:ext cx="291960" cy="3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0" name="Object 61"/>
          <p:cNvGraphicFramePr/>
          <p:nvPr/>
        </p:nvGraphicFramePr>
        <p:xfrm>
          <a:off x="4643280" y="3860640"/>
          <a:ext cx="292320" cy="3430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541" name="Object 61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643280" y="3860640"/>
                    <a:ext cx="29232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2" name="Object 62"/>
          <p:cNvGraphicFramePr/>
          <p:nvPr/>
        </p:nvGraphicFramePr>
        <p:xfrm>
          <a:off x="2050920" y="3429000"/>
          <a:ext cx="559080" cy="4316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543" name="Object 62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2050920" y="3429000"/>
                    <a:ext cx="55908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restart="whenNotActive" nodeType="interactiveSeq" fill="hold">
                <p:stCondLst>
                  <p:cond evt="onClick">
                    <p:tgtEl>
                      <p:spTgt spid="529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529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Нижний колонтитул 1"/>
          <p:cNvSpPr/>
          <p:nvPr/>
        </p:nvSpPr>
        <p:spPr>
          <a:xfrm>
            <a:off x="324000" y="6568920"/>
            <a:ext cx="8640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mbria"/>
              </a:rPr>
              <a:t>Обухова Н.С, МОУ СОШ №17 г. Заволжья Нижегородской обла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AutoShape 28">
            <a:hlinkClick r:id="rId1" action="ppaction://hlinksldjump"/>
          </p:cNvPr>
          <p:cNvSpPr/>
          <p:nvPr/>
        </p:nvSpPr>
        <p:spPr>
          <a:xfrm>
            <a:off x="395280" y="6021360"/>
            <a:ext cx="649440" cy="647640"/>
          </a:xfrm>
          <a:custGeom>
            <a:avLst/>
            <a:gdLst>
              <a:gd name="textAreaLeft" fmla="*/ 41760 w 649440"/>
              <a:gd name="textAreaRight" fmla="*/ 607680 w 6494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60" h="21600">
                <a:moveTo>
                  <a:pt x="0" y="0"/>
                </a:moveTo>
                <a:lnTo>
                  <a:pt x="21660" y="0"/>
                </a:lnTo>
                <a:lnTo>
                  <a:pt x="21660" y="21600"/>
                </a:lnTo>
                <a:lnTo>
                  <a:pt x="0" y="21600"/>
                </a:lnTo>
                <a:close/>
              </a:path>
              <a:path fill="lightenLess" w="21660" h="21600">
                <a:moveTo>
                  <a:pt x="0" y="0"/>
                </a:moveTo>
                <a:lnTo>
                  <a:pt x="21660" y="0"/>
                </a:lnTo>
                <a:lnTo>
                  <a:pt x="20260" y="1400"/>
                </a:lnTo>
                <a:lnTo>
                  <a:pt x="1400" y="1400"/>
                </a:lnTo>
                <a:close/>
              </a:path>
              <a:path fill="darken" w="21660" h="21600">
                <a:moveTo>
                  <a:pt x="21660" y="0"/>
                </a:moveTo>
                <a:lnTo>
                  <a:pt x="21660" y="21600"/>
                </a:lnTo>
                <a:lnTo>
                  <a:pt x="20260" y="20200"/>
                </a:lnTo>
                <a:lnTo>
                  <a:pt x="20260" y="1400"/>
                </a:lnTo>
                <a:close/>
              </a:path>
              <a:path fill="darkenLess" w="21660" h="21600">
                <a:moveTo>
                  <a:pt x="216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0" y="20200"/>
                </a:lnTo>
                <a:close/>
              </a:path>
              <a:path fill="lighten" w="216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0" h="21600">
                <a:moveTo>
                  <a:pt x="10830" y="3837"/>
                </a:moveTo>
                <a:lnTo>
                  <a:pt x="13406" y="6448"/>
                </a:lnTo>
                <a:lnTo>
                  <a:pt x="13406" y="4707"/>
                </a:lnTo>
                <a:lnTo>
                  <a:pt x="15182" y="4707"/>
                </a:lnTo>
                <a:lnTo>
                  <a:pt x="15182" y="8224"/>
                </a:lnTo>
                <a:lnTo>
                  <a:pt x="17793" y="10800"/>
                </a:lnTo>
                <a:lnTo>
                  <a:pt x="16139" y="10800"/>
                </a:lnTo>
                <a:lnTo>
                  <a:pt x="16139" y="17989"/>
                </a:lnTo>
                <a:lnTo>
                  <a:pt x="5521" y="17989"/>
                </a:lnTo>
                <a:lnTo>
                  <a:pt x="5521" y="10800"/>
                </a:lnTo>
                <a:lnTo>
                  <a:pt x="3867" y="10800"/>
                </a:lnTo>
                <a:close/>
              </a:path>
              <a:path fill="darkenLess" w="21660" h="21600">
                <a:moveTo>
                  <a:pt x="13406" y="6448"/>
                </a:moveTo>
                <a:lnTo>
                  <a:pt x="13406" y="4707"/>
                </a:lnTo>
                <a:lnTo>
                  <a:pt x="15182" y="4707"/>
                </a:lnTo>
                <a:lnTo>
                  <a:pt x="15182" y="8224"/>
                </a:lnTo>
                <a:close/>
              </a:path>
              <a:path fill="darkenLess" w="21660" h="21600">
                <a:moveTo>
                  <a:pt x="9907" y="14299"/>
                </a:moveTo>
                <a:lnTo>
                  <a:pt x="11753" y="14299"/>
                </a:lnTo>
                <a:lnTo>
                  <a:pt x="11753" y="17989"/>
                </a:lnTo>
                <a:lnTo>
                  <a:pt x="16139" y="17989"/>
                </a:lnTo>
                <a:lnTo>
                  <a:pt x="16139" y="10800"/>
                </a:lnTo>
                <a:lnTo>
                  <a:pt x="5521" y="10800"/>
                </a:lnTo>
                <a:lnTo>
                  <a:pt x="5521" y="17989"/>
                </a:lnTo>
                <a:lnTo>
                  <a:pt x="9907" y="1798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Text Box 29"/>
          <p:cNvSpPr/>
          <p:nvPr/>
        </p:nvSpPr>
        <p:spPr>
          <a:xfrm>
            <a:off x="7144560" y="219240"/>
            <a:ext cx="1701720" cy="459720"/>
          </a:xfrm>
          <a:prstGeom prst="rect">
            <a:avLst/>
          </a:prstGeom>
          <a:noFill/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ff"/>
                </a:solidFill>
                <a:latin typeface="Cambria"/>
              </a:rPr>
              <a:t>Задача 1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47" name="Object 30"/>
          <p:cNvGraphicFramePr/>
          <p:nvPr/>
        </p:nvGraphicFramePr>
        <p:xfrm>
          <a:off x="4859280" y="3284640"/>
          <a:ext cx="114480" cy="177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8" name="Object 3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9280" y="3284640"/>
                    <a:ext cx="11448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9" name="Object 31"/>
          <p:cNvGraphicFramePr/>
          <p:nvPr/>
        </p:nvGraphicFramePr>
        <p:xfrm>
          <a:off x="5600880" y="3573360"/>
          <a:ext cx="2565360" cy="406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0" name="Object 3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00880" y="3573360"/>
                    <a:ext cx="256536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1" name="Object 32"/>
          <p:cNvGraphicFramePr/>
          <p:nvPr/>
        </p:nvGraphicFramePr>
        <p:xfrm>
          <a:off x="5651640" y="4149720"/>
          <a:ext cx="1168200" cy="343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52" name="Object 3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651640" y="4149720"/>
                    <a:ext cx="116820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3" name="Line 33"/>
          <p:cNvSpPr/>
          <p:nvPr/>
        </p:nvSpPr>
        <p:spPr>
          <a:xfrm>
            <a:off x="5724360" y="4797360"/>
            <a:ext cx="309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54" name="Object 34"/>
          <p:cNvGraphicFramePr/>
          <p:nvPr/>
        </p:nvGraphicFramePr>
        <p:xfrm>
          <a:off x="5711760" y="5013360"/>
          <a:ext cx="1130400" cy="342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55" name="Object 3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711760" y="5013360"/>
                    <a:ext cx="113040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6" name="Text Box 35"/>
          <p:cNvSpPr/>
          <p:nvPr/>
        </p:nvSpPr>
        <p:spPr>
          <a:xfrm>
            <a:off x="4066920" y="5661000"/>
            <a:ext cx="1607040" cy="581400"/>
          </a:xfrm>
          <a:prstGeom prst="rect">
            <a:avLst/>
          </a:prstGeom>
          <a:gradFill rotWithShape="0">
            <a:gsLst>
              <a:gs pos="0">
                <a:srgbClr val="cc99ff">
                  <a:alpha val="44313"/>
                </a:srgbClr>
              </a:gs>
              <a:gs pos="50000">
                <a:srgbClr val="ffffff"/>
              </a:gs>
              <a:gs pos="100000">
                <a:srgbClr val="cc99ff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57" name="Object 36"/>
          <p:cNvGraphicFramePr/>
          <p:nvPr/>
        </p:nvGraphicFramePr>
        <p:xfrm>
          <a:off x="5692680" y="5710320"/>
          <a:ext cx="1701720" cy="431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58" name="Object 3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692680" y="5710320"/>
                    <a:ext cx="17017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59" name="Freeform 38"/>
          <p:cNvGrpSpPr/>
          <p:nvPr/>
        </p:nvGrpSpPr>
        <p:grpSpPr>
          <a:xfrm>
            <a:off x="669960" y="1468440"/>
            <a:ext cx="3957480" cy="2695680"/>
            <a:chOff x="669960" y="1468440"/>
            <a:chExt cx="3957480" cy="2695680"/>
          </a:xfrm>
        </p:grpSpPr>
        <p:pic>
          <p:nvPicPr>
            <p:cNvPr id="560" name="Freeform 38" descr=""/>
            <p:cNvPicPr/>
            <p:nvPr/>
          </p:nvPicPr>
          <p:blipFill>
            <a:blip r:embed="rId13"/>
            <a:stretch/>
          </p:blipFill>
          <p:spPr>
            <a:xfrm>
              <a:off x="669960" y="1468440"/>
              <a:ext cx="3957480" cy="269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1" name=""/>
            <p:cNvSpPr/>
            <p:nvPr/>
          </p:nvSpPr>
          <p:spPr>
            <a:xfrm>
              <a:off x="684360" y="1484280"/>
              <a:ext cx="3922560" cy="266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562" name="Object 39"/>
          <p:cNvGraphicFramePr/>
          <p:nvPr/>
        </p:nvGraphicFramePr>
        <p:xfrm>
          <a:off x="4643280" y="4076640"/>
          <a:ext cx="330480" cy="3301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563" name="Object 39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643280" y="4076640"/>
                    <a:ext cx="33048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4" name="Object 40"/>
          <p:cNvGraphicFramePr/>
          <p:nvPr/>
        </p:nvGraphicFramePr>
        <p:xfrm>
          <a:off x="3924360" y="1125360"/>
          <a:ext cx="291960" cy="3304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565" name="Object 40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924360" y="1125360"/>
                    <a:ext cx="291960" cy="3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6" name="Object 41"/>
          <p:cNvGraphicFramePr/>
          <p:nvPr/>
        </p:nvGraphicFramePr>
        <p:xfrm>
          <a:off x="468360" y="2349360"/>
          <a:ext cx="291960" cy="34308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567" name="Object 41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468360" y="2349360"/>
                    <a:ext cx="29196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8" name="Object 42"/>
          <p:cNvGraphicFramePr/>
          <p:nvPr/>
        </p:nvGraphicFramePr>
        <p:xfrm>
          <a:off x="4260960" y="2171880"/>
          <a:ext cx="203040" cy="34272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569" name="Object 42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4260960" y="2171880"/>
                    <a:ext cx="20304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0" name="Object 43"/>
          <p:cNvGraphicFramePr/>
          <p:nvPr/>
        </p:nvGraphicFramePr>
        <p:xfrm>
          <a:off x="2411280" y="1341360"/>
          <a:ext cx="216000" cy="34308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571" name="Object 43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2411280" y="1341360"/>
                    <a:ext cx="21600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2" name="Object 44"/>
          <p:cNvGraphicFramePr/>
          <p:nvPr/>
        </p:nvGraphicFramePr>
        <p:xfrm>
          <a:off x="2195640" y="3284640"/>
          <a:ext cx="228600" cy="34272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573" name="Object 44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2195640" y="3284640"/>
                    <a:ext cx="22860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restart="whenNotActive" nodeType="interactiveSeq" fill="hold">
                <p:stCondLst>
                  <p:cond evt="onClick">
                    <p:tgtEl>
                      <p:spTgt spid="556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556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2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Нижний колонтитул 1"/>
          <p:cNvSpPr/>
          <p:nvPr/>
        </p:nvSpPr>
        <p:spPr>
          <a:xfrm>
            <a:off x="324000" y="6568920"/>
            <a:ext cx="8640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mbria"/>
              </a:rPr>
              <a:t>Обухова Н.С, МОУ СОШ №17 г. Заволжья Нижегородской обла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AutoShape 38">
            <a:hlinkClick r:id="rId1" action="ppaction://hlinksldjump"/>
          </p:cNvPr>
          <p:cNvSpPr/>
          <p:nvPr/>
        </p:nvSpPr>
        <p:spPr>
          <a:xfrm>
            <a:off x="395280" y="6021360"/>
            <a:ext cx="649440" cy="647640"/>
          </a:xfrm>
          <a:custGeom>
            <a:avLst/>
            <a:gdLst>
              <a:gd name="textAreaLeft" fmla="*/ 41760 w 649440"/>
              <a:gd name="textAreaRight" fmla="*/ 607680 w 6494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60" h="21600">
                <a:moveTo>
                  <a:pt x="0" y="0"/>
                </a:moveTo>
                <a:lnTo>
                  <a:pt x="21660" y="0"/>
                </a:lnTo>
                <a:lnTo>
                  <a:pt x="21660" y="21600"/>
                </a:lnTo>
                <a:lnTo>
                  <a:pt x="0" y="21600"/>
                </a:lnTo>
                <a:close/>
              </a:path>
              <a:path fill="lightenLess" w="21660" h="21600">
                <a:moveTo>
                  <a:pt x="0" y="0"/>
                </a:moveTo>
                <a:lnTo>
                  <a:pt x="21660" y="0"/>
                </a:lnTo>
                <a:lnTo>
                  <a:pt x="20260" y="1400"/>
                </a:lnTo>
                <a:lnTo>
                  <a:pt x="1400" y="1400"/>
                </a:lnTo>
                <a:close/>
              </a:path>
              <a:path fill="darken" w="21660" h="21600">
                <a:moveTo>
                  <a:pt x="21660" y="0"/>
                </a:moveTo>
                <a:lnTo>
                  <a:pt x="21660" y="21600"/>
                </a:lnTo>
                <a:lnTo>
                  <a:pt x="20260" y="20200"/>
                </a:lnTo>
                <a:lnTo>
                  <a:pt x="20260" y="1400"/>
                </a:lnTo>
                <a:close/>
              </a:path>
              <a:path fill="darkenLess" w="21660" h="21600">
                <a:moveTo>
                  <a:pt x="216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0" y="20200"/>
                </a:lnTo>
                <a:close/>
              </a:path>
              <a:path fill="lighten" w="216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0" h="21600">
                <a:moveTo>
                  <a:pt x="10830" y="3837"/>
                </a:moveTo>
                <a:lnTo>
                  <a:pt x="13406" y="6448"/>
                </a:lnTo>
                <a:lnTo>
                  <a:pt x="13406" y="4707"/>
                </a:lnTo>
                <a:lnTo>
                  <a:pt x="15182" y="4707"/>
                </a:lnTo>
                <a:lnTo>
                  <a:pt x="15182" y="8224"/>
                </a:lnTo>
                <a:lnTo>
                  <a:pt x="17793" y="10800"/>
                </a:lnTo>
                <a:lnTo>
                  <a:pt x="16139" y="10800"/>
                </a:lnTo>
                <a:lnTo>
                  <a:pt x="16139" y="17989"/>
                </a:lnTo>
                <a:lnTo>
                  <a:pt x="5521" y="17989"/>
                </a:lnTo>
                <a:lnTo>
                  <a:pt x="5521" y="10800"/>
                </a:lnTo>
                <a:lnTo>
                  <a:pt x="3867" y="10800"/>
                </a:lnTo>
                <a:close/>
              </a:path>
              <a:path fill="darkenLess" w="21660" h="21600">
                <a:moveTo>
                  <a:pt x="13406" y="6448"/>
                </a:moveTo>
                <a:lnTo>
                  <a:pt x="13406" y="4707"/>
                </a:lnTo>
                <a:lnTo>
                  <a:pt x="15182" y="4707"/>
                </a:lnTo>
                <a:lnTo>
                  <a:pt x="15182" y="8224"/>
                </a:lnTo>
                <a:close/>
              </a:path>
              <a:path fill="darkenLess" w="21660" h="21600">
                <a:moveTo>
                  <a:pt x="9907" y="14299"/>
                </a:moveTo>
                <a:lnTo>
                  <a:pt x="11753" y="14299"/>
                </a:lnTo>
                <a:lnTo>
                  <a:pt x="11753" y="17989"/>
                </a:lnTo>
                <a:lnTo>
                  <a:pt x="16139" y="17989"/>
                </a:lnTo>
                <a:lnTo>
                  <a:pt x="16139" y="10800"/>
                </a:lnTo>
                <a:lnTo>
                  <a:pt x="5521" y="10800"/>
                </a:lnTo>
                <a:lnTo>
                  <a:pt x="5521" y="17989"/>
                </a:lnTo>
                <a:lnTo>
                  <a:pt x="9907" y="1798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Text Box 39"/>
          <p:cNvSpPr/>
          <p:nvPr/>
        </p:nvSpPr>
        <p:spPr>
          <a:xfrm>
            <a:off x="7134840" y="219240"/>
            <a:ext cx="1721520" cy="459720"/>
          </a:xfrm>
          <a:prstGeom prst="rect">
            <a:avLst/>
          </a:prstGeom>
          <a:noFill/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ff"/>
                </a:solidFill>
                <a:latin typeface="Cambria"/>
              </a:rPr>
              <a:t>Задача 1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77" name="Object 41"/>
          <p:cNvGraphicFramePr/>
          <p:nvPr/>
        </p:nvGraphicFramePr>
        <p:xfrm>
          <a:off x="4859280" y="3284640"/>
          <a:ext cx="114480" cy="177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8" name="Object 4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9280" y="3284640"/>
                    <a:ext cx="11448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9" name="Object 42"/>
          <p:cNvGraphicFramePr/>
          <p:nvPr/>
        </p:nvGraphicFramePr>
        <p:xfrm>
          <a:off x="4282920" y="3141720"/>
          <a:ext cx="4737240" cy="1041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80" name="Object 4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82920" y="3141720"/>
                    <a:ext cx="473724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1" name="Object 43"/>
          <p:cNvGraphicFramePr/>
          <p:nvPr/>
        </p:nvGraphicFramePr>
        <p:xfrm>
          <a:off x="4273560" y="4073400"/>
          <a:ext cx="3924360" cy="495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82" name="Object 4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73560" y="4073400"/>
                    <a:ext cx="392436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3" name="Line 44"/>
          <p:cNvSpPr/>
          <p:nvPr/>
        </p:nvSpPr>
        <p:spPr>
          <a:xfrm>
            <a:off x="4324320" y="4778280"/>
            <a:ext cx="309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84" name="Object 45"/>
          <p:cNvGraphicFramePr/>
          <p:nvPr/>
        </p:nvGraphicFramePr>
        <p:xfrm>
          <a:off x="4362480" y="4941720"/>
          <a:ext cx="1117440" cy="343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85" name="Object 4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362480" y="4941720"/>
                    <a:ext cx="1117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6" name="Text Box 46"/>
          <p:cNvSpPr/>
          <p:nvPr/>
        </p:nvSpPr>
        <p:spPr>
          <a:xfrm>
            <a:off x="4066920" y="5661000"/>
            <a:ext cx="1607040" cy="581400"/>
          </a:xfrm>
          <a:prstGeom prst="rect">
            <a:avLst/>
          </a:prstGeom>
          <a:gradFill rotWithShape="0">
            <a:gsLst>
              <a:gs pos="0">
                <a:srgbClr val="cc99ff">
                  <a:alpha val="44313"/>
                </a:srgbClr>
              </a:gs>
              <a:gs pos="50000">
                <a:srgbClr val="ffffff"/>
              </a:gs>
              <a:gs pos="100000">
                <a:srgbClr val="cc99ff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87" name="Object 47"/>
          <p:cNvGraphicFramePr/>
          <p:nvPr/>
        </p:nvGraphicFramePr>
        <p:xfrm>
          <a:off x="5927760" y="5734080"/>
          <a:ext cx="1511280" cy="406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88" name="Object 4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927760" y="5734080"/>
                    <a:ext cx="151128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9" name="Freeform 49"/>
          <p:cNvSpPr/>
          <p:nvPr/>
        </p:nvSpPr>
        <p:spPr>
          <a:xfrm>
            <a:off x="900000" y="765000"/>
            <a:ext cx="4248360" cy="3959280"/>
          </a:xfrm>
          <a:prstGeom prst="pie">
            <a:avLst/>
          </a:prstGeom>
          <a:blipFill rotWithShape="0">
            <a:blip r:embed="rId13"/>
            <a:srcRect/>
            <a:stretch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90" name="Object 50"/>
          <p:cNvGraphicFramePr/>
          <p:nvPr/>
        </p:nvGraphicFramePr>
        <p:xfrm>
          <a:off x="1692360" y="333360"/>
          <a:ext cx="291960" cy="3430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591" name="Object 50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692360" y="333360"/>
                    <a:ext cx="29196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2" name="Object 51"/>
          <p:cNvGraphicFramePr/>
          <p:nvPr/>
        </p:nvGraphicFramePr>
        <p:xfrm>
          <a:off x="539640" y="4797360"/>
          <a:ext cx="330480" cy="3301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593" name="Object 51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39640" y="4797360"/>
                    <a:ext cx="33048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4" name="Object 52"/>
          <p:cNvGraphicFramePr/>
          <p:nvPr/>
        </p:nvGraphicFramePr>
        <p:xfrm>
          <a:off x="3132000" y="3284640"/>
          <a:ext cx="406440" cy="33012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595" name="Object 52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3132000" y="3284640"/>
                    <a:ext cx="40644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6" name="Object 53"/>
          <p:cNvGraphicFramePr/>
          <p:nvPr/>
        </p:nvGraphicFramePr>
        <p:xfrm>
          <a:off x="5219640" y="1557360"/>
          <a:ext cx="292320" cy="33012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597" name="Object 53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5219640" y="1557360"/>
                    <a:ext cx="29232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8" name="Freeform 54"/>
          <p:cNvSpPr/>
          <p:nvPr/>
        </p:nvSpPr>
        <p:spPr>
          <a:xfrm>
            <a:off x="1979640" y="765000"/>
            <a:ext cx="1135080" cy="248292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Line 56"/>
          <p:cNvSpPr/>
          <p:nvPr/>
        </p:nvSpPr>
        <p:spPr>
          <a:xfrm>
            <a:off x="3978360" y="2478240"/>
            <a:ext cx="14436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Line 57"/>
          <p:cNvSpPr/>
          <p:nvPr/>
        </p:nvSpPr>
        <p:spPr>
          <a:xfrm>
            <a:off x="2176560" y="3670200"/>
            <a:ext cx="14436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Arc 58"/>
          <p:cNvSpPr/>
          <p:nvPr/>
        </p:nvSpPr>
        <p:spPr>
          <a:xfrm>
            <a:off x="1116000" y="4005360"/>
            <a:ext cx="360360" cy="36036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02" name="Object 59"/>
          <p:cNvGraphicFramePr/>
          <p:nvPr/>
        </p:nvGraphicFramePr>
        <p:xfrm>
          <a:off x="1835280" y="1700280"/>
          <a:ext cx="558720" cy="43164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603" name="Object 59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1835280" y="1700280"/>
                    <a:ext cx="5587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4" name="Object 60"/>
          <p:cNvGraphicFramePr/>
          <p:nvPr/>
        </p:nvGraphicFramePr>
        <p:xfrm>
          <a:off x="1332000" y="3573360"/>
          <a:ext cx="558720" cy="43200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605" name="Object 60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1332000" y="3573360"/>
                    <a:ext cx="5587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6" name="Arc 61"/>
          <p:cNvSpPr/>
          <p:nvPr/>
        </p:nvSpPr>
        <p:spPr>
          <a:xfrm rot="7687800">
            <a:off x="1873800" y="1148400"/>
            <a:ext cx="576360" cy="47952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Line 62"/>
          <p:cNvSpPr/>
          <p:nvPr/>
        </p:nvSpPr>
        <p:spPr>
          <a:xfrm>
            <a:off x="2038320" y="1490760"/>
            <a:ext cx="144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restart="whenNotActive" nodeType="interactiveSeq" fill="hold">
                <p:stCondLst>
                  <p:cond evt="onClick">
                    <p:tgtEl>
                      <p:spTgt spid="586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586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Нижний колонтитул 1"/>
          <p:cNvSpPr/>
          <p:nvPr/>
        </p:nvSpPr>
        <p:spPr>
          <a:xfrm>
            <a:off x="324000" y="6568920"/>
            <a:ext cx="8640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mbria"/>
              </a:rPr>
              <a:t>Обухова Н.С, МОУ СОШ №17 г. Заволжья Нижегородской обла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AutoShape 53">
            <a:hlinkClick r:id="rId1" action="ppaction://hlinksldjump"/>
          </p:cNvPr>
          <p:cNvSpPr/>
          <p:nvPr/>
        </p:nvSpPr>
        <p:spPr>
          <a:xfrm>
            <a:off x="395280" y="6021360"/>
            <a:ext cx="649440" cy="647640"/>
          </a:xfrm>
          <a:custGeom>
            <a:avLst/>
            <a:gdLst>
              <a:gd name="textAreaLeft" fmla="*/ 41760 w 649440"/>
              <a:gd name="textAreaRight" fmla="*/ 607680 w 6494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60" h="21600">
                <a:moveTo>
                  <a:pt x="0" y="0"/>
                </a:moveTo>
                <a:lnTo>
                  <a:pt x="21660" y="0"/>
                </a:lnTo>
                <a:lnTo>
                  <a:pt x="21660" y="21600"/>
                </a:lnTo>
                <a:lnTo>
                  <a:pt x="0" y="21600"/>
                </a:lnTo>
                <a:close/>
              </a:path>
              <a:path fill="lightenLess" w="21660" h="21600">
                <a:moveTo>
                  <a:pt x="0" y="0"/>
                </a:moveTo>
                <a:lnTo>
                  <a:pt x="21660" y="0"/>
                </a:lnTo>
                <a:lnTo>
                  <a:pt x="20260" y="1400"/>
                </a:lnTo>
                <a:lnTo>
                  <a:pt x="1400" y="1400"/>
                </a:lnTo>
                <a:close/>
              </a:path>
              <a:path fill="darken" w="21660" h="21600">
                <a:moveTo>
                  <a:pt x="21660" y="0"/>
                </a:moveTo>
                <a:lnTo>
                  <a:pt x="21660" y="21600"/>
                </a:lnTo>
                <a:lnTo>
                  <a:pt x="20260" y="20200"/>
                </a:lnTo>
                <a:lnTo>
                  <a:pt x="20260" y="1400"/>
                </a:lnTo>
                <a:close/>
              </a:path>
              <a:path fill="darkenLess" w="21660" h="21600">
                <a:moveTo>
                  <a:pt x="216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0" y="20200"/>
                </a:lnTo>
                <a:close/>
              </a:path>
              <a:path fill="lighten" w="216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0" h="21600">
                <a:moveTo>
                  <a:pt x="10830" y="3837"/>
                </a:moveTo>
                <a:lnTo>
                  <a:pt x="13406" y="6448"/>
                </a:lnTo>
                <a:lnTo>
                  <a:pt x="13406" y="4707"/>
                </a:lnTo>
                <a:lnTo>
                  <a:pt x="15182" y="4707"/>
                </a:lnTo>
                <a:lnTo>
                  <a:pt x="15182" y="8224"/>
                </a:lnTo>
                <a:lnTo>
                  <a:pt x="17793" y="10800"/>
                </a:lnTo>
                <a:lnTo>
                  <a:pt x="16139" y="10800"/>
                </a:lnTo>
                <a:lnTo>
                  <a:pt x="16139" y="17989"/>
                </a:lnTo>
                <a:lnTo>
                  <a:pt x="5521" y="17989"/>
                </a:lnTo>
                <a:lnTo>
                  <a:pt x="5521" y="10800"/>
                </a:lnTo>
                <a:lnTo>
                  <a:pt x="3867" y="10800"/>
                </a:lnTo>
                <a:close/>
              </a:path>
              <a:path fill="darkenLess" w="21660" h="21600">
                <a:moveTo>
                  <a:pt x="13406" y="6448"/>
                </a:moveTo>
                <a:lnTo>
                  <a:pt x="13406" y="4707"/>
                </a:lnTo>
                <a:lnTo>
                  <a:pt x="15182" y="4707"/>
                </a:lnTo>
                <a:lnTo>
                  <a:pt x="15182" y="8224"/>
                </a:lnTo>
                <a:close/>
              </a:path>
              <a:path fill="darkenLess" w="21660" h="21600">
                <a:moveTo>
                  <a:pt x="9907" y="14299"/>
                </a:moveTo>
                <a:lnTo>
                  <a:pt x="11753" y="14299"/>
                </a:lnTo>
                <a:lnTo>
                  <a:pt x="11753" y="17989"/>
                </a:lnTo>
                <a:lnTo>
                  <a:pt x="16139" y="17989"/>
                </a:lnTo>
                <a:lnTo>
                  <a:pt x="16139" y="10800"/>
                </a:lnTo>
                <a:lnTo>
                  <a:pt x="5521" y="10800"/>
                </a:lnTo>
                <a:lnTo>
                  <a:pt x="5521" y="17989"/>
                </a:lnTo>
                <a:lnTo>
                  <a:pt x="9907" y="1798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Text Box 54"/>
          <p:cNvSpPr/>
          <p:nvPr/>
        </p:nvSpPr>
        <p:spPr>
          <a:xfrm>
            <a:off x="7134120" y="219240"/>
            <a:ext cx="1722960" cy="459720"/>
          </a:xfrm>
          <a:prstGeom prst="rect">
            <a:avLst/>
          </a:prstGeom>
          <a:noFill/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ff"/>
                </a:solidFill>
                <a:latin typeface="Cambria"/>
              </a:rPr>
              <a:t>Задача 1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11" name="Object 63"/>
          <p:cNvGraphicFramePr/>
          <p:nvPr/>
        </p:nvGraphicFramePr>
        <p:xfrm>
          <a:off x="5875200" y="3540240"/>
          <a:ext cx="3060720" cy="533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2" name="Object 6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75200" y="3540240"/>
                    <a:ext cx="306072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3" name="Object 64"/>
          <p:cNvGraphicFramePr/>
          <p:nvPr/>
        </p:nvGraphicFramePr>
        <p:xfrm>
          <a:off x="5905440" y="4111560"/>
          <a:ext cx="2095560" cy="432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14" name="Object 6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05440" y="4111560"/>
                    <a:ext cx="20955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5" name="Line 65"/>
          <p:cNvSpPr/>
          <p:nvPr/>
        </p:nvSpPr>
        <p:spPr>
          <a:xfrm>
            <a:off x="5724360" y="4797360"/>
            <a:ext cx="309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16" name="Object 66"/>
          <p:cNvGraphicFramePr/>
          <p:nvPr/>
        </p:nvGraphicFramePr>
        <p:xfrm>
          <a:off x="5940360" y="4941720"/>
          <a:ext cx="2286000" cy="343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17" name="Object 6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40360" y="4941720"/>
                    <a:ext cx="228600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8" name="Text Box 67"/>
          <p:cNvSpPr/>
          <p:nvPr/>
        </p:nvSpPr>
        <p:spPr>
          <a:xfrm>
            <a:off x="4066920" y="5661000"/>
            <a:ext cx="1607040" cy="581400"/>
          </a:xfrm>
          <a:prstGeom prst="rect">
            <a:avLst/>
          </a:prstGeom>
          <a:gradFill rotWithShape="0">
            <a:gsLst>
              <a:gs pos="0">
                <a:srgbClr val="cc99ff">
                  <a:alpha val="44313"/>
                </a:srgbClr>
              </a:gs>
              <a:gs pos="50000">
                <a:srgbClr val="ffffff"/>
              </a:gs>
              <a:gs pos="100000">
                <a:srgbClr val="cc99ff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19" name="Object 68"/>
          <p:cNvGraphicFramePr/>
          <p:nvPr/>
        </p:nvGraphicFramePr>
        <p:xfrm>
          <a:off x="5848200" y="5667480"/>
          <a:ext cx="3225960" cy="495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20" name="Object 6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848200" y="5667480"/>
                    <a:ext cx="322596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1" name="Freeform 70"/>
          <p:cNvSpPr/>
          <p:nvPr/>
        </p:nvSpPr>
        <p:spPr>
          <a:xfrm>
            <a:off x="1692360" y="1268280"/>
            <a:ext cx="3529080" cy="37893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50000">
                <a:srgbClr val="75fbfb">
                  <a:alpha val="44313"/>
                </a:srgbClr>
              </a:gs>
              <a:gs pos="100000">
                <a:srgbClr val="ffffff"/>
              </a:gs>
            </a:gsLst>
            <a:lin ang="2700000"/>
          </a:gra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22" name="Object 71"/>
          <p:cNvGraphicFramePr/>
          <p:nvPr/>
        </p:nvGraphicFramePr>
        <p:xfrm>
          <a:off x="2050920" y="5013360"/>
          <a:ext cx="330480" cy="330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23" name="Object 7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050920" y="5013360"/>
                    <a:ext cx="33048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4" name="Object 72"/>
          <p:cNvGraphicFramePr/>
          <p:nvPr/>
        </p:nvGraphicFramePr>
        <p:xfrm>
          <a:off x="1521000" y="1020600"/>
          <a:ext cx="291960" cy="330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25" name="Object 7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521000" y="1020600"/>
                    <a:ext cx="291960" cy="3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6" name="Object 73"/>
          <p:cNvGraphicFramePr/>
          <p:nvPr/>
        </p:nvGraphicFramePr>
        <p:xfrm>
          <a:off x="5284800" y="843120"/>
          <a:ext cx="291960" cy="3427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27" name="Object 73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284800" y="843120"/>
                    <a:ext cx="29196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8" name="Object 74"/>
          <p:cNvGraphicFramePr/>
          <p:nvPr/>
        </p:nvGraphicFramePr>
        <p:xfrm>
          <a:off x="971640" y="2708280"/>
          <a:ext cx="723960" cy="507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29" name="Object 74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971640" y="2708280"/>
                    <a:ext cx="72396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0" name="Object 75"/>
          <p:cNvGraphicFramePr/>
          <p:nvPr/>
        </p:nvGraphicFramePr>
        <p:xfrm>
          <a:off x="3348000" y="907920"/>
          <a:ext cx="228600" cy="343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31" name="Object 75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348000" y="907920"/>
                    <a:ext cx="22860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2" name="Arc 77"/>
          <p:cNvSpPr/>
          <p:nvPr/>
        </p:nvSpPr>
        <p:spPr>
          <a:xfrm>
            <a:off x="1917720" y="4241880"/>
            <a:ext cx="474480" cy="5032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33" name="Object 78"/>
          <p:cNvGraphicFramePr/>
          <p:nvPr/>
        </p:nvGraphicFramePr>
        <p:xfrm>
          <a:off x="2050920" y="3645000"/>
          <a:ext cx="559080" cy="4316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634" name="Object 78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050920" y="3645000"/>
                    <a:ext cx="55908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restart="whenNotActive" nodeType="interactiveSeq" fill="hold">
                <p:stCondLst>
                  <p:cond evt="onClick">
                    <p:tgtEl>
                      <p:spTgt spid="618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618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2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Нижний колонтитул 1"/>
          <p:cNvSpPr/>
          <p:nvPr/>
        </p:nvSpPr>
        <p:spPr>
          <a:xfrm>
            <a:off x="324000" y="6568920"/>
            <a:ext cx="8640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mbria"/>
              </a:rPr>
              <a:t>Обухова Н.С, МОУ СОШ №17 г. Заволжья Нижегородской обла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AutoShape 41">
            <a:hlinkClick r:id="rId1" action="ppaction://hlinksldjump"/>
          </p:cNvPr>
          <p:cNvSpPr/>
          <p:nvPr/>
        </p:nvSpPr>
        <p:spPr>
          <a:xfrm>
            <a:off x="395280" y="6021360"/>
            <a:ext cx="649440" cy="647640"/>
          </a:xfrm>
          <a:custGeom>
            <a:avLst/>
            <a:gdLst>
              <a:gd name="textAreaLeft" fmla="*/ 41760 w 649440"/>
              <a:gd name="textAreaRight" fmla="*/ 607680 w 6494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60" h="21600">
                <a:moveTo>
                  <a:pt x="0" y="0"/>
                </a:moveTo>
                <a:lnTo>
                  <a:pt x="21660" y="0"/>
                </a:lnTo>
                <a:lnTo>
                  <a:pt x="21660" y="21600"/>
                </a:lnTo>
                <a:lnTo>
                  <a:pt x="0" y="21600"/>
                </a:lnTo>
                <a:close/>
              </a:path>
              <a:path fill="lightenLess" w="21660" h="21600">
                <a:moveTo>
                  <a:pt x="0" y="0"/>
                </a:moveTo>
                <a:lnTo>
                  <a:pt x="21660" y="0"/>
                </a:lnTo>
                <a:lnTo>
                  <a:pt x="20260" y="1400"/>
                </a:lnTo>
                <a:lnTo>
                  <a:pt x="1400" y="1400"/>
                </a:lnTo>
                <a:close/>
              </a:path>
              <a:path fill="darken" w="21660" h="21600">
                <a:moveTo>
                  <a:pt x="21660" y="0"/>
                </a:moveTo>
                <a:lnTo>
                  <a:pt x="21660" y="21600"/>
                </a:lnTo>
                <a:lnTo>
                  <a:pt x="20260" y="20200"/>
                </a:lnTo>
                <a:lnTo>
                  <a:pt x="20260" y="1400"/>
                </a:lnTo>
                <a:close/>
              </a:path>
              <a:path fill="darkenLess" w="21660" h="21600">
                <a:moveTo>
                  <a:pt x="216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0" y="20200"/>
                </a:lnTo>
                <a:close/>
              </a:path>
              <a:path fill="lighten" w="216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0" h="21600">
                <a:moveTo>
                  <a:pt x="10830" y="3837"/>
                </a:moveTo>
                <a:lnTo>
                  <a:pt x="13406" y="6448"/>
                </a:lnTo>
                <a:lnTo>
                  <a:pt x="13406" y="4707"/>
                </a:lnTo>
                <a:lnTo>
                  <a:pt x="15182" y="4707"/>
                </a:lnTo>
                <a:lnTo>
                  <a:pt x="15182" y="8224"/>
                </a:lnTo>
                <a:lnTo>
                  <a:pt x="17793" y="10800"/>
                </a:lnTo>
                <a:lnTo>
                  <a:pt x="16139" y="10800"/>
                </a:lnTo>
                <a:lnTo>
                  <a:pt x="16139" y="17989"/>
                </a:lnTo>
                <a:lnTo>
                  <a:pt x="5521" y="17989"/>
                </a:lnTo>
                <a:lnTo>
                  <a:pt x="5521" y="10800"/>
                </a:lnTo>
                <a:lnTo>
                  <a:pt x="3867" y="10800"/>
                </a:lnTo>
                <a:close/>
              </a:path>
              <a:path fill="darkenLess" w="21660" h="21600">
                <a:moveTo>
                  <a:pt x="13406" y="6448"/>
                </a:moveTo>
                <a:lnTo>
                  <a:pt x="13406" y="4707"/>
                </a:lnTo>
                <a:lnTo>
                  <a:pt x="15182" y="4707"/>
                </a:lnTo>
                <a:lnTo>
                  <a:pt x="15182" y="8224"/>
                </a:lnTo>
                <a:close/>
              </a:path>
              <a:path fill="darkenLess" w="21660" h="21600">
                <a:moveTo>
                  <a:pt x="9907" y="14299"/>
                </a:moveTo>
                <a:lnTo>
                  <a:pt x="11753" y="14299"/>
                </a:lnTo>
                <a:lnTo>
                  <a:pt x="11753" y="17989"/>
                </a:lnTo>
                <a:lnTo>
                  <a:pt x="16139" y="17989"/>
                </a:lnTo>
                <a:lnTo>
                  <a:pt x="16139" y="10800"/>
                </a:lnTo>
                <a:lnTo>
                  <a:pt x="5521" y="10800"/>
                </a:lnTo>
                <a:lnTo>
                  <a:pt x="5521" y="17989"/>
                </a:lnTo>
                <a:lnTo>
                  <a:pt x="9907" y="1798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Text Box 42"/>
          <p:cNvSpPr/>
          <p:nvPr/>
        </p:nvSpPr>
        <p:spPr>
          <a:xfrm>
            <a:off x="7126560" y="219240"/>
            <a:ext cx="1738080" cy="459720"/>
          </a:xfrm>
          <a:prstGeom prst="rect">
            <a:avLst/>
          </a:prstGeom>
          <a:noFill/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ff"/>
                </a:solidFill>
                <a:latin typeface="Cambria"/>
              </a:rPr>
              <a:t>Задача 1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38" name="Object 43"/>
          <p:cNvGraphicFramePr/>
          <p:nvPr/>
        </p:nvGraphicFramePr>
        <p:xfrm>
          <a:off x="4859280" y="3284640"/>
          <a:ext cx="114480" cy="177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9" name="Object 4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9280" y="3284640"/>
                    <a:ext cx="11448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0" name="Object 44"/>
          <p:cNvGraphicFramePr/>
          <p:nvPr/>
        </p:nvGraphicFramePr>
        <p:xfrm>
          <a:off x="5086440" y="3500280"/>
          <a:ext cx="4013280" cy="533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41" name="Object 4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86440" y="3500280"/>
                    <a:ext cx="401328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2" name="Object 45"/>
          <p:cNvGraphicFramePr/>
          <p:nvPr/>
        </p:nvGraphicFramePr>
        <p:xfrm>
          <a:off x="5133960" y="4086360"/>
          <a:ext cx="2349360" cy="431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43" name="Object 4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33960" y="4086360"/>
                    <a:ext cx="23493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4" name="Line 46"/>
          <p:cNvSpPr/>
          <p:nvPr/>
        </p:nvSpPr>
        <p:spPr>
          <a:xfrm>
            <a:off x="5219640" y="4797360"/>
            <a:ext cx="309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45" name="Object 47"/>
          <p:cNvGraphicFramePr/>
          <p:nvPr/>
        </p:nvGraphicFramePr>
        <p:xfrm>
          <a:off x="5219640" y="4941720"/>
          <a:ext cx="1130400" cy="343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46" name="Object 4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219640" y="4941720"/>
                    <a:ext cx="113040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7" name="Text Box 48"/>
          <p:cNvSpPr/>
          <p:nvPr/>
        </p:nvSpPr>
        <p:spPr>
          <a:xfrm>
            <a:off x="4066920" y="5661000"/>
            <a:ext cx="1607040" cy="581400"/>
          </a:xfrm>
          <a:prstGeom prst="rect">
            <a:avLst/>
          </a:prstGeom>
          <a:gradFill rotWithShape="0">
            <a:gsLst>
              <a:gs pos="0">
                <a:srgbClr val="cc99ff">
                  <a:alpha val="44313"/>
                </a:srgbClr>
              </a:gs>
              <a:gs pos="50000">
                <a:srgbClr val="ffffff"/>
              </a:gs>
              <a:gs pos="100000">
                <a:srgbClr val="cc99ff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48" name="Object 49"/>
          <p:cNvGraphicFramePr/>
          <p:nvPr/>
        </p:nvGraphicFramePr>
        <p:xfrm>
          <a:off x="5940360" y="5761080"/>
          <a:ext cx="1206720" cy="330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49" name="Object 4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940360" y="5761080"/>
                    <a:ext cx="120672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0" name="AutoShape 51"/>
          <p:cNvSpPr/>
          <p:nvPr/>
        </p:nvSpPr>
        <p:spPr>
          <a:xfrm>
            <a:off x="1476360" y="1125360"/>
            <a:ext cx="5183280" cy="1872000"/>
          </a:xfrm>
          <a:prstGeom prst="parallelogram">
            <a:avLst>
              <a:gd name="adj" fmla="val 69221"/>
            </a:avLst>
          </a:prstGeom>
          <a:gradFill rotWithShape="0">
            <a:gsLst>
              <a:gs pos="0">
                <a:srgbClr val="ffffff"/>
              </a:gs>
              <a:gs pos="100000">
                <a:srgbClr val="ffff81">
                  <a:alpha val="44313"/>
                </a:srgbClr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Line 52"/>
          <p:cNvSpPr/>
          <p:nvPr/>
        </p:nvSpPr>
        <p:spPr>
          <a:xfrm flipH="1">
            <a:off x="333000" y="1125360"/>
            <a:ext cx="6326280" cy="2275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Line 53"/>
          <p:cNvSpPr/>
          <p:nvPr/>
        </p:nvSpPr>
        <p:spPr>
          <a:xfrm>
            <a:off x="2771640" y="1125360"/>
            <a:ext cx="2592360" cy="187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53" name="Object 54"/>
          <p:cNvGraphicFramePr/>
          <p:nvPr/>
        </p:nvGraphicFramePr>
        <p:xfrm>
          <a:off x="1403280" y="3068640"/>
          <a:ext cx="330120" cy="330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54" name="Object 54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403280" y="3068640"/>
                    <a:ext cx="33012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5" name="Object 55"/>
          <p:cNvGraphicFramePr/>
          <p:nvPr/>
        </p:nvGraphicFramePr>
        <p:xfrm>
          <a:off x="2540160" y="720720"/>
          <a:ext cx="291960" cy="3301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56" name="Object 55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540160" y="720720"/>
                    <a:ext cx="29196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7" name="Object 56"/>
          <p:cNvGraphicFramePr/>
          <p:nvPr/>
        </p:nvGraphicFramePr>
        <p:xfrm>
          <a:off x="6531120" y="676440"/>
          <a:ext cx="291960" cy="3427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58" name="Object 5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531120" y="676440"/>
                    <a:ext cx="29196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9" name="Object 57"/>
          <p:cNvGraphicFramePr/>
          <p:nvPr/>
        </p:nvGraphicFramePr>
        <p:xfrm>
          <a:off x="5076720" y="3068640"/>
          <a:ext cx="330480" cy="3301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60" name="Object 57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076720" y="3068640"/>
                    <a:ext cx="33048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1" name="Object 58"/>
          <p:cNvGraphicFramePr/>
          <p:nvPr/>
        </p:nvGraphicFramePr>
        <p:xfrm>
          <a:off x="3851280" y="2133720"/>
          <a:ext cx="317520" cy="3427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662" name="Object 58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851280" y="2133720"/>
                    <a:ext cx="31752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3" name="Object 59"/>
          <p:cNvGraphicFramePr/>
          <p:nvPr/>
        </p:nvGraphicFramePr>
        <p:xfrm>
          <a:off x="395280" y="3429000"/>
          <a:ext cx="406440" cy="3301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664" name="Object 59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95280" y="3429000"/>
                    <a:ext cx="40644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5" name="Object 60"/>
          <p:cNvGraphicFramePr/>
          <p:nvPr/>
        </p:nvGraphicFramePr>
        <p:xfrm>
          <a:off x="6075360" y="1871640"/>
          <a:ext cx="546120" cy="4953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666" name="Object 60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075360" y="1871640"/>
                    <a:ext cx="54612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7" name="Arc 61"/>
          <p:cNvSpPr/>
          <p:nvPr/>
        </p:nvSpPr>
        <p:spPr>
          <a:xfrm flipH="1" flipV="1" rot="7987200">
            <a:off x="3922560" y="1563480"/>
            <a:ext cx="576000" cy="5760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68" name="Object 62"/>
          <p:cNvGraphicFramePr/>
          <p:nvPr/>
        </p:nvGraphicFramePr>
        <p:xfrm>
          <a:off x="3924360" y="1197000"/>
          <a:ext cx="723960" cy="4316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669" name="Object 62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3924360" y="1197000"/>
                    <a:ext cx="723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0" name="Arc 63"/>
          <p:cNvSpPr/>
          <p:nvPr/>
        </p:nvSpPr>
        <p:spPr>
          <a:xfrm flipH="1">
            <a:off x="1262160" y="2657520"/>
            <a:ext cx="457200" cy="42696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1" name="Arc 67"/>
          <p:cNvSpPr/>
          <p:nvPr/>
        </p:nvSpPr>
        <p:spPr>
          <a:xfrm flipH="1">
            <a:off x="1116000" y="2492280"/>
            <a:ext cx="719280" cy="6494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Arc 68"/>
          <p:cNvSpPr/>
          <p:nvPr/>
        </p:nvSpPr>
        <p:spPr>
          <a:xfrm flipH="1">
            <a:off x="1262160" y="2657520"/>
            <a:ext cx="457200" cy="42696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3" name="Arc 69"/>
          <p:cNvSpPr/>
          <p:nvPr/>
        </p:nvSpPr>
        <p:spPr>
          <a:xfrm flipH="1">
            <a:off x="1116000" y="2494080"/>
            <a:ext cx="719280" cy="6490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74" name="Object 70"/>
          <p:cNvGraphicFramePr/>
          <p:nvPr/>
        </p:nvGraphicFramePr>
        <p:xfrm>
          <a:off x="539640" y="2276640"/>
          <a:ext cx="723960" cy="4316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675" name="Object 70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539640" y="2276640"/>
                    <a:ext cx="723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restart="whenNotActive" nodeType="interactiveSeq" fill="hold">
                <p:stCondLst>
                  <p:cond evt="onClick">
                    <p:tgtEl>
                      <p:spTgt spid="647"/>
                    </p:tgtEl>
                  </p:cond>
                </p:stCondLst>
                <p:childTnLst>
                  <p:par>
                    <p:cTn id="94" fill="hold">
                      <p:stCondLst>
                        <p:cond evt="onClick">
                          <p:tgtEl>
                            <p:spTgt spid="647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2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Нижний колонтитул 1"/>
          <p:cNvSpPr/>
          <p:nvPr/>
        </p:nvSpPr>
        <p:spPr>
          <a:xfrm>
            <a:off x="324000" y="6568920"/>
            <a:ext cx="8640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mbria"/>
              </a:rPr>
              <a:t>Обухова Н.С, МОУ СОШ №17 г. Заволжья Нижегородской обла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AutoShape 54">
            <a:hlinkClick r:id="rId1" action="ppaction://hlinksldjump"/>
          </p:cNvPr>
          <p:cNvSpPr/>
          <p:nvPr/>
        </p:nvSpPr>
        <p:spPr>
          <a:xfrm>
            <a:off x="250920" y="5950080"/>
            <a:ext cx="649080" cy="64764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48" h="21600">
                <a:moveTo>
                  <a:pt x="0" y="0"/>
                </a:moveTo>
                <a:lnTo>
                  <a:pt x="21648" y="0"/>
                </a:lnTo>
                <a:lnTo>
                  <a:pt x="21648" y="21600"/>
                </a:lnTo>
                <a:lnTo>
                  <a:pt x="0" y="21600"/>
                </a:lnTo>
                <a:close/>
              </a:path>
              <a:path fill="lightenLess" w="21648" h="21600">
                <a:moveTo>
                  <a:pt x="0" y="0"/>
                </a:moveTo>
                <a:lnTo>
                  <a:pt x="21648" y="0"/>
                </a:lnTo>
                <a:lnTo>
                  <a:pt x="20248" y="1400"/>
                </a:lnTo>
                <a:lnTo>
                  <a:pt x="1400" y="1400"/>
                </a:lnTo>
                <a:close/>
              </a:path>
              <a:path fill="darken" w="21648" h="21600">
                <a:moveTo>
                  <a:pt x="21648" y="0"/>
                </a:moveTo>
                <a:lnTo>
                  <a:pt x="21648" y="21600"/>
                </a:lnTo>
                <a:lnTo>
                  <a:pt x="20248" y="20200"/>
                </a:lnTo>
                <a:lnTo>
                  <a:pt x="20248" y="1400"/>
                </a:lnTo>
                <a:close/>
              </a:path>
              <a:path fill="darkenLess" w="21648" h="21600">
                <a:moveTo>
                  <a:pt x="21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48" y="20200"/>
                </a:lnTo>
                <a:close/>
              </a:path>
              <a:path fill="lighten" w="21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48" h="21600">
                <a:moveTo>
                  <a:pt x="10824" y="3837"/>
                </a:moveTo>
                <a:lnTo>
                  <a:pt x="13400" y="6448"/>
                </a:lnTo>
                <a:lnTo>
                  <a:pt x="13400" y="4707"/>
                </a:lnTo>
                <a:lnTo>
                  <a:pt x="15176" y="4707"/>
                </a:lnTo>
                <a:lnTo>
                  <a:pt x="15176" y="8224"/>
                </a:lnTo>
                <a:lnTo>
                  <a:pt x="17787" y="10800"/>
                </a:lnTo>
                <a:lnTo>
                  <a:pt x="16133" y="10800"/>
                </a:lnTo>
                <a:lnTo>
                  <a:pt x="16133" y="17989"/>
                </a:lnTo>
                <a:lnTo>
                  <a:pt x="5515" y="17989"/>
                </a:lnTo>
                <a:lnTo>
                  <a:pt x="5515" y="10800"/>
                </a:lnTo>
                <a:lnTo>
                  <a:pt x="3861" y="10800"/>
                </a:lnTo>
                <a:close/>
              </a:path>
              <a:path fill="darkenLess" w="21648" h="21600">
                <a:moveTo>
                  <a:pt x="13400" y="6448"/>
                </a:moveTo>
                <a:lnTo>
                  <a:pt x="13400" y="4707"/>
                </a:lnTo>
                <a:lnTo>
                  <a:pt x="15176" y="4707"/>
                </a:lnTo>
                <a:lnTo>
                  <a:pt x="15176" y="8224"/>
                </a:lnTo>
                <a:close/>
              </a:path>
              <a:path fill="darkenLess" w="21648" h="21600">
                <a:moveTo>
                  <a:pt x="9901" y="14299"/>
                </a:moveTo>
                <a:lnTo>
                  <a:pt x="11747" y="14299"/>
                </a:lnTo>
                <a:lnTo>
                  <a:pt x="11747" y="17989"/>
                </a:lnTo>
                <a:lnTo>
                  <a:pt x="16133" y="17989"/>
                </a:lnTo>
                <a:lnTo>
                  <a:pt x="16133" y="10800"/>
                </a:lnTo>
                <a:lnTo>
                  <a:pt x="5515" y="10800"/>
                </a:lnTo>
                <a:lnTo>
                  <a:pt x="5515" y="17989"/>
                </a:lnTo>
                <a:lnTo>
                  <a:pt x="9901" y="1798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8" name="Text Box 55"/>
          <p:cNvSpPr/>
          <p:nvPr/>
        </p:nvSpPr>
        <p:spPr>
          <a:xfrm>
            <a:off x="7132320" y="219240"/>
            <a:ext cx="1726200" cy="459720"/>
          </a:xfrm>
          <a:prstGeom prst="rect">
            <a:avLst/>
          </a:prstGeom>
          <a:noFill/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ff"/>
                </a:solidFill>
                <a:latin typeface="Cambria"/>
              </a:rPr>
              <a:t>Задача 1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79" name="Object 57"/>
          <p:cNvGraphicFramePr/>
          <p:nvPr/>
        </p:nvGraphicFramePr>
        <p:xfrm>
          <a:off x="5973840" y="3603600"/>
          <a:ext cx="253980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0" name="Object 5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73840" y="3603600"/>
                    <a:ext cx="253980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1" name="Object 58"/>
          <p:cNvGraphicFramePr/>
          <p:nvPr/>
        </p:nvGraphicFramePr>
        <p:xfrm>
          <a:off x="5842080" y="4111560"/>
          <a:ext cx="2222280" cy="432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82" name="Object 5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42080" y="4111560"/>
                    <a:ext cx="222228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3" name="Line 59"/>
          <p:cNvSpPr/>
          <p:nvPr/>
        </p:nvSpPr>
        <p:spPr>
          <a:xfrm>
            <a:off x="5886360" y="4797360"/>
            <a:ext cx="309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84" name="Object 60"/>
          <p:cNvGraphicFramePr/>
          <p:nvPr/>
        </p:nvGraphicFramePr>
        <p:xfrm>
          <a:off x="5921280" y="4979880"/>
          <a:ext cx="1130400" cy="343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85" name="Object 6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21280" y="4979880"/>
                    <a:ext cx="113040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6" name="Text Box 61"/>
          <p:cNvSpPr/>
          <p:nvPr/>
        </p:nvSpPr>
        <p:spPr>
          <a:xfrm>
            <a:off x="4066920" y="5661000"/>
            <a:ext cx="1607040" cy="581400"/>
          </a:xfrm>
          <a:prstGeom prst="rect">
            <a:avLst/>
          </a:prstGeom>
          <a:gradFill rotWithShape="0">
            <a:gsLst>
              <a:gs pos="0">
                <a:srgbClr val="cc99ff">
                  <a:alpha val="44313"/>
                </a:srgbClr>
              </a:gs>
              <a:gs pos="50000">
                <a:srgbClr val="ffffff"/>
              </a:gs>
              <a:gs pos="100000">
                <a:srgbClr val="cc99ff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87" name="Object 62"/>
          <p:cNvGraphicFramePr/>
          <p:nvPr/>
        </p:nvGraphicFramePr>
        <p:xfrm>
          <a:off x="5943600" y="5661000"/>
          <a:ext cx="1676520" cy="507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88" name="Object 6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943600" y="5661000"/>
                    <a:ext cx="167652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9" name="AutoShape 63"/>
          <p:cNvSpPr/>
          <p:nvPr/>
        </p:nvSpPr>
        <p:spPr>
          <a:xfrm>
            <a:off x="1415880" y="1289160"/>
            <a:ext cx="4248360" cy="2305080"/>
          </a:xfrm>
          <a:prstGeom prst="parallelogram">
            <a:avLst>
              <a:gd name="adj" fmla="val 46076"/>
            </a:avLst>
          </a:prstGeom>
          <a:gradFill rotWithShape="0">
            <a:gsLst>
              <a:gs pos="0">
                <a:srgbClr val="b6ec4a">
                  <a:alpha val="44313"/>
                </a:srgbClr>
              </a:gs>
              <a:gs pos="100000">
                <a:srgbClr val="ffffff"/>
              </a:gs>
            </a:gsLst>
            <a:lin ang="189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90" name="Object 64"/>
          <p:cNvGraphicFramePr/>
          <p:nvPr/>
        </p:nvGraphicFramePr>
        <p:xfrm>
          <a:off x="949320" y="3273480"/>
          <a:ext cx="330120" cy="330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91" name="Object 6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49320" y="3273480"/>
                    <a:ext cx="33012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2" name="Object 65"/>
          <p:cNvGraphicFramePr/>
          <p:nvPr/>
        </p:nvGraphicFramePr>
        <p:xfrm>
          <a:off x="2197080" y="787320"/>
          <a:ext cx="291960" cy="330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93" name="Object 65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197080" y="787320"/>
                    <a:ext cx="29196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4" name="Object 66"/>
          <p:cNvGraphicFramePr/>
          <p:nvPr/>
        </p:nvGraphicFramePr>
        <p:xfrm>
          <a:off x="5661000" y="852480"/>
          <a:ext cx="291960" cy="3430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95" name="Object 6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661000" y="852480"/>
                    <a:ext cx="29196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6" name="Object 67"/>
          <p:cNvGraphicFramePr/>
          <p:nvPr/>
        </p:nvGraphicFramePr>
        <p:xfrm>
          <a:off x="4716360" y="3357720"/>
          <a:ext cx="330480" cy="3301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97" name="Object 67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716360" y="3357720"/>
                    <a:ext cx="33048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8" name="Freeform 68"/>
          <p:cNvSpPr/>
          <p:nvPr/>
        </p:nvSpPr>
        <p:spPr>
          <a:xfrm>
            <a:off x="4162320" y="1295280"/>
            <a:ext cx="1505160" cy="32576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99" name="Object 69"/>
          <p:cNvGraphicFramePr/>
          <p:nvPr/>
        </p:nvGraphicFramePr>
        <p:xfrm>
          <a:off x="4356000" y="4292640"/>
          <a:ext cx="406440" cy="3301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700" name="Object 69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356000" y="4292640"/>
                    <a:ext cx="40644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1" name="Arc 70"/>
          <p:cNvSpPr/>
          <p:nvPr/>
        </p:nvSpPr>
        <p:spPr>
          <a:xfrm rot="11182200">
            <a:off x="3990240" y="3619080"/>
            <a:ext cx="390600" cy="5144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702" name="Object 71"/>
          <p:cNvGraphicFramePr/>
          <p:nvPr/>
        </p:nvGraphicFramePr>
        <p:xfrm>
          <a:off x="3492360" y="3860640"/>
          <a:ext cx="559080" cy="4320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703" name="Object 71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492360" y="3860640"/>
                    <a:ext cx="55908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4" name="Freeform 72"/>
          <p:cNvSpPr/>
          <p:nvPr/>
        </p:nvSpPr>
        <p:spPr>
          <a:xfrm>
            <a:off x="2476440" y="1276200"/>
            <a:ext cx="2124000" cy="23148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705" name="Object 73"/>
          <p:cNvGraphicFramePr/>
          <p:nvPr/>
        </p:nvGraphicFramePr>
        <p:xfrm>
          <a:off x="3995640" y="836640"/>
          <a:ext cx="203400" cy="3427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706" name="Object 73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995640" y="836640"/>
                    <a:ext cx="20340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7" name="Object 74"/>
          <p:cNvGraphicFramePr/>
          <p:nvPr/>
        </p:nvGraphicFramePr>
        <p:xfrm>
          <a:off x="5292720" y="2349360"/>
          <a:ext cx="216000" cy="3430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708" name="Object 74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292720" y="2349360"/>
                    <a:ext cx="21600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restart="whenNotActive" nodeType="interactiveSeq" fill="hold">
                <p:stCondLst>
                  <p:cond evt="onClick">
                    <p:tgtEl>
                      <p:spTgt spid="686"/>
                    </p:tgtEl>
                  </p:cond>
                </p:stCondLst>
                <p:childTnLst>
                  <p:par>
                    <p:cTn id="101" fill="hold">
                      <p:stCondLst>
                        <p:cond evt="onClick">
                          <p:tgtEl>
                            <p:spTgt spid="686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Нижний колонтитул 1"/>
          <p:cNvSpPr/>
          <p:nvPr/>
        </p:nvSpPr>
        <p:spPr>
          <a:xfrm>
            <a:off x="324000" y="6568920"/>
            <a:ext cx="8640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mbria"/>
              </a:rPr>
              <a:t>Обухова Н.С, МОУ СОШ №17 г. Заволжья Нижегородской обла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AutoShape 2">
            <a:hlinkClick r:id="rId1" action="ppaction://hlinksldjump"/>
          </p:cNvPr>
          <p:cNvSpPr/>
          <p:nvPr/>
        </p:nvSpPr>
        <p:spPr>
          <a:xfrm>
            <a:off x="250920" y="5950080"/>
            <a:ext cx="649080" cy="64764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48" h="21600">
                <a:moveTo>
                  <a:pt x="0" y="0"/>
                </a:moveTo>
                <a:lnTo>
                  <a:pt x="21648" y="0"/>
                </a:lnTo>
                <a:lnTo>
                  <a:pt x="21648" y="21600"/>
                </a:lnTo>
                <a:lnTo>
                  <a:pt x="0" y="21600"/>
                </a:lnTo>
                <a:close/>
              </a:path>
              <a:path fill="lightenLess" w="21648" h="21600">
                <a:moveTo>
                  <a:pt x="0" y="0"/>
                </a:moveTo>
                <a:lnTo>
                  <a:pt x="21648" y="0"/>
                </a:lnTo>
                <a:lnTo>
                  <a:pt x="20248" y="1400"/>
                </a:lnTo>
                <a:lnTo>
                  <a:pt x="1400" y="1400"/>
                </a:lnTo>
                <a:close/>
              </a:path>
              <a:path fill="darken" w="21648" h="21600">
                <a:moveTo>
                  <a:pt x="21648" y="0"/>
                </a:moveTo>
                <a:lnTo>
                  <a:pt x="21648" y="21600"/>
                </a:lnTo>
                <a:lnTo>
                  <a:pt x="20248" y="20200"/>
                </a:lnTo>
                <a:lnTo>
                  <a:pt x="20248" y="1400"/>
                </a:lnTo>
                <a:close/>
              </a:path>
              <a:path fill="darkenLess" w="21648" h="21600">
                <a:moveTo>
                  <a:pt x="21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48" y="20200"/>
                </a:lnTo>
                <a:close/>
              </a:path>
              <a:path fill="lighten" w="21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48" h="21600">
                <a:moveTo>
                  <a:pt x="10824" y="3837"/>
                </a:moveTo>
                <a:lnTo>
                  <a:pt x="13400" y="6448"/>
                </a:lnTo>
                <a:lnTo>
                  <a:pt x="13400" y="4707"/>
                </a:lnTo>
                <a:lnTo>
                  <a:pt x="15176" y="4707"/>
                </a:lnTo>
                <a:lnTo>
                  <a:pt x="15176" y="8224"/>
                </a:lnTo>
                <a:lnTo>
                  <a:pt x="17787" y="10800"/>
                </a:lnTo>
                <a:lnTo>
                  <a:pt x="16133" y="10800"/>
                </a:lnTo>
                <a:lnTo>
                  <a:pt x="16133" y="17989"/>
                </a:lnTo>
                <a:lnTo>
                  <a:pt x="5515" y="17989"/>
                </a:lnTo>
                <a:lnTo>
                  <a:pt x="5515" y="10800"/>
                </a:lnTo>
                <a:lnTo>
                  <a:pt x="3861" y="10800"/>
                </a:lnTo>
                <a:close/>
              </a:path>
              <a:path fill="darkenLess" w="21648" h="21600">
                <a:moveTo>
                  <a:pt x="13400" y="6448"/>
                </a:moveTo>
                <a:lnTo>
                  <a:pt x="13400" y="4707"/>
                </a:lnTo>
                <a:lnTo>
                  <a:pt x="15176" y="4707"/>
                </a:lnTo>
                <a:lnTo>
                  <a:pt x="15176" y="8224"/>
                </a:lnTo>
                <a:close/>
              </a:path>
              <a:path fill="darkenLess" w="21648" h="21600">
                <a:moveTo>
                  <a:pt x="9901" y="14299"/>
                </a:moveTo>
                <a:lnTo>
                  <a:pt x="11747" y="14299"/>
                </a:lnTo>
                <a:lnTo>
                  <a:pt x="11747" y="17989"/>
                </a:lnTo>
                <a:lnTo>
                  <a:pt x="16133" y="17989"/>
                </a:lnTo>
                <a:lnTo>
                  <a:pt x="16133" y="10800"/>
                </a:lnTo>
                <a:lnTo>
                  <a:pt x="5515" y="10800"/>
                </a:lnTo>
                <a:lnTo>
                  <a:pt x="5515" y="17989"/>
                </a:lnTo>
                <a:lnTo>
                  <a:pt x="9901" y="1798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1" name="Text Box 3"/>
          <p:cNvSpPr/>
          <p:nvPr/>
        </p:nvSpPr>
        <p:spPr>
          <a:xfrm>
            <a:off x="7130880" y="219240"/>
            <a:ext cx="1729080" cy="459720"/>
          </a:xfrm>
          <a:prstGeom prst="rect">
            <a:avLst/>
          </a:prstGeom>
          <a:noFill/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ff"/>
                </a:solidFill>
                <a:latin typeface="Cambria"/>
              </a:rPr>
              <a:t>Задача 1</a:t>
            </a:r>
            <a:r>
              <a:rPr b="1" i="1" lang="en-US" sz="2400" spc="-1" strike="noStrike">
                <a:solidFill>
                  <a:srgbClr val="9933ff"/>
                </a:solidFill>
                <a:latin typeface="Cambri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712" name="Object 4"/>
          <p:cNvGraphicFramePr/>
          <p:nvPr/>
        </p:nvGraphicFramePr>
        <p:xfrm>
          <a:off x="5580000" y="3673440"/>
          <a:ext cx="2502000" cy="41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80000" y="3673440"/>
                    <a:ext cx="250200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4" name="Object 5"/>
          <p:cNvGraphicFramePr/>
          <p:nvPr/>
        </p:nvGraphicFramePr>
        <p:xfrm>
          <a:off x="5551560" y="4124160"/>
          <a:ext cx="3492360" cy="495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15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51560" y="4124160"/>
                    <a:ext cx="349236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6" name="Line 6"/>
          <p:cNvSpPr/>
          <p:nvPr/>
        </p:nvSpPr>
        <p:spPr>
          <a:xfrm>
            <a:off x="5886360" y="4797360"/>
            <a:ext cx="309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717" name="Object 7"/>
          <p:cNvGraphicFramePr/>
          <p:nvPr/>
        </p:nvGraphicFramePr>
        <p:xfrm>
          <a:off x="5670720" y="4979880"/>
          <a:ext cx="1117440" cy="343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18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670720" y="4979880"/>
                    <a:ext cx="1117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9" name="Text Box 8"/>
          <p:cNvSpPr/>
          <p:nvPr/>
        </p:nvSpPr>
        <p:spPr>
          <a:xfrm>
            <a:off x="3701880" y="5638680"/>
            <a:ext cx="1607040" cy="581400"/>
          </a:xfrm>
          <a:prstGeom prst="rect">
            <a:avLst/>
          </a:prstGeom>
          <a:gradFill rotWithShape="0">
            <a:gsLst>
              <a:gs pos="0">
                <a:srgbClr val="cc99ff">
                  <a:alpha val="44313"/>
                </a:srgbClr>
              </a:gs>
              <a:gs pos="50000">
                <a:srgbClr val="ffffff"/>
              </a:gs>
              <a:gs pos="100000">
                <a:srgbClr val="cc99ff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720" name="Object 9"/>
          <p:cNvGraphicFramePr/>
          <p:nvPr/>
        </p:nvGraphicFramePr>
        <p:xfrm>
          <a:off x="5703840" y="5578560"/>
          <a:ext cx="2578320" cy="622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2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703840" y="5578560"/>
                    <a:ext cx="257832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2" name="AutoShape 10"/>
          <p:cNvSpPr/>
          <p:nvPr/>
        </p:nvSpPr>
        <p:spPr>
          <a:xfrm>
            <a:off x="1415880" y="1289160"/>
            <a:ext cx="4248360" cy="2305080"/>
          </a:xfrm>
          <a:prstGeom prst="parallelogram">
            <a:avLst>
              <a:gd name="adj" fmla="val 46076"/>
            </a:avLst>
          </a:prstGeom>
          <a:gradFill rotWithShape="0">
            <a:gsLst>
              <a:gs pos="0">
                <a:srgbClr val="ffffff"/>
              </a:gs>
              <a:gs pos="100000">
                <a:srgbClr val="7de5f3">
                  <a:alpha val="44313"/>
                </a:srgbClr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723" name="Object 11"/>
          <p:cNvGraphicFramePr/>
          <p:nvPr/>
        </p:nvGraphicFramePr>
        <p:xfrm>
          <a:off x="949320" y="3273480"/>
          <a:ext cx="330120" cy="330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24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49320" y="3273480"/>
                    <a:ext cx="33012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5" name="Object 12"/>
          <p:cNvGraphicFramePr/>
          <p:nvPr/>
        </p:nvGraphicFramePr>
        <p:xfrm>
          <a:off x="2197080" y="787320"/>
          <a:ext cx="291960" cy="330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26" name="Object 1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197080" y="787320"/>
                    <a:ext cx="29196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7" name="Object 13"/>
          <p:cNvGraphicFramePr/>
          <p:nvPr/>
        </p:nvGraphicFramePr>
        <p:xfrm>
          <a:off x="5661000" y="852480"/>
          <a:ext cx="291960" cy="3430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728" name="Object 13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661000" y="852480"/>
                    <a:ext cx="29196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9" name="Object 14"/>
          <p:cNvGraphicFramePr/>
          <p:nvPr/>
        </p:nvGraphicFramePr>
        <p:xfrm>
          <a:off x="4716360" y="3357720"/>
          <a:ext cx="330480" cy="3301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730" name="Object 14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716360" y="3357720"/>
                    <a:ext cx="33048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1" name="Freeform 15"/>
          <p:cNvSpPr/>
          <p:nvPr/>
        </p:nvSpPr>
        <p:spPr>
          <a:xfrm>
            <a:off x="4162320" y="1295280"/>
            <a:ext cx="1505160" cy="32576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732" name="Object 16"/>
          <p:cNvGraphicFramePr/>
          <p:nvPr/>
        </p:nvGraphicFramePr>
        <p:xfrm>
          <a:off x="4356000" y="4292640"/>
          <a:ext cx="406440" cy="3301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733" name="Object 16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356000" y="4292640"/>
                    <a:ext cx="40644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4" name="Arc 17"/>
          <p:cNvSpPr/>
          <p:nvPr/>
        </p:nvSpPr>
        <p:spPr>
          <a:xfrm rot="11182200">
            <a:off x="3990240" y="3619080"/>
            <a:ext cx="390600" cy="5144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735" name="Object 18"/>
          <p:cNvGraphicFramePr/>
          <p:nvPr/>
        </p:nvGraphicFramePr>
        <p:xfrm>
          <a:off x="3492360" y="3860640"/>
          <a:ext cx="559080" cy="4320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736" name="Object 18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492360" y="3860640"/>
                    <a:ext cx="55908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7" name="Freeform 19"/>
          <p:cNvSpPr/>
          <p:nvPr/>
        </p:nvSpPr>
        <p:spPr>
          <a:xfrm>
            <a:off x="1409760" y="1285920"/>
            <a:ext cx="4257720" cy="23050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738" name="Object 20"/>
          <p:cNvGraphicFramePr/>
          <p:nvPr/>
        </p:nvGraphicFramePr>
        <p:xfrm>
          <a:off x="3924360" y="836640"/>
          <a:ext cx="203040" cy="3427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739" name="Object 20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924360" y="836640"/>
                    <a:ext cx="20304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restart="whenNotActive" nodeType="interactiveSeq" fill="hold">
                <p:stCondLst>
                  <p:cond evt="onClick">
                    <p:tgtEl>
                      <p:spTgt spid="719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719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2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Нижний колонтитул 1"/>
          <p:cNvSpPr/>
          <p:nvPr/>
        </p:nvSpPr>
        <p:spPr>
          <a:xfrm>
            <a:off x="324000" y="6568920"/>
            <a:ext cx="8640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mbria"/>
              </a:rPr>
              <a:t>Обухова Н.С, МОУ СОШ №17 г. Заволжья Нижегородской обла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AutoShape 2"/>
          <p:cNvSpPr/>
          <p:nvPr/>
        </p:nvSpPr>
        <p:spPr>
          <a:xfrm>
            <a:off x="250920" y="5950080"/>
            <a:ext cx="649080" cy="64764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48" h="21600">
                <a:moveTo>
                  <a:pt x="0" y="0"/>
                </a:moveTo>
                <a:lnTo>
                  <a:pt x="21648" y="0"/>
                </a:lnTo>
                <a:lnTo>
                  <a:pt x="21648" y="21600"/>
                </a:lnTo>
                <a:lnTo>
                  <a:pt x="0" y="21600"/>
                </a:lnTo>
                <a:close/>
              </a:path>
              <a:path fill="lightenLess" w="21648" h="21600">
                <a:moveTo>
                  <a:pt x="0" y="0"/>
                </a:moveTo>
                <a:lnTo>
                  <a:pt x="21648" y="0"/>
                </a:lnTo>
                <a:lnTo>
                  <a:pt x="20248" y="1400"/>
                </a:lnTo>
                <a:lnTo>
                  <a:pt x="1400" y="1400"/>
                </a:lnTo>
                <a:close/>
              </a:path>
              <a:path fill="darken" w="21648" h="21600">
                <a:moveTo>
                  <a:pt x="21648" y="0"/>
                </a:moveTo>
                <a:lnTo>
                  <a:pt x="21648" y="21600"/>
                </a:lnTo>
                <a:lnTo>
                  <a:pt x="20248" y="20200"/>
                </a:lnTo>
                <a:lnTo>
                  <a:pt x="20248" y="1400"/>
                </a:lnTo>
                <a:close/>
              </a:path>
              <a:path fill="darkenLess" w="21648" h="21600">
                <a:moveTo>
                  <a:pt x="21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48" y="20200"/>
                </a:lnTo>
                <a:close/>
              </a:path>
              <a:path fill="lighten" w="21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48" h="21600">
                <a:moveTo>
                  <a:pt x="10824" y="3837"/>
                </a:moveTo>
                <a:lnTo>
                  <a:pt x="13400" y="6448"/>
                </a:lnTo>
                <a:lnTo>
                  <a:pt x="13400" y="4707"/>
                </a:lnTo>
                <a:lnTo>
                  <a:pt x="15176" y="4707"/>
                </a:lnTo>
                <a:lnTo>
                  <a:pt x="15176" y="8224"/>
                </a:lnTo>
                <a:lnTo>
                  <a:pt x="17787" y="10800"/>
                </a:lnTo>
                <a:lnTo>
                  <a:pt x="16133" y="10800"/>
                </a:lnTo>
                <a:lnTo>
                  <a:pt x="16133" y="17989"/>
                </a:lnTo>
                <a:lnTo>
                  <a:pt x="5515" y="17989"/>
                </a:lnTo>
                <a:lnTo>
                  <a:pt x="5515" y="10800"/>
                </a:lnTo>
                <a:lnTo>
                  <a:pt x="3861" y="10800"/>
                </a:lnTo>
                <a:close/>
              </a:path>
              <a:path fill="darkenLess" w="21648" h="21600">
                <a:moveTo>
                  <a:pt x="13400" y="6448"/>
                </a:moveTo>
                <a:lnTo>
                  <a:pt x="13400" y="4707"/>
                </a:lnTo>
                <a:lnTo>
                  <a:pt x="15176" y="4707"/>
                </a:lnTo>
                <a:lnTo>
                  <a:pt x="15176" y="8224"/>
                </a:lnTo>
                <a:close/>
              </a:path>
              <a:path fill="darkenLess" w="21648" h="21600">
                <a:moveTo>
                  <a:pt x="9901" y="14299"/>
                </a:moveTo>
                <a:lnTo>
                  <a:pt x="11747" y="14299"/>
                </a:lnTo>
                <a:lnTo>
                  <a:pt x="11747" y="17989"/>
                </a:lnTo>
                <a:lnTo>
                  <a:pt x="16133" y="17989"/>
                </a:lnTo>
                <a:lnTo>
                  <a:pt x="16133" y="10800"/>
                </a:lnTo>
                <a:lnTo>
                  <a:pt x="5515" y="10800"/>
                </a:lnTo>
                <a:lnTo>
                  <a:pt x="5515" y="17989"/>
                </a:lnTo>
                <a:lnTo>
                  <a:pt x="9901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2" name="Text Box 3"/>
          <p:cNvSpPr/>
          <p:nvPr/>
        </p:nvSpPr>
        <p:spPr>
          <a:xfrm>
            <a:off x="7133400" y="219240"/>
            <a:ext cx="1724400" cy="459720"/>
          </a:xfrm>
          <a:prstGeom prst="rect">
            <a:avLst/>
          </a:prstGeom>
          <a:noFill/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ff"/>
                </a:solidFill>
                <a:latin typeface="Cambria"/>
              </a:rPr>
              <a:t>Задача 1</a:t>
            </a:r>
            <a:r>
              <a:rPr b="1" i="1" lang="en-US" sz="2400" spc="-1" strike="noStrike">
                <a:solidFill>
                  <a:srgbClr val="9933ff"/>
                </a:solidFill>
                <a:latin typeface="Cambri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743" name="Object 5"/>
          <p:cNvGraphicFramePr/>
          <p:nvPr/>
        </p:nvGraphicFramePr>
        <p:xfrm>
          <a:off x="5665680" y="3611520"/>
          <a:ext cx="3492720" cy="49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44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65680" y="3611520"/>
                    <a:ext cx="349272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5" name="Line 6"/>
          <p:cNvSpPr/>
          <p:nvPr/>
        </p:nvSpPr>
        <p:spPr>
          <a:xfrm>
            <a:off x="5886360" y="4797360"/>
            <a:ext cx="309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746" name="Object 7"/>
          <p:cNvGraphicFramePr/>
          <p:nvPr/>
        </p:nvGraphicFramePr>
        <p:xfrm>
          <a:off x="5670720" y="4979880"/>
          <a:ext cx="1117440" cy="343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47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670720" y="4979880"/>
                    <a:ext cx="1117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8" name="Text Box 8"/>
          <p:cNvSpPr/>
          <p:nvPr/>
        </p:nvSpPr>
        <p:spPr>
          <a:xfrm>
            <a:off x="3701880" y="5638680"/>
            <a:ext cx="1607040" cy="581400"/>
          </a:xfrm>
          <a:prstGeom prst="rect">
            <a:avLst/>
          </a:prstGeom>
          <a:gradFill rotWithShape="0">
            <a:gsLst>
              <a:gs pos="0">
                <a:srgbClr val="cc99ff">
                  <a:alpha val="44313"/>
                </a:srgbClr>
              </a:gs>
              <a:gs pos="50000">
                <a:srgbClr val="ffffff"/>
              </a:gs>
              <a:gs pos="100000">
                <a:srgbClr val="cc99ff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749" name="Object 9"/>
          <p:cNvGraphicFramePr/>
          <p:nvPr/>
        </p:nvGraphicFramePr>
        <p:xfrm>
          <a:off x="5640480" y="5616720"/>
          <a:ext cx="1676160" cy="507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50" name="Object 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640480" y="5616720"/>
                    <a:ext cx="167616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1" name="AutoShape 10"/>
          <p:cNvSpPr/>
          <p:nvPr/>
        </p:nvSpPr>
        <p:spPr>
          <a:xfrm>
            <a:off x="1415880" y="1289160"/>
            <a:ext cx="4248360" cy="2305080"/>
          </a:xfrm>
          <a:prstGeom prst="parallelogram">
            <a:avLst>
              <a:gd name="adj" fmla="val 46076"/>
            </a:avLst>
          </a:prstGeom>
          <a:gradFill rotWithShape="0">
            <a:gsLst>
              <a:gs pos="0">
                <a:srgbClr val="ffffff"/>
              </a:gs>
              <a:gs pos="50000">
                <a:srgbClr val="d89df9">
                  <a:alpha val="44313"/>
                </a:srgbClr>
              </a:gs>
              <a:gs pos="100000">
                <a:srgbClr val="ffffff"/>
              </a:gs>
            </a:gsLst>
            <a:lin ang="189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752" name="Object 11"/>
          <p:cNvGraphicFramePr/>
          <p:nvPr/>
        </p:nvGraphicFramePr>
        <p:xfrm>
          <a:off x="949320" y="3273480"/>
          <a:ext cx="330120" cy="3301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53" name="Object 1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949320" y="3273480"/>
                    <a:ext cx="33012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4" name="Object 12"/>
          <p:cNvGraphicFramePr/>
          <p:nvPr/>
        </p:nvGraphicFramePr>
        <p:xfrm>
          <a:off x="2197080" y="787320"/>
          <a:ext cx="291960" cy="3301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55" name="Object 1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197080" y="787320"/>
                    <a:ext cx="29196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6" name="Object 13"/>
          <p:cNvGraphicFramePr/>
          <p:nvPr/>
        </p:nvGraphicFramePr>
        <p:xfrm>
          <a:off x="5661000" y="852480"/>
          <a:ext cx="291960" cy="3430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757" name="Object 13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661000" y="852480"/>
                    <a:ext cx="29196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8" name="Object 14"/>
          <p:cNvGraphicFramePr/>
          <p:nvPr/>
        </p:nvGraphicFramePr>
        <p:xfrm>
          <a:off x="4859280" y="3284640"/>
          <a:ext cx="330120" cy="3301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759" name="Object 14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859280" y="3284640"/>
                    <a:ext cx="33012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0" name="Freeform 15"/>
          <p:cNvSpPr/>
          <p:nvPr/>
        </p:nvSpPr>
        <p:spPr>
          <a:xfrm>
            <a:off x="4162320" y="1295280"/>
            <a:ext cx="1505160" cy="32576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761" name="Object 16"/>
          <p:cNvGraphicFramePr/>
          <p:nvPr/>
        </p:nvGraphicFramePr>
        <p:xfrm>
          <a:off x="4356000" y="4292640"/>
          <a:ext cx="406440" cy="3301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762" name="Object 16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356000" y="4292640"/>
                    <a:ext cx="40644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3" name="Arc 17"/>
          <p:cNvSpPr/>
          <p:nvPr/>
        </p:nvSpPr>
        <p:spPr>
          <a:xfrm rot="11182200">
            <a:off x="3990240" y="3619080"/>
            <a:ext cx="390600" cy="5144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764" name="Object 18"/>
          <p:cNvGraphicFramePr/>
          <p:nvPr/>
        </p:nvGraphicFramePr>
        <p:xfrm>
          <a:off x="3492360" y="3860640"/>
          <a:ext cx="559080" cy="43200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765" name="Object 18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3492360" y="3860640"/>
                    <a:ext cx="55908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6" name="Freeform 19"/>
          <p:cNvSpPr/>
          <p:nvPr/>
        </p:nvSpPr>
        <p:spPr>
          <a:xfrm>
            <a:off x="1409760" y="1285920"/>
            <a:ext cx="4257720" cy="23050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767" name="Object 20"/>
          <p:cNvGraphicFramePr/>
          <p:nvPr/>
        </p:nvGraphicFramePr>
        <p:xfrm>
          <a:off x="3917880" y="836640"/>
          <a:ext cx="216000" cy="34272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768" name="Object 20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3917880" y="836640"/>
                    <a:ext cx="21600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9" name="Arc 21"/>
          <p:cNvSpPr/>
          <p:nvPr/>
        </p:nvSpPr>
        <p:spPr>
          <a:xfrm>
            <a:off x="1962000" y="3295800"/>
            <a:ext cx="95400" cy="2854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0" name="Arc 22"/>
          <p:cNvSpPr/>
          <p:nvPr/>
        </p:nvSpPr>
        <p:spPr>
          <a:xfrm>
            <a:off x="2085840" y="3219480"/>
            <a:ext cx="86040" cy="3808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771" name="Object 23"/>
          <p:cNvGraphicFramePr/>
          <p:nvPr/>
        </p:nvGraphicFramePr>
        <p:xfrm>
          <a:off x="2268360" y="3141720"/>
          <a:ext cx="559080" cy="43164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772" name="Object 23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2268360" y="3141720"/>
                    <a:ext cx="55908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3" name="Object 24"/>
          <p:cNvGraphicFramePr/>
          <p:nvPr/>
        </p:nvGraphicFramePr>
        <p:xfrm>
          <a:off x="5694480" y="4176720"/>
          <a:ext cx="2120760" cy="43164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774" name="Object 24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5694480" y="4176720"/>
                    <a:ext cx="21207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restart="whenNotActive" nodeType="interactiveSeq" fill="hold">
                <p:stCondLst>
                  <p:cond evt="onClick">
                    <p:tgtEl>
                      <p:spTgt spid="748"/>
                    </p:tgtEl>
                  </p:cond>
                </p:stCondLst>
                <p:childTnLst>
                  <p:par>
                    <p:cTn id="115" fill="hold">
                      <p:stCondLst>
                        <p:cond evt="onClick">
                          <p:tgtEl>
                            <p:spTgt spid="748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2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Нижний колонтитул 1"/>
          <p:cNvSpPr/>
          <p:nvPr/>
        </p:nvSpPr>
        <p:spPr>
          <a:xfrm>
            <a:off x="324000" y="6568920"/>
            <a:ext cx="8640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mbria"/>
              </a:rPr>
              <a:t>Обухова Н.С, МОУ СОШ №17 г. Заволжья Нижегородской обла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9" name="Group 2"/>
          <p:cNvGrpSpPr/>
          <p:nvPr/>
        </p:nvGrpSpPr>
        <p:grpSpPr>
          <a:xfrm>
            <a:off x="2338560" y="2347920"/>
            <a:ext cx="647640" cy="647640"/>
            <a:chOff x="2338560" y="2347920"/>
            <a:chExt cx="647640" cy="647640"/>
          </a:xfrm>
        </p:grpSpPr>
        <p:sp>
          <p:nvSpPr>
            <p:cNvPr id="170" name="AutoShape 3"/>
            <p:cNvSpPr/>
            <p:nvPr/>
          </p:nvSpPr>
          <p:spPr>
            <a:xfrm>
              <a:off x="2338560" y="2347920"/>
              <a:ext cx="647640" cy="647640"/>
            </a:xfrm>
            <a:custGeom>
              <a:avLst/>
              <a:gdLst>
                <a:gd name="textAreaLeft" fmla="*/ 41760 w 647640"/>
                <a:gd name="textAreaRight" fmla="*/ 605880 w 647640"/>
                <a:gd name="textAreaTop" fmla="*/ 41760 h 647640"/>
                <a:gd name="textAreaBottom" fmla="*/ 6058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54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1" name="Text Box 4">
              <a:hlinkClick r:id="rId1" action="ppaction://hlinksldjump"/>
            </p:cNvPr>
            <p:cNvSpPr/>
            <p:nvPr/>
          </p:nvSpPr>
          <p:spPr>
            <a:xfrm>
              <a:off x="2481480" y="241920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ebf7ff"/>
                  </a:solidFill>
                  <a:latin typeface="Verdana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72" name="Group 5"/>
          <p:cNvGrpSpPr/>
          <p:nvPr/>
        </p:nvGrpSpPr>
        <p:grpSpPr>
          <a:xfrm>
            <a:off x="3201840" y="2347920"/>
            <a:ext cx="647640" cy="647640"/>
            <a:chOff x="3201840" y="2347920"/>
            <a:chExt cx="647640" cy="647640"/>
          </a:xfrm>
        </p:grpSpPr>
        <p:sp>
          <p:nvSpPr>
            <p:cNvPr id="173" name="AutoShape 6"/>
            <p:cNvSpPr/>
            <p:nvPr/>
          </p:nvSpPr>
          <p:spPr>
            <a:xfrm>
              <a:off x="3201840" y="2347920"/>
              <a:ext cx="647640" cy="647640"/>
            </a:xfrm>
            <a:custGeom>
              <a:avLst/>
              <a:gdLst>
                <a:gd name="textAreaLeft" fmla="*/ 41760 w 647640"/>
                <a:gd name="textAreaRight" fmla="*/ 605880 w 647640"/>
                <a:gd name="textAreaTop" fmla="*/ 41760 h 647640"/>
                <a:gd name="textAreaBottom" fmla="*/ 6058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54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Text Box 7">
              <a:hlinkClick r:id="rId2" action="ppaction://hlinksldjump"/>
            </p:cNvPr>
            <p:cNvSpPr/>
            <p:nvPr/>
          </p:nvSpPr>
          <p:spPr>
            <a:xfrm>
              <a:off x="3344760" y="241920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ebf7ff"/>
                  </a:solidFill>
                  <a:latin typeface="Verdana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75" name="Group 8"/>
          <p:cNvGrpSpPr/>
          <p:nvPr/>
        </p:nvGrpSpPr>
        <p:grpSpPr>
          <a:xfrm>
            <a:off x="4067280" y="2347920"/>
            <a:ext cx="647640" cy="647640"/>
            <a:chOff x="4067280" y="2347920"/>
            <a:chExt cx="647640" cy="647640"/>
          </a:xfrm>
        </p:grpSpPr>
        <p:sp>
          <p:nvSpPr>
            <p:cNvPr id="176" name="AutoShape 9"/>
            <p:cNvSpPr/>
            <p:nvPr/>
          </p:nvSpPr>
          <p:spPr>
            <a:xfrm>
              <a:off x="4067280" y="2347920"/>
              <a:ext cx="647640" cy="647640"/>
            </a:xfrm>
            <a:custGeom>
              <a:avLst/>
              <a:gdLst>
                <a:gd name="textAreaLeft" fmla="*/ 41760 w 647640"/>
                <a:gd name="textAreaRight" fmla="*/ 605880 w 647640"/>
                <a:gd name="textAreaTop" fmla="*/ 41760 h 647640"/>
                <a:gd name="textAreaBottom" fmla="*/ 6058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54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7" name="Text Box 10">
              <a:hlinkClick r:id="rId3" action="ppaction://hlinksldjump"/>
            </p:cNvPr>
            <p:cNvSpPr/>
            <p:nvPr/>
          </p:nvSpPr>
          <p:spPr>
            <a:xfrm>
              <a:off x="4210200" y="241920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ebf7ff"/>
                  </a:solidFill>
                  <a:latin typeface="Verdana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78" name="Group 11"/>
          <p:cNvGrpSpPr/>
          <p:nvPr/>
        </p:nvGrpSpPr>
        <p:grpSpPr>
          <a:xfrm>
            <a:off x="4930920" y="2347920"/>
            <a:ext cx="647640" cy="647640"/>
            <a:chOff x="4930920" y="2347920"/>
            <a:chExt cx="647640" cy="647640"/>
          </a:xfrm>
        </p:grpSpPr>
        <p:sp>
          <p:nvSpPr>
            <p:cNvPr id="179" name="AutoShape 12"/>
            <p:cNvSpPr/>
            <p:nvPr/>
          </p:nvSpPr>
          <p:spPr>
            <a:xfrm>
              <a:off x="4930920" y="2347920"/>
              <a:ext cx="647640" cy="647640"/>
            </a:xfrm>
            <a:custGeom>
              <a:avLst/>
              <a:gdLst>
                <a:gd name="textAreaLeft" fmla="*/ 41760 w 647640"/>
                <a:gd name="textAreaRight" fmla="*/ 605880 w 647640"/>
                <a:gd name="textAreaTop" fmla="*/ 41760 h 647640"/>
                <a:gd name="textAreaBottom" fmla="*/ 6058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54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0" name="Text Box 13">
              <a:hlinkClick r:id="rId4" action="ppaction://hlinksldjump"/>
            </p:cNvPr>
            <p:cNvSpPr/>
            <p:nvPr/>
          </p:nvSpPr>
          <p:spPr>
            <a:xfrm>
              <a:off x="5073840" y="241920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ebf7ff"/>
                  </a:solidFill>
                  <a:latin typeface="Verdana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1" name="Group 14"/>
          <p:cNvGrpSpPr/>
          <p:nvPr/>
        </p:nvGrpSpPr>
        <p:grpSpPr>
          <a:xfrm>
            <a:off x="6634080" y="2340000"/>
            <a:ext cx="647640" cy="647640"/>
            <a:chOff x="6634080" y="2340000"/>
            <a:chExt cx="647640" cy="647640"/>
          </a:xfrm>
        </p:grpSpPr>
        <p:sp>
          <p:nvSpPr>
            <p:cNvPr id="182" name="AutoShape 15"/>
            <p:cNvSpPr/>
            <p:nvPr/>
          </p:nvSpPr>
          <p:spPr>
            <a:xfrm>
              <a:off x="6634080" y="2340000"/>
              <a:ext cx="647640" cy="647640"/>
            </a:xfrm>
            <a:custGeom>
              <a:avLst/>
              <a:gdLst>
                <a:gd name="textAreaLeft" fmla="*/ 41760 w 647640"/>
                <a:gd name="textAreaRight" fmla="*/ 605880 w 647640"/>
                <a:gd name="textAreaTop" fmla="*/ 41760 h 647640"/>
                <a:gd name="textAreaBottom" fmla="*/ 6058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54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Text Box 16">
              <a:hlinkClick r:id="rId5" action="ppaction://hlinksldjump"/>
            </p:cNvPr>
            <p:cNvSpPr/>
            <p:nvPr/>
          </p:nvSpPr>
          <p:spPr>
            <a:xfrm>
              <a:off x="6777000" y="241128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ebf7ff"/>
                  </a:solidFill>
                  <a:latin typeface="Verdana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4" name="Group 17"/>
          <p:cNvGrpSpPr/>
          <p:nvPr/>
        </p:nvGrpSpPr>
        <p:grpSpPr>
          <a:xfrm>
            <a:off x="2335320" y="3139920"/>
            <a:ext cx="647640" cy="647640"/>
            <a:chOff x="2335320" y="3139920"/>
            <a:chExt cx="647640" cy="647640"/>
          </a:xfrm>
        </p:grpSpPr>
        <p:sp>
          <p:nvSpPr>
            <p:cNvPr id="185" name="AutoShape 18"/>
            <p:cNvSpPr/>
            <p:nvPr/>
          </p:nvSpPr>
          <p:spPr>
            <a:xfrm>
              <a:off x="2335320" y="3139920"/>
              <a:ext cx="647640" cy="647640"/>
            </a:xfrm>
            <a:custGeom>
              <a:avLst/>
              <a:gdLst>
                <a:gd name="textAreaLeft" fmla="*/ 41760 w 647640"/>
                <a:gd name="textAreaRight" fmla="*/ 605880 w 647640"/>
                <a:gd name="textAreaTop" fmla="*/ 41760 h 647640"/>
                <a:gd name="textAreaBottom" fmla="*/ 6058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54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6" name="Text Box 19">
              <a:hlinkClick r:id="rId6" action="ppaction://hlinksldjump"/>
            </p:cNvPr>
            <p:cNvSpPr/>
            <p:nvPr/>
          </p:nvSpPr>
          <p:spPr>
            <a:xfrm>
              <a:off x="2478240" y="321120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ebf7ff"/>
                  </a:solidFill>
                  <a:latin typeface="Verdana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7" name="WordArt 20"/>
          <p:cNvSpPr txBox="1"/>
          <p:nvPr/>
        </p:nvSpPr>
        <p:spPr>
          <a:xfrm>
            <a:off x="611280" y="765000"/>
            <a:ext cx="76327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edfad2"/>
                  </a:solidFill>
                  <a:miter/>
                </a:ln>
                <a:solidFill>
                  <a:srgbClr val="54007e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Теоремы синусов и косинусов</a:t>
            </a:r>
            <a:endParaRPr b="1" lang="en-US" sz="1800" spc="1" strike="noStrike">
              <a:ln w="9360">
                <a:solidFill>
                  <a:srgbClr val="edfad2"/>
                </a:solidFill>
                <a:miter/>
              </a:ln>
              <a:solidFill>
                <a:srgbClr val="54007e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grpSp>
        <p:nvGrpSpPr>
          <p:cNvPr id="188" name="Group 21"/>
          <p:cNvGrpSpPr/>
          <p:nvPr/>
        </p:nvGrpSpPr>
        <p:grpSpPr>
          <a:xfrm>
            <a:off x="5784840" y="2338560"/>
            <a:ext cx="647640" cy="647640"/>
            <a:chOff x="5784840" y="2338560"/>
            <a:chExt cx="647640" cy="647640"/>
          </a:xfrm>
        </p:grpSpPr>
        <p:sp>
          <p:nvSpPr>
            <p:cNvPr id="189" name="AutoShape 22"/>
            <p:cNvSpPr/>
            <p:nvPr/>
          </p:nvSpPr>
          <p:spPr>
            <a:xfrm>
              <a:off x="5784840" y="2338560"/>
              <a:ext cx="647640" cy="647640"/>
            </a:xfrm>
            <a:custGeom>
              <a:avLst/>
              <a:gdLst>
                <a:gd name="textAreaLeft" fmla="*/ 41760 w 647640"/>
                <a:gd name="textAreaRight" fmla="*/ 605880 w 647640"/>
                <a:gd name="textAreaTop" fmla="*/ 41760 h 647640"/>
                <a:gd name="textAreaBottom" fmla="*/ 6058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54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" name="Text Box 23">
              <a:hlinkClick r:id="rId7" action="ppaction://hlinksldjump"/>
            </p:cNvPr>
            <p:cNvSpPr/>
            <p:nvPr/>
          </p:nvSpPr>
          <p:spPr>
            <a:xfrm>
              <a:off x="5927760" y="240984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ebf7ff"/>
                  </a:solidFill>
                  <a:latin typeface="Verdana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1" name="Group 24"/>
          <p:cNvGrpSpPr/>
          <p:nvPr/>
        </p:nvGrpSpPr>
        <p:grpSpPr>
          <a:xfrm>
            <a:off x="3200400" y="3159000"/>
            <a:ext cx="647640" cy="647640"/>
            <a:chOff x="3200400" y="3159000"/>
            <a:chExt cx="647640" cy="647640"/>
          </a:xfrm>
        </p:grpSpPr>
        <p:sp>
          <p:nvSpPr>
            <p:cNvPr id="192" name="AutoShape 25"/>
            <p:cNvSpPr/>
            <p:nvPr/>
          </p:nvSpPr>
          <p:spPr>
            <a:xfrm>
              <a:off x="3200400" y="3159000"/>
              <a:ext cx="647640" cy="647640"/>
            </a:xfrm>
            <a:custGeom>
              <a:avLst/>
              <a:gdLst>
                <a:gd name="textAreaLeft" fmla="*/ 41760 w 647640"/>
                <a:gd name="textAreaRight" fmla="*/ 605880 w 647640"/>
                <a:gd name="textAreaTop" fmla="*/ 41760 h 647640"/>
                <a:gd name="textAreaBottom" fmla="*/ 6058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54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3" name="Text Box 26">
              <a:hlinkClick r:id="rId8" action="ppaction://hlinksldjump"/>
            </p:cNvPr>
            <p:cNvSpPr/>
            <p:nvPr/>
          </p:nvSpPr>
          <p:spPr>
            <a:xfrm>
              <a:off x="3343320" y="323028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ebf7ff"/>
                  </a:solidFill>
                  <a:latin typeface="Verdana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4" name="Group 27"/>
          <p:cNvGrpSpPr/>
          <p:nvPr/>
        </p:nvGrpSpPr>
        <p:grpSpPr>
          <a:xfrm>
            <a:off x="4064040" y="3159000"/>
            <a:ext cx="647640" cy="647640"/>
            <a:chOff x="4064040" y="3159000"/>
            <a:chExt cx="647640" cy="647640"/>
          </a:xfrm>
        </p:grpSpPr>
        <p:sp>
          <p:nvSpPr>
            <p:cNvPr id="195" name="AutoShape 28"/>
            <p:cNvSpPr/>
            <p:nvPr/>
          </p:nvSpPr>
          <p:spPr>
            <a:xfrm>
              <a:off x="4064040" y="3159000"/>
              <a:ext cx="647640" cy="647640"/>
            </a:xfrm>
            <a:custGeom>
              <a:avLst/>
              <a:gdLst>
                <a:gd name="textAreaLeft" fmla="*/ 41760 w 647640"/>
                <a:gd name="textAreaRight" fmla="*/ 605880 w 647640"/>
                <a:gd name="textAreaTop" fmla="*/ 41760 h 647640"/>
                <a:gd name="textAreaBottom" fmla="*/ 6058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54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" name="Text Box 29">
              <a:hlinkClick r:id="rId9" action="ppaction://hlinksldjump"/>
            </p:cNvPr>
            <p:cNvSpPr/>
            <p:nvPr/>
          </p:nvSpPr>
          <p:spPr>
            <a:xfrm>
              <a:off x="4206960" y="323028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ebf7ff"/>
                  </a:solidFill>
                  <a:latin typeface="Verdana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7" name="Group 30"/>
          <p:cNvGrpSpPr/>
          <p:nvPr/>
        </p:nvGrpSpPr>
        <p:grpSpPr>
          <a:xfrm>
            <a:off x="4956120" y="3168720"/>
            <a:ext cx="647640" cy="647640"/>
            <a:chOff x="4956120" y="3168720"/>
            <a:chExt cx="647640" cy="647640"/>
          </a:xfrm>
        </p:grpSpPr>
        <p:sp>
          <p:nvSpPr>
            <p:cNvPr id="198" name="AutoShape 31"/>
            <p:cNvSpPr/>
            <p:nvPr/>
          </p:nvSpPr>
          <p:spPr>
            <a:xfrm>
              <a:off x="4956120" y="3168720"/>
              <a:ext cx="647640" cy="647640"/>
            </a:xfrm>
            <a:custGeom>
              <a:avLst/>
              <a:gdLst>
                <a:gd name="textAreaLeft" fmla="*/ 41760 w 647640"/>
                <a:gd name="textAreaRight" fmla="*/ 605880 w 647640"/>
                <a:gd name="textAreaTop" fmla="*/ 41760 h 647640"/>
                <a:gd name="textAreaBottom" fmla="*/ 6058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54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9" name="Text Box 32">
              <a:hlinkClick r:id="rId10" action="ppaction://hlinksldjump"/>
            </p:cNvPr>
            <p:cNvSpPr/>
            <p:nvPr/>
          </p:nvSpPr>
          <p:spPr>
            <a:xfrm>
              <a:off x="5027400" y="3311640"/>
              <a:ext cx="57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ebf7ff"/>
                  </a:solidFill>
                  <a:latin typeface="Verdana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00" name="Group 33"/>
          <p:cNvGrpSpPr/>
          <p:nvPr/>
        </p:nvGrpSpPr>
        <p:grpSpPr>
          <a:xfrm>
            <a:off x="5776920" y="3179880"/>
            <a:ext cx="647640" cy="647640"/>
            <a:chOff x="5776920" y="3179880"/>
            <a:chExt cx="647640" cy="647640"/>
          </a:xfrm>
        </p:grpSpPr>
        <p:sp>
          <p:nvSpPr>
            <p:cNvPr id="201" name="AutoShape 34"/>
            <p:cNvSpPr/>
            <p:nvPr/>
          </p:nvSpPr>
          <p:spPr>
            <a:xfrm>
              <a:off x="5776920" y="3179880"/>
              <a:ext cx="647640" cy="647640"/>
            </a:xfrm>
            <a:custGeom>
              <a:avLst/>
              <a:gdLst>
                <a:gd name="textAreaLeft" fmla="*/ 41760 w 647640"/>
                <a:gd name="textAreaRight" fmla="*/ 605880 w 647640"/>
                <a:gd name="textAreaTop" fmla="*/ 41760 h 647640"/>
                <a:gd name="textAreaBottom" fmla="*/ 6058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54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2" name="Text Box 35">
              <a:hlinkClick r:id="rId11" action="ppaction://hlinksldjump"/>
            </p:cNvPr>
            <p:cNvSpPr/>
            <p:nvPr/>
          </p:nvSpPr>
          <p:spPr>
            <a:xfrm>
              <a:off x="5848200" y="3322800"/>
              <a:ext cx="57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ebf7ff"/>
                  </a:solidFill>
                  <a:latin typeface="Verdana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03" name="Group 36"/>
          <p:cNvGrpSpPr/>
          <p:nvPr/>
        </p:nvGrpSpPr>
        <p:grpSpPr>
          <a:xfrm>
            <a:off x="6640560" y="3170160"/>
            <a:ext cx="647640" cy="647640"/>
            <a:chOff x="6640560" y="3170160"/>
            <a:chExt cx="647640" cy="647640"/>
          </a:xfrm>
        </p:grpSpPr>
        <p:sp>
          <p:nvSpPr>
            <p:cNvPr id="204" name="AutoShape 37"/>
            <p:cNvSpPr/>
            <p:nvPr/>
          </p:nvSpPr>
          <p:spPr>
            <a:xfrm>
              <a:off x="6640560" y="3170160"/>
              <a:ext cx="647640" cy="647640"/>
            </a:xfrm>
            <a:custGeom>
              <a:avLst/>
              <a:gdLst>
                <a:gd name="textAreaLeft" fmla="*/ 41760 w 647640"/>
                <a:gd name="textAreaRight" fmla="*/ 605880 w 647640"/>
                <a:gd name="textAreaTop" fmla="*/ 41760 h 647640"/>
                <a:gd name="textAreaBottom" fmla="*/ 6058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54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" name="Text Box 38">
              <a:hlinkClick r:id="rId12" action="ppaction://hlinksldjump"/>
            </p:cNvPr>
            <p:cNvSpPr/>
            <p:nvPr/>
          </p:nvSpPr>
          <p:spPr>
            <a:xfrm>
              <a:off x="6711840" y="3313080"/>
              <a:ext cx="57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ebf7ff"/>
                  </a:solidFill>
                  <a:latin typeface="Verdana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06" name="Group 39"/>
          <p:cNvGrpSpPr/>
          <p:nvPr/>
        </p:nvGrpSpPr>
        <p:grpSpPr>
          <a:xfrm>
            <a:off x="2343240" y="3932280"/>
            <a:ext cx="647640" cy="647640"/>
            <a:chOff x="2343240" y="3932280"/>
            <a:chExt cx="647640" cy="647640"/>
          </a:xfrm>
        </p:grpSpPr>
        <p:sp>
          <p:nvSpPr>
            <p:cNvPr id="207" name="AutoShape 40"/>
            <p:cNvSpPr/>
            <p:nvPr/>
          </p:nvSpPr>
          <p:spPr>
            <a:xfrm>
              <a:off x="2343240" y="3932280"/>
              <a:ext cx="647640" cy="647640"/>
            </a:xfrm>
            <a:custGeom>
              <a:avLst/>
              <a:gdLst>
                <a:gd name="textAreaLeft" fmla="*/ 41760 w 647640"/>
                <a:gd name="textAreaRight" fmla="*/ 605880 w 647640"/>
                <a:gd name="textAreaTop" fmla="*/ 41760 h 647640"/>
                <a:gd name="textAreaBottom" fmla="*/ 6058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54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Text Box 41">
              <a:hlinkClick r:id="rId13" action="ppaction://hlinksldjump"/>
            </p:cNvPr>
            <p:cNvSpPr/>
            <p:nvPr/>
          </p:nvSpPr>
          <p:spPr>
            <a:xfrm>
              <a:off x="2414520" y="4075200"/>
              <a:ext cx="57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ebf7ff"/>
                  </a:solidFill>
                  <a:latin typeface="Verdana"/>
                </a:rPr>
                <a:t>13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09" name="Group 42"/>
          <p:cNvGrpSpPr/>
          <p:nvPr/>
        </p:nvGrpSpPr>
        <p:grpSpPr>
          <a:xfrm>
            <a:off x="3178080" y="3941640"/>
            <a:ext cx="647640" cy="647640"/>
            <a:chOff x="3178080" y="3941640"/>
            <a:chExt cx="647640" cy="647640"/>
          </a:xfrm>
        </p:grpSpPr>
        <p:sp>
          <p:nvSpPr>
            <p:cNvPr id="210" name="AutoShape 43"/>
            <p:cNvSpPr/>
            <p:nvPr/>
          </p:nvSpPr>
          <p:spPr>
            <a:xfrm>
              <a:off x="3178080" y="3941640"/>
              <a:ext cx="647640" cy="647640"/>
            </a:xfrm>
            <a:custGeom>
              <a:avLst/>
              <a:gdLst>
                <a:gd name="textAreaLeft" fmla="*/ 41760 w 647640"/>
                <a:gd name="textAreaRight" fmla="*/ 605880 w 647640"/>
                <a:gd name="textAreaTop" fmla="*/ 41760 h 647640"/>
                <a:gd name="textAreaBottom" fmla="*/ 6058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54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Text Box 44">
              <a:hlinkClick r:id="rId14" action="ppaction://hlinksldjump"/>
            </p:cNvPr>
            <p:cNvSpPr/>
            <p:nvPr/>
          </p:nvSpPr>
          <p:spPr>
            <a:xfrm>
              <a:off x="3249360" y="4084560"/>
              <a:ext cx="57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ebf7ff"/>
                  </a:solidFill>
                  <a:latin typeface="Verdana"/>
                </a:rPr>
                <a:t>14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2" name="Group 45"/>
          <p:cNvGrpSpPr/>
          <p:nvPr/>
        </p:nvGrpSpPr>
        <p:grpSpPr>
          <a:xfrm>
            <a:off x="4060800" y="3960720"/>
            <a:ext cx="647640" cy="647640"/>
            <a:chOff x="4060800" y="3960720"/>
            <a:chExt cx="647640" cy="647640"/>
          </a:xfrm>
        </p:grpSpPr>
        <p:sp>
          <p:nvSpPr>
            <p:cNvPr id="213" name="AutoShape 46"/>
            <p:cNvSpPr/>
            <p:nvPr/>
          </p:nvSpPr>
          <p:spPr>
            <a:xfrm>
              <a:off x="4060800" y="3960720"/>
              <a:ext cx="647640" cy="647640"/>
            </a:xfrm>
            <a:custGeom>
              <a:avLst/>
              <a:gdLst>
                <a:gd name="textAreaLeft" fmla="*/ 41760 w 647640"/>
                <a:gd name="textAreaRight" fmla="*/ 605880 w 647640"/>
                <a:gd name="textAreaTop" fmla="*/ 41760 h 647640"/>
                <a:gd name="textAreaBottom" fmla="*/ 6058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54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Text Box 47">
              <a:hlinkClick r:id="rId15" action="ppaction://hlinksldjump"/>
            </p:cNvPr>
            <p:cNvSpPr/>
            <p:nvPr/>
          </p:nvSpPr>
          <p:spPr>
            <a:xfrm>
              <a:off x="4132080" y="4103640"/>
              <a:ext cx="57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ebf7ff"/>
                  </a:solidFill>
                  <a:latin typeface="Verdana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5" name="Group 48"/>
          <p:cNvGrpSpPr/>
          <p:nvPr/>
        </p:nvGrpSpPr>
        <p:grpSpPr>
          <a:xfrm>
            <a:off x="4948200" y="3952800"/>
            <a:ext cx="647640" cy="647640"/>
            <a:chOff x="4948200" y="3952800"/>
            <a:chExt cx="647640" cy="647640"/>
          </a:xfrm>
        </p:grpSpPr>
        <p:sp>
          <p:nvSpPr>
            <p:cNvPr id="216" name="AutoShape 49"/>
            <p:cNvSpPr/>
            <p:nvPr/>
          </p:nvSpPr>
          <p:spPr>
            <a:xfrm>
              <a:off x="4948200" y="3952800"/>
              <a:ext cx="647640" cy="647640"/>
            </a:xfrm>
            <a:custGeom>
              <a:avLst/>
              <a:gdLst>
                <a:gd name="textAreaLeft" fmla="*/ 41760 w 647640"/>
                <a:gd name="textAreaRight" fmla="*/ 605880 w 647640"/>
                <a:gd name="textAreaTop" fmla="*/ 41760 h 647640"/>
                <a:gd name="textAreaBottom" fmla="*/ 6058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54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7" name="Text Box 50">
              <a:hlinkClick r:id="rId16" action="ppaction://hlinksldjump"/>
            </p:cNvPr>
            <p:cNvSpPr/>
            <p:nvPr/>
          </p:nvSpPr>
          <p:spPr>
            <a:xfrm>
              <a:off x="5019480" y="4095720"/>
              <a:ext cx="57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ebf7ff"/>
                  </a:solidFill>
                  <a:latin typeface="Verdana"/>
                </a:rPr>
                <a:t>16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8" name="Group 51"/>
          <p:cNvGrpSpPr/>
          <p:nvPr/>
        </p:nvGrpSpPr>
        <p:grpSpPr>
          <a:xfrm>
            <a:off x="5811840" y="3962520"/>
            <a:ext cx="647640" cy="647640"/>
            <a:chOff x="5811840" y="3962520"/>
            <a:chExt cx="647640" cy="647640"/>
          </a:xfrm>
        </p:grpSpPr>
        <p:sp>
          <p:nvSpPr>
            <p:cNvPr id="219" name="AutoShape 52"/>
            <p:cNvSpPr/>
            <p:nvPr/>
          </p:nvSpPr>
          <p:spPr>
            <a:xfrm>
              <a:off x="5811840" y="3962520"/>
              <a:ext cx="647640" cy="647640"/>
            </a:xfrm>
            <a:custGeom>
              <a:avLst/>
              <a:gdLst>
                <a:gd name="textAreaLeft" fmla="*/ 41760 w 647640"/>
                <a:gd name="textAreaRight" fmla="*/ 605880 w 647640"/>
                <a:gd name="textAreaTop" fmla="*/ 41760 h 647640"/>
                <a:gd name="textAreaBottom" fmla="*/ 6058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54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Text Box 53">
              <a:hlinkClick r:id="rId17" action="ppaction://hlinksldjump"/>
            </p:cNvPr>
            <p:cNvSpPr/>
            <p:nvPr/>
          </p:nvSpPr>
          <p:spPr>
            <a:xfrm>
              <a:off x="5883120" y="4105440"/>
              <a:ext cx="57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ebf7ff"/>
                  </a:solidFill>
                  <a:latin typeface="Verdana"/>
                </a:rPr>
                <a:t>17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21" name="Group 54"/>
          <p:cNvGrpSpPr/>
          <p:nvPr/>
        </p:nvGrpSpPr>
        <p:grpSpPr>
          <a:xfrm>
            <a:off x="6657840" y="3971880"/>
            <a:ext cx="647640" cy="647640"/>
            <a:chOff x="6657840" y="3971880"/>
            <a:chExt cx="647640" cy="647640"/>
          </a:xfrm>
        </p:grpSpPr>
        <p:sp>
          <p:nvSpPr>
            <p:cNvPr id="222" name="AutoShape 55">
              <a:hlinkClick r:id="rId18" action="ppaction://hlinksldjump"/>
            </p:cNvPr>
            <p:cNvSpPr/>
            <p:nvPr/>
          </p:nvSpPr>
          <p:spPr>
            <a:xfrm>
              <a:off x="6657840" y="3971880"/>
              <a:ext cx="647640" cy="647640"/>
            </a:xfrm>
            <a:custGeom>
              <a:avLst/>
              <a:gdLst>
                <a:gd name="textAreaLeft" fmla="*/ 41760 w 647640"/>
                <a:gd name="textAreaRight" fmla="*/ 605880 w 647640"/>
                <a:gd name="textAreaTop" fmla="*/ 41760 h 647640"/>
                <a:gd name="textAreaBottom" fmla="*/ 6058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54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Text Box 56">
              <a:hlinkClick r:id="rId19" action="ppaction://hlinksldjump"/>
            </p:cNvPr>
            <p:cNvSpPr/>
            <p:nvPr/>
          </p:nvSpPr>
          <p:spPr>
            <a:xfrm>
              <a:off x="6729120" y="4114800"/>
              <a:ext cx="57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ebf7ff"/>
                  </a:solidFill>
                  <a:latin typeface="Verdana"/>
                </a:rPr>
                <a:t>18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24" name="Group 57"/>
          <p:cNvGrpSpPr/>
          <p:nvPr/>
        </p:nvGrpSpPr>
        <p:grpSpPr>
          <a:xfrm>
            <a:off x="2349360" y="4724280"/>
            <a:ext cx="647640" cy="647640"/>
            <a:chOff x="2349360" y="4724280"/>
            <a:chExt cx="647640" cy="647640"/>
          </a:xfrm>
        </p:grpSpPr>
        <p:sp>
          <p:nvSpPr>
            <p:cNvPr id="225" name="AutoShape 58"/>
            <p:cNvSpPr/>
            <p:nvPr/>
          </p:nvSpPr>
          <p:spPr>
            <a:xfrm>
              <a:off x="2349360" y="4724280"/>
              <a:ext cx="647640" cy="647640"/>
            </a:xfrm>
            <a:custGeom>
              <a:avLst/>
              <a:gdLst>
                <a:gd name="textAreaLeft" fmla="*/ 41760 w 647640"/>
                <a:gd name="textAreaRight" fmla="*/ 605880 w 647640"/>
                <a:gd name="textAreaTop" fmla="*/ 41760 h 647640"/>
                <a:gd name="textAreaBottom" fmla="*/ 6058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54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Text Box 59">
              <a:hlinkClick r:id="rId20" action="ppaction://hlinksldjump"/>
            </p:cNvPr>
            <p:cNvSpPr/>
            <p:nvPr/>
          </p:nvSpPr>
          <p:spPr>
            <a:xfrm>
              <a:off x="2420640" y="4867200"/>
              <a:ext cx="57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Verdana"/>
                </a:rPr>
                <a:t>19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27" name="Group 60"/>
          <p:cNvGrpSpPr/>
          <p:nvPr/>
        </p:nvGrpSpPr>
        <p:grpSpPr>
          <a:xfrm>
            <a:off x="3174840" y="4743360"/>
            <a:ext cx="647640" cy="647640"/>
            <a:chOff x="3174840" y="4743360"/>
            <a:chExt cx="647640" cy="647640"/>
          </a:xfrm>
        </p:grpSpPr>
        <p:sp>
          <p:nvSpPr>
            <p:cNvPr id="228" name="AutoShape 61"/>
            <p:cNvSpPr/>
            <p:nvPr/>
          </p:nvSpPr>
          <p:spPr>
            <a:xfrm>
              <a:off x="3174840" y="4743360"/>
              <a:ext cx="647640" cy="647640"/>
            </a:xfrm>
            <a:custGeom>
              <a:avLst/>
              <a:gdLst>
                <a:gd name="textAreaLeft" fmla="*/ 41760 w 647640"/>
                <a:gd name="textAreaRight" fmla="*/ 605880 w 647640"/>
                <a:gd name="textAreaTop" fmla="*/ 41760 h 647640"/>
                <a:gd name="textAreaBottom" fmla="*/ 6058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54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Text Box 62">
              <a:hlinkClick r:id="rId21" action="ppaction://hlinksldjump"/>
            </p:cNvPr>
            <p:cNvSpPr/>
            <p:nvPr/>
          </p:nvSpPr>
          <p:spPr>
            <a:xfrm>
              <a:off x="3246120" y="4886280"/>
              <a:ext cx="57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Verdana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30" name="Group 63"/>
          <p:cNvGrpSpPr/>
          <p:nvPr/>
        </p:nvGrpSpPr>
        <p:grpSpPr>
          <a:xfrm>
            <a:off x="4062240" y="4740120"/>
            <a:ext cx="647640" cy="647640"/>
            <a:chOff x="4062240" y="4740120"/>
            <a:chExt cx="647640" cy="647640"/>
          </a:xfrm>
        </p:grpSpPr>
        <p:sp>
          <p:nvSpPr>
            <p:cNvPr id="231" name="AutoShape 64"/>
            <p:cNvSpPr/>
            <p:nvPr/>
          </p:nvSpPr>
          <p:spPr>
            <a:xfrm>
              <a:off x="4062240" y="4740120"/>
              <a:ext cx="647640" cy="647640"/>
            </a:xfrm>
            <a:custGeom>
              <a:avLst/>
              <a:gdLst>
                <a:gd name="textAreaLeft" fmla="*/ 41760 w 647640"/>
                <a:gd name="textAreaRight" fmla="*/ 605880 w 647640"/>
                <a:gd name="textAreaTop" fmla="*/ 41760 h 647640"/>
                <a:gd name="textAreaBottom" fmla="*/ 6058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54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2" name="Text Box 65">
              <a:hlinkClick r:id="rId22" action="ppaction://hlinksldjump"/>
            </p:cNvPr>
            <p:cNvSpPr/>
            <p:nvPr/>
          </p:nvSpPr>
          <p:spPr>
            <a:xfrm>
              <a:off x="4133520" y="4883040"/>
              <a:ext cx="57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00"/>
                  </a:solidFill>
                  <a:latin typeface="Verdana"/>
                </a:rPr>
                <a:t>21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33" name="AutoShape 93">
            <a:hlinkClick r:id="rId23" action="ppaction://hlinksldjump"/>
          </p:cNvPr>
          <p:cNvSpPr/>
          <p:nvPr/>
        </p:nvSpPr>
        <p:spPr>
          <a:xfrm>
            <a:off x="4937040" y="5603760"/>
            <a:ext cx="2460600" cy="576360"/>
          </a:xfrm>
          <a:custGeom>
            <a:avLst/>
            <a:gdLst>
              <a:gd name="textAreaLeft" fmla="*/ 37080 w 2460600"/>
              <a:gd name="textAreaRight" fmla="*/ 2423520 w 24606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2171" h="21600">
                <a:moveTo>
                  <a:pt x="0" y="0"/>
                </a:moveTo>
                <a:lnTo>
                  <a:pt x="92171" y="0"/>
                </a:lnTo>
                <a:lnTo>
                  <a:pt x="92171" y="21600"/>
                </a:lnTo>
                <a:lnTo>
                  <a:pt x="0" y="21600"/>
                </a:lnTo>
                <a:close/>
              </a:path>
              <a:path fill="lightenLess" w="92171" h="21600">
                <a:moveTo>
                  <a:pt x="0" y="0"/>
                </a:moveTo>
                <a:lnTo>
                  <a:pt x="92171" y="0"/>
                </a:lnTo>
                <a:lnTo>
                  <a:pt x="90771" y="1400"/>
                </a:lnTo>
                <a:lnTo>
                  <a:pt x="1400" y="1400"/>
                </a:lnTo>
                <a:close/>
              </a:path>
              <a:path fill="darken" w="92171" h="21600">
                <a:moveTo>
                  <a:pt x="92171" y="0"/>
                </a:moveTo>
                <a:lnTo>
                  <a:pt x="92171" y="21600"/>
                </a:lnTo>
                <a:lnTo>
                  <a:pt x="90771" y="20200"/>
                </a:lnTo>
                <a:lnTo>
                  <a:pt x="90771" y="1400"/>
                </a:lnTo>
                <a:close/>
              </a:path>
              <a:path fill="darkenLess" w="92171" h="21600">
                <a:moveTo>
                  <a:pt x="92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771" y="20200"/>
                </a:lnTo>
                <a:close/>
              </a:path>
              <a:path fill="lighten" w="92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>
              <a:alpha val="41000"/>
            </a:srgbClr>
          </a:solidFill>
          <a:ln w="38160">
            <a:solidFill>
              <a:srgbClr val="5400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00a2"/>
                </a:solidFill>
                <a:latin typeface="Verdana"/>
              </a:rPr>
              <a:t>Литератур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34" name="Group 94"/>
          <p:cNvGrpSpPr/>
          <p:nvPr/>
        </p:nvGrpSpPr>
        <p:grpSpPr>
          <a:xfrm>
            <a:off x="5821200" y="4756320"/>
            <a:ext cx="647640" cy="647640"/>
            <a:chOff x="5821200" y="4756320"/>
            <a:chExt cx="647640" cy="647640"/>
          </a:xfrm>
        </p:grpSpPr>
        <p:sp>
          <p:nvSpPr>
            <p:cNvPr id="235" name="AutoShape 95"/>
            <p:cNvSpPr/>
            <p:nvPr/>
          </p:nvSpPr>
          <p:spPr>
            <a:xfrm>
              <a:off x="5821200" y="4756320"/>
              <a:ext cx="647640" cy="647640"/>
            </a:xfrm>
            <a:custGeom>
              <a:avLst/>
              <a:gdLst>
                <a:gd name="textAreaLeft" fmla="*/ 41760 w 647640"/>
                <a:gd name="textAreaRight" fmla="*/ 605880 w 647640"/>
                <a:gd name="textAreaTop" fmla="*/ 41760 h 647640"/>
                <a:gd name="textAreaBottom" fmla="*/ 6058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54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6" name="Text Box 96">
              <a:hlinkClick r:id="rId24" action="ppaction://hlinksldjump"/>
            </p:cNvPr>
            <p:cNvSpPr/>
            <p:nvPr/>
          </p:nvSpPr>
          <p:spPr>
            <a:xfrm>
              <a:off x="5892480" y="4899240"/>
              <a:ext cx="57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00"/>
                  </a:solidFill>
                  <a:latin typeface="Verdana"/>
                </a:rPr>
                <a:t>2</a:t>
              </a:r>
              <a:r>
                <a:rPr b="1" lang="en-US" sz="2000" spc="-1" strike="noStrike">
                  <a:solidFill>
                    <a:srgbClr val="ffff00"/>
                  </a:solidFill>
                  <a:latin typeface="Verdan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37" name="Group 97"/>
          <p:cNvGrpSpPr/>
          <p:nvPr/>
        </p:nvGrpSpPr>
        <p:grpSpPr>
          <a:xfrm>
            <a:off x="6665760" y="4753080"/>
            <a:ext cx="647640" cy="647640"/>
            <a:chOff x="6665760" y="4753080"/>
            <a:chExt cx="647640" cy="647640"/>
          </a:xfrm>
        </p:grpSpPr>
        <p:sp>
          <p:nvSpPr>
            <p:cNvPr id="238" name="AutoShape 98"/>
            <p:cNvSpPr/>
            <p:nvPr/>
          </p:nvSpPr>
          <p:spPr>
            <a:xfrm>
              <a:off x="6665760" y="4753080"/>
              <a:ext cx="647640" cy="647640"/>
            </a:xfrm>
            <a:custGeom>
              <a:avLst/>
              <a:gdLst>
                <a:gd name="textAreaLeft" fmla="*/ 41760 w 647640"/>
                <a:gd name="textAreaRight" fmla="*/ 605880 w 647640"/>
                <a:gd name="textAreaTop" fmla="*/ 41760 h 647640"/>
                <a:gd name="textAreaBottom" fmla="*/ 6058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54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9" name="Text Box 99">
              <a:hlinkClick r:id="rId25" action="ppaction://hlinksldjump"/>
            </p:cNvPr>
            <p:cNvSpPr/>
            <p:nvPr/>
          </p:nvSpPr>
          <p:spPr>
            <a:xfrm>
              <a:off x="6737040" y="4896000"/>
              <a:ext cx="57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00"/>
                  </a:solidFill>
                  <a:latin typeface="Verdana"/>
                </a:rPr>
                <a:t>2</a:t>
              </a:r>
              <a:r>
                <a:rPr b="1" lang="en-US" sz="2000" spc="-1" strike="noStrike">
                  <a:solidFill>
                    <a:srgbClr val="ffff00"/>
                  </a:solidFill>
                  <a:latin typeface="Verdan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40" name="Group 100"/>
          <p:cNvGrpSpPr/>
          <p:nvPr/>
        </p:nvGrpSpPr>
        <p:grpSpPr>
          <a:xfrm>
            <a:off x="2343240" y="5549760"/>
            <a:ext cx="647640" cy="647640"/>
            <a:chOff x="2343240" y="5549760"/>
            <a:chExt cx="647640" cy="647640"/>
          </a:xfrm>
        </p:grpSpPr>
        <p:sp>
          <p:nvSpPr>
            <p:cNvPr id="241" name="AutoShape 101"/>
            <p:cNvSpPr/>
            <p:nvPr/>
          </p:nvSpPr>
          <p:spPr>
            <a:xfrm>
              <a:off x="2343240" y="5549760"/>
              <a:ext cx="647640" cy="647640"/>
            </a:xfrm>
            <a:custGeom>
              <a:avLst/>
              <a:gdLst>
                <a:gd name="textAreaLeft" fmla="*/ 41760 w 647640"/>
                <a:gd name="textAreaRight" fmla="*/ 605880 w 647640"/>
                <a:gd name="textAreaTop" fmla="*/ 41760 h 647640"/>
                <a:gd name="textAreaBottom" fmla="*/ 6058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54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2" name="Text Box 102">
              <a:hlinkClick r:id="rId26" action="ppaction://hlinksldjump"/>
            </p:cNvPr>
            <p:cNvSpPr/>
            <p:nvPr/>
          </p:nvSpPr>
          <p:spPr>
            <a:xfrm>
              <a:off x="2414520" y="5692680"/>
              <a:ext cx="57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00"/>
                  </a:solidFill>
                  <a:latin typeface="Verdana"/>
                </a:rPr>
                <a:t>2</a:t>
              </a:r>
              <a:r>
                <a:rPr b="1" lang="en-US" sz="2000" spc="-1" strike="noStrike">
                  <a:solidFill>
                    <a:srgbClr val="ffff00"/>
                  </a:solidFill>
                  <a:latin typeface="Verdana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43" name="Group 103"/>
          <p:cNvGrpSpPr/>
          <p:nvPr/>
        </p:nvGrpSpPr>
        <p:grpSpPr>
          <a:xfrm>
            <a:off x="4944960" y="4746600"/>
            <a:ext cx="647640" cy="647640"/>
            <a:chOff x="4944960" y="4746600"/>
            <a:chExt cx="647640" cy="647640"/>
          </a:xfrm>
        </p:grpSpPr>
        <p:sp>
          <p:nvSpPr>
            <p:cNvPr id="244" name="AutoShape 104">
              <a:hlinkClick r:id="rId27" action="ppaction://hlinksldjump"/>
            </p:cNvPr>
            <p:cNvSpPr/>
            <p:nvPr/>
          </p:nvSpPr>
          <p:spPr>
            <a:xfrm>
              <a:off x="4944960" y="4746600"/>
              <a:ext cx="647640" cy="647640"/>
            </a:xfrm>
            <a:custGeom>
              <a:avLst/>
              <a:gdLst>
                <a:gd name="textAreaLeft" fmla="*/ 41760 w 647640"/>
                <a:gd name="textAreaRight" fmla="*/ 605880 w 647640"/>
                <a:gd name="textAreaTop" fmla="*/ 41760 h 647640"/>
                <a:gd name="textAreaBottom" fmla="*/ 6058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54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5" name="Text Box 105">
              <a:hlinkClick r:id="rId28" action="ppaction://hlinksldjump"/>
            </p:cNvPr>
            <p:cNvSpPr/>
            <p:nvPr/>
          </p:nvSpPr>
          <p:spPr>
            <a:xfrm>
              <a:off x="5016240" y="4889520"/>
              <a:ext cx="57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00"/>
                  </a:solidFill>
                  <a:latin typeface="Verdana"/>
                </a:rPr>
                <a:t>2</a:t>
              </a:r>
              <a:r>
                <a:rPr b="1" lang="en-US" sz="2000" spc="-1" strike="noStrike">
                  <a:solidFill>
                    <a:srgbClr val="ffff00"/>
                  </a:solidFill>
                  <a:latin typeface="Verdan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46" name="Group 106"/>
          <p:cNvGrpSpPr/>
          <p:nvPr/>
        </p:nvGrpSpPr>
        <p:grpSpPr>
          <a:xfrm>
            <a:off x="3178080" y="5565600"/>
            <a:ext cx="647640" cy="647640"/>
            <a:chOff x="3178080" y="5565600"/>
            <a:chExt cx="647640" cy="647640"/>
          </a:xfrm>
        </p:grpSpPr>
        <p:sp>
          <p:nvSpPr>
            <p:cNvPr id="247" name="AutoShape 107"/>
            <p:cNvSpPr/>
            <p:nvPr/>
          </p:nvSpPr>
          <p:spPr>
            <a:xfrm>
              <a:off x="3178080" y="5565600"/>
              <a:ext cx="647640" cy="647640"/>
            </a:xfrm>
            <a:custGeom>
              <a:avLst/>
              <a:gdLst>
                <a:gd name="textAreaLeft" fmla="*/ 41760 w 647640"/>
                <a:gd name="textAreaRight" fmla="*/ 605880 w 647640"/>
                <a:gd name="textAreaTop" fmla="*/ 41760 h 647640"/>
                <a:gd name="textAreaBottom" fmla="*/ 6058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54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8" name="Text Box 108">
              <a:hlinkClick r:id="rId29" action="ppaction://hlinksldjump"/>
            </p:cNvPr>
            <p:cNvSpPr/>
            <p:nvPr/>
          </p:nvSpPr>
          <p:spPr>
            <a:xfrm>
              <a:off x="3249360" y="5708520"/>
              <a:ext cx="57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00"/>
                  </a:solidFill>
                  <a:latin typeface="Verdana"/>
                </a:rPr>
                <a:t>2</a:t>
              </a:r>
              <a:r>
                <a:rPr b="1" lang="en-US" sz="2000" spc="-1" strike="noStrike">
                  <a:solidFill>
                    <a:srgbClr val="ffff00"/>
                  </a:solidFill>
                  <a:latin typeface="Verdana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49" name="Group 109"/>
          <p:cNvGrpSpPr/>
          <p:nvPr/>
        </p:nvGrpSpPr>
        <p:grpSpPr>
          <a:xfrm>
            <a:off x="4067280" y="5575320"/>
            <a:ext cx="647640" cy="647640"/>
            <a:chOff x="4067280" y="5575320"/>
            <a:chExt cx="647640" cy="647640"/>
          </a:xfrm>
        </p:grpSpPr>
        <p:sp>
          <p:nvSpPr>
            <p:cNvPr id="250" name="AutoShape 110"/>
            <p:cNvSpPr/>
            <p:nvPr/>
          </p:nvSpPr>
          <p:spPr>
            <a:xfrm>
              <a:off x="4067280" y="5575320"/>
              <a:ext cx="647640" cy="647640"/>
            </a:xfrm>
            <a:custGeom>
              <a:avLst/>
              <a:gdLst>
                <a:gd name="textAreaLeft" fmla="*/ 41760 w 647640"/>
                <a:gd name="textAreaRight" fmla="*/ 605880 w 647640"/>
                <a:gd name="textAreaTop" fmla="*/ 41760 h 647640"/>
                <a:gd name="textAreaBottom" fmla="*/ 6058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54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1" name="Text Box 111">
              <a:hlinkClick r:id="rId30" action="ppaction://hlinksldjump"/>
            </p:cNvPr>
            <p:cNvSpPr/>
            <p:nvPr/>
          </p:nvSpPr>
          <p:spPr>
            <a:xfrm>
              <a:off x="4138560" y="5718240"/>
              <a:ext cx="57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00"/>
                  </a:solidFill>
                  <a:latin typeface="Verdana"/>
                </a:rPr>
                <a:t>2</a:t>
              </a:r>
              <a:r>
                <a:rPr b="1" lang="en-US" sz="2000" spc="-1" strike="noStrike">
                  <a:solidFill>
                    <a:srgbClr val="ffff00"/>
                  </a:solidFill>
                  <a:latin typeface="Verdana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Нижний колонтитул 1"/>
          <p:cNvSpPr/>
          <p:nvPr/>
        </p:nvSpPr>
        <p:spPr>
          <a:xfrm>
            <a:off x="324000" y="6568920"/>
            <a:ext cx="8640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mbria"/>
              </a:rPr>
              <a:t>Обухова Н.С, МОУ СОШ №17 г. Заволжья Нижегородской обла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6" name="AutoShape 22"/>
          <p:cNvSpPr/>
          <p:nvPr/>
        </p:nvSpPr>
        <p:spPr>
          <a:xfrm>
            <a:off x="250920" y="5950080"/>
            <a:ext cx="649080" cy="64764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48" h="21600">
                <a:moveTo>
                  <a:pt x="0" y="0"/>
                </a:moveTo>
                <a:lnTo>
                  <a:pt x="21648" y="0"/>
                </a:lnTo>
                <a:lnTo>
                  <a:pt x="21648" y="21600"/>
                </a:lnTo>
                <a:lnTo>
                  <a:pt x="0" y="21600"/>
                </a:lnTo>
                <a:close/>
              </a:path>
              <a:path fill="lightenLess" w="21648" h="21600">
                <a:moveTo>
                  <a:pt x="0" y="0"/>
                </a:moveTo>
                <a:lnTo>
                  <a:pt x="21648" y="0"/>
                </a:lnTo>
                <a:lnTo>
                  <a:pt x="20248" y="1400"/>
                </a:lnTo>
                <a:lnTo>
                  <a:pt x="1400" y="1400"/>
                </a:lnTo>
                <a:close/>
              </a:path>
              <a:path fill="darken" w="21648" h="21600">
                <a:moveTo>
                  <a:pt x="21648" y="0"/>
                </a:moveTo>
                <a:lnTo>
                  <a:pt x="21648" y="21600"/>
                </a:lnTo>
                <a:lnTo>
                  <a:pt x="20248" y="20200"/>
                </a:lnTo>
                <a:lnTo>
                  <a:pt x="20248" y="1400"/>
                </a:lnTo>
                <a:close/>
              </a:path>
              <a:path fill="darkenLess" w="21648" h="21600">
                <a:moveTo>
                  <a:pt x="21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48" y="20200"/>
                </a:lnTo>
                <a:close/>
              </a:path>
              <a:path fill="lighten" w="21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48" h="21600">
                <a:moveTo>
                  <a:pt x="10824" y="3837"/>
                </a:moveTo>
                <a:lnTo>
                  <a:pt x="13400" y="6448"/>
                </a:lnTo>
                <a:lnTo>
                  <a:pt x="13400" y="4707"/>
                </a:lnTo>
                <a:lnTo>
                  <a:pt x="15176" y="4707"/>
                </a:lnTo>
                <a:lnTo>
                  <a:pt x="15176" y="8224"/>
                </a:lnTo>
                <a:lnTo>
                  <a:pt x="17787" y="10800"/>
                </a:lnTo>
                <a:lnTo>
                  <a:pt x="16133" y="10800"/>
                </a:lnTo>
                <a:lnTo>
                  <a:pt x="16133" y="17989"/>
                </a:lnTo>
                <a:lnTo>
                  <a:pt x="5515" y="17989"/>
                </a:lnTo>
                <a:lnTo>
                  <a:pt x="5515" y="10800"/>
                </a:lnTo>
                <a:lnTo>
                  <a:pt x="3861" y="10800"/>
                </a:lnTo>
                <a:close/>
              </a:path>
              <a:path fill="darkenLess" w="21648" h="21600">
                <a:moveTo>
                  <a:pt x="13400" y="6448"/>
                </a:moveTo>
                <a:lnTo>
                  <a:pt x="13400" y="4707"/>
                </a:lnTo>
                <a:lnTo>
                  <a:pt x="15176" y="4707"/>
                </a:lnTo>
                <a:lnTo>
                  <a:pt x="15176" y="8224"/>
                </a:lnTo>
                <a:close/>
              </a:path>
              <a:path fill="darkenLess" w="21648" h="21600">
                <a:moveTo>
                  <a:pt x="9901" y="14299"/>
                </a:moveTo>
                <a:lnTo>
                  <a:pt x="11747" y="14299"/>
                </a:lnTo>
                <a:lnTo>
                  <a:pt x="11747" y="17989"/>
                </a:lnTo>
                <a:lnTo>
                  <a:pt x="16133" y="17989"/>
                </a:lnTo>
                <a:lnTo>
                  <a:pt x="16133" y="10800"/>
                </a:lnTo>
                <a:lnTo>
                  <a:pt x="5515" y="10800"/>
                </a:lnTo>
                <a:lnTo>
                  <a:pt x="5515" y="17989"/>
                </a:lnTo>
                <a:lnTo>
                  <a:pt x="9901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7" name="Text Box 23"/>
          <p:cNvSpPr/>
          <p:nvPr/>
        </p:nvSpPr>
        <p:spPr>
          <a:xfrm>
            <a:off x="7128000" y="219240"/>
            <a:ext cx="1735200" cy="459720"/>
          </a:xfrm>
          <a:prstGeom prst="rect">
            <a:avLst/>
          </a:prstGeom>
          <a:noFill/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ff"/>
                </a:solidFill>
                <a:latin typeface="Cambria"/>
              </a:rPr>
              <a:t>Задача 1</a:t>
            </a:r>
            <a:r>
              <a:rPr b="1" i="1" lang="en-US" sz="2400" spc="-1" strike="noStrike">
                <a:solidFill>
                  <a:srgbClr val="9933ff"/>
                </a:solidFill>
                <a:latin typeface="Cambri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778" name="Object 24"/>
          <p:cNvGraphicFramePr/>
          <p:nvPr/>
        </p:nvGraphicFramePr>
        <p:xfrm>
          <a:off x="5742000" y="3603600"/>
          <a:ext cx="2755800" cy="40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79" name="Object 2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42000" y="3603600"/>
                    <a:ext cx="275580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0" name="Object 25"/>
          <p:cNvGraphicFramePr/>
          <p:nvPr/>
        </p:nvGraphicFramePr>
        <p:xfrm>
          <a:off x="5724360" y="4149720"/>
          <a:ext cx="2273400" cy="431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81" name="Object 2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24360" y="4149720"/>
                    <a:ext cx="227340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2" name="Line 26"/>
          <p:cNvSpPr/>
          <p:nvPr/>
        </p:nvSpPr>
        <p:spPr>
          <a:xfrm>
            <a:off x="5724360" y="4797360"/>
            <a:ext cx="309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783" name="Object 27"/>
          <p:cNvGraphicFramePr/>
          <p:nvPr/>
        </p:nvGraphicFramePr>
        <p:xfrm>
          <a:off x="5742000" y="4938840"/>
          <a:ext cx="1460520" cy="482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84" name="Object 2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742000" y="4938840"/>
                    <a:ext cx="146052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5" name="Text Box 28"/>
          <p:cNvSpPr/>
          <p:nvPr/>
        </p:nvSpPr>
        <p:spPr>
          <a:xfrm>
            <a:off x="4066920" y="5661000"/>
            <a:ext cx="1607040" cy="581400"/>
          </a:xfrm>
          <a:prstGeom prst="rect">
            <a:avLst/>
          </a:prstGeom>
          <a:gradFill rotWithShape="0">
            <a:gsLst>
              <a:gs pos="0">
                <a:srgbClr val="cc99ff">
                  <a:alpha val="44313"/>
                </a:srgbClr>
              </a:gs>
              <a:gs pos="50000">
                <a:srgbClr val="ffffff"/>
              </a:gs>
              <a:gs pos="100000">
                <a:srgbClr val="cc99ff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786" name="Object 29"/>
          <p:cNvGraphicFramePr/>
          <p:nvPr/>
        </p:nvGraphicFramePr>
        <p:xfrm>
          <a:off x="5724360" y="5661000"/>
          <a:ext cx="2946600" cy="5716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87" name="Object 2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724360" y="5661000"/>
                    <a:ext cx="294660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8" name="AutoShape 30"/>
          <p:cNvSpPr/>
          <p:nvPr/>
        </p:nvSpPr>
        <p:spPr>
          <a:xfrm>
            <a:off x="611280" y="1413000"/>
            <a:ext cx="4752720" cy="2016000"/>
          </a:xfrm>
          <a:prstGeom prst="parallelogram">
            <a:avLst>
              <a:gd name="adj" fmla="val 58938"/>
            </a:avLst>
          </a:prstGeom>
          <a:gradFill rotWithShape="0">
            <a:gsLst>
              <a:gs pos="0">
                <a:srgbClr val="ffffff"/>
              </a:gs>
              <a:gs pos="100000">
                <a:srgbClr val="70b9da">
                  <a:alpha val="44313"/>
                </a:srgbClr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Line 32"/>
          <p:cNvSpPr/>
          <p:nvPr/>
        </p:nvSpPr>
        <p:spPr>
          <a:xfrm flipV="1">
            <a:off x="611280" y="1409400"/>
            <a:ext cx="4761000" cy="2019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0" name="Freeform 33"/>
          <p:cNvSpPr/>
          <p:nvPr/>
        </p:nvSpPr>
        <p:spPr>
          <a:xfrm>
            <a:off x="1828800" y="1419120"/>
            <a:ext cx="2352600" cy="20098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791" name="Object 34"/>
          <p:cNvGraphicFramePr/>
          <p:nvPr/>
        </p:nvGraphicFramePr>
        <p:xfrm>
          <a:off x="235080" y="3473280"/>
          <a:ext cx="330120" cy="3304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92" name="Object 34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35080" y="3473280"/>
                    <a:ext cx="330120" cy="3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3" name="Object 35"/>
          <p:cNvGraphicFramePr/>
          <p:nvPr/>
        </p:nvGraphicFramePr>
        <p:xfrm>
          <a:off x="1720800" y="1006560"/>
          <a:ext cx="292320" cy="3301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794" name="Object 35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20800" y="1006560"/>
                    <a:ext cx="29232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5" name="Object 36"/>
          <p:cNvGraphicFramePr/>
          <p:nvPr/>
        </p:nvGraphicFramePr>
        <p:xfrm>
          <a:off x="5425920" y="1028880"/>
          <a:ext cx="292320" cy="3427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796" name="Object 36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425920" y="1028880"/>
                    <a:ext cx="29232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7" name="Object 37"/>
          <p:cNvGraphicFramePr/>
          <p:nvPr/>
        </p:nvGraphicFramePr>
        <p:xfrm>
          <a:off x="3882960" y="3492360"/>
          <a:ext cx="330120" cy="3304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798" name="Object 37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882960" y="3492360"/>
                    <a:ext cx="330120" cy="3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9" name="Object 38"/>
          <p:cNvGraphicFramePr/>
          <p:nvPr/>
        </p:nvGraphicFramePr>
        <p:xfrm>
          <a:off x="2771640" y="2565360"/>
          <a:ext cx="317520" cy="34308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800" name="Object 38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2771640" y="2565360"/>
                    <a:ext cx="31752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Arc 41"/>
          <p:cNvSpPr/>
          <p:nvPr/>
        </p:nvSpPr>
        <p:spPr>
          <a:xfrm flipH="1" flipV="1" rot="8623800">
            <a:off x="2844360" y="1849680"/>
            <a:ext cx="696960" cy="71892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802" name="Object 42"/>
          <p:cNvGraphicFramePr/>
          <p:nvPr/>
        </p:nvGraphicFramePr>
        <p:xfrm>
          <a:off x="2843280" y="1484280"/>
          <a:ext cx="723960" cy="43200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803" name="Object 42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2843280" y="1484280"/>
                    <a:ext cx="723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restart="whenNotActive" nodeType="interactiveSeq" fill="hold">
                <p:stCondLst>
                  <p:cond evt="onClick">
                    <p:tgtEl>
                      <p:spTgt spid="785"/>
                    </p:tgtEl>
                  </p:cond>
                </p:stCondLst>
                <p:childTnLst>
                  <p:par>
                    <p:cTn id="122" fill="hold">
                      <p:stCondLst>
                        <p:cond evt="onClick">
                          <p:tgtEl>
                            <p:spTgt spid="785"/>
                          </p:tgtEl>
                        </p:cond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Нижний колонтитул 1"/>
          <p:cNvSpPr/>
          <p:nvPr/>
        </p:nvSpPr>
        <p:spPr>
          <a:xfrm>
            <a:off x="324000" y="6568920"/>
            <a:ext cx="8640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mbria"/>
              </a:rPr>
              <a:t>Обухова Н.С, МОУ СОШ №17 г. Заволжья Нижегородской обла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5" name="AutoShape 2"/>
          <p:cNvSpPr/>
          <p:nvPr/>
        </p:nvSpPr>
        <p:spPr>
          <a:xfrm>
            <a:off x="250920" y="5950080"/>
            <a:ext cx="649080" cy="64764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48" h="21600">
                <a:moveTo>
                  <a:pt x="0" y="0"/>
                </a:moveTo>
                <a:lnTo>
                  <a:pt x="21648" y="0"/>
                </a:lnTo>
                <a:lnTo>
                  <a:pt x="21648" y="21600"/>
                </a:lnTo>
                <a:lnTo>
                  <a:pt x="0" y="21600"/>
                </a:lnTo>
                <a:close/>
              </a:path>
              <a:path fill="lightenLess" w="21648" h="21600">
                <a:moveTo>
                  <a:pt x="0" y="0"/>
                </a:moveTo>
                <a:lnTo>
                  <a:pt x="21648" y="0"/>
                </a:lnTo>
                <a:lnTo>
                  <a:pt x="20248" y="1400"/>
                </a:lnTo>
                <a:lnTo>
                  <a:pt x="1400" y="1400"/>
                </a:lnTo>
                <a:close/>
              </a:path>
              <a:path fill="darken" w="21648" h="21600">
                <a:moveTo>
                  <a:pt x="21648" y="0"/>
                </a:moveTo>
                <a:lnTo>
                  <a:pt x="21648" y="21600"/>
                </a:lnTo>
                <a:lnTo>
                  <a:pt x="20248" y="20200"/>
                </a:lnTo>
                <a:lnTo>
                  <a:pt x="20248" y="1400"/>
                </a:lnTo>
                <a:close/>
              </a:path>
              <a:path fill="darkenLess" w="21648" h="21600">
                <a:moveTo>
                  <a:pt x="21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48" y="20200"/>
                </a:lnTo>
                <a:close/>
              </a:path>
              <a:path fill="lighten" w="21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48" h="21600">
                <a:moveTo>
                  <a:pt x="10824" y="3837"/>
                </a:moveTo>
                <a:lnTo>
                  <a:pt x="13400" y="6448"/>
                </a:lnTo>
                <a:lnTo>
                  <a:pt x="13400" y="4707"/>
                </a:lnTo>
                <a:lnTo>
                  <a:pt x="15176" y="4707"/>
                </a:lnTo>
                <a:lnTo>
                  <a:pt x="15176" y="8224"/>
                </a:lnTo>
                <a:lnTo>
                  <a:pt x="17787" y="10800"/>
                </a:lnTo>
                <a:lnTo>
                  <a:pt x="16133" y="10800"/>
                </a:lnTo>
                <a:lnTo>
                  <a:pt x="16133" y="17989"/>
                </a:lnTo>
                <a:lnTo>
                  <a:pt x="5515" y="17989"/>
                </a:lnTo>
                <a:lnTo>
                  <a:pt x="5515" y="10800"/>
                </a:lnTo>
                <a:lnTo>
                  <a:pt x="3861" y="10800"/>
                </a:lnTo>
                <a:close/>
              </a:path>
              <a:path fill="darkenLess" w="21648" h="21600">
                <a:moveTo>
                  <a:pt x="13400" y="6448"/>
                </a:moveTo>
                <a:lnTo>
                  <a:pt x="13400" y="4707"/>
                </a:lnTo>
                <a:lnTo>
                  <a:pt x="15176" y="4707"/>
                </a:lnTo>
                <a:lnTo>
                  <a:pt x="15176" y="8224"/>
                </a:lnTo>
                <a:close/>
              </a:path>
              <a:path fill="darkenLess" w="21648" h="21600">
                <a:moveTo>
                  <a:pt x="9901" y="14299"/>
                </a:moveTo>
                <a:lnTo>
                  <a:pt x="11747" y="14299"/>
                </a:lnTo>
                <a:lnTo>
                  <a:pt x="11747" y="17989"/>
                </a:lnTo>
                <a:lnTo>
                  <a:pt x="16133" y="17989"/>
                </a:lnTo>
                <a:lnTo>
                  <a:pt x="16133" y="10800"/>
                </a:lnTo>
                <a:lnTo>
                  <a:pt x="5515" y="10800"/>
                </a:lnTo>
                <a:lnTo>
                  <a:pt x="5515" y="17989"/>
                </a:lnTo>
                <a:lnTo>
                  <a:pt x="9901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6" name="Text Box 3"/>
          <p:cNvSpPr/>
          <p:nvPr/>
        </p:nvSpPr>
        <p:spPr>
          <a:xfrm>
            <a:off x="7130880" y="219240"/>
            <a:ext cx="1729080" cy="459720"/>
          </a:xfrm>
          <a:prstGeom prst="rect">
            <a:avLst/>
          </a:prstGeom>
          <a:noFill/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ff"/>
                </a:solidFill>
                <a:latin typeface="Cambria"/>
              </a:rPr>
              <a:t>Задача 1</a:t>
            </a:r>
            <a:r>
              <a:rPr b="1" i="1" lang="en-US" sz="2400" spc="-1" strike="noStrike">
                <a:solidFill>
                  <a:srgbClr val="9933ff"/>
                </a:solidFill>
                <a:latin typeface="Cambria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807" name="Object 4"/>
          <p:cNvGraphicFramePr/>
          <p:nvPr/>
        </p:nvGraphicFramePr>
        <p:xfrm>
          <a:off x="5442120" y="3556080"/>
          <a:ext cx="3670200" cy="49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08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42120" y="3556080"/>
                    <a:ext cx="367020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9" name="Object 5"/>
          <p:cNvGraphicFramePr/>
          <p:nvPr/>
        </p:nvGraphicFramePr>
        <p:xfrm>
          <a:off x="5477040" y="4168800"/>
          <a:ext cx="2273040" cy="431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10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477040" y="4168800"/>
                    <a:ext cx="22730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1" name="Line 6"/>
          <p:cNvSpPr/>
          <p:nvPr/>
        </p:nvSpPr>
        <p:spPr>
          <a:xfrm>
            <a:off x="5505480" y="4797360"/>
            <a:ext cx="309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812" name="Object 7"/>
          <p:cNvGraphicFramePr/>
          <p:nvPr/>
        </p:nvGraphicFramePr>
        <p:xfrm>
          <a:off x="5506920" y="5041800"/>
          <a:ext cx="1104840" cy="343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3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506920" y="5041800"/>
                    <a:ext cx="11048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4" name="Text Box 8"/>
          <p:cNvSpPr/>
          <p:nvPr/>
        </p:nvSpPr>
        <p:spPr>
          <a:xfrm>
            <a:off x="3800520" y="5638680"/>
            <a:ext cx="1607040" cy="581400"/>
          </a:xfrm>
          <a:prstGeom prst="rect">
            <a:avLst/>
          </a:prstGeom>
          <a:gradFill rotWithShape="0">
            <a:gsLst>
              <a:gs pos="0">
                <a:srgbClr val="cc99ff">
                  <a:alpha val="44313"/>
                </a:srgbClr>
              </a:gs>
              <a:gs pos="50000">
                <a:srgbClr val="ffffff"/>
              </a:gs>
              <a:gs pos="100000">
                <a:srgbClr val="cc99ff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815" name="Object 9"/>
          <p:cNvGraphicFramePr/>
          <p:nvPr/>
        </p:nvGraphicFramePr>
        <p:xfrm>
          <a:off x="5524560" y="5651640"/>
          <a:ext cx="1676520" cy="495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6" name="Object 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524560" y="5651640"/>
                    <a:ext cx="1676520" cy="49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7" name="Object 13"/>
          <p:cNvGraphicFramePr/>
          <p:nvPr/>
        </p:nvGraphicFramePr>
        <p:xfrm>
          <a:off x="406440" y="4229280"/>
          <a:ext cx="330120" cy="3301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8" name="Object 13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06440" y="4229280"/>
                    <a:ext cx="33012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9" name="Object 14"/>
          <p:cNvGraphicFramePr/>
          <p:nvPr/>
        </p:nvGraphicFramePr>
        <p:xfrm>
          <a:off x="2158920" y="1036800"/>
          <a:ext cx="292320" cy="3301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20" name="Object 14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158920" y="1036800"/>
                    <a:ext cx="29232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1" name="Object 15"/>
          <p:cNvGraphicFramePr/>
          <p:nvPr/>
        </p:nvGraphicFramePr>
        <p:xfrm>
          <a:off x="5821200" y="2062080"/>
          <a:ext cx="292320" cy="3430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822" name="Object 15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821200" y="2062080"/>
                    <a:ext cx="29232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3" name="Object 16"/>
          <p:cNvGraphicFramePr/>
          <p:nvPr/>
        </p:nvGraphicFramePr>
        <p:xfrm>
          <a:off x="6959520" y="974880"/>
          <a:ext cx="330120" cy="3301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824" name="Object 16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6959520" y="974880"/>
                    <a:ext cx="33012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5" name="Freeform 20"/>
          <p:cNvSpPr/>
          <p:nvPr/>
        </p:nvSpPr>
        <p:spPr>
          <a:xfrm>
            <a:off x="809640" y="1495440"/>
            <a:ext cx="6162840" cy="2838600"/>
          </a:xfrm>
          <a:prstGeom prst="pie">
            <a:avLst/>
          </a:prstGeom>
          <a:gradFill rotWithShape="0">
            <a:gsLst>
              <a:gs pos="0">
                <a:srgbClr val="d89df9"/>
              </a:gs>
              <a:gs pos="50000">
                <a:srgbClr val="ffffff"/>
              </a:gs>
              <a:gs pos="100000">
                <a:srgbClr val="d89df9"/>
              </a:gs>
            </a:gsLst>
            <a:lin ang="5400000"/>
          </a:gra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6" name="Arc 22"/>
          <p:cNvSpPr/>
          <p:nvPr/>
        </p:nvSpPr>
        <p:spPr>
          <a:xfrm flipH="1" flipV="1" rot="6503400">
            <a:off x="5498640" y="1560960"/>
            <a:ext cx="292320" cy="7434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827" name="Object 23"/>
          <p:cNvGraphicFramePr/>
          <p:nvPr/>
        </p:nvGraphicFramePr>
        <p:xfrm>
          <a:off x="5219640" y="1268280"/>
          <a:ext cx="723960" cy="43200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828" name="Object 23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219640" y="1268280"/>
                    <a:ext cx="723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9" name="Arc 24"/>
          <p:cNvSpPr/>
          <p:nvPr/>
        </p:nvSpPr>
        <p:spPr>
          <a:xfrm flipH="1" rot="12110400">
            <a:off x="2194920" y="1483560"/>
            <a:ext cx="360360" cy="35892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0" name="Freeform 27"/>
          <p:cNvSpPr/>
          <p:nvPr/>
        </p:nvSpPr>
        <p:spPr>
          <a:xfrm>
            <a:off x="2340000" y="1628640"/>
            <a:ext cx="117360" cy="2858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831" name="Object 28"/>
          <p:cNvGraphicFramePr/>
          <p:nvPr/>
        </p:nvGraphicFramePr>
        <p:xfrm>
          <a:off x="2484360" y="1700280"/>
          <a:ext cx="723960" cy="43164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832" name="Object 28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2484360" y="1700280"/>
                    <a:ext cx="723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3" name="Object 29"/>
          <p:cNvGraphicFramePr/>
          <p:nvPr/>
        </p:nvGraphicFramePr>
        <p:xfrm>
          <a:off x="1332000" y="2421000"/>
          <a:ext cx="215640" cy="34272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834" name="Object 29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1332000" y="2421000"/>
                    <a:ext cx="21564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restart="whenNotActive" nodeType="interactiveSeq" fill="hold">
                <p:stCondLst>
                  <p:cond evt="onClick">
                    <p:tgtEl>
                      <p:spTgt spid="814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814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2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Нижний колонтитул 1"/>
          <p:cNvSpPr/>
          <p:nvPr/>
        </p:nvSpPr>
        <p:spPr>
          <a:xfrm>
            <a:off x="324000" y="6568920"/>
            <a:ext cx="8640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mbria"/>
              </a:rPr>
              <a:t>Обухова Н.С, МОУ СОШ №17 г. Заволжья Нижегородской обла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6" name="AutoShape 41"/>
          <p:cNvSpPr/>
          <p:nvPr/>
        </p:nvSpPr>
        <p:spPr>
          <a:xfrm>
            <a:off x="250920" y="5950080"/>
            <a:ext cx="649080" cy="64764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48" h="21600">
                <a:moveTo>
                  <a:pt x="0" y="0"/>
                </a:moveTo>
                <a:lnTo>
                  <a:pt x="21648" y="0"/>
                </a:lnTo>
                <a:lnTo>
                  <a:pt x="21648" y="21600"/>
                </a:lnTo>
                <a:lnTo>
                  <a:pt x="0" y="21600"/>
                </a:lnTo>
                <a:close/>
              </a:path>
              <a:path fill="lightenLess" w="21648" h="21600">
                <a:moveTo>
                  <a:pt x="0" y="0"/>
                </a:moveTo>
                <a:lnTo>
                  <a:pt x="21648" y="0"/>
                </a:lnTo>
                <a:lnTo>
                  <a:pt x="20248" y="1400"/>
                </a:lnTo>
                <a:lnTo>
                  <a:pt x="1400" y="1400"/>
                </a:lnTo>
                <a:close/>
              </a:path>
              <a:path fill="darken" w="21648" h="21600">
                <a:moveTo>
                  <a:pt x="21648" y="0"/>
                </a:moveTo>
                <a:lnTo>
                  <a:pt x="21648" y="21600"/>
                </a:lnTo>
                <a:lnTo>
                  <a:pt x="20248" y="20200"/>
                </a:lnTo>
                <a:lnTo>
                  <a:pt x="20248" y="1400"/>
                </a:lnTo>
                <a:close/>
              </a:path>
              <a:path fill="darkenLess" w="21648" h="21600">
                <a:moveTo>
                  <a:pt x="21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48" y="20200"/>
                </a:lnTo>
                <a:close/>
              </a:path>
              <a:path fill="lighten" w="21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48" h="21600">
                <a:moveTo>
                  <a:pt x="10824" y="3837"/>
                </a:moveTo>
                <a:lnTo>
                  <a:pt x="13400" y="6448"/>
                </a:lnTo>
                <a:lnTo>
                  <a:pt x="13400" y="4707"/>
                </a:lnTo>
                <a:lnTo>
                  <a:pt x="15176" y="4707"/>
                </a:lnTo>
                <a:lnTo>
                  <a:pt x="15176" y="8224"/>
                </a:lnTo>
                <a:lnTo>
                  <a:pt x="17787" y="10800"/>
                </a:lnTo>
                <a:lnTo>
                  <a:pt x="16133" y="10800"/>
                </a:lnTo>
                <a:lnTo>
                  <a:pt x="16133" y="17989"/>
                </a:lnTo>
                <a:lnTo>
                  <a:pt x="5515" y="17989"/>
                </a:lnTo>
                <a:lnTo>
                  <a:pt x="5515" y="10800"/>
                </a:lnTo>
                <a:lnTo>
                  <a:pt x="3861" y="10800"/>
                </a:lnTo>
                <a:close/>
              </a:path>
              <a:path fill="darkenLess" w="21648" h="21600">
                <a:moveTo>
                  <a:pt x="13400" y="6448"/>
                </a:moveTo>
                <a:lnTo>
                  <a:pt x="13400" y="4707"/>
                </a:lnTo>
                <a:lnTo>
                  <a:pt x="15176" y="4707"/>
                </a:lnTo>
                <a:lnTo>
                  <a:pt x="15176" y="8224"/>
                </a:lnTo>
                <a:close/>
              </a:path>
              <a:path fill="darkenLess" w="21648" h="21600">
                <a:moveTo>
                  <a:pt x="9901" y="14299"/>
                </a:moveTo>
                <a:lnTo>
                  <a:pt x="11747" y="14299"/>
                </a:lnTo>
                <a:lnTo>
                  <a:pt x="11747" y="17989"/>
                </a:lnTo>
                <a:lnTo>
                  <a:pt x="16133" y="17989"/>
                </a:lnTo>
                <a:lnTo>
                  <a:pt x="16133" y="10800"/>
                </a:lnTo>
                <a:lnTo>
                  <a:pt x="5515" y="10800"/>
                </a:lnTo>
                <a:lnTo>
                  <a:pt x="5515" y="17989"/>
                </a:lnTo>
                <a:lnTo>
                  <a:pt x="9901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7" name="Text Box 42"/>
          <p:cNvSpPr/>
          <p:nvPr/>
        </p:nvSpPr>
        <p:spPr>
          <a:xfrm>
            <a:off x="7119360" y="219240"/>
            <a:ext cx="1752120" cy="459720"/>
          </a:xfrm>
          <a:prstGeom prst="rect">
            <a:avLst/>
          </a:prstGeom>
          <a:noFill/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ff"/>
                </a:solidFill>
                <a:latin typeface="Cambria"/>
              </a:rPr>
              <a:t>Задача </a:t>
            </a:r>
            <a:r>
              <a:rPr b="1" i="1" lang="en-US" sz="2400" spc="-1" strike="noStrike">
                <a:solidFill>
                  <a:srgbClr val="9933ff"/>
                </a:solidFill>
                <a:latin typeface="Cambria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838" name="Object 46"/>
          <p:cNvGraphicFramePr/>
          <p:nvPr/>
        </p:nvGraphicFramePr>
        <p:xfrm>
          <a:off x="6218280" y="3335400"/>
          <a:ext cx="2565360" cy="40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39" name="Object 4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218280" y="3335400"/>
                    <a:ext cx="256536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0" name="Object 47"/>
          <p:cNvGraphicFramePr/>
          <p:nvPr/>
        </p:nvGraphicFramePr>
        <p:xfrm>
          <a:off x="6254640" y="3800520"/>
          <a:ext cx="1625760" cy="507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41" name="Object 4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254640" y="3800520"/>
                    <a:ext cx="162576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Line 48"/>
          <p:cNvSpPr/>
          <p:nvPr/>
        </p:nvSpPr>
        <p:spPr>
          <a:xfrm>
            <a:off x="5940360" y="4941720"/>
            <a:ext cx="309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843" name="Object 49"/>
          <p:cNvGraphicFramePr/>
          <p:nvPr/>
        </p:nvGraphicFramePr>
        <p:xfrm>
          <a:off x="6242040" y="5103720"/>
          <a:ext cx="1206360" cy="343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44" name="Object 4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242040" y="5103720"/>
                    <a:ext cx="120636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5" name="Text Box 50"/>
          <p:cNvSpPr/>
          <p:nvPr/>
        </p:nvSpPr>
        <p:spPr>
          <a:xfrm>
            <a:off x="4427280" y="5661000"/>
            <a:ext cx="1607040" cy="581400"/>
          </a:xfrm>
          <a:prstGeom prst="rect">
            <a:avLst/>
          </a:prstGeom>
          <a:gradFill rotWithShape="0">
            <a:gsLst>
              <a:gs pos="0">
                <a:srgbClr val="cc99ff">
                  <a:alpha val="44313"/>
                </a:srgbClr>
              </a:gs>
              <a:gs pos="50000">
                <a:srgbClr val="ffffff"/>
              </a:gs>
              <a:gs pos="100000">
                <a:srgbClr val="cc99ff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846" name="Object 51"/>
          <p:cNvGraphicFramePr/>
          <p:nvPr/>
        </p:nvGraphicFramePr>
        <p:xfrm>
          <a:off x="6257880" y="5661000"/>
          <a:ext cx="1587600" cy="507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47" name="Object 5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257880" y="5661000"/>
                    <a:ext cx="158760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52"/>
          <p:cNvGraphicFramePr/>
          <p:nvPr/>
        </p:nvGraphicFramePr>
        <p:xfrm>
          <a:off x="6242040" y="4467240"/>
          <a:ext cx="2489040" cy="3808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49" name="Object 5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242040" y="4467240"/>
                    <a:ext cx="24890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Freeform 53"/>
          <p:cNvSpPr/>
          <p:nvPr/>
        </p:nvSpPr>
        <p:spPr>
          <a:xfrm>
            <a:off x="876240" y="990720"/>
            <a:ext cx="3610080" cy="3781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50000">
                <a:srgbClr val="7de5f3">
                  <a:alpha val="44313"/>
                </a:srgbClr>
              </a:gs>
              <a:gs pos="100000">
                <a:srgbClr val="ffffff"/>
              </a:gs>
            </a:gsLst>
            <a:lin ang="2700000"/>
          </a:gra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851" name="Object 54"/>
          <p:cNvGraphicFramePr/>
          <p:nvPr/>
        </p:nvGraphicFramePr>
        <p:xfrm>
          <a:off x="4284720" y="549360"/>
          <a:ext cx="330120" cy="3301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52" name="Object 54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284720" y="549360"/>
                    <a:ext cx="33012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3" name="Object 55"/>
          <p:cNvGraphicFramePr/>
          <p:nvPr/>
        </p:nvGraphicFramePr>
        <p:xfrm>
          <a:off x="539640" y="2637000"/>
          <a:ext cx="292320" cy="3301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854" name="Object 55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39640" y="2637000"/>
                    <a:ext cx="29232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5" name="Object 56"/>
          <p:cNvGraphicFramePr/>
          <p:nvPr/>
        </p:nvGraphicFramePr>
        <p:xfrm>
          <a:off x="4500720" y="4653000"/>
          <a:ext cx="291960" cy="3427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856" name="Object 56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500720" y="4653000"/>
                    <a:ext cx="29196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7" name="Object 57"/>
          <p:cNvGraphicFramePr/>
          <p:nvPr/>
        </p:nvGraphicFramePr>
        <p:xfrm>
          <a:off x="3875040" y="2427120"/>
          <a:ext cx="406440" cy="33048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858" name="Object 57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3875040" y="2427120"/>
                    <a:ext cx="406440" cy="3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9" name="Freeform 58"/>
          <p:cNvSpPr/>
          <p:nvPr/>
        </p:nvSpPr>
        <p:spPr>
          <a:xfrm>
            <a:off x="857160" y="2800440"/>
            <a:ext cx="3476880" cy="66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860" name="Object 59"/>
          <p:cNvGraphicFramePr/>
          <p:nvPr/>
        </p:nvGraphicFramePr>
        <p:xfrm>
          <a:off x="1692360" y="1773360"/>
          <a:ext cx="203040" cy="34272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861" name="Object 59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1692360" y="1773360"/>
                    <a:ext cx="20304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2" name="Object 60"/>
          <p:cNvGraphicFramePr/>
          <p:nvPr/>
        </p:nvGraphicFramePr>
        <p:xfrm>
          <a:off x="4716360" y="2492280"/>
          <a:ext cx="228600" cy="33012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863" name="Object 60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4716360" y="2492280"/>
                    <a:ext cx="22860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4" name="Object 61"/>
          <p:cNvGraphicFramePr/>
          <p:nvPr/>
        </p:nvGraphicFramePr>
        <p:xfrm>
          <a:off x="2195640" y="4005360"/>
          <a:ext cx="685800" cy="50796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865" name="Object 61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2195640" y="4005360"/>
                    <a:ext cx="68580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6" name="AutoShape 64"/>
          <p:cNvSpPr/>
          <p:nvPr/>
        </p:nvSpPr>
        <p:spPr>
          <a:xfrm rot="21406800">
            <a:off x="4329000" y="998640"/>
            <a:ext cx="289080" cy="3767040"/>
          </a:xfrm>
          <a:custGeom>
            <a:avLst/>
            <a:gdLst>
              <a:gd name="textAreaLeft" fmla="*/ 0 w 289080"/>
              <a:gd name="textAreaRight" fmla="*/ 202680 w 289080"/>
              <a:gd name="textAreaTop" fmla="*/ 156960 h 3767040"/>
              <a:gd name="textAreaBottom" fmla="*/ 3610080 h 37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7" name="Line 65"/>
          <p:cNvSpPr/>
          <p:nvPr/>
        </p:nvSpPr>
        <p:spPr>
          <a:xfrm>
            <a:off x="4164120" y="206064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8" name="Line 72"/>
          <p:cNvSpPr/>
          <p:nvPr/>
        </p:nvSpPr>
        <p:spPr>
          <a:xfrm>
            <a:off x="4294080" y="366696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restart="whenNotActive" nodeType="interactiveSeq" fill="hold">
                <p:stCondLst>
                  <p:cond evt="onClick">
                    <p:tgtEl>
                      <p:spTgt spid="845"/>
                    </p:tgtEl>
                  </p:cond>
                </p:stCondLst>
                <p:childTnLst>
                  <p:par>
                    <p:cTn id="136" fill="hold">
                      <p:stCondLst>
                        <p:cond evt="onClick">
                          <p:tgtEl>
                            <p:spTgt spid="845"/>
                          </p:tgtEl>
                        </p:cond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20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Нижний колонтитул 1"/>
          <p:cNvSpPr/>
          <p:nvPr/>
        </p:nvSpPr>
        <p:spPr>
          <a:xfrm>
            <a:off x="324000" y="6568920"/>
            <a:ext cx="8640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mbria"/>
              </a:rPr>
              <a:t>Обухова Н.С, МОУ СОШ №17 г. Заволжья Нижегородской обла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0" name="AutoShape 37"/>
          <p:cNvSpPr/>
          <p:nvPr/>
        </p:nvSpPr>
        <p:spPr>
          <a:xfrm>
            <a:off x="250920" y="5950080"/>
            <a:ext cx="649080" cy="64764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48" h="21600">
                <a:moveTo>
                  <a:pt x="0" y="0"/>
                </a:moveTo>
                <a:lnTo>
                  <a:pt x="21648" y="0"/>
                </a:lnTo>
                <a:lnTo>
                  <a:pt x="21648" y="21600"/>
                </a:lnTo>
                <a:lnTo>
                  <a:pt x="0" y="21600"/>
                </a:lnTo>
                <a:close/>
              </a:path>
              <a:path fill="lightenLess" w="21648" h="21600">
                <a:moveTo>
                  <a:pt x="0" y="0"/>
                </a:moveTo>
                <a:lnTo>
                  <a:pt x="21648" y="0"/>
                </a:lnTo>
                <a:lnTo>
                  <a:pt x="20248" y="1400"/>
                </a:lnTo>
                <a:lnTo>
                  <a:pt x="1400" y="1400"/>
                </a:lnTo>
                <a:close/>
              </a:path>
              <a:path fill="darken" w="21648" h="21600">
                <a:moveTo>
                  <a:pt x="21648" y="0"/>
                </a:moveTo>
                <a:lnTo>
                  <a:pt x="21648" y="21600"/>
                </a:lnTo>
                <a:lnTo>
                  <a:pt x="20248" y="20200"/>
                </a:lnTo>
                <a:lnTo>
                  <a:pt x="20248" y="1400"/>
                </a:lnTo>
                <a:close/>
              </a:path>
              <a:path fill="darkenLess" w="21648" h="21600">
                <a:moveTo>
                  <a:pt x="21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48" y="20200"/>
                </a:lnTo>
                <a:close/>
              </a:path>
              <a:path fill="lighten" w="21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48" h="21600">
                <a:moveTo>
                  <a:pt x="10824" y="3837"/>
                </a:moveTo>
                <a:lnTo>
                  <a:pt x="13400" y="6448"/>
                </a:lnTo>
                <a:lnTo>
                  <a:pt x="13400" y="4707"/>
                </a:lnTo>
                <a:lnTo>
                  <a:pt x="15176" y="4707"/>
                </a:lnTo>
                <a:lnTo>
                  <a:pt x="15176" y="8224"/>
                </a:lnTo>
                <a:lnTo>
                  <a:pt x="17787" y="10800"/>
                </a:lnTo>
                <a:lnTo>
                  <a:pt x="16133" y="10800"/>
                </a:lnTo>
                <a:lnTo>
                  <a:pt x="16133" y="17989"/>
                </a:lnTo>
                <a:lnTo>
                  <a:pt x="5515" y="17989"/>
                </a:lnTo>
                <a:lnTo>
                  <a:pt x="5515" y="10800"/>
                </a:lnTo>
                <a:lnTo>
                  <a:pt x="3861" y="10800"/>
                </a:lnTo>
                <a:close/>
              </a:path>
              <a:path fill="darkenLess" w="21648" h="21600">
                <a:moveTo>
                  <a:pt x="13400" y="6448"/>
                </a:moveTo>
                <a:lnTo>
                  <a:pt x="13400" y="4707"/>
                </a:lnTo>
                <a:lnTo>
                  <a:pt x="15176" y="4707"/>
                </a:lnTo>
                <a:lnTo>
                  <a:pt x="15176" y="8224"/>
                </a:lnTo>
                <a:close/>
              </a:path>
              <a:path fill="darkenLess" w="21648" h="21600">
                <a:moveTo>
                  <a:pt x="9901" y="14299"/>
                </a:moveTo>
                <a:lnTo>
                  <a:pt x="11747" y="14299"/>
                </a:lnTo>
                <a:lnTo>
                  <a:pt x="11747" y="17989"/>
                </a:lnTo>
                <a:lnTo>
                  <a:pt x="16133" y="17989"/>
                </a:lnTo>
                <a:lnTo>
                  <a:pt x="16133" y="10800"/>
                </a:lnTo>
                <a:lnTo>
                  <a:pt x="5515" y="10800"/>
                </a:lnTo>
                <a:lnTo>
                  <a:pt x="5515" y="17989"/>
                </a:lnTo>
                <a:lnTo>
                  <a:pt x="9901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1" name="Text Box 38"/>
          <p:cNvSpPr/>
          <p:nvPr/>
        </p:nvSpPr>
        <p:spPr>
          <a:xfrm>
            <a:off x="7140240" y="219240"/>
            <a:ext cx="1843560" cy="459720"/>
          </a:xfrm>
          <a:prstGeom prst="rect">
            <a:avLst/>
          </a:prstGeom>
          <a:noFill/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ff"/>
                </a:solidFill>
                <a:latin typeface="Cambria"/>
              </a:rPr>
              <a:t>Задача </a:t>
            </a:r>
            <a:r>
              <a:rPr b="1" i="1" lang="en-US" sz="2400" spc="-1" strike="noStrike">
                <a:solidFill>
                  <a:srgbClr val="9933ff"/>
                </a:solidFill>
                <a:latin typeface="Cambria"/>
              </a:rPr>
              <a:t>21*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872" name="Object 41"/>
          <p:cNvGraphicFramePr/>
          <p:nvPr/>
        </p:nvGraphicFramePr>
        <p:xfrm>
          <a:off x="5613480" y="3573360"/>
          <a:ext cx="2539800" cy="40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3" name="Object 4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13480" y="3573360"/>
                    <a:ext cx="253980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4" name="Object 42"/>
          <p:cNvGraphicFramePr/>
          <p:nvPr/>
        </p:nvGraphicFramePr>
        <p:xfrm>
          <a:off x="5626080" y="4089240"/>
          <a:ext cx="2819520" cy="406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75" name="Object 4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626080" y="4089240"/>
                    <a:ext cx="281952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6" name="Line 43"/>
          <p:cNvSpPr/>
          <p:nvPr/>
        </p:nvSpPr>
        <p:spPr>
          <a:xfrm>
            <a:off x="5724360" y="4797360"/>
            <a:ext cx="309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877" name="Object 44"/>
          <p:cNvGraphicFramePr/>
          <p:nvPr/>
        </p:nvGraphicFramePr>
        <p:xfrm>
          <a:off x="5654520" y="4967280"/>
          <a:ext cx="1397160" cy="482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78" name="Object 4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654520" y="4967280"/>
                    <a:ext cx="139716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45"/>
          <p:cNvSpPr/>
          <p:nvPr/>
        </p:nvSpPr>
        <p:spPr>
          <a:xfrm>
            <a:off x="4066920" y="5661000"/>
            <a:ext cx="1607040" cy="581400"/>
          </a:xfrm>
          <a:prstGeom prst="rect">
            <a:avLst/>
          </a:prstGeom>
          <a:gradFill rotWithShape="0">
            <a:gsLst>
              <a:gs pos="0">
                <a:srgbClr val="cc99ff">
                  <a:alpha val="44313"/>
                </a:srgbClr>
              </a:gs>
              <a:gs pos="50000">
                <a:srgbClr val="ffffff"/>
              </a:gs>
              <a:gs pos="100000">
                <a:srgbClr val="cc99ff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880" name="Object 46"/>
          <p:cNvGraphicFramePr/>
          <p:nvPr/>
        </p:nvGraphicFramePr>
        <p:xfrm>
          <a:off x="5829480" y="5770440"/>
          <a:ext cx="1257120" cy="406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81" name="Object 4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829480" y="5770440"/>
                    <a:ext cx="125712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82" name="AutoShape 48"/>
          <p:cNvGrpSpPr/>
          <p:nvPr/>
        </p:nvGrpSpPr>
        <p:grpSpPr>
          <a:xfrm>
            <a:off x="2255760" y="1116000"/>
            <a:ext cx="3211560" cy="3352680"/>
            <a:chOff x="2255760" y="1116000"/>
            <a:chExt cx="3211560" cy="3352680"/>
          </a:xfrm>
        </p:grpSpPr>
        <p:pic>
          <p:nvPicPr>
            <p:cNvPr id="883" name="AutoShape 48" descr=""/>
            <p:cNvPicPr/>
            <p:nvPr/>
          </p:nvPicPr>
          <p:blipFill>
            <a:blip r:embed="rId10"/>
            <a:stretch/>
          </p:blipFill>
          <p:spPr>
            <a:xfrm>
              <a:off x="2255760" y="1116000"/>
              <a:ext cx="3211560" cy="33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4" name=""/>
            <p:cNvSpPr/>
            <p:nvPr/>
          </p:nvSpPr>
          <p:spPr>
            <a:xfrm rot="5400000">
              <a:off x="2231280" y="1702800"/>
              <a:ext cx="1657440" cy="10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85" name="Freeform 49"/>
          <p:cNvSpPr/>
          <p:nvPr/>
        </p:nvSpPr>
        <p:spPr>
          <a:xfrm>
            <a:off x="2268360" y="1125360"/>
            <a:ext cx="1770120" cy="146556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886" name="Object 50"/>
          <p:cNvGraphicFramePr/>
          <p:nvPr/>
        </p:nvGraphicFramePr>
        <p:xfrm>
          <a:off x="4406760" y="3263760"/>
          <a:ext cx="330480" cy="330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87" name="Object 5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406760" y="3263760"/>
                    <a:ext cx="330480" cy="3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8" name="Object 51"/>
          <p:cNvGraphicFramePr/>
          <p:nvPr/>
        </p:nvGraphicFramePr>
        <p:xfrm>
          <a:off x="5435640" y="692280"/>
          <a:ext cx="330120" cy="330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89" name="Object 5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435640" y="692280"/>
                    <a:ext cx="33012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0" name="Object 52"/>
          <p:cNvGraphicFramePr/>
          <p:nvPr/>
        </p:nvGraphicFramePr>
        <p:xfrm>
          <a:off x="1959120" y="744480"/>
          <a:ext cx="291960" cy="3301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91" name="Object 52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959120" y="744480"/>
                    <a:ext cx="29196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2" name="Object 53"/>
          <p:cNvGraphicFramePr/>
          <p:nvPr/>
        </p:nvGraphicFramePr>
        <p:xfrm>
          <a:off x="1908000" y="4437000"/>
          <a:ext cx="292320" cy="3430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93" name="Object 53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908000" y="4437000"/>
                    <a:ext cx="29232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4" name="Object 54"/>
          <p:cNvGraphicFramePr/>
          <p:nvPr/>
        </p:nvGraphicFramePr>
        <p:xfrm>
          <a:off x="3995640" y="2708280"/>
          <a:ext cx="292320" cy="3301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895" name="Object 54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995640" y="2708280"/>
                    <a:ext cx="29232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6" name="Object 55"/>
          <p:cNvGraphicFramePr/>
          <p:nvPr/>
        </p:nvGraphicFramePr>
        <p:xfrm>
          <a:off x="3708360" y="692280"/>
          <a:ext cx="216000" cy="3427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897" name="Object 55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708360" y="692280"/>
                    <a:ext cx="21600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8" name="Object 56"/>
          <p:cNvGraphicFramePr/>
          <p:nvPr/>
        </p:nvGraphicFramePr>
        <p:xfrm>
          <a:off x="1908000" y="2421000"/>
          <a:ext cx="216000" cy="3427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899" name="Object 56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908000" y="2421000"/>
                    <a:ext cx="21600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0" name="Object 57"/>
          <p:cNvGraphicFramePr/>
          <p:nvPr/>
        </p:nvGraphicFramePr>
        <p:xfrm>
          <a:off x="3492360" y="1628640"/>
          <a:ext cx="203400" cy="3430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901" name="Object 57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492360" y="1628640"/>
                    <a:ext cx="20340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2" name="Rectangle 58"/>
          <p:cNvSpPr/>
          <p:nvPr/>
        </p:nvSpPr>
        <p:spPr>
          <a:xfrm rot="18723600">
            <a:off x="3921120" y="2326680"/>
            <a:ext cx="215640" cy="216000"/>
          </a:xfrm>
          <a:prstGeom prst="rect">
            <a:avLst/>
          </a:prstGeom>
          <a:gradFill rotWithShape="0">
            <a:gsLst>
              <a:gs pos="0">
                <a:srgbClr val="edfad2">
                  <a:alpha val="44313"/>
                </a:srgbClr>
              </a:gs>
              <a:gs pos="100000">
                <a:srgbClr val="ffffff"/>
              </a:gs>
            </a:gsLst>
            <a:lin ang="5574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restart="whenNotActive" nodeType="interactiveSeq" fill="hold">
                <p:stCondLst>
                  <p:cond evt="onClick">
                    <p:tgtEl>
                      <p:spTgt spid="879"/>
                    </p:tgtEl>
                  </p:cond>
                </p:stCondLst>
                <p:childTnLst>
                  <p:par>
                    <p:cTn id="143" fill="hold">
                      <p:stCondLst>
                        <p:cond evt="onClick">
                          <p:tgtEl>
                            <p:spTgt spid="879"/>
                          </p:tgtEl>
                        </p:cond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2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Нижний колонтитул 1"/>
          <p:cNvSpPr/>
          <p:nvPr/>
        </p:nvSpPr>
        <p:spPr>
          <a:xfrm>
            <a:off x="324000" y="6568920"/>
            <a:ext cx="8640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mbria"/>
              </a:rPr>
              <a:t>Обухова Н.С, МОУ СОШ №17 г. Заволжья Нижегородской обла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4" name="AutoShape 37"/>
          <p:cNvSpPr/>
          <p:nvPr/>
        </p:nvSpPr>
        <p:spPr>
          <a:xfrm>
            <a:off x="250920" y="5950080"/>
            <a:ext cx="649080" cy="64764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48" h="21600">
                <a:moveTo>
                  <a:pt x="0" y="0"/>
                </a:moveTo>
                <a:lnTo>
                  <a:pt x="21648" y="0"/>
                </a:lnTo>
                <a:lnTo>
                  <a:pt x="21648" y="21600"/>
                </a:lnTo>
                <a:lnTo>
                  <a:pt x="0" y="21600"/>
                </a:lnTo>
                <a:close/>
              </a:path>
              <a:path fill="lightenLess" w="21648" h="21600">
                <a:moveTo>
                  <a:pt x="0" y="0"/>
                </a:moveTo>
                <a:lnTo>
                  <a:pt x="21648" y="0"/>
                </a:lnTo>
                <a:lnTo>
                  <a:pt x="20248" y="1400"/>
                </a:lnTo>
                <a:lnTo>
                  <a:pt x="1400" y="1400"/>
                </a:lnTo>
                <a:close/>
              </a:path>
              <a:path fill="darken" w="21648" h="21600">
                <a:moveTo>
                  <a:pt x="21648" y="0"/>
                </a:moveTo>
                <a:lnTo>
                  <a:pt x="21648" y="21600"/>
                </a:lnTo>
                <a:lnTo>
                  <a:pt x="20248" y="20200"/>
                </a:lnTo>
                <a:lnTo>
                  <a:pt x="20248" y="1400"/>
                </a:lnTo>
                <a:close/>
              </a:path>
              <a:path fill="darkenLess" w="21648" h="21600">
                <a:moveTo>
                  <a:pt x="21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48" y="20200"/>
                </a:lnTo>
                <a:close/>
              </a:path>
              <a:path fill="lighten" w="21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48" h="21600">
                <a:moveTo>
                  <a:pt x="10824" y="3837"/>
                </a:moveTo>
                <a:lnTo>
                  <a:pt x="13400" y="6448"/>
                </a:lnTo>
                <a:lnTo>
                  <a:pt x="13400" y="4707"/>
                </a:lnTo>
                <a:lnTo>
                  <a:pt x="15176" y="4707"/>
                </a:lnTo>
                <a:lnTo>
                  <a:pt x="15176" y="8224"/>
                </a:lnTo>
                <a:lnTo>
                  <a:pt x="17787" y="10800"/>
                </a:lnTo>
                <a:lnTo>
                  <a:pt x="16133" y="10800"/>
                </a:lnTo>
                <a:lnTo>
                  <a:pt x="16133" y="17989"/>
                </a:lnTo>
                <a:lnTo>
                  <a:pt x="5515" y="17989"/>
                </a:lnTo>
                <a:lnTo>
                  <a:pt x="5515" y="10800"/>
                </a:lnTo>
                <a:lnTo>
                  <a:pt x="3861" y="10800"/>
                </a:lnTo>
                <a:close/>
              </a:path>
              <a:path fill="darkenLess" w="21648" h="21600">
                <a:moveTo>
                  <a:pt x="13400" y="6448"/>
                </a:moveTo>
                <a:lnTo>
                  <a:pt x="13400" y="4707"/>
                </a:lnTo>
                <a:lnTo>
                  <a:pt x="15176" y="4707"/>
                </a:lnTo>
                <a:lnTo>
                  <a:pt x="15176" y="8224"/>
                </a:lnTo>
                <a:close/>
              </a:path>
              <a:path fill="darkenLess" w="21648" h="21600">
                <a:moveTo>
                  <a:pt x="9901" y="14299"/>
                </a:moveTo>
                <a:lnTo>
                  <a:pt x="11747" y="14299"/>
                </a:lnTo>
                <a:lnTo>
                  <a:pt x="11747" y="17989"/>
                </a:lnTo>
                <a:lnTo>
                  <a:pt x="16133" y="17989"/>
                </a:lnTo>
                <a:lnTo>
                  <a:pt x="16133" y="10800"/>
                </a:lnTo>
                <a:lnTo>
                  <a:pt x="5515" y="10800"/>
                </a:lnTo>
                <a:lnTo>
                  <a:pt x="5515" y="17989"/>
                </a:lnTo>
                <a:lnTo>
                  <a:pt x="9901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5" name="Text Box 38"/>
          <p:cNvSpPr/>
          <p:nvPr/>
        </p:nvSpPr>
        <p:spPr>
          <a:xfrm>
            <a:off x="7130520" y="219240"/>
            <a:ext cx="1863360" cy="459720"/>
          </a:xfrm>
          <a:prstGeom prst="rect">
            <a:avLst/>
          </a:prstGeom>
          <a:noFill/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ff"/>
                </a:solidFill>
                <a:latin typeface="Cambria"/>
              </a:rPr>
              <a:t>Задача </a:t>
            </a:r>
            <a:r>
              <a:rPr b="1" i="1" lang="en-US" sz="2400" spc="-1" strike="noStrike">
                <a:solidFill>
                  <a:srgbClr val="9933ff"/>
                </a:solidFill>
                <a:latin typeface="Cambria"/>
              </a:rPr>
              <a:t>22*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06" name="Object 39"/>
          <p:cNvGraphicFramePr/>
          <p:nvPr/>
        </p:nvGraphicFramePr>
        <p:xfrm>
          <a:off x="5915160" y="3583080"/>
          <a:ext cx="2565360" cy="40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7" name="Object 3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15160" y="3583080"/>
                    <a:ext cx="256536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8" name="Object 40"/>
          <p:cNvGraphicFramePr/>
          <p:nvPr/>
        </p:nvGraphicFramePr>
        <p:xfrm>
          <a:off x="5945040" y="4070520"/>
          <a:ext cx="2654280" cy="406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09" name="Object 4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945040" y="4070520"/>
                    <a:ext cx="2654280" cy="40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0" name="Line 41"/>
          <p:cNvSpPr/>
          <p:nvPr/>
        </p:nvSpPr>
        <p:spPr>
          <a:xfrm>
            <a:off x="5896080" y="4797360"/>
            <a:ext cx="309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11" name="Object 42"/>
          <p:cNvGraphicFramePr/>
          <p:nvPr/>
        </p:nvGraphicFramePr>
        <p:xfrm>
          <a:off x="5954760" y="4937040"/>
          <a:ext cx="1130400" cy="343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12" name="Object 4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954760" y="4937040"/>
                    <a:ext cx="113040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3" name="Text Box 43"/>
          <p:cNvSpPr/>
          <p:nvPr/>
        </p:nvSpPr>
        <p:spPr>
          <a:xfrm>
            <a:off x="4066920" y="5661000"/>
            <a:ext cx="1607040" cy="581400"/>
          </a:xfrm>
          <a:prstGeom prst="rect">
            <a:avLst/>
          </a:prstGeom>
          <a:gradFill rotWithShape="0">
            <a:gsLst>
              <a:gs pos="0">
                <a:srgbClr val="cc99ff">
                  <a:alpha val="44313"/>
                </a:srgbClr>
              </a:gs>
              <a:gs pos="50000">
                <a:srgbClr val="ffffff"/>
              </a:gs>
              <a:gs pos="100000">
                <a:srgbClr val="cc99ff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14" name="Object 44"/>
          <p:cNvGraphicFramePr/>
          <p:nvPr/>
        </p:nvGraphicFramePr>
        <p:xfrm>
          <a:off x="5948280" y="5746680"/>
          <a:ext cx="118116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915" name="Object 4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948280" y="5746680"/>
                    <a:ext cx="118116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6" name="Freeform 45"/>
          <p:cNvSpPr/>
          <p:nvPr/>
        </p:nvSpPr>
        <p:spPr>
          <a:xfrm>
            <a:off x="755640" y="907920"/>
            <a:ext cx="4713120" cy="2419560"/>
          </a:xfrm>
          <a:prstGeom prst="pie">
            <a:avLst/>
          </a:pr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17" name="Object 46"/>
          <p:cNvGraphicFramePr/>
          <p:nvPr/>
        </p:nvGraphicFramePr>
        <p:xfrm>
          <a:off x="711360" y="3397320"/>
          <a:ext cx="330120" cy="330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18" name="Object 4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11360" y="3397320"/>
                    <a:ext cx="33012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9" name="Object 47"/>
          <p:cNvGraphicFramePr/>
          <p:nvPr/>
        </p:nvGraphicFramePr>
        <p:xfrm>
          <a:off x="4311720" y="549360"/>
          <a:ext cx="291960" cy="330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20" name="Object 47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311720" y="549360"/>
                    <a:ext cx="29196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1" name="Object 48"/>
          <p:cNvGraphicFramePr/>
          <p:nvPr/>
        </p:nvGraphicFramePr>
        <p:xfrm>
          <a:off x="5307120" y="3362400"/>
          <a:ext cx="291960" cy="3427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22" name="Object 48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307120" y="3362400"/>
                    <a:ext cx="29196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3" name="Object 49"/>
          <p:cNvGraphicFramePr/>
          <p:nvPr/>
        </p:nvGraphicFramePr>
        <p:xfrm>
          <a:off x="4068720" y="3402000"/>
          <a:ext cx="330120" cy="3301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924" name="Object 49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068720" y="3402000"/>
                    <a:ext cx="33012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5" name="Freeform 51"/>
          <p:cNvSpPr/>
          <p:nvPr/>
        </p:nvSpPr>
        <p:spPr>
          <a:xfrm>
            <a:off x="4257720" y="914400"/>
            <a:ext cx="1440" cy="24004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6" name="Rectangle 52"/>
          <p:cNvSpPr/>
          <p:nvPr/>
        </p:nvSpPr>
        <p:spPr>
          <a:xfrm>
            <a:off x="4257720" y="3111480"/>
            <a:ext cx="208080" cy="208080"/>
          </a:xfrm>
          <a:prstGeom prst="rect">
            <a:avLst/>
          </a:prstGeom>
          <a:gradFill rotWithShape="0">
            <a:gsLst>
              <a:gs pos="0">
                <a:srgbClr val="edfad2">
                  <a:alpha val="44313"/>
                </a:srgbClr>
              </a:gs>
              <a:gs pos="100000">
                <a:srgbClr val="ffffff"/>
              </a:gs>
            </a:gsLst>
            <a:lin ang="27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27" name="Object 53"/>
          <p:cNvGraphicFramePr/>
          <p:nvPr/>
        </p:nvGraphicFramePr>
        <p:xfrm>
          <a:off x="2073240" y="1781280"/>
          <a:ext cx="216000" cy="3427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928" name="Object 53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073240" y="1781280"/>
                    <a:ext cx="21600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9" name="Object 54"/>
          <p:cNvGraphicFramePr/>
          <p:nvPr/>
        </p:nvGraphicFramePr>
        <p:xfrm>
          <a:off x="5019840" y="1892160"/>
          <a:ext cx="228600" cy="3304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930" name="Object 54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019840" y="1892160"/>
                    <a:ext cx="228600" cy="3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restart="whenNotActive" nodeType="interactiveSeq" fill="hold">
                <p:stCondLst>
                  <p:cond evt="onClick">
                    <p:tgtEl>
                      <p:spTgt spid="913"/>
                    </p:tgtEl>
                  </p:cond>
                </p:stCondLst>
                <p:childTnLst>
                  <p:par>
                    <p:cTn id="150" fill="hold">
                      <p:stCondLst>
                        <p:cond evt="onClick">
                          <p:tgtEl>
                            <p:spTgt spid="913"/>
                          </p:tgtEl>
                        </p:cond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Нижний колонтитул 1"/>
          <p:cNvSpPr/>
          <p:nvPr/>
        </p:nvSpPr>
        <p:spPr>
          <a:xfrm>
            <a:off x="324000" y="6568920"/>
            <a:ext cx="8640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mbria"/>
              </a:rPr>
              <a:t>Обухова Н.С, МОУ СОШ №17 г. Заволжья Нижегородской обла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AutoShape 2"/>
          <p:cNvSpPr/>
          <p:nvPr/>
        </p:nvSpPr>
        <p:spPr>
          <a:xfrm>
            <a:off x="250920" y="5950080"/>
            <a:ext cx="649080" cy="64764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48" h="21600">
                <a:moveTo>
                  <a:pt x="0" y="0"/>
                </a:moveTo>
                <a:lnTo>
                  <a:pt x="21648" y="0"/>
                </a:lnTo>
                <a:lnTo>
                  <a:pt x="21648" y="21600"/>
                </a:lnTo>
                <a:lnTo>
                  <a:pt x="0" y="21600"/>
                </a:lnTo>
                <a:close/>
              </a:path>
              <a:path fill="lightenLess" w="21648" h="21600">
                <a:moveTo>
                  <a:pt x="0" y="0"/>
                </a:moveTo>
                <a:lnTo>
                  <a:pt x="21648" y="0"/>
                </a:lnTo>
                <a:lnTo>
                  <a:pt x="20248" y="1400"/>
                </a:lnTo>
                <a:lnTo>
                  <a:pt x="1400" y="1400"/>
                </a:lnTo>
                <a:close/>
              </a:path>
              <a:path fill="darken" w="21648" h="21600">
                <a:moveTo>
                  <a:pt x="21648" y="0"/>
                </a:moveTo>
                <a:lnTo>
                  <a:pt x="21648" y="21600"/>
                </a:lnTo>
                <a:lnTo>
                  <a:pt x="20248" y="20200"/>
                </a:lnTo>
                <a:lnTo>
                  <a:pt x="20248" y="1400"/>
                </a:lnTo>
                <a:close/>
              </a:path>
              <a:path fill="darkenLess" w="21648" h="21600">
                <a:moveTo>
                  <a:pt x="21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48" y="20200"/>
                </a:lnTo>
                <a:close/>
              </a:path>
              <a:path fill="lighten" w="21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48" h="21600">
                <a:moveTo>
                  <a:pt x="10824" y="3837"/>
                </a:moveTo>
                <a:lnTo>
                  <a:pt x="13400" y="6448"/>
                </a:lnTo>
                <a:lnTo>
                  <a:pt x="13400" y="4707"/>
                </a:lnTo>
                <a:lnTo>
                  <a:pt x="15176" y="4707"/>
                </a:lnTo>
                <a:lnTo>
                  <a:pt x="15176" y="8224"/>
                </a:lnTo>
                <a:lnTo>
                  <a:pt x="17787" y="10800"/>
                </a:lnTo>
                <a:lnTo>
                  <a:pt x="16133" y="10800"/>
                </a:lnTo>
                <a:lnTo>
                  <a:pt x="16133" y="17989"/>
                </a:lnTo>
                <a:lnTo>
                  <a:pt x="5515" y="17989"/>
                </a:lnTo>
                <a:lnTo>
                  <a:pt x="5515" y="10800"/>
                </a:lnTo>
                <a:lnTo>
                  <a:pt x="3861" y="10800"/>
                </a:lnTo>
                <a:close/>
              </a:path>
              <a:path fill="darkenLess" w="21648" h="21600">
                <a:moveTo>
                  <a:pt x="13400" y="6448"/>
                </a:moveTo>
                <a:lnTo>
                  <a:pt x="13400" y="4707"/>
                </a:lnTo>
                <a:lnTo>
                  <a:pt x="15176" y="4707"/>
                </a:lnTo>
                <a:lnTo>
                  <a:pt x="15176" y="8224"/>
                </a:lnTo>
                <a:close/>
              </a:path>
              <a:path fill="darkenLess" w="21648" h="21600">
                <a:moveTo>
                  <a:pt x="9901" y="14299"/>
                </a:moveTo>
                <a:lnTo>
                  <a:pt x="11747" y="14299"/>
                </a:lnTo>
                <a:lnTo>
                  <a:pt x="11747" y="17989"/>
                </a:lnTo>
                <a:lnTo>
                  <a:pt x="16133" y="17989"/>
                </a:lnTo>
                <a:lnTo>
                  <a:pt x="16133" y="10800"/>
                </a:lnTo>
                <a:lnTo>
                  <a:pt x="5515" y="10800"/>
                </a:lnTo>
                <a:lnTo>
                  <a:pt x="5515" y="17989"/>
                </a:lnTo>
                <a:lnTo>
                  <a:pt x="9901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3" name="Text Box 3"/>
          <p:cNvSpPr/>
          <p:nvPr/>
        </p:nvSpPr>
        <p:spPr>
          <a:xfrm>
            <a:off x="7129800" y="219240"/>
            <a:ext cx="1864800" cy="459720"/>
          </a:xfrm>
          <a:prstGeom prst="rect">
            <a:avLst/>
          </a:prstGeom>
          <a:noFill/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ff"/>
                </a:solidFill>
                <a:latin typeface="Cambria"/>
              </a:rPr>
              <a:t>Задача </a:t>
            </a:r>
            <a:r>
              <a:rPr b="1" i="1" lang="en-US" sz="2400" spc="-1" strike="noStrike">
                <a:solidFill>
                  <a:srgbClr val="9933ff"/>
                </a:solidFill>
                <a:latin typeface="Cambria"/>
              </a:rPr>
              <a:t>23*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34" name="Object 4"/>
          <p:cNvGraphicFramePr/>
          <p:nvPr/>
        </p:nvGraphicFramePr>
        <p:xfrm>
          <a:off x="5956200" y="3471840"/>
          <a:ext cx="3048120" cy="533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56200" y="3471840"/>
                    <a:ext cx="30481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6" name="Object 5"/>
          <p:cNvGraphicFramePr/>
          <p:nvPr/>
        </p:nvGraphicFramePr>
        <p:xfrm>
          <a:off x="5940360" y="4005360"/>
          <a:ext cx="1841400" cy="571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940360" y="4005360"/>
                    <a:ext cx="184140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8" name="Line 6"/>
          <p:cNvSpPr/>
          <p:nvPr/>
        </p:nvSpPr>
        <p:spPr>
          <a:xfrm>
            <a:off x="5896080" y="4797360"/>
            <a:ext cx="309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39" name="Object 7"/>
          <p:cNvGraphicFramePr/>
          <p:nvPr/>
        </p:nvGraphicFramePr>
        <p:xfrm>
          <a:off x="5961240" y="4937040"/>
          <a:ext cx="1117440" cy="343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40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961240" y="4937040"/>
                    <a:ext cx="1117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1" name="Text Box 8"/>
          <p:cNvSpPr/>
          <p:nvPr/>
        </p:nvSpPr>
        <p:spPr>
          <a:xfrm>
            <a:off x="4066920" y="5661000"/>
            <a:ext cx="1607040" cy="581400"/>
          </a:xfrm>
          <a:prstGeom prst="rect">
            <a:avLst/>
          </a:prstGeom>
          <a:gradFill rotWithShape="0">
            <a:gsLst>
              <a:gs pos="0">
                <a:srgbClr val="cc99ff">
                  <a:alpha val="44313"/>
                </a:srgbClr>
              </a:gs>
              <a:gs pos="50000">
                <a:srgbClr val="ffffff"/>
              </a:gs>
              <a:gs pos="100000">
                <a:srgbClr val="cc99ff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42" name="Object 9"/>
          <p:cNvGraphicFramePr/>
          <p:nvPr/>
        </p:nvGraphicFramePr>
        <p:xfrm>
          <a:off x="5654520" y="5670720"/>
          <a:ext cx="3467160" cy="5331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943" name="Object 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654520" y="5670720"/>
                    <a:ext cx="346716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4" name="Freeform 10"/>
          <p:cNvSpPr/>
          <p:nvPr/>
        </p:nvSpPr>
        <p:spPr>
          <a:xfrm>
            <a:off x="755640" y="907920"/>
            <a:ext cx="4713120" cy="2419560"/>
          </a:xfrm>
          <a:prstGeom prst="pie">
            <a:avLst/>
          </a:pr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45" name="Object 11"/>
          <p:cNvGraphicFramePr/>
          <p:nvPr/>
        </p:nvGraphicFramePr>
        <p:xfrm>
          <a:off x="711360" y="3397320"/>
          <a:ext cx="330120" cy="330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46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11360" y="3397320"/>
                    <a:ext cx="33012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7" name="Object 12"/>
          <p:cNvGraphicFramePr/>
          <p:nvPr/>
        </p:nvGraphicFramePr>
        <p:xfrm>
          <a:off x="4311720" y="549360"/>
          <a:ext cx="291960" cy="330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48" name="Object 1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311720" y="549360"/>
                    <a:ext cx="29196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9" name="Object 13"/>
          <p:cNvGraphicFramePr/>
          <p:nvPr/>
        </p:nvGraphicFramePr>
        <p:xfrm>
          <a:off x="5307120" y="3362400"/>
          <a:ext cx="291960" cy="3427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50" name="Object 13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307120" y="3362400"/>
                    <a:ext cx="29196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1" name="Object 17"/>
          <p:cNvGraphicFramePr/>
          <p:nvPr/>
        </p:nvGraphicFramePr>
        <p:xfrm>
          <a:off x="1835280" y="1628640"/>
          <a:ext cx="723600" cy="507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952" name="Object 17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835280" y="1628640"/>
                    <a:ext cx="72360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3" name="Object 18"/>
          <p:cNvGraphicFramePr/>
          <p:nvPr/>
        </p:nvGraphicFramePr>
        <p:xfrm>
          <a:off x="5056200" y="1673280"/>
          <a:ext cx="203040" cy="3427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954" name="Object 18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056200" y="1673280"/>
                    <a:ext cx="20304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restart="whenNotActive" nodeType="interactiveSeq" fill="hold">
                <p:stCondLst>
                  <p:cond evt="onClick">
                    <p:tgtEl>
                      <p:spTgt spid="941"/>
                    </p:tgtEl>
                  </p:cond>
                </p:stCondLst>
                <p:childTnLst>
                  <p:par>
                    <p:cTn id="157" fill="hold">
                      <p:stCondLst>
                        <p:cond evt="onClick">
                          <p:tgtEl>
                            <p:spTgt spid="941"/>
                          </p:tgtEl>
                        </p:cond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2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Нижний колонтитул 1"/>
          <p:cNvSpPr/>
          <p:nvPr/>
        </p:nvSpPr>
        <p:spPr>
          <a:xfrm>
            <a:off x="324000" y="6568920"/>
            <a:ext cx="8640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mbria"/>
              </a:rPr>
              <a:t>Обухова Н.С, МОУ СОШ №17 г. Заволжья Нижегородской обла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6" name="Object 13"/>
              <p:cNvSpPr txBox="1"/>
              <p:nvPr/>
            </p:nvSpPr>
            <p:spPr>
              <a:xfrm>
                <a:off x="3551400" y="5481720"/>
                <a:ext cx="390240" cy="84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57" name="AutoShape 39"/>
          <p:cNvSpPr/>
          <p:nvPr/>
        </p:nvSpPr>
        <p:spPr>
          <a:xfrm>
            <a:off x="250920" y="5950080"/>
            <a:ext cx="649080" cy="64764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48" h="21600">
                <a:moveTo>
                  <a:pt x="0" y="0"/>
                </a:moveTo>
                <a:lnTo>
                  <a:pt x="21648" y="0"/>
                </a:lnTo>
                <a:lnTo>
                  <a:pt x="21648" y="21600"/>
                </a:lnTo>
                <a:lnTo>
                  <a:pt x="0" y="21600"/>
                </a:lnTo>
                <a:close/>
              </a:path>
              <a:path fill="lightenLess" w="21648" h="21600">
                <a:moveTo>
                  <a:pt x="0" y="0"/>
                </a:moveTo>
                <a:lnTo>
                  <a:pt x="21648" y="0"/>
                </a:lnTo>
                <a:lnTo>
                  <a:pt x="20248" y="1400"/>
                </a:lnTo>
                <a:lnTo>
                  <a:pt x="1400" y="1400"/>
                </a:lnTo>
                <a:close/>
              </a:path>
              <a:path fill="darken" w="21648" h="21600">
                <a:moveTo>
                  <a:pt x="21648" y="0"/>
                </a:moveTo>
                <a:lnTo>
                  <a:pt x="21648" y="21600"/>
                </a:lnTo>
                <a:lnTo>
                  <a:pt x="20248" y="20200"/>
                </a:lnTo>
                <a:lnTo>
                  <a:pt x="20248" y="1400"/>
                </a:lnTo>
                <a:close/>
              </a:path>
              <a:path fill="darkenLess" w="21648" h="21600">
                <a:moveTo>
                  <a:pt x="21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48" y="20200"/>
                </a:lnTo>
                <a:close/>
              </a:path>
              <a:path fill="lighten" w="21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48" h="21600">
                <a:moveTo>
                  <a:pt x="10824" y="3837"/>
                </a:moveTo>
                <a:lnTo>
                  <a:pt x="13400" y="6448"/>
                </a:lnTo>
                <a:lnTo>
                  <a:pt x="13400" y="4707"/>
                </a:lnTo>
                <a:lnTo>
                  <a:pt x="15176" y="4707"/>
                </a:lnTo>
                <a:lnTo>
                  <a:pt x="15176" y="8224"/>
                </a:lnTo>
                <a:lnTo>
                  <a:pt x="17787" y="10800"/>
                </a:lnTo>
                <a:lnTo>
                  <a:pt x="16133" y="10800"/>
                </a:lnTo>
                <a:lnTo>
                  <a:pt x="16133" y="17989"/>
                </a:lnTo>
                <a:lnTo>
                  <a:pt x="5515" y="17989"/>
                </a:lnTo>
                <a:lnTo>
                  <a:pt x="5515" y="10800"/>
                </a:lnTo>
                <a:lnTo>
                  <a:pt x="3861" y="10800"/>
                </a:lnTo>
                <a:close/>
              </a:path>
              <a:path fill="darkenLess" w="21648" h="21600">
                <a:moveTo>
                  <a:pt x="13400" y="6448"/>
                </a:moveTo>
                <a:lnTo>
                  <a:pt x="13400" y="4707"/>
                </a:lnTo>
                <a:lnTo>
                  <a:pt x="15176" y="4707"/>
                </a:lnTo>
                <a:lnTo>
                  <a:pt x="15176" y="8224"/>
                </a:lnTo>
                <a:close/>
              </a:path>
              <a:path fill="darkenLess" w="21648" h="21600">
                <a:moveTo>
                  <a:pt x="9901" y="14299"/>
                </a:moveTo>
                <a:lnTo>
                  <a:pt x="11747" y="14299"/>
                </a:lnTo>
                <a:lnTo>
                  <a:pt x="11747" y="17989"/>
                </a:lnTo>
                <a:lnTo>
                  <a:pt x="16133" y="17989"/>
                </a:lnTo>
                <a:lnTo>
                  <a:pt x="16133" y="10800"/>
                </a:lnTo>
                <a:lnTo>
                  <a:pt x="5515" y="10800"/>
                </a:lnTo>
                <a:lnTo>
                  <a:pt x="5515" y="17989"/>
                </a:lnTo>
                <a:lnTo>
                  <a:pt x="9901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8" name="Text Box 40"/>
          <p:cNvSpPr/>
          <p:nvPr/>
        </p:nvSpPr>
        <p:spPr>
          <a:xfrm>
            <a:off x="7122240" y="219240"/>
            <a:ext cx="1879920" cy="459720"/>
          </a:xfrm>
          <a:prstGeom prst="rect">
            <a:avLst/>
          </a:prstGeom>
          <a:noFill/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ff"/>
                </a:solidFill>
                <a:latin typeface="Cambria"/>
              </a:rPr>
              <a:t>Задача 2</a:t>
            </a:r>
            <a:r>
              <a:rPr b="1" i="1" lang="en-US" sz="2400" spc="-1" strike="noStrike">
                <a:solidFill>
                  <a:srgbClr val="9933ff"/>
                </a:solidFill>
                <a:latin typeface="Cambria"/>
              </a:rPr>
              <a:t>4*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59" name="Object 47"/>
          <p:cNvGraphicFramePr/>
          <p:nvPr/>
        </p:nvGraphicFramePr>
        <p:xfrm>
          <a:off x="5076720" y="4149720"/>
          <a:ext cx="3886200" cy="50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0" name="Object 4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76720" y="4149720"/>
                    <a:ext cx="388620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1" name="Line 49"/>
          <p:cNvSpPr/>
          <p:nvPr/>
        </p:nvSpPr>
        <p:spPr>
          <a:xfrm>
            <a:off x="5148360" y="4797360"/>
            <a:ext cx="367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62" name="Object 50"/>
          <p:cNvGraphicFramePr/>
          <p:nvPr/>
        </p:nvGraphicFramePr>
        <p:xfrm>
          <a:off x="5114880" y="4930920"/>
          <a:ext cx="3035520" cy="406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63" name="Object 5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14880" y="4930920"/>
                    <a:ext cx="3035520" cy="40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4" name="Text Box 51"/>
          <p:cNvSpPr/>
          <p:nvPr/>
        </p:nvSpPr>
        <p:spPr>
          <a:xfrm>
            <a:off x="2392200" y="5619600"/>
            <a:ext cx="1607040" cy="581400"/>
          </a:xfrm>
          <a:prstGeom prst="rect">
            <a:avLst/>
          </a:prstGeom>
          <a:gradFill rotWithShape="0">
            <a:gsLst>
              <a:gs pos="0">
                <a:srgbClr val="cc99ff">
                  <a:alpha val="44313"/>
                </a:srgbClr>
              </a:gs>
              <a:gs pos="50000">
                <a:srgbClr val="ffffff"/>
              </a:gs>
              <a:gs pos="100000">
                <a:srgbClr val="cc99ff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65" name="Object 52"/>
          <p:cNvGraphicFramePr/>
          <p:nvPr/>
        </p:nvGraphicFramePr>
        <p:xfrm>
          <a:off x="4151160" y="5727600"/>
          <a:ext cx="4953240" cy="495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66" name="Object 5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151160" y="5727600"/>
                    <a:ext cx="49532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7" name="Freeform 53"/>
          <p:cNvSpPr/>
          <p:nvPr/>
        </p:nvSpPr>
        <p:spPr>
          <a:xfrm>
            <a:off x="900000" y="549360"/>
            <a:ext cx="3456000" cy="4176720"/>
          </a:xfrm>
          <a:prstGeom prst="pie">
            <a:avLst/>
          </a:pr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68" name="Object 54"/>
          <p:cNvGraphicFramePr/>
          <p:nvPr/>
        </p:nvGraphicFramePr>
        <p:xfrm>
          <a:off x="468360" y="3284640"/>
          <a:ext cx="330120" cy="330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69" name="Object 5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68360" y="3284640"/>
                    <a:ext cx="33012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0" name="Object 55"/>
          <p:cNvGraphicFramePr/>
          <p:nvPr/>
        </p:nvGraphicFramePr>
        <p:xfrm>
          <a:off x="4425840" y="476280"/>
          <a:ext cx="292320" cy="330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71" name="Object 5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425840" y="476280"/>
                    <a:ext cx="29232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2" name="Object 56"/>
          <p:cNvGraphicFramePr/>
          <p:nvPr/>
        </p:nvGraphicFramePr>
        <p:xfrm>
          <a:off x="3584520" y="4818240"/>
          <a:ext cx="292320" cy="342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73" name="Object 5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584520" y="4818240"/>
                    <a:ext cx="29232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restart="whenNotActive" nodeType="interactiveSeq" fill="hold">
                <p:stCondLst>
                  <p:cond evt="onClick">
                    <p:tgtEl>
                      <p:spTgt spid="964"/>
                    </p:tgtEl>
                  </p:cond>
                </p:stCondLst>
                <p:childTnLst>
                  <p:par>
                    <p:cTn id="164" fill="hold">
                      <p:stCondLst>
                        <p:cond evt="onClick">
                          <p:tgtEl>
                            <p:spTgt spid="964"/>
                          </p:tgtEl>
                        </p:cond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2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Нижний колонтитул 1"/>
          <p:cNvSpPr/>
          <p:nvPr/>
        </p:nvSpPr>
        <p:spPr>
          <a:xfrm>
            <a:off x="324000" y="6568920"/>
            <a:ext cx="8640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mbria"/>
              </a:rPr>
              <a:t>Обухова Н.С, МОУ СОШ №17 г. Заволжья Нижегородской обла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5" name="AutoShape 2"/>
          <p:cNvSpPr/>
          <p:nvPr/>
        </p:nvSpPr>
        <p:spPr>
          <a:xfrm>
            <a:off x="250920" y="5950080"/>
            <a:ext cx="649080" cy="64764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48" h="21600">
                <a:moveTo>
                  <a:pt x="0" y="0"/>
                </a:moveTo>
                <a:lnTo>
                  <a:pt x="21648" y="0"/>
                </a:lnTo>
                <a:lnTo>
                  <a:pt x="21648" y="21600"/>
                </a:lnTo>
                <a:lnTo>
                  <a:pt x="0" y="21600"/>
                </a:lnTo>
                <a:close/>
              </a:path>
              <a:path fill="lightenLess" w="21648" h="21600">
                <a:moveTo>
                  <a:pt x="0" y="0"/>
                </a:moveTo>
                <a:lnTo>
                  <a:pt x="21648" y="0"/>
                </a:lnTo>
                <a:lnTo>
                  <a:pt x="20248" y="1400"/>
                </a:lnTo>
                <a:lnTo>
                  <a:pt x="1400" y="1400"/>
                </a:lnTo>
                <a:close/>
              </a:path>
              <a:path fill="darken" w="21648" h="21600">
                <a:moveTo>
                  <a:pt x="21648" y="0"/>
                </a:moveTo>
                <a:lnTo>
                  <a:pt x="21648" y="21600"/>
                </a:lnTo>
                <a:lnTo>
                  <a:pt x="20248" y="20200"/>
                </a:lnTo>
                <a:lnTo>
                  <a:pt x="20248" y="1400"/>
                </a:lnTo>
                <a:close/>
              </a:path>
              <a:path fill="darkenLess" w="21648" h="21600">
                <a:moveTo>
                  <a:pt x="21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48" y="20200"/>
                </a:lnTo>
                <a:close/>
              </a:path>
              <a:path fill="lighten" w="21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48" h="21600">
                <a:moveTo>
                  <a:pt x="10824" y="3837"/>
                </a:moveTo>
                <a:lnTo>
                  <a:pt x="13400" y="6448"/>
                </a:lnTo>
                <a:lnTo>
                  <a:pt x="13400" y="4707"/>
                </a:lnTo>
                <a:lnTo>
                  <a:pt x="15176" y="4707"/>
                </a:lnTo>
                <a:lnTo>
                  <a:pt x="15176" y="8224"/>
                </a:lnTo>
                <a:lnTo>
                  <a:pt x="17787" y="10800"/>
                </a:lnTo>
                <a:lnTo>
                  <a:pt x="16133" y="10800"/>
                </a:lnTo>
                <a:lnTo>
                  <a:pt x="16133" y="17989"/>
                </a:lnTo>
                <a:lnTo>
                  <a:pt x="5515" y="17989"/>
                </a:lnTo>
                <a:lnTo>
                  <a:pt x="5515" y="10800"/>
                </a:lnTo>
                <a:lnTo>
                  <a:pt x="3861" y="10800"/>
                </a:lnTo>
                <a:close/>
              </a:path>
              <a:path fill="darkenLess" w="21648" h="21600">
                <a:moveTo>
                  <a:pt x="13400" y="6448"/>
                </a:moveTo>
                <a:lnTo>
                  <a:pt x="13400" y="4707"/>
                </a:lnTo>
                <a:lnTo>
                  <a:pt x="15176" y="4707"/>
                </a:lnTo>
                <a:lnTo>
                  <a:pt x="15176" y="8224"/>
                </a:lnTo>
                <a:close/>
              </a:path>
              <a:path fill="darkenLess" w="21648" h="21600">
                <a:moveTo>
                  <a:pt x="9901" y="14299"/>
                </a:moveTo>
                <a:lnTo>
                  <a:pt x="11747" y="14299"/>
                </a:lnTo>
                <a:lnTo>
                  <a:pt x="11747" y="17989"/>
                </a:lnTo>
                <a:lnTo>
                  <a:pt x="16133" y="17989"/>
                </a:lnTo>
                <a:lnTo>
                  <a:pt x="16133" y="10800"/>
                </a:lnTo>
                <a:lnTo>
                  <a:pt x="5515" y="10800"/>
                </a:lnTo>
                <a:lnTo>
                  <a:pt x="5515" y="17989"/>
                </a:lnTo>
                <a:lnTo>
                  <a:pt x="9901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6" name="Text Box 3"/>
          <p:cNvSpPr/>
          <p:nvPr/>
        </p:nvSpPr>
        <p:spPr>
          <a:xfrm>
            <a:off x="7128000" y="219240"/>
            <a:ext cx="1868040" cy="459720"/>
          </a:xfrm>
          <a:prstGeom prst="rect">
            <a:avLst/>
          </a:prstGeom>
          <a:noFill/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ff"/>
                </a:solidFill>
                <a:latin typeface="Cambria"/>
              </a:rPr>
              <a:t>Задача </a:t>
            </a:r>
            <a:r>
              <a:rPr b="1" i="1" lang="en-US" sz="2400" spc="-1" strike="noStrike">
                <a:solidFill>
                  <a:srgbClr val="9933ff"/>
                </a:solidFill>
                <a:latin typeface="Cambria"/>
              </a:rPr>
              <a:t>25*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77" name="Object 4"/>
          <p:cNvGraphicFramePr/>
          <p:nvPr/>
        </p:nvGraphicFramePr>
        <p:xfrm>
          <a:off x="5672160" y="3603600"/>
          <a:ext cx="2895480" cy="40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78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72160" y="3603600"/>
                    <a:ext cx="289548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9" name="Object 5"/>
          <p:cNvGraphicFramePr/>
          <p:nvPr/>
        </p:nvGraphicFramePr>
        <p:xfrm>
          <a:off x="6257880" y="4162320"/>
          <a:ext cx="216000" cy="368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80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257880" y="4162320"/>
                    <a:ext cx="21600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1" name="Line 6"/>
          <p:cNvSpPr/>
          <p:nvPr/>
        </p:nvSpPr>
        <p:spPr>
          <a:xfrm>
            <a:off x="5724360" y="4797360"/>
            <a:ext cx="309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2" name="Text Box 8"/>
          <p:cNvSpPr/>
          <p:nvPr/>
        </p:nvSpPr>
        <p:spPr>
          <a:xfrm>
            <a:off x="4066920" y="5661000"/>
            <a:ext cx="1607040" cy="581400"/>
          </a:xfrm>
          <a:prstGeom prst="rect">
            <a:avLst/>
          </a:prstGeom>
          <a:gradFill rotWithShape="0">
            <a:gsLst>
              <a:gs pos="0">
                <a:srgbClr val="cc99ff">
                  <a:alpha val="44313"/>
                </a:srgbClr>
              </a:gs>
              <a:gs pos="50000">
                <a:srgbClr val="ffffff"/>
              </a:gs>
              <a:gs pos="100000">
                <a:srgbClr val="cc99ff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83" name="Object 9"/>
          <p:cNvGraphicFramePr/>
          <p:nvPr/>
        </p:nvGraphicFramePr>
        <p:xfrm>
          <a:off x="5878440" y="5734080"/>
          <a:ext cx="1181160" cy="342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84" name="Object 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878440" y="5734080"/>
                    <a:ext cx="118116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5" name="AutoShape 10"/>
          <p:cNvSpPr/>
          <p:nvPr/>
        </p:nvSpPr>
        <p:spPr>
          <a:xfrm>
            <a:off x="611280" y="1413000"/>
            <a:ext cx="4752720" cy="2016000"/>
          </a:xfrm>
          <a:prstGeom prst="parallelogram">
            <a:avLst>
              <a:gd name="adj" fmla="val 58938"/>
            </a:avLst>
          </a:prstGeom>
          <a:gradFill rotWithShape="0">
            <a:gsLst>
              <a:gs pos="0">
                <a:srgbClr val="ffffff"/>
              </a:gs>
              <a:gs pos="100000">
                <a:srgbClr val="70b9da">
                  <a:alpha val="44313"/>
                </a:srgbClr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6" name="Line 11"/>
          <p:cNvSpPr/>
          <p:nvPr/>
        </p:nvSpPr>
        <p:spPr>
          <a:xfrm flipV="1">
            <a:off x="611280" y="1409400"/>
            <a:ext cx="4761000" cy="2019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87" name="Object 13"/>
          <p:cNvGraphicFramePr/>
          <p:nvPr/>
        </p:nvGraphicFramePr>
        <p:xfrm>
          <a:off x="235080" y="3473280"/>
          <a:ext cx="330120" cy="330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988" name="Object 1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35080" y="3473280"/>
                    <a:ext cx="330120" cy="3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9" name="Object 14"/>
          <p:cNvGraphicFramePr/>
          <p:nvPr/>
        </p:nvGraphicFramePr>
        <p:xfrm>
          <a:off x="1720800" y="1006560"/>
          <a:ext cx="292320" cy="3301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990" name="Object 14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720800" y="1006560"/>
                    <a:ext cx="29232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1" name="Object 15"/>
          <p:cNvGraphicFramePr/>
          <p:nvPr/>
        </p:nvGraphicFramePr>
        <p:xfrm>
          <a:off x="5425920" y="1028880"/>
          <a:ext cx="292320" cy="3427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992" name="Object 15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425920" y="1028880"/>
                    <a:ext cx="29232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3" name="Object 16"/>
          <p:cNvGraphicFramePr/>
          <p:nvPr/>
        </p:nvGraphicFramePr>
        <p:xfrm>
          <a:off x="3882960" y="3492360"/>
          <a:ext cx="330120" cy="3304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994" name="Object 16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882960" y="3492360"/>
                    <a:ext cx="330120" cy="3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5" name="Object 20"/>
          <p:cNvGraphicFramePr/>
          <p:nvPr/>
        </p:nvGraphicFramePr>
        <p:xfrm>
          <a:off x="5802480" y="5013360"/>
          <a:ext cx="1117440" cy="3427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996" name="Object 20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802480" y="5013360"/>
                    <a:ext cx="111744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7" name="Object 22"/>
          <p:cNvGraphicFramePr/>
          <p:nvPr/>
        </p:nvGraphicFramePr>
        <p:xfrm>
          <a:off x="3409920" y="907920"/>
          <a:ext cx="393840" cy="34308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998" name="Object 22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3409920" y="907920"/>
                    <a:ext cx="3938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9" name="Object 24"/>
          <p:cNvGraphicFramePr/>
          <p:nvPr/>
        </p:nvGraphicFramePr>
        <p:xfrm>
          <a:off x="3270240" y="2355840"/>
          <a:ext cx="393840" cy="33012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000" name="Object 24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3270240" y="2355840"/>
                    <a:ext cx="39384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1" name="Object 26"/>
          <p:cNvGraphicFramePr/>
          <p:nvPr/>
        </p:nvGraphicFramePr>
        <p:xfrm>
          <a:off x="5796000" y="4076640"/>
          <a:ext cx="1701720" cy="43200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1002" name="Object 26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5796000" y="4076640"/>
                    <a:ext cx="17017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3" name="Arc 27"/>
          <p:cNvSpPr/>
          <p:nvPr/>
        </p:nvSpPr>
        <p:spPr>
          <a:xfrm flipV="1">
            <a:off x="1581120" y="1399320"/>
            <a:ext cx="657360" cy="3812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04" name="Object 28"/>
          <p:cNvGraphicFramePr/>
          <p:nvPr/>
        </p:nvGraphicFramePr>
        <p:xfrm>
          <a:off x="1979640" y="1628640"/>
          <a:ext cx="723960" cy="43200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1005" name="Object 28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1979640" y="1628640"/>
                    <a:ext cx="723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restart="whenNotActive" nodeType="interactiveSeq" fill="hold">
                <p:stCondLst>
                  <p:cond evt="onClick">
                    <p:tgtEl>
                      <p:spTgt spid="982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982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2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Нижний колонтитул 1"/>
          <p:cNvSpPr/>
          <p:nvPr/>
        </p:nvSpPr>
        <p:spPr>
          <a:xfrm>
            <a:off x="324000" y="6568920"/>
            <a:ext cx="8640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mbria"/>
              </a:rPr>
              <a:t>Обухова Н.С, МОУ СОШ №17 г. Заволжья Нижегородской обла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7" name="AutoShape 47"/>
          <p:cNvSpPr/>
          <p:nvPr/>
        </p:nvSpPr>
        <p:spPr>
          <a:xfrm>
            <a:off x="250920" y="5950080"/>
            <a:ext cx="649080" cy="64764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48" h="21600">
                <a:moveTo>
                  <a:pt x="0" y="0"/>
                </a:moveTo>
                <a:lnTo>
                  <a:pt x="21648" y="0"/>
                </a:lnTo>
                <a:lnTo>
                  <a:pt x="21648" y="21600"/>
                </a:lnTo>
                <a:lnTo>
                  <a:pt x="0" y="21600"/>
                </a:lnTo>
                <a:close/>
              </a:path>
              <a:path fill="lightenLess" w="21648" h="21600">
                <a:moveTo>
                  <a:pt x="0" y="0"/>
                </a:moveTo>
                <a:lnTo>
                  <a:pt x="21648" y="0"/>
                </a:lnTo>
                <a:lnTo>
                  <a:pt x="20248" y="1400"/>
                </a:lnTo>
                <a:lnTo>
                  <a:pt x="1400" y="1400"/>
                </a:lnTo>
                <a:close/>
              </a:path>
              <a:path fill="darken" w="21648" h="21600">
                <a:moveTo>
                  <a:pt x="21648" y="0"/>
                </a:moveTo>
                <a:lnTo>
                  <a:pt x="21648" y="21600"/>
                </a:lnTo>
                <a:lnTo>
                  <a:pt x="20248" y="20200"/>
                </a:lnTo>
                <a:lnTo>
                  <a:pt x="20248" y="1400"/>
                </a:lnTo>
                <a:close/>
              </a:path>
              <a:path fill="darkenLess" w="21648" h="21600">
                <a:moveTo>
                  <a:pt x="21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48" y="20200"/>
                </a:lnTo>
                <a:close/>
              </a:path>
              <a:path fill="lighten" w="21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48" h="21600">
                <a:moveTo>
                  <a:pt x="10824" y="3837"/>
                </a:moveTo>
                <a:lnTo>
                  <a:pt x="13400" y="6448"/>
                </a:lnTo>
                <a:lnTo>
                  <a:pt x="13400" y="4707"/>
                </a:lnTo>
                <a:lnTo>
                  <a:pt x="15176" y="4707"/>
                </a:lnTo>
                <a:lnTo>
                  <a:pt x="15176" y="8224"/>
                </a:lnTo>
                <a:lnTo>
                  <a:pt x="17787" y="10800"/>
                </a:lnTo>
                <a:lnTo>
                  <a:pt x="16133" y="10800"/>
                </a:lnTo>
                <a:lnTo>
                  <a:pt x="16133" y="17989"/>
                </a:lnTo>
                <a:lnTo>
                  <a:pt x="5515" y="17989"/>
                </a:lnTo>
                <a:lnTo>
                  <a:pt x="5515" y="10800"/>
                </a:lnTo>
                <a:lnTo>
                  <a:pt x="3861" y="10800"/>
                </a:lnTo>
                <a:close/>
              </a:path>
              <a:path fill="darkenLess" w="21648" h="21600">
                <a:moveTo>
                  <a:pt x="13400" y="6448"/>
                </a:moveTo>
                <a:lnTo>
                  <a:pt x="13400" y="4707"/>
                </a:lnTo>
                <a:lnTo>
                  <a:pt x="15176" y="4707"/>
                </a:lnTo>
                <a:lnTo>
                  <a:pt x="15176" y="8224"/>
                </a:lnTo>
                <a:close/>
              </a:path>
              <a:path fill="darkenLess" w="21648" h="21600">
                <a:moveTo>
                  <a:pt x="9901" y="14299"/>
                </a:moveTo>
                <a:lnTo>
                  <a:pt x="11747" y="14299"/>
                </a:lnTo>
                <a:lnTo>
                  <a:pt x="11747" y="17989"/>
                </a:lnTo>
                <a:lnTo>
                  <a:pt x="16133" y="17989"/>
                </a:lnTo>
                <a:lnTo>
                  <a:pt x="16133" y="10800"/>
                </a:lnTo>
                <a:lnTo>
                  <a:pt x="5515" y="10800"/>
                </a:lnTo>
                <a:lnTo>
                  <a:pt x="5515" y="17989"/>
                </a:lnTo>
                <a:lnTo>
                  <a:pt x="9901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8" name="Text Box 48"/>
          <p:cNvSpPr/>
          <p:nvPr/>
        </p:nvSpPr>
        <p:spPr>
          <a:xfrm>
            <a:off x="7126920" y="219240"/>
            <a:ext cx="1870560" cy="459720"/>
          </a:xfrm>
          <a:prstGeom prst="rect">
            <a:avLst/>
          </a:prstGeom>
          <a:noFill/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ff"/>
                </a:solidFill>
                <a:latin typeface="Cambria"/>
              </a:rPr>
              <a:t>Задача 2</a:t>
            </a:r>
            <a:r>
              <a:rPr b="1" i="1" lang="en-US" sz="2400" spc="-1" strike="noStrike">
                <a:solidFill>
                  <a:srgbClr val="9933ff"/>
                </a:solidFill>
                <a:latin typeface="Cambria"/>
              </a:rPr>
              <a:t>6*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09" name="Object 50"/>
          <p:cNvGraphicFramePr/>
          <p:nvPr/>
        </p:nvGraphicFramePr>
        <p:xfrm>
          <a:off x="5616720" y="3564000"/>
          <a:ext cx="2590560" cy="40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0" name="Object 5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16720" y="3564000"/>
                    <a:ext cx="259056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1" name="Object 51"/>
          <p:cNvGraphicFramePr/>
          <p:nvPr/>
        </p:nvGraphicFramePr>
        <p:xfrm>
          <a:off x="5657760" y="4071960"/>
          <a:ext cx="3149640" cy="419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12" name="Object 5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657760" y="4071960"/>
                    <a:ext cx="314964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3" name="Object 52"/>
          <p:cNvGraphicFramePr/>
          <p:nvPr/>
        </p:nvGraphicFramePr>
        <p:xfrm>
          <a:off x="5670720" y="4956120"/>
          <a:ext cx="2298600" cy="343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14" name="Object 5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670720" y="4956120"/>
                    <a:ext cx="229860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5" name="Text Box 53"/>
          <p:cNvSpPr/>
          <p:nvPr/>
        </p:nvSpPr>
        <p:spPr>
          <a:xfrm>
            <a:off x="4066920" y="5661000"/>
            <a:ext cx="1607040" cy="581400"/>
          </a:xfrm>
          <a:prstGeom prst="rect">
            <a:avLst/>
          </a:prstGeom>
          <a:gradFill rotWithShape="0">
            <a:gsLst>
              <a:gs pos="0">
                <a:srgbClr val="cc99ff">
                  <a:alpha val="44313"/>
                </a:srgbClr>
              </a:gs>
              <a:gs pos="50000">
                <a:srgbClr val="ffffff"/>
              </a:gs>
              <a:gs pos="100000">
                <a:srgbClr val="cc99ff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6" name="Rectangle 56"/>
          <p:cNvSpPr/>
          <p:nvPr/>
        </p:nvSpPr>
        <p:spPr>
          <a:xfrm>
            <a:off x="1189080" y="1341360"/>
            <a:ext cx="1727280" cy="1727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0ee64">
                  <a:alpha val="44313"/>
                </a:srgbClr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7" name="Rectangle 57"/>
          <p:cNvSpPr/>
          <p:nvPr/>
        </p:nvSpPr>
        <p:spPr>
          <a:xfrm>
            <a:off x="4645080" y="1341360"/>
            <a:ext cx="1727280" cy="1727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0ee64">
                  <a:alpha val="44313"/>
                </a:srgbClr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8" name="Rectangle 58"/>
          <p:cNvSpPr/>
          <p:nvPr/>
        </p:nvSpPr>
        <p:spPr>
          <a:xfrm>
            <a:off x="2916360" y="1341360"/>
            <a:ext cx="1726920" cy="1727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0ee64">
                  <a:alpha val="44313"/>
                </a:srgbClr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19" name="Object 60"/>
          <p:cNvGraphicFramePr/>
          <p:nvPr/>
        </p:nvGraphicFramePr>
        <p:xfrm>
          <a:off x="2887560" y="3132000"/>
          <a:ext cx="330480" cy="330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020" name="Object 60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887560" y="3132000"/>
                    <a:ext cx="330480" cy="3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1" name="Object 61"/>
          <p:cNvGraphicFramePr/>
          <p:nvPr/>
        </p:nvGraphicFramePr>
        <p:xfrm>
          <a:off x="858960" y="3103560"/>
          <a:ext cx="291960" cy="3301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022" name="Object 61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858960" y="3103560"/>
                    <a:ext cx="29196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3" name="Object 62"/>
          <p:cNvGraphicFramePr/>
          <p:nvPr/>
        </p:nvGraphicFramePr>
        <p:xfrm>
          <a:off x="6245280" y="914400"/>
          <a:ext cx="291960" cy="3430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024" name="Object 62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245280" y="914400"/>
                    <a:ext cx="29196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5" name="Object 63"/>
          <p:cNvGraphicFramePr/>
          <p:nvPr/>
        </p:nvGraphicFramePr>
        <p:xfrm>
          <a:off x="4397400" y="919080"/>
          <a:ext cx="406440" cy="3301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026" name="Object 63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397400" y="919080"/>
                    <a:ext cx="40644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7" name="Object 64"/>
          <p:cNvGraphicFramePr/>
          <p:nvPr/>
        </p:nvGraphicFramePr>
        <p:xfrm>
          <a:off x="2771640" y="922320"/>
          <a:ext cx="343080" cy="3430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028" name="Object 64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771640" y="922320"/>
                    <a:ext cx="3430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9" name="Object 65"/>
          <p:cNvGraphicFramePr/>
          <p:nvPr/>
        </p:nvGraphicFramePr>
        <p:xfrm>
          <a:off x="857160" y="957240"/>
          <a:ext cx="266760" cy="33012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030" name="Object 65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857160" y="957240"/>
                    <a:ext cx="26676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1" name="Object 66"/>
          <p:cNvGraphicFramePr/>
          <p:nvPr/>
        </p:nvGraphicFramePr>
        <p:xfrm>
          <a:off x="4626000" y="3111480"/>
          <a:ext cx="330120" cy="33012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032" name="Object 66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4626000" y="3111480"/>
                    <a:ext cx="33012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3" name="Object 67"/>
          <p:cNvGraphicFramePr/>
          <p:nvPr/>
        </p:nvGraphicFramePr>
        <p:xfrm>
          <a:off x="6369120" y="3083040"/>
          <a:ext cx="253800" cy="33012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1034" name="Object 67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6369120" y="3083040"/>
                    <a:ext cx="25380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5" name="Freeform 68"/>
          <p:cNvSpPr/>
          <p:nvPr/>
        </p:nvSpPr>
        <p:spPr>
          <a:xfrm>
            <a:off x="1187280" y="1341360"/>
            <a:ext cx="5185080" cy="17272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6" name="Arc 71"/>
          <p:cNvSpPr/>
          <p:nvPr/>
        </p:nvSpPr>
        <p:spPr>
          <a:xfrm flipV="1" rot="6671400">
            <a:off x="5432400" y="1562760"/>
            <a:ext cx="246240" cy="7920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7" name="Arc 72"/>
          <p:cNvSpPr/>
          <p:nvPr/>
        </p:nvSpPr>
        <p:spPr>
          <a:xfrm flipV="1" rot="6671400">
            <a:off x="5246640" y="1644120"/>
            <a:ext cx="245880" cy="7920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8" name="Line 73"/>
          <p:cNvSpPr/>
          <p:nvPr/>
        </p:nvSpPr>
        <p:spPr>
          <a:xfrm>
            <a:off x="5657760" y="4797360"/>
            <a:ext cx="309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39" name="Object 74"/>
          <p:cNvGraphicFramePr/>
          <p:nvPr/>
        </p:nvGraphicFramePr>
        <p:xfrm>
          <a:off x="5737320" y="5346720"/>
          <a:ext cx="2958840" cy="104148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1040" name="Object 74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5737320" y="5346720"/>
                    <a:ext cx="295884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restart="whenNotActive" nodeType="interactiveSeq" fill="hold">
                <p:stCondLst>
                  <p:cond evt="onClick">
                    <p:tgtEl>
                      <p:spTgt spid="1015"/>
                    </p:tgtEl>
                  </p:cond>
                </p:stCondLst>
                <p:childTnLst>
                  <p:par>
                    <p:cTn id="178" fill="hold">
                      <p:stCondLst>
                        <p:cond evt="onClick">
                          <p:tgtEl>
                            <p:spTgt spid="1015"/>
                          </p:tgtEl>
                        </p:cond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Нижний колонтитул 1"/>
          <p:cNvSpPr/>
          <p:nvPr/>
        </p:nvSpPr>
        <p:spPr>
          <a:xfrm>
            <a:off x="324000" y="6568920"/>
            <a:ext cx="8640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mbria"/>
              </a:rPr>
              <a:t>Обухова Н.С, МОУ СОШ №17 г. Заволжья Нижегородской обла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2" name="AutoShape 2"/>
          <p:cNvSpPr/>
          <p:nvPr/>
        </p:nvSpPr>
        <p:spPr>
          <a:xfrm>
            <a:off x="250920" y="5950080"/>
            <a:ext cx="649080" cy="64764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48" h="21600">
                <a:moveTo>
                  <a:pt x="0" y="0"/>
                </a:moveTo>
                <a:lnTo>
                  <a:pt x="21648" y="0"/>
                </a:lnTo>
                <a:lnTo>
                  <a:pt x="21648" y="21600"/>
                </a:lnTo>
                <a:lnTo>
                  <a:pt x="0" y="21600"/>
                </a:lnTo>
                <a:close/>
              </a:path>
              <a:path fill="lightenLess" w="21648" h="21600">
                <a:moveTo>
                  <a:pt x="0" y="0"/>
                </a:moveTo>
                <a:lnTo>
                  <a:pt x="21648" y="0"/>
                </a:lnTo>
                <a:lnTo>
                  <a:pt x="20248" y="1400"/>
                </a:lnTo>
                <a:lnTo>
                  <a:pt x="1400" y="1400"/>
                </a:lnTo>
                <a:close/>
              </a:path>
              <a:path fill="darken" w="21648" h="21600">
                <a:moveTo>
                  <a:pt x="21648" y="0"/>
                </a:moveTo>
                <a:lnTo>
                  <a:pt x="21648" y="21600"/>
                </a:lnTo>
                <a:lnTo>
                  <a:pt x="20248" y="20200"/>
                </a:lnTo>
                <a:lnTo>
                  <a:pt x="20248" y="1400"/>
                </a:lnTo>
                <a:close/>
              </a:path>
              <a:path fill="darkenLess" w="21648" h="21600">
                <a:moveTo>
                  <a:pt x="21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48" y="20200"/>
                </a:lnTo>
                <a:close/>
              </a:path>
              <a:path fill="lighten" w="21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48" h="21600">
                <a:moveTo>
                  <a:pt x="10824" y="3837"/>
                </a:moveTo>
                <a:lnTo>
                  <a:pt x="13400" y="6448"/>
                </a:lnTo>
                <a:lnTo>
                  <a:pt x="13400" y="4707"/>
                </a:lnTo>
                <a:lnTo>
                  <a:pt x="15176" y="4707"/>
                </a:lnTo>
                <a:lnTo>
                  <a:pt x="15176" y="8224"/>
                </a:lnTo>
                <a:lnTo>
                  <a:pt x="17787" y="10800"/>
                </a:lnTo>
                <a:lnTo>
                  <a:pt x="16133" y="10800"/>
                </a:lnTo>
                <a:lnTo>
                  <a:pt x="16133" y="17989"/>
                </a:lnTo>
                <a:lnTo>
                  <a:pt x="5515" y="17989"/>
                </a:lnTo>
                <a:lnTo>
                  <a:pt x="5515" y="10800"/>
                </a:lnTo>
                <a:lnTo>
                  <a:pt x="3861" y="10800"/>
                </a:lnTo>
                <a:close/>
              </a:path>
              <a:path fill="darkenLess" w="21648" h="21600">
                <a:moveTo>
                  <a:pt x="13400" y="6448"/>
                </a:moveTo>
                <a:lnTo>
                  <a:pt x="13400" y="4707"/>
                </a:lnTo>
                <a:lnTo>
                  <a:pt x="15176" y="4707"/>
                </a:lnTo>
                <a:lnTo>
                  <a:pt x="15176" y="8224"/>
                </a:lnTo>
                <a:close/>
              </a:path>
              <a:path fill="darkenLess" w="21648" h="21600">
                <a:moveTo>
                  <a:pt x="9901" y="14299"/>
                </a:moveTo>
                <a:lnTo>
                  <a:pt x="11747" y="14299"/>
                </a:lnTo>
                <a:lnTo>
                  <a:pt x="11747" y="17989"/>
                </a:lnTo>
                <a:lnTo>
                  <a:pt x="16133" y="17989"/>
                </a:lnTo>
                <a:lnTo>
                  <a:pt x="16133" y="10800"/>
                </a:lnTo>
                <a:lnTo>
                  <a:pt x="5515" y="10800"/>
                </a:lnTo>
                <a:lnTo>
                  <a:pt x="5515" y="17989"/>
                </a:lnTo>
                <a:lnTo>
                  <a:pt x="9901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3" name="Text Box 3"/>
          <p:cNvSpPr/>
          <p:nvPr/>
        </p:nvSpPr>
        <p:spPr>
          <a:xfrm>
            <a:off x="7129080" y="219240"/>
            <a:ext cx="1866240" cy="459720"/>
          </a:xfrm>
          <a:prstGeom prst="rect">
            <a:avLst/>
          </a:prstGeom>
          <a:noFill/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ff"/>
                </a:solidFill>
                <a:latin typeface="Cambria"/>
              </a:rPr>
              <a:t>Задача 2</a:t>
            </a:r>
            <a:r>
              <a:rPr b="1" i="1" lang="en-US" sz="2400" spc="-1" strike="noStrike">
                <a:solidFill>
                  <a:srgbClr val="9933ff"/>
                </a:solidFill>
                <a:latin typeface="Cambria"/>
              </a:rPr>
              <a:t>7*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4" name="Object 4"/>
          <p:cNvGraphicFramePr/>
          <p:nvPr/>
        </p:nvGraphicFramePr>
        <p:xfrm>
          <a:off x="5622840" y="3564000"/>
          <a:ext cx="2578320" cy="40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22840" y="3564000"/>
                    <a:ext cx="257832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6" name="Object 5"/>
          <p:cNvGraphicFramePr/>
          <p:nvPr/>
        </p:nvGraphicFramePr>
        <p:xfrm>
          <a:off x="5632560" y="4137120"/>
          <a:ext cx="2882880" cy="406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632560" y="4137120"/>
                    <a:ext cx="288288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8" name="Object 6"/>
          <p:cNvGraphicFramePr/>
          <p:nvPr/>
        </p:nvGraphicFramePr>
        <p:xfrm>
          <a:off x="5651640" y="4941720"/>
          <a:ext cx="1130040" cy="343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49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651640" y="4941720"/>
                    <a:ext cx="11300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0" name="Text Box 7"/>
          <p:cNvSpPr/>
          <p:nvPr/>
        </p:nvSpPr>
        <p:spPr>
          <a:xfrm>
            <a:off x="4066920" y="5661000"/>
            <a:ext cx="1607040" cy="581400"/>
          </a:xfrm>
          <a:prstGeom prst="rect">
            <a:avLst/>
          </a:prstGeom>
          <a:gradFill rotWithShape="0">
            <a:gsLst>
              <a:gs pos="0">
                <a:srgbClr val="cc99ff">
                  <a:alpha val="44313"/>
                </a:srgbClr>
              </a:gs>
              <a:gs pos="50000">
                <a:srgbClr val="ffffff"/>
              </a:gs>
              <a:gs pos="100000">
                <a:srgbClr val="cc99ff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51" name="Object 11"/>
          <p:cNvGraphicFramePr/>
          <p:nvPr/>
        </p:nvGraphicFramePr>
        <p:xfrm>
          <a:off x="2436840" y="3106800"/>
          <a:ext cx="330120" cy="3301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052" name="Object 1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436840" y="3106800"/>
                    <a:ext cx="33012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3" name="Object 12"/>
          <p:cNvGraphicFramePr/>
          <p:nvPr/>
        </p:nvGraphicFramePr>
        <p:xfrm>
          <a:off x="971640" y="189000"/>
          <a:ext cx="291960" cy="3301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054" name="Object 1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971640" y="189000"/>
                    <a:ext cx="29196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5" name="Object 13"/>
          <p:cNvGraphicFramePr/>
          <p:nvPr/>
        </p:nvGraphicFramePr>
        <p:xfrm>
          <a:off x="5865840" y="2631960"/>
          <a:ext cx="291960" cy="3430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056" name="Object 13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865840" y="2631960"/>
                    <a:ext cx="29196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7" name="Object 17"/>
          <p:cNvGraphicFramePr/>
          <p:nvPr/>
        </p:nvGraphicFramePr>
        <p:xfrm>
          <a:off x="801720" y="2655720"/>
          <a:ext cx="330120" cy="3304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058" name="Object 17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801720" y="2655720"/>
                    <a:ext cx="330120" cy="3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9" name="Line 22"/>
          <p:cNvSpPr/>
          <p:nvPr/>
        </p:nvSpPr>
        <p:spPr>
          <a:xfrm>
            <a:off x="5657760" y="4797360"/>
            <a:ext cx="309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60" name="Object 23"/>
          <p:cNvGraphicFramePr/>
          <p:nvPr/>
        </p:nvGraphicFramePr>
        <p:xfrm>
          <a:off x="5667480" y="5365800"/>
          <a:ext cx="1726920" cy="10414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061" name="Object 23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667480" y="5365800"/>
                    <a:ext cx="172692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62" name="Freeform 24"/>
          <p:cNvGrpSpPr/>
          <p:nvPr/>
        </p:nvGrpSpPr>
        <p:grpSpPr>
          <a:xfrm>
            <a:off x="1176480" y="536400"/>
            <a:ext cx="4670280" cy="2511720"/>
            <a:chOff x="1176480" y="536400"/>
            <a:chExt cx="4670280" cy="2511720"/>
          </a:xfrm>
        </p:grpSpPr>
        <p:pic>
          <p:nvPicPr>
            <p:cNvPr id="1063" name="Freeform 24" descr=""/>
            <p:cNvPicPr/>
            <p:nvPr/>
          </p:nvPicPr>
          <p:blipFill>
            <a:blip r:embed="rId18"/>
            <a:stretch/>
          </p:blipFill>
          <p:spPr>
            <a:xfrm>
              <a:off x="1176480" y="536400"/>
              <a:ext cx="4670280" cy="251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4" name=""/>
            <p:cNvSpPr/>
            <p:nvPr/>
          </p:nvSpPr>
          <p:spPr>
            <a:xfrm>
              <a:off x="1187280" y="549360"/>
              <a:ext cx="4642200" cy="24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65" name="Freeform 25"/>
          <p:cNvSpPr/>
          <p:nvPr/>
        </p:nvSpPr>
        <p:spPr>
          <a:xfrm>
            <a:off x="3524400" y="5705640"/>
            <a:ext cx="9360" cy="47520"/>
          </a:xfrm>
          <a:prstGeom prst="pie">
            <a:avLst/>
          </a:prstGeom>
          <a:gradFill rotWithShape="0">
            <a:gsLst>
              <a:gs pos="0">
                <a:srgbClr val="edfad2">
                  <a:alpha val="44313"/>
                </a:srgbClr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6" name="Freeform 26"/>
          <p:cNvSpPr/>
          <p:nvPr/>
        </p:nvSpPr>
        <p:spPr>
          <a:xfrm>
            <a:off x="733320" y="3019320"/>
            <a:ext cx="5067360" cy="19080"/>
          </a:xfrm>
          <a:prstGeom prst="pie">
            <a:avLst/>
          </a:prstGeom>
          <a:blipFill rotWithShape="0">
            <a:blip r:embed="rId19"/>
            <a:srcRect/>
            <a:stretch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7" name="Freeform 27"/>
          <p:cNvSpPr/>
          <p:nvPr/>
        </p:nvSpPr>
        <p:spPr>
          <a:xfrm>
            <a:off x="1187280" y="549360"/>
            <a:ext cx="60480" cy="24890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8" name="Rectangle 28"/>
          <p:cNvSpPr/>
          <p:nvPr/>
        </p:nvSpPr>
        <p:spPr>
          <a:xfrm>
            <a:off x="1247760" y="2838600"/>
            <a:ext cx="201600" cy="193680"/>
          </a:xfrm>
          <a:prstGeom prst="rect">
            <a:avLst/>
          </a:prstGeom>
          <a:gradFill rotWithShape="0">
            <a:gsLst>
              <a:gs pos="0">
                <a:srgbClr val="edfad2">
                  <a:alpha val="44313"/>
                </a:srgbClr>
              </a:gs>
              <a:gs pos="100000">
                <a:srgbClr val="ffffff"/>
              </a:gs>
            </a:gsLst>
            <a:lin ang="27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69" name="Object 29"/>
          <p:cNvGraphicFramePr/>
          <p:nvPr/>
        </p:nvGraphicFramePr>
        <p:xfrm>
          <a:off x="2124000" y="1844640"/>
          <a:ext cx="228600" cy="33012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070" name="Object 29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2124000" y="1844640"/>
                    <a:ext cx="22860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1" name="Object 30"/>
          <p:cNvGraphicFramePr/>
          <p:nvPr/>
        </p:nvGraphicFramePr>
        <p:xfrm>
          <a:off x="3995640" y="1413000"/>
          <a:ext cx="228600" cy="33012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1072" name="Object 30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3995640" y="1413000"/>
                    <a:ext cx="22860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3" name="Object 31"/>
          <p:cNvGraphicFramePr/>
          <p:nvPr/>
        </p:nvGraphicFramePr>
        <p:xfrm>
          <a:off x="4140360" y="3068640"/>
          <a:ext cx="203040" cy="34272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1074" name="Object 31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4140360" y="3068640"/>
                    <a:ext cx="20304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restart="whenNotActive" nodeType="interactiveSeq" fill="hold">
                <p:stCondLst>
                  <p:cond evt="onClick">
                    <p:tgtEl>
                      <p:spTgt spid="1050"/>
                    </p:tgtEl>
                  </p:cond>
                </p:stCondLst>
                <p:childTnLst>
                  <p:par>
                    <p:cTn id="185" fill="hold">
                      <p:stCondLst>
                        <p:cond evt="onClick">
                          <p:tgtEl>
                            <p:spTgt spid="1050"/>
                          </p:tgtEl>
                        </p:cond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Нижний колонтитул 1"/>
          <p:cNvSpPr/>
          <p:nvPr/>
        </p:nvSpPr>
        <p:spPr>
          <a:xfrm>
            <a:off x="324000" y="6568920"/>
            <a:ext cx="8640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mbria"/>
              </a:rPr>
              <a:t>Обухова Н.С, МОУ СОШ №17 г. Заволжья Нижегородской обла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AutoShape 33">
            <a:hlinkClick r:id="rId1" action="ppaction://hlinksldjump"/>
          </p:cNvPr>
          <p:cNvSpPr/>
          <p:nvPr/>
        </p:nvSpPr>
        <p:spPr>
          <a:xfrm>
            <a:off x="395280" y="6021360"/>
            <a:ext cx="649440" cy="647640"/>
          </a:xfrm>
          <a:custGeom>
            <a:avLst/>
            <a:gdLst>
              <a:gd name="textAreaLeft" fmla="*/ 41760 w 649440"/>
              <a:gd name="textAreaRight" fmla="*/ 607680 w 6494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60" h="21600">
                <a:moveTo>
                  <a:pt x="0" y="0"/>
                </a:moveTo>
                <a:lnTo>
                  <a:pt x="21660" y="0"/>
                </a:lnTo>
                <a:lnTo>
                  <a:pt x="21660" y="21600"/>
                </a:lnTo>
                <a:lnTo>
                  <a:pt x="0" y="21600"/>
                </a:lnTo>
                <a:close/>
              </a:path>
              <a:path fill="lightenLess" w="21660" h="21600">
                <a:moveTo>
                  <a:pt x="0" y="0"/>
                </a:moveTo>
                <a:lnTo>
                  <a:pt x="21660" y="0"/>
                </a:lnTo>
                <a:lnTo>
                  <a:pt x="20260" y="1400"/>
                </a:lnTo>
                <a:lnTo>
                  <a:pt x="1400" y="1400"/>
                </a:lnTo>
                <a:close/>
              </a:path>
              <a:path fill="darken" w="21660" h="21600">
                <a:moveTo>
                  <a:pt x="21660" y="0"/>
                </a:moveTo>
                <a:lnTo>
                  <a:pt x="21660" y="21600"/>
                </a:lnTo>
                <a:lnTo>
                  <a:pt x="20260" y="20200"/>
                </a:lnTo>
                <a:lnTo>
                  <a:pt x="20260" y="1400"/>
                </a:lnTo>
                <a:close/>
              </a:path>
              <a:path fill="darkenLess" w="21660" h="21600">
                <a:moveTo>
                  <a:pt x="216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0" y="20200"/>
                </a:lnTo>
                <a:close/>
              </a:path>
              <a:path fill="lighten" w="216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0" h="21600">
                <a:moveTo>
                  <a:pt x="10830" y="3837"/>
                </a:moveTo>
                <a:lnTo>
                  <a:pt x="13406" y="6448"/>
                </a:lnTo>
                <a:lnTo>
                  <a:pt x="13406" y="4707"/>
                </a:lnTo>
                <a:lnTo>
                  <a:pt x="15182" y="4707"/>
                </a:lnTo>
                <a:lnTo>
                  <a:pt x="15182" y="8224"/>
                </a:lnTo>
                <a:lnTo>
                  <a:pt x="17793" y="10800"/>
                </a:lnTo>
                <a:lnTo>
                  <a:pt x="16139" y="10800"/>
                </a:lnTo>
                <a:lnTo>
                  <a:pt x="16139" y="17989"/>
                </a:lnTo>
                <a:lnTo>
                  <a:pt x="5521" y="17989"/>
                </a:lnTo>
                <a:lnTo>
                  <a:pt x="5521" y="10800"/>
                </a:lnTo>
                <a:lnTo>
                  <a:pt x="3867" y="10800"/>
                </a:lnTo>
                <a:close/>
              </a:path>
              <a:path fill="darkenLess" w="21660" h="21600">
                <a:moveTo>
                  <a:pt x="13406" y="6448"/>
                </a:moveTo>
                <a:lnTo>
                  <a:pt x="13406" y="4707"/>
                </a:lnTo>
                <a:lnTo>
                  <a:pt x="15182" y="4707"/>
                </a:lnTo>
                <a:lnTo>
                  <a:pt x="15182" y="8224"/>
                </a:lnTo>
                <a:close/>
              </a:path>
              <a:path fill="darkenLess" w="21660" h="21600">
                <a:moveTo>
                  <a:pt x="9907" y="14299"/>
                </a:moveTo>
                <a:lnTo>
                  <a:pt x="11753" y="14299"/>
                </a:lnTo>
                <a:lnTo>
                  <a:pt x="11753" y="17989"/>
                </a:lnTo>
                <a:lnTo>
                  <a:pt x="16139" y="17989"/>
                </a:lnTo>
                <a:lnTo>
                  <a:pt x="16139" y="10800"/>
                </a:lnTo>
                <a:lnTo>
                  <a:pt x="5521" y="10800"/>
                </a:lnTo>
                <a:lnTo>
                  <a:pt x="5521" y="17989"/>
                </a:lnTo>
                <a:lnTo>
                  <a:pt x="9907" y="1798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Text Box 34"/>
          <p:cNvSpPr/>
          <p:nvPr/>
        </p:nvSpPr>
        <p:spPr>
          <a:xfrm>
            <a:off x="7124400" y="219240"/>
            <a:ext cx="1567440" cy="459720"/>
          </a:xfrm>
          <a:prstGeom prst="rect">
            <a:avLst/>
          </a:prstGeom>
          <a:noFill/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ff"/>
                </a:solidFill>
                <a:latin typeface="Cambria"/>
              </a:rPr>
              <a:t>Задача 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Freeform 40"/>
          <p:cNvSpPr/>
          <p:nvPr/>
        </p:nvSpPr>
        <p:spPr>
          <a:xfrm>
            <a:off x="1042920" y="692280"/>
            <a:ext cx="3638520" cy="3097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c58bff">
                  <a:alpha val="44313"/>
                </a:srgbClr>
              </a:gs>
            </a:gsLst>
            <a:lin ang="2700000"/>
          </a:gra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56" name="Object 41"/>
          <p:cNvGraphicFramePr/>
          <p:nvPr/>
        </p:nvGraphicFramePr>
        <p:xfrm>
          <a:off x="4514760" y="3340080"/>
          <a:ext cx="114480" cy="177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7" name="Object 4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14760" y="3340080"/>
                    <a:ext cx="11448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Object 49"/>
          <p:cNvGraphicFramePr/>
          <p:nvPr/>
        </p:nvGraphicFramePr>
        <p:xfrm>
          <a:off x="611280" y="1628640"/>
          <a:ext cx="431640" cy="432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9" name="Object 4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1280" y="1628640"/>
                    <a:ext cx="43164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Object 51"/>
          <p:cNvGraphicFramePr/>
          <p:nvPr/>
        </p:nvGraphicFramePr>
        <p:xfrm>
          <a:off x="4067280" y="404640"/>
          <a:ext cx="291960" cy="330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1" name="Object 5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67280" y="404640"/>
                    <a:ext cx="291960" cy="3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Object 52"/>
          <p:cNvGraphicFramePr/>
          <p:nvPr/>
        </p:nvGraphicFramePr>
        <p:xfrm>
          <a:off x="4716360" y="3573360"/>
          <a:ext cx="292320" cy="343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3" name="Object 5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16360" y="3573360"/>
                    <a:ext cx="29232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4" name="Arc 53"/>
          <p:cNvSpPr/>
          <p:nvPr/>
        </p:nvSpPr>
        <p:spPr>
          <a:xfrm flipH="1">
            <a:off x="4133880" y="3143160"/>
            <a:ext cx="380880" cy="4003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65" name="Object 54"/>
          <p:cNvGraphicFramePr/>
          <p:nvPr/>
        </p:nvGraphicFramePr>
        <p:xfrm>
          <a:off x="4500720" y="2133720"/>
          <a:ext cx="215640" cy="342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66" name="Object 5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500720" y="2133720"/>
                    <a:ext cx="21564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Object 55"/>
          <p:cNvGraphicFramePr/>
          <p:nvPr/>
        </p:nvGraphicFramePr>
        <p:xfrm>
          <a:off x="2484360" y="3068640"/>
          <a:ext cx="228600" cy="330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68" name="Object 55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484360" y="3068640"/>
                    <a:ext cx="22860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Object 56"/>
          <p:cNvGraphicFramePr/>
          <p:nvPr/>
        </p:nvGraphicFramePr>
        <p:xfrm>
          <a:off x="3635280" y="2708280"/>
          <a:ext cx="558720" cy="4316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70" name="Object 5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635280" y="2708280"/>
                    <a:ext cx="5587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Object 57"/>
          <p:cNvGraphicFramePr/>
          <p:nvPr/>
        </p:nvGraphicFramePr>
        <p:xfrm>
          <a:off x="5651640" y="3573360"/>
          <a:ext cx="2463840" cy="4064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72" name="Object 57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651640" y="3573360"/>
                    <a:ext cx="24638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Object 58"/>
          <p:cNvGraphicFramePr/>
          <p:nvPr/>
        </p:nvGraphicFramePr>
        <p:xfrm>
          <a:off x="5718240" y="4076640"/>
          <a:ext cx="2095560" cy="4320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74" name="Object 58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718240" y="4076640"/>
                    <a:ext cx="20955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5" name="Line 61"/>
          <p:cNvSpPr/>
          <p:nvPr/>
        </p:nvSpPr>
        <p:spPr>
          <a:xfrm>
            <a:off x="5724360" y="4797360"/>
            <a:ext cx="309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76" name="Object 62"/>
          <p:cNvGraphicFramePr/>
          <p:nvPr/>
        </p:nvGraphicFramePr>
        <p:xfrm>
          <a:off x="5724360" y="5013360"/>
          <a:ext cx="1105200" cy="3427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77" name="Object 6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724360" y="5013360"/>
                    <a:ext cx="110520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Text Box 63"/>
          <p:cNvSpPr/>
          <p:nvPr/>
        </p:nvSpPr>
        <p:spPr>
          <a:xfrm>
            <a:off x="4066920" y="5661000"/>
            <a:ext cx="1607040" cy="581400"/>
          </a:xfrm>
          <a:prstGeom prst="rect">
            <a:avLst/>
          </a:prstGeom>
          <a:gradFill rotWithShape="0">
            <a:gsLst>
              <a:gs pos="0">
                <a:srgbClr val="cc99ff">
                  <a:alpha val="44313"/>
                </a:srgbClr>
              </a:gs>
              <a:gs pos="50000">
                <a:srgbClr val="ffffff"/>
              </a:gs>
              <a:gs pos="100000">
                <a:srgbClr val="cc99ff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79" name="Object 64"/>
          <p:cNvGraphicFramePr/>
          <p:nvPr/>
        </p:nvGraphicFramePr>
        <p:xfrm>
          <a:off x="5711760" y="5678640"/>
          <a:ext cx="1663920" cy="4950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80" name="Object 64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711760" y="5678640"/>
                    <a:ext cx="1663920" cy="49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7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Нижний колонтитул 1"/>
          <p:cNvSpPr/>
          <p:nvPr/>
        </p:nvSpPr>
        <p:spPr>
          <a:xfrm>
            <a:off x="324000" y="6568920"/>
            <a:ext cx="8640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mbria"/>
              </a:rPr>
              <a:t>Обухова Н.С, МОУ СОШ №17 г. Заволжья Нижегородской обла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6" name="WordArt 2"/>
          <p:cNvSpPr txBox="1"/>
          <p:nvPr/>
        </p:nvSpPr>
        <p:spPr>
          <a:xfrm>
            <a:off x="1476360" y="333360"/>
            <a:ext cx="5111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54007e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Список литературы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54007e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077" name="Text Box 3"/>
          <p:cNvSpPr/>
          <p:nvPr/>
        </p:nvSpPr>
        <p:spPr>
          <a:xfrm>
            <a:off x="1166760" y="2363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8" name="Text Box 4"/>
          <p:cNvSpPr/>
          <p:nvPr/>
        </p:nvSpPr>
        <p:spPr>
          <a:xfrm>
            <a:off x="775440" y="1268280"/>
            <a:ext cx="692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009a"/>
                </a:solidFill>
                <a:latin typeface="Verdana"/>
              </a:rPr>
              <a:t>1.Ершова А.П., Голобородько В.В, Ершова А.С</a:t>
            </a:r>
            <a:r>
              <a:rPr b="0" lang="ru-RU" sz="1800" spc="-1" strike="noStrike">
                <a:solidFill>
                  <a:srgbClr val="7200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2009a"/>
                </a:solidFill>
                <a:latin typeface="Verdana"/>
              </a:rPr>
              <a:t>Самостоятельные и контрольные работы по алгебре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2009a"/>
                </a:solidFill>
                <a:latin typeface="Verdana"/>
              </a:rPr>
              <a:t>и геометриидля </a:t>
            </a:r>
            <a:r>
              <a:rPr b="0" lang="en-US" sz="1800" spc="-1" strike="noStrike">
                <a:solidFill>
                  <a:srgbClr val="72009a"/>
                </a:solidFill>
                <a:latin typeface="Verdana"/>
              </a:rPr>
              <a:t>9</a:t>
            </a:r>
            <a:r>
              <a:rPr b="0" lang="ru-RU" sz="1800" spc="-1" strike="noStrike">
                <a:solidFill>
                  <a:srgbClr val="72009a"/>
                </a:solidFill>
                <a:latin typeface="Verdana"/>
              </a:rPr>
              <a:t> класса.-М:Илекса, 2004.-176с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9" name="Text Box 5"/>
          <p:cNvSpPr/>
          <p:nvPr/>
        </p:nvSpPr>
        <p:spPr>
          <a:xfrm>
            <a:off x="1006560" y="2205000"/>
            <a:ext cx="651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009a"/>
                </a:solidFill>
                <a:latin typeface="Verdana"/>
              </a:rPr>
              <a:t>2.Саврасова С.М.,Ястребинецкий Г.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2009a"/>
                </a:solidFill>
                <a:latin typeface="Verdana"/>
              </a:rPr>
              <a:t>Упражнения по планиметрии на готовых чертежах.-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2009a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72009a"/>
                </a:solidFill>
                <a:latin typeface="Verdana"/>
              </a:rPr>
              <a:t>М.: просвещение, 1987.-112 с.: ил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0" name="Text Box 6"/>
          <p:cNvSpPr/>
          <p:nvPr/>
        </p:nvSpPr>
        <p:spPr>
          <a:xfrm>
            <a:off x="933840" y="3141720"/>
            <a:ext cx="800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009a"/>
                </a:solidFill>
                <a:latin typeface="Verdana"/>
              </a:rPr>
              <a:t>3. Зив Б.Г. и др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2009a"/>
                </a:solidFill>
                <a:latin typeface="Verdana"/>
              </a:rPr>
              <a:t>Задачи по геометрии: Пособие для учащихся 7-11 кл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2009a"/>
                </a:solidFill>
                <a:latin typeface="Verdana"/>
              </a:rPr>
              <a:t>общеобразоват.учреждений.-М.:Просвещение, 2000.-271 с.: ил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1" name="Text Box 7"/>
          <p:cNvSpPr/>
          <p:nvPr/>
        </p:nvSpPr>
        <p:spPr>
          <a:xfrm>
            <a:off x="909000" y="4221000"/>
            <a:ext cx="646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009a"/>
                </a:solidFill>
                <a:latin typeface="Verdana"/>
              </a:rPr>
              <a:t>4. Рабинович Е.М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2009a"/>
                </a:solidFill>
                <a:latin typeface="Verdana"/>
              </a:rPr>
              <a:t>Сборник задач на готовых чертежах.-К.:1996.-56с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2" name="Text Box 9"/>
          <p:cNvSpPr/>
          <p:nvPr/>
        </p:nvSpPr>
        <p:spPr>
          <a:xfrm>
            <a:off x="884520" y="4941720"/>
            <a:ext cx="708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009a"/>
                </a:solidFill>
                <a:latin typeface="Verdana"/>
              </a:rPr>
              <a:t>5. Гаврилова Н.Ф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2009a"/>
                </a:solidFill>
                <a:latin typeface="Verdana"/>
              </a:rPr>
              <a:t>Поурочные разработки по геометрии: </a:t>
            </a:r>
            <a:r>
              <a:rPr b="0" lang="en-US" sz="1800" spc="-1" strike="noStrike">
                <a:solidFill>
                  <a:srgbClr val="72009a"/>
                </a:solidFill>
                <a:latin typeface="Verdana"/>
              </a:rPr>
              <a:t>9</a:t>
            </a:r>
            <a:r>
              <a:rPr b="0" lang="ru-RU" sz="1800" spc="-1" strike="noStrike">
                <a:solidFill>
                  <a:srgbClr val="72009a"/>
                </a:solidFill>
                <a:latin typeface="Verdana"/>
              </a:rPr>
              <a:t> класс.-2-е изд.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2009a"/>
                </a:solidFill>
                <a:latin typeface="Verdana"/>
              </a:rPr>
              <a:t>перераб. и доп.-М.: ВАКО,2009.-304 с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3" name="AutoShape 10"/>
          <p:cNvSpPr/>
          <p:nvPr/>
        </p:nvSpPr>
        <p:spPr>
          <a:xfrm>
            <a:off x="8172360" y="5950080"/>
            <a:ext cx="649440" cy="647640"/>
          </a:xfrm>
          <a:custGeom>
            <a:avLst/>
            <a:gdLst>
              <a:gd name="textAreaLeft" fmla="*/ 41760 w 649440"/>
              <a:gd name="textAreaRight" fmla="*/ 607680 w 6494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60" h="21600">
                <a:moveTo>
                  <a:pt x="0" y="0"/>
                </a:moveTo>
                <a:lnTo>
                  <a:pt x="21660" y="0"/>
                </a:lnTo>
                <a:lnTo>
                  <a:pt x="21660" y="21600"/>
                </a:lnTo>
                <a:lnTo>
                  <a:pt x="0" y="21600"/>
                </a:lnTo>
                <a:close/>
              </a:path>
              <a:path fill="lightenLess" w="21660" h="21600">
                <a:moveTo>
                  <a:pt x="0" y="0"/>
                </a:moveTo>
                <a:lnTo>
                  <a:pt x="21660" y="0"/>
                </a:lnTo>
                <a:lnTo>
                  <a:pt x="20260" y="1400"/>
                </a:lnTo>
                <a:lnTo>
                  <a:pt x="1400" y="1400"/>
                </a:lnTo>
                <a:close/>
              </a:path>
              <a:path fill="darken" w="21660" h="21600">
                <a:moveTo>
                  <a:pt x="21660" y="0"/>
                </a:moveTo>
                <a:lnTo>
                  <a:pt x="21660" y="21600"/>
                </a:lnTo>
                <a:lnTo>
                  <a:pt x="20260" y="20200"/>
                </a:lnTo>
                <a:lnTo>
                  <a:pt x="20260" y="1400"/>
                </a:lnTo>
                <a:close/>
              </a:path>
              <a:path fill="darkenLess" w="21660" h="21600">
                <a:moveTo>
                  <a:pt x="216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0" y="20200"/>
                </a:lnTo>
                <a:close/>
              </a:path>
              <a:path fill="lighten" w="216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0" h="21600">
                <a:moveTo>
                  <a:pt x="10830" y="3837"/>
                </a:moveTo>
                <a:lnTo>
                  <a:pt x="13406" y="6448"/>
                </a:lnTo>
                <a:lnTo>
                  <a:pt x="13406" y="4707"/>
                </a:lnTo>
                <a:lnTo>
                  <a:pt x="15182" y="4707"/>
                </a:lnTo>
                <a:lnTo>
                  <a:pt x="15182" y="8224"/>
                </a:lnTo>
                <a:lnTo>
                  <a:pt x="17793" y="10800"/>
                </a:lnTo>
                <a:lnTo>
                  <a:pt x="16139" y="10800"/>
                </a:lnTo>
                <a:lnTo>
                  <a:pt x="16139" y="17989"/>
                </a:lnTo>
                <a:lnTo>
                  <a:pt x="5521" y="17989"/>
                </a:lnTo>
                <a:lnTo>
                  <a:pt x="5521" y="10800"/>
                </a:lnTo>
                <a:lnTo>
                  <a:pt x="3867" y="10800"/>
                </a:lnTo>
                <a:close/>
              </a:path>
              <a:path fill="darkenLess" w="21660" h="21600">
                <a:moveTo>
                  <a:pt x="13406" y="6448"/>
                </a:moveTo>
                <a:lnTo>
                  <a:pt x="13406" y="4707"/>
                </a:lnTo>
                <a:lnTo>
                  <a:pt x="15182" y="4707"/>
                </a:lnTo>
                <a:lnTo>
                  <a:pt x="15182" y="8224"/>
                </a:lnTo>
                <a:close/>
              </a:path>
              <a:path fill="darkenLess" w="21660" h="21600">
                <a:moveTo>
                  <a:pt x="9907" y="14299"/>
                </a:moveTo>
                <a:lnTo>
                  <a:pt x="11753" y="14299"/>
                </a:lnTo>
                <a:lnTo>
                  <a:pt x="11753" y="17989"/>
                </a:lnTo>
                <a:lnTo>
                  <a:pt x="16139" y="17989"/>
                </a:lnTo>
                <a:lnTo>
                  <a:pt x="16139" y="10800"/>
                </a:lnTo>
                <a:lnTo>
                  <a:pt x="5521" y="10800"/>
                </a:lnTo>
                <a:lnTo>
                  <a:pt x="5521" y="17989"/>
                </a:lnTo>
                <a:lnTo>
                  <a:pt x="9907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Нижний колонтитул 1"/>
          <p:cNvSpPr/>
          <p:nvPr/>
        </p:nvSpPr>
        <p:spPr>
          <a:xfrm>
            <a:off x="324000" y="6568920"/>
            <a:ext cx="8640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mbria"/>
              </a:rPr>
              <a:t>Обухова Н.С, МОУ СОШ №17 г. Заволжья Нижегородской обла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AutoShape 53">
            <a:hlinkClick r:id="rId1" action="ppaction://hlinksldjump"/>
          </p:cNvPr>
          <p:cNvSpPr/>
          <p:nvPr/>
        </p:nvSpPr>
        <p:spPr>
          <a:xfrm>
            <a:off x="395280" y="6021360"/>
            <a:ext cx="649440" cy="647640"/>
          </a:xfrm>
          <a:custGeom>
            <a:avLst/>
            <a:gdLst>
              <a:gd name="textAreaLeft" fmla="*/ 41760 w 649440"/>
              <a:gd name="textAreaRight" fmla="*/ 607680 w 6494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60" h="21600">
                <a:moveTo>
                  <a:pt x="0" y="0"/>
                </a:moveTo>
                <a:lnTo>
                  <a:pt x="21660" y="0"/>
                </a:lnTo>
                <a:lnTo>
                  <a:pt x="21660" y="21600"/>
                </a:lnTo>
                <a:lnTo>
                  <a:pt x="0" y="21600"/>
                </a:lnTo>
                <a:close/>
              </a:path>
              <a:path fill="lightenLess" w="21660" h="21600">
                <a:moveTo>
                  <a:pt x="0" y="0"/>
                </a:moveTo>
                <a:lnTo>
                  <a:pt x="21660" y="0"/>
                </a:lnTo>
                <a:lnTo>
                  <a:pt x="20260" y="1400"/>
                </a:lnTo>
                <a:lnTo>
                  <a:pt x="1400" y="1400"/>
                </a:lnTo>
                <a:close/>
              </a:path>
              <a:path fill="darken" w="21660" h="21600">
                <a:moveTo>
                  <a:pt x="21660" y="0"/>
                </a:moveTo>
                <a:lnTo>
                  <a:pt x="21660" y="21600"/>
                </a:lnTo>
                <a:lnTo>
                  <a:pt x="20260" y="20200"/>
                </a:lnTo>
                <a:lnTo>
                  <a:pt x="20260" y="1400"/>
                </a:lnTo>
                <a:close/>
              </a:path>
              <a:path fill="darkenLess" w="21660" h="21600">
                <a:moveTo>
                  <a:pt x="216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0" y="20200"/>
                </a:lnTo>
                <a:close/>
              </a:path>
              <a:path fill="lighten" w="216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0" h="21600">
                <a:moveTo>
                  <a:pt x="10830" y="3837"/>
                </a:moveTo>
                <a:lnTo>
                  <a:pt x="13406" y="6448"/>
                </a:lnTo>
                <a:lnTo>
                  <a:pt x="13406" y="4707"/>
                </a:lnTo>
                <a:lnTo>
                  <a:pt x="15182" y="4707"/>
                </a:lnTo>
                <a:lnTo>
                  <a:pt x="15182" y="8224"/>
                </a:lnTo>
                <a:lnTo>
                  <a:pt x="17793" y="10800"/>
                </a:lnTo>
                <a:lnTo>
                  <a:pt x="16139" y="10800"/>
                </a:lnTo>
                <a:lnTo>
                  <a:pt x="16139" y="17989"/>
                </a:lnTo>
                <a:lnTo>
                  <a:pt x="5521" y="17989"/>
                </a:lnTo>
                <a:lnTo>
                  <a:pt x="5521" y="10800"/>
                </a:lnTo>
                <a:lnTo>
                  <a:pt x="3867" y="10800"/>
                </a:lnTo>
                <a:close/>
              </a:path>
              <a:path fill="darkenLess" w="21660" h="21600">
                <a:moveTo>
                  <a:pt x="13406" y="6448"/>
                </a:moveTo>
                <a:lnTo>
                  <a:pt x="13406" y="4707"/>
                </a:lnTo>
                <a:lnTo>
                  <a:pt x="15182" y="4707"/>
                </a:lnTo>
                <a:lnTo>
                  <a:pt x="15182" y="8224"/>
                </a:lnTo>
                <a:close/>
              </a:path>
              <a:path fill="darkenLess" w="21660" h="21600">
                <a:moveTo>
                  <a:pt x="9907" y="14299"/>
                </a:moveTo>
                <a:lnTo>
                  <a:pt x="11753" y="14299"/>
                </a:lnTo>
                <a:lnTo>
                  <a:pt x="11753" y="17989"/>
                </a:lnTo>
                <a:lnTo>
                  <a:pt x="16139" y="17989"/>
                </a:lnTo>
                <a:lnTo>
                  <a:pt x="16139" y="10800"/>
                </a:lnTo>
                <a:lnTo>
                  <a:pt x="5521" y="10800"/>
                </a:lnTo>
                <a:lnTo>
                  <a:pt x="5521" y="17989"/>
                </a:lnTo>
                <a:lnTo>
                  <a:pt x="9907" y="1798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ext Box 54"/>
          <p:cNvSpPr/>
          <p:nvPr/>
        </p:nvSpPr>
        <p:spPr>
          <a:xfrm>
            <a:off x="7114680" y="219240"/>
            <a:ext cx="1587240" cy="459720"/>
          </a:xfrm>
          <a:prstGeom prst="rect">
            <a:avLst/>
          </a:prstGeom>
          <a:noFill/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ff"/>
                </a:solidFill>
                <a:latin typeface="Cambria"/>
              </a:rPr>
              <a:t>Задача 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84" name="Object 60"/>
          <p:cNvGraphicFramePr/>
          <p:nvPr/>
        </p:nvGraphicFramePr>
        <p:xfrm>
          <a:off x="5603760" y="3564000"/>
          <a:ext cx="284508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5" name="Object 6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03760" y="3564000"/>
                    <a:ext cx="284508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86" name="Freeform 61"/>
          <p:cNvGrpSpPr/>
          <p:nvPr/>
        </p:nvGrpSpPr>
        <p:grpSpPr>
          <a:xfrm>
            <a:off x="743040" y="1182600"/>
            <a:ext cx="4279680" cy="2913120"/>
            <a:chOff x="743040" y="1182600"/>
            <a:chExt cx="4279680" cy="2913120"/>
          </a:xfrm>
        </p:grpSpPr>
        <p:pic>
          <p:nvPicPr>
            <p:cNvPr id="287" name="Freeform 61" descr=""/>
            <p:cNvPicPr/>
            <p:nvPr/>
          </p:nvPicPr>
          <p:blipFill>
            <a:blip r:embed="rId5"/>
            <a:stretch/>
          </p:blipFill>
          <p:spPr>
            <a:xfrm>
              <a:off x="743040" y="1182600"/>
              <a:ext cx="4279680" cy="291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755640" y="1197000"/>
              <a:ext cx="4248000" cy="28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289" name="Object 62"/>
          <p:cNvGraphicFramePr/>
          <p:nvPr/>
        </p:nvGraphicFramePr>
        <p:xfrm>
          <a:off x="395280" y="3933720"/>
          <a:ext cx="291960" cy="330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90" name="Object 6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95280" y="3933720"/>
                    <a:ext cx="291960" cy="3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1" name="Object 63"/>
          <p:cNvGraphicFramePr/>
          <p:nvPr/>
        </p:nvGraphicFramePr>
        <p:xfrm>
          <a:off x="4160880" y="3822840"/>
          <a:ext cx="330120" cy="3301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92" name="Object 6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60880" y="3822840"/>
                    <a:ext cx="33012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Object 64"/>
          <p:cNvGraphicFramePr/>
          <p:nvPr/>
        </p:nvGraphicFramePr>
        <p:xfrm>
          <a:off x="5076720" y="836640"/>
          <a:ext cx="292320" cy="3427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94" name="Object 64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076720" y="836640"/>
                    <a:ext cx="29232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5" name="Line 65"/>
          <p:cNvSpPr/>
          <p:nvPr/>
        </p:nvSpPr>
        <p:spPr>
          <a:xfrm>
            <a:off x="4257720" y="2847960"/>
            <a:ext cx="3603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Freeform 66"/>
          <p:cNvSpPr/>
          <p:nvPr/>
        </p:nvSpPr>
        <p:spPr>
          <a:xfrm>
            <a:off x="2600280" y="3914640"/>
            <a:ext cx="1800" cy="3524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97" name="Object 67"/>
          <p:cNvGraphicFramePr/>
          <p:nvPr/>
        </p:nvGraphicFramePr>
        <p:xfrm>
          <a:off x="2843280" y="4149720"/>
          <a:ext cx="228600" cy="3430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98" name="Object 6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843280" y="4149720"/>
                    <a:ext cx="22860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Arc 68"/>
          <p:cNvSpPr/>
          <p:nvPr/>
        </p:nvSpPr>
        <p:spPr>
          <a:xfrm>
            <a:off x="1400040" y="3629160"/>
            <a:ext cx="219240" cy="4474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00" name="Object 69"/>
          <p:cNvGraphicFramePr/>
          <p:nvPr/>
        </p:nvGraphicFramePr>
        <p:xfrm>
          <a:off x="1673280" y="3527280"/>
          <a:ext cx="558720" cy="4320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01" name="Object 69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673280" y="3527280"/>
                    <a:ext cx="5587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Object 70"/>
          <p:cNvGraphicFramePr/>
          <p:nvPr/>
        </p:nvGraphicFramePr>
        <p:xfrm>
          <a:off x="5641920" y="4052880"/>
          <a:ext cx="2082960" cy="43164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303" name="Object 70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641920" y="4052880"/>
                    <a:ext cx="2082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Line 71"/>
          <p:cNvSpPr/>
          <p:nvPr/>
        </p:nvSpPr>
        <p:spPr>
          <a:xfrm>
            <a:off x="5657760" y="4797360"/>
            <a:ext cx="309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05" name="Object 72"/>
          <p:cNvGraphicFramePr/>
          <p:nvPr/>
        </p:nvGraphicFramePr>
        <p:xfrm>
          <a:off x="5743440" y="4995720"/>
          <a:ext cx="1092240" cy="34308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306" name="Object 72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743440" y="4995720"/>
                    <a:ext cx="10922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Text Box 73"/>
          <p:cNvSpPr/>
          <p:nvPr/>
        </p:nvSpPr>
        <p:spPr>
          <a:xfrm>
            <a:off x="4079880" y="5643720"/>
            <a:ext cx="1607040" cy="581400"/>
          </a:xfrm>
          <a:prstGeom prst="rect">
            <a:avLst/>
          </a:prstGeom>
          <a:gradFill rotWithShape="0">
            <a:gsLst>
              <a:gs pos="0">
                <a:srgbClr val="cc99ff">
                  <a:alpha val="44313"/>
                </a:srgbClr>
              </a:gs>
              <a:gs pos="50000">
                <a:srgbClr val="ffffff"/>
              </a:gs>
              <a:gs pos="100000">
                <a:srgbClr val="cc99ff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08" name="Object 74"/>
          <p:cNvGraphicFramePr/>
          <p:nvPr/>
        </p:nvGraphicFramePr>
        <p:xfrm>
          <a:off x="5724360" y="5654520"/>
          <a:ext cx="1663920" cy="50832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309" name="Object 74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5724360" y="5654520"/>
                    <a:ext cx="1663920" cy="5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restart="whenNotActive" nodeType="interactiveSeq" fill="hold">
                <p:stCondLst>
                  <p:cond evt="onClick">
                    <p:tgtEl>
                      <p:spTgt spid="307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307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Нижний колонтитул 1"/>
          <p:cNvSpPr/>
          <p:nvPr/>
        </p:nvSpPr>
        <p:spPr>
          <a:xfrm>
            <a:off x="324000" y="6568920"/>
            <a:ext cx="8640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mbria"/>
              </a:rPr>
              <a:t>Обухова Н.С, МОУ СОШ №17 г. Заволжья Нижегородской обла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AutoShape 36">
            <a:hlinkClick r:id="rId1" action="ppaction://hlinksldjump"/>
          </p:cNvPr>
          <p:cNvSpPr/>
          <p:nvPr/>
        </p:nvSpPr>
        <p:spPr>
          <a:xfrm>
            <a:off x="395280" y="6021360"/>
            <a:ext cx="649440" cy="647640"/>
          </a:xfrm>
          <a:custGeom>
            <a:avLst/>
            <a:gdLst>
              <a:gd name="textAreaLeft" fmla="*/ 41760 w 649440"/>
              <a:gd name="textAreaRight" fmla="*/ 607680 w 6494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60" h="21600">
                <a:moveTo>
                  <a:pt x="0" y="0"/>
                </a:moveTo>
                <a:lnTo>
                  <a:pt x="21660" y="0"/>
                </a:lnTo>
                <a:lnTo>
                  <a:pt x="21660" y="21600"/>
                </a:lnTo>
                <a:lnTo>
                  <a:pt x="0" y="21600"/>
                </a:lnTo>
                <a:close/>
              </a:path>
              <a:path fill="lightenLess" w="21660" h="21600">
                <a:moveTo>
                  <a:pt x="0" y="0"/>
                </a:moveTo>
                <a:lnTo>
                  <a:pt x="21660" y="0"/>
                </a:lnTo>
                <a:lnTo>
                  <a:pt x="20260" y="1400"/>
                </a:lnTo>
                <a:lnTo>
                  <a:pt x="1400" y="1400"/>
                </a:lnTo>
                <a:close/>
              </a:path>
              <a:path fill="darken" w="21660" h="21600">
                <a:moveTo>
                  <a:pt x="21660" y="0"/>
                </a:moveTo>
                <a:lnTo>
                  <a:pt x="21660" y="21600"/>
                </a:lnTo>
                <a:lnTo>
                  <a:pt x="20260" y="20200"/>
                </a:lnTo>
                <a:lnTo>
                  <a:pt x="20260" y="1400"/>
                </a:lnTo>
                <a:close/>
              </a:path>
              <a:path fill="darkenLess" w="21660" h="21600">
                <a:moveTo>
                  <a:pt x="216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0" y="20200"/>
                </a:lnTo>
                <a:close/>
              </a:path>
              <a:path fill="lighten" w="216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0" h="21600">
                <a:moveTo>
                  <a:pt x="10830" y="3837"/>
                </a:moveTo>
                <a:lnTo>
                  <a:pt x="13406" y="6448"/>
                </a:lnTo>
                <a:lnTo>
                  <a:pt x="13406" y="4707"/>
                </a:lnTo>
                <a:lnTo>
                  <a:pt x="15182" y="4707"/>
                </a:lnTo>
                <a:lnTo>
                  <a:pt x="15182" y="8224"/>
                </a:lnTo>
                <a:lnTo>
                  <a:pt x="17793" y="10800"/>
                </a:lnTo>
                <a:lnTo>
                  <a:pt x="16139" y="10800"/>
                </a:lnTo>
                <a:lnTo>
                  <a:pt x="16139" y="17989"/>
                </a:lnTo>
                <a:lnTo>
                  <a:pt x="5521" y="17989"/>
                </a:lnTo>
                <a:lnTo>
                  <a:pt x="5521" y="10800"/>
                </a:lnTo>
                <a:lnTo>
                  <a:pt x="3867" y="10800"/>
                </a:lnTo>
                <a:close/>
              </a:path>
              <a:path fill="darkenLess" w="21660" h="21600">
                <a:moveTo>
                  <a:pt x="13406" y="6448"/>
                </a:moveTo>
                <a:lnTo>
                  <a:pt x="13406" y="4707"/>
                </a:lnTo>
                <a:lnTo>
                  <a:pt x="15182" y="4707"/>
                </a:lnTo>
                <a:lnTo>
                  <a:pt x="15182" y="8224"/>
                </a:lnTo>
                <a:close/>
              </a:path>
              <a:path fill="darkenLess" w="21660" h="21600">
                <a:moveTo>
                  <a:pt x="9907" y="14299"/>
                </a:moveTo>
                <a:lnTo>
                  <a:pt x="11753" y="14299"/>
                </a:lnTo>
                <a:lnTo>
                  <a:pt x="11753" y="17989"/>
                </a:lnTo>
                <a:lnTo>
                  <a:pt x="16139" y="17989"/>
                </a:lnTo>
                <a:lnTo>
                  <a:pt x="16139" y="10800"/>
                </a:lnTo>
                <a:lnTo>
                  <a:pt x="5521" y="10800"/>
                </a:lnTo>
                <a:lnTo>
                  <a:pt x="5521" y="17989"/>
                </a:lnTo>
                <a:lnTo>
                  <a:pt x="9907" y="1798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Text Box 37"/>
          <p:cNvSpPr/>
          <p:nvPr/>
        </p:nvSpPr>
        <p:spPr>
          <a:xfrm>
            <a:off x="7113600" y="219240"/>
            <a:ext cx="1589040" cy="459720"/>
          </a:xfrm>
          <a:prstGeom prst="rect">
            <a:avLst/>
          </a:prstGeom>
          <a:noFill/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ff"/>
                </a:solidFill>
                <a:latin typeface="Cambria"/>
              </a:rPr>
              <a:t>Задача 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13" name="Object 41"/>
          <p:cNvGraphicFramePr/>
          <p:nvPr/>
        </p:nvGraphicFramePr>
        <p:xfrm>
          <a:off x="5665680" y="3573360"/>
          <a:ext cx="128268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4" name="Object 4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65680" y="3573360"/>
                    <a:ext cx="128268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5" name="Line 42"/>
          <p:cNvSpPr/>
          <p:nvPr/>
        </p:nvSpPr>
        <p:spPr>
          <a:xfrm>
            <a:off x="5657760" y="4797360"/>
            <a:ext cx="309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6" name="Freeform 43"/>
          <p:cNvGrpSpPr/>
          <p:nvPr/>
        </p:nvGrpSpPr>
        <p:grpSpPr>
          <a:xfrm>
            <a:off x="890640" y="1042920"/>
            <a:ext cx="3552840" cy="3127320"/>
            <a:chOff x="890640" y="1042920"/>
            <a:chExt cx="3552840" cy="3127320"/>
          </a:xfrm>
        </p:grpSpPr>
        <p:pic>
          <p:nvPicPr>
            <p:cNvPr id="317" name="Freeform 43" descr=""/>
            <p:cNvPicPr/>
            <p:nvPr/>
          </p:nvPicPr>
          <p:blipFill>
            <a:blip r:embed="rId5"/>
            <a:stretch/>
          </p:blipFill>
          <p:spPr>
            <a:xfrm>
              <a:off x="890640" y="1042920"/>
              <a:ext cx="3552840" cy="312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900000" y="1052640"/>
              <a:ext cx="3527640" cy="30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319" name="Object 44"/>
          <p:cNvGraphicFramePr/>
          <p:nvPr/>
        </p:nvGraphicFramePr>
        <p:xfrm>
          <a:off x="539640" y="3933720"/>
          <a:ext cx="330480" cy="330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20" name="Object 4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9640" y="3933720"/>
                    <a:ext cx="330480" cy="3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1" name="Object 45"/>
          <p:cNvGraphicFramePr/>
          <p:nvPr/>
        </p:nvGraphicFramePr>
        <p:xfrm>
          <a:off x="3187800" y="654120"/>
          <a:ext cx="291960" cy="3301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22" name="Object 4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187800" y="654120"/>
                    <a:ext cx="29196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3" name="Object 46"/>
          <p:cNvGraphicFramePr/>
          <p:nvPr/>
        </p:nvGraphicFramePr>
        <p:xfrm>
          <a:off x="4487760" y="3862440"/>
          <a:ext cx="292320" cy="3427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24" name="Object 4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487760" y="3862440"/>
                    <a:ext cx="29232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5" name="Object 47"/>
          <p:cNvGraphicFramePr/>
          <p:nvPr/>
        </p:nvGraphicFramePr>
        <p:xfrm>
          <a:off x="1619280" y="3573360"/>
          <a:ext cx="558720" cy="4320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26" name="Object 4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619280" y="3573360"/>
                    <a:ext cx="5587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7" name="Object 48"/>
          <p:cNvGraphicFramePr/>
          <p:nvPr/>
        </p:nvGraphicFramePr>
        <p:xfrm>
          <a:off x="2843280" y="1773360"/>
          <a:ext cx="558720" cy="4316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28" name="Object 48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843280" y="1773360"/>
                    <a:ext cx="5587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Arc 49"/>
          <p:cNvSpPr/>
          <p:nvPr/>
        </p:nvSpPr>
        <p:spPr>
          <a:xfrm>
            <a:off x="1285920" y="3638520"/>
            <a:ext cx="314280" cy="50472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Arc 50"/>
          <p:cNvSpPr/>
          <p:nvPr/>
        </p:nvSpPr>
        <p:spPr>
          <a:xfrm flipH="1" flipV="1" rot="20005800">
            <a:off x="2932560" y="1342800"/>
            <a:ext cx="409680" cy="37152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Line 51"/>
          <p:cNvSpPr/>
          <p:nvPr/>
        </p:nvSpPr>
        <p:spPr>
          <a:xfrm>
            <a:off x="3132000" y="1528920"/>
            <a:ext cx="55800" cy="185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Line 52"/>
          <p:cNvSpPr/>
          <p:nvPr/>
        </p:nvSpPr>
        <p:spPr>
          <a:xfrm>
            <a:off x="3090960" y="1535040"/>
            <a:ext cx="55440" cy="185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33" name="Object 53"/>
          <p:cNvGraphicFramePr/>
          <p:nvPr/>
        </p:nvGraphicFramePr>
        <p:xfrm>
          <a:off x="2987640" y="3716280"/>
          <a:ext cx="228600" cy="3301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334" name="Object 53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987640" y="3716280"/>
                    <a:ext cx="22860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5" name="Object 54"/>
          <p:cNvGraphicFramePr/>
          <p:nvPr/>
        </p:nvGraphicFramePr>
        <p:xfrm>
          <a:off x="5718240" y="4076640"/>
          <a:ext cx="2095560" cy="43200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336" name="Object 54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718240" y="4076640"/>
                    <a:ext cx="20955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7" name="Object 55"/>
          <p:cNvGraphicFramePr/>
          <p:nvPr/>
        </p:nvGraphicFramePr>
        <p:xfrm>
          <a:off x="6959520" y="3463920"/>
          <a:ext cx="2082960" cy="43164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338" name="Object 55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6959520" y="3463920"/>
                    <a:ext cx="2082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9" name="Object 56"/>
          <p:cNvGraphicFramePr/>
          <p:nvPr/>
        </p:nvGraphicFramePr>
        <p:xfrm>
          <a:off x="5737320" y="4995720"/>
          <a:ext cx="1104840" cy="34308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340" name="Object 56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5737320" y="4995720"/>
                    <a:ext cx="11048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1" name="Text Box 57"/>
          <p:cNvSpPr/>
          <p:nvPr/>
        </p:nvSpPr>
        <p:spPr>
          <a:xfrm>
            <a:off x="4079880" y="5643720"/>
            <a:ext cx="1607040" cy="581400"/>
          </a:xfrm>
          <a:prstGeom prst="rect">
            <a:avLst/>
          </a:prstGeom>
          <a:gradFill rotWithShape="0">
            <a:gsLst>
              <a:gs pos="0">
                <a:srgbClr val="cc99ff">
                  <a:alpha val="44313"/>
                </a:srgbClr>
              </a:gs>
              <a:gs pos="50000">
                <a:srgbClr val="ffffff"/>
              </a:gs>
              <a:gs pos="100000">
                <a:srgbClr val="cc99ff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42" name="Object 58"/>
          <p:cNvGraphicFramePr/>
          <p:nvPr/>
        </p:nvGraphicFramePr>
        <p:xfrm>
          <a:off x="5673600" y="5388120"/>
          <a:ext cx="1765440" cy="104112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343" name="Object 58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5673600" y="5388120"/>
                    <a:ext cx="1765440" cy="104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restart="whenNotActive" nodeType="interactiveSeq" fill="hold">
                <p:stCondLst>
                  <p:cond evt="onClick">
                    <p:tgtEl>
                      <p:spTgt spid="341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341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Нижний колонтитул 1"/>
          <p:cNvSpPr/>
          <p:nvPr/>
        </p:nvSpPr>
        <p:spPr>
          <a:xfrm>
            <a:off x="324000" y="6568920"/>
            <a:ext cx="8640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mbria"/>
              </a:rPr>
              <a:t>Обухова Н.С, МОУ СОШ №17 г. Заволжья Нижегородской обла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AutoShape 38">
            <a:hlinkClick r:id="rId1" action="ppaction://hlinksldjump"/>
          </p:cNvPr>
          <p:cNvSpPr/>
          <p:nvPr/>
        </p:nvSpPr>
        <p:spPr>
          <a:xfrm>
            <a:off x="395280" y="6021360"/>
            <a:ext cx="649440" cy="647640"/>
          </a:xfrm>
          <a:custGeom>
            <a:avLst/>
            <a:gdLst>
              <a:gd name="textAreaLeft" fmla="*/ 41760 w 649440"/>
              <a:gd name="textAreaRight" fmla="*/ 607680 w 6494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60" h="21600">
                <a:moveTo>
                  <a:pt x="0" y="0"/>
                </a:moveTo>
                <a:lnTo>
                  <a:pt x="21660" y="0"/>
                </a:lnTo>
                <a:lnTo>
                  <a:pt x="21660" y="21600"/>
                </a:lnTo>
                <a:lnTo>
                  <a:pt x="0" y="21600"/>
                </a:lnTo>
                <a:close/>
              </a:path>
              <a:path fill="lightenLess" w="21660" h="21600">
                <a:moveTo>
                  <a:pt x="0" y="0"/>
                </a:moveTo>
                <a:lnTo>
                  <a:pt x="21660" y="0"/>
                </a:lnTo>
                <a:lnTo>
                  <a:pt x="20260" y="1400"/>
                </a:lnTo>
                <a:lnTo>
                  <a:pt x="1400" y="1400"/>
                </a:lnTo>
                <a:close/>
              </a:path>
              <a:path fill="darken" w="21660" h="21600">
                <a:moveTo>
                  <a:pt x="21660" y="0"/>
                </a:moveTo>
                <a:lnTo>
                  <a:pt x="21660" y="21600"/>
                </a:lnTo>
                <a:lnTo>
                  <a:pt x="20260" y="20200"/>
                </a:lnTo>
                <a:lnTo>
                  <a:pt x="20260" y="1400"/>
                </a:lnTo>
                <a:close/>
              </a:path>
              <a:path fill="darkenLess" w="21660" h="21600">
                <a:moveTo>
                  <a:pt x="216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0" y="20200"/>
                </a:lnTo>
                <a:close/>
              </a:path>
              <a:path fill="lighten" w="216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0" h="21600">
                <a:moveTo>
                  <a:pt x="10830" y="3837"/>
                </a:moveTo>
                <a:lnTo>
                  <a:pt x="13406" y="6448"/>
                </a:lnTo>
                <a:lnTo>
                  <a:pt x="13406" y="4707"/>
                </a:lnTo>
                <a:lnTo>
                  <a:pt x="15182" y="4707"/>
                </a:lnTo>
                <a:lnTo>
                  <a:pt x="15182" y="8224"/>
                </a:lnTo>
                <a:lnTo>
                  <a:pt x="17793" y="10800"/>
                </a:lnTo>
                <a:lnTo>
                  <a:pt x="16139" y="10800"/>
                </a:lnTo>
                <a:lnTo>
                  <a:pt x="16139" y="17989"/>
                </a:lnTo>
                <a:lnTo>
                  <a:pt x="5521" y="17989"/>
                </a:lnTo>
                <a:lnTo>
                  <a:pt x="5521" y="10800"/>
                </a:lnTo>
                <a:lnTo>
                  <a:pt x="3867" y="10800"/>
                </a:lnTo>
                <a:close/>
              </a:path>
              <a:path fill="darkenLess" w="21660" h="21600">
                <a:moveTo>
                  <a:pt x="13406" y="6448"/>
                </a:moveTo>
                <a:lnTo>
                  <a:pt x="13406" y="4707"/>
                </a:lnTo>
                <a:lnTo>
                  <a:pt x="15182" y="4707"/>
                </a:lnTo>
                <a:lnTo>
                  <a:pt x="15182" y="8224"/>
                </a:lnTo>
                <a:close/>
              </a:path>
              <a:path fill="darkenLess" w="21660" h="21600">
                <a:moveTo>
                  <a:pt x="9907" y="14299"/>
                </a:moveTo>
                <a:lnTo>
                  <a:pt x="11753" y="14299"/>
                </a:lnTo>
                <a:lnTo>
                  <a:pt x="11753" y="17989"/>
                </a:lnTo>
                <a:lnTo>
                  <a:pt x="16139" y="17989"/>
                </a:lnTo>
                <a:lnTo>
                  <a:pt x="16139" y="10800"/>
                </a:lnTo>
                <a:lnTo>
                  <a:pt x="5521" y="10800"/>
                </a:lnTo>
                <a:lnTo>
                  <a:pt x="5521" y="17989"/>
                </a:lnTo>
                <a:lnTo>
                  <a:pt x="9907" y="1798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Text Box 41"/>
          <p:cNvSpPr/>
          <p:nvPr/>
        </p:nvSpPr>
        <p:spPr>
          <a:xfrm>
            <a:off x="7106040" y="219240"/>
            <a:ext cx="1604160" cy="459720"/>
          </a:xfrm>
          <a:prstGeom prst="rect">
            <a:avLst/>
          </a:prstGeom>
          <a:noFill/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ff"/>
                </a:solidFill>
                <a:latin typeface="Cambria"/>
              </a:rPr>
              <a:t>Задача 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47" name="Object 42"/>
          <p:cNvGraphicFramePr/>
          <p:nvPr/>
        </p:nvGraphicFramePr>
        <p:xfrm>
          <a:off x="5616720" y="3583080"/>
          <a:ext cx="255240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8" name="Object 4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16720" y="3583080"/>
                    <a:ext cx="255240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9" name="Object 43"/>
          <p:cNvGraphicFramePr/>
          <p:nvPr/>
        </p:nvGraphicFramePr>
        <p:xfrm>
          <a:off x="5638680" y="4043520"/>
          <a:ext cx="1689120" cy="507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0" name="Object 4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38680" y="4043520"/>
                    <a:ext cx="168912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Line 44"/>
          <p:cNvSpPr/>
          <p:nvPr/>
        </p:nvSpPr>
        <p:spPr>
          <a:xfrm>
            <a:off x="5657760" y="4797360"/>
            <a:ext cx="309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52" name="Object 45"/>
          <p:cNvGraphicFramePr/>
          <p:nvPr/>
        </p:nvGraphicFramePr>
        <p:xfrm>
          <a:off x="5648400" y="4995720"/>
          <a:ext cx="1130400" cy="343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3" name="Object 4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648400" y="4995720"/>
                    <a:ext cx="113040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4" name="Text Box 46"/>
          <p:cNvSpPr/>
          <p:nvPr/>
        </p:nvSpPr>
        <p:spPr>
          <a:xfrm>
            <a:off x="3975120" y="5624640"/>
            <a:ext cx="1607040" cy="581400"/>
          </a:xfrm>
          <a:prstGeom prst="rect">
            <a:avLst/>
          </a:prstGeom>
          <a:gradFill rotWithShape="0">
            <a:gsLst>
              <a:gs pos="0">
                <a:srgbClr val="cc99ff">
                  <a:alpha val="44313"/>
                </a:srgbClr>
              </a:gs>
              <a:gs pos="50000">
                <a:srgbClr val="ffffff"/>
              </a:gs>
              <a:gs pos="100000">
                <a:srgbClr val="cc99ff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55" name="Object 47"/>
          <p:cNvGraphicFramePr/>
          <p:nvPr/>
        </p:nvGraphicFramePr>
        <p:xfrm>
          <a:off x="5711760" y="5654520"/>
          <a:ext cx="1536840" cy="432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56" name="Object 4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711760" y="5654520"/>
                    <a:ext cx="153684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57" name="Freeform 48"/>
          <p:cNvGrpSpPr/>
          <p:nvPr/>
        </p:nvGrpSpPr>
        <p:grpSpPr>
          <a:xfrm>
            <a:off x="1103400" y="1689120"/>
            <a:ext cx="3919320" cy="2766960"/>
            <a:chOff x="1103400" y="1689120"/>
            <a:chExt cx="3919320" cy="2766960"/>
          </a:xfrm>
        </p:grpSpPr>
        <p:pic>
          <p:nvPicPr>
            <p:cNvPr id="358" name="Freeform 48" descr=""/>
            <p:cNvPicPr/>
            <p:nvPr/>
          </p:nvPicPr>
          <p:blipFill>
            <a:blip r:embed="rId11"/>
            <a:stretch/>
          </p:blipFill>
          <p:spPr>
            <a:xfrm>
              <a:off x="1103400" y="1689120"/>
              <a:ext cx="3919320" cy="276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1116000" y="1700280"/>
              <a:ext cx="3887640" cy="27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360" name="Object 49"/>
          <p:cNvGraphicFramePr/>
          <p:nvPr/>
        </p:nvGraphicFramePr>
        <p:xfrm>
          <a:off x="1187280" y="4508640"/>
          <a:ext cx="330480" cy="3301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61" name="Object 4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187280" y="4508640"/>
                    <a:ext cx="33048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2" name="Object 50"/>
          <p:cNvGraphicFramePr/>
          <p:nvPr/>
        </p:nvGraphicFramePr>
        <p:xfrm>
          <a:off x="755640" y="1341360"/>
          <a:ext cx="291960" cy="3301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63" name="Object 50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55640" y="1341360"/>
                    <a:ext cx="29196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4" name="Object 51"/>
          <p:cNvGraphicFramePr/>
          <p:nvPr/>
        </p:nvGraphicFramePr>
        <p:xfrm>
          <a:off x="5003640" y="2565360"/>
          <a:ext cx="292320" cy="3430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365" name="Object 51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003640" y="2565360"/>
                    <a:ext cx="29232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6" name="Object 52"/>
          <p:cNvGraphicFramePr/>
          <p:nvPr/>
        </p:nvGraphicFramePr>
        <p:xfrm>
          <a:off x="900000" y="3068640"/>
          <a:ext cx="228600" cy="33012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367" name="Object 52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900000" y="3068640"/>
                    <a:ext cx="22860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Object 53"/>
          <p:cNvGraphicFramePr/>
          <p:nvPr/>
        </p:nvGraphicFramePr>
        <p:xfrm>
          <a:off x="3348000" y="1989000"/>
          <a:ext cx="228600" cy="33048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369" name="Object 53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3348000" y="1989000"/>
                    <a:ext cx="228600" cy="3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0" name="Object 54"/>
          <p:cNvGraphicFramePr/>
          <p:nvPr/>
        </p:nvGraphicFramePr>
        <p:xfrm>
          <a:off x="3059280" y="3789360"/>
          <a:ext cx="723600" cy="50796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371" name="Object 54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3059280" y="3789360"/>
                    <a:ext cx="72360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restart="whenNotActive" nodeType="interactiveSeq" fill="hold">
                <p:stCondLst>
                  <p:cond evt="onClick">
                    <p:tgtEl>
                      <p:spTgt spid="354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354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Нижний колонтитул 1"/>
          <p:cNvSpPr/>
          <p:nvPr/>
        </p:nvSpPr>
        <p:spPr>
          <a:xfrm>
            <a:off x="324000" y="6568920"/>
            <a:ext cx="8640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mbria"/>
              </a:rPr>
              <a:t>Обухова Н.С, МОУ СОШ №17 г. Заволжья Нижегородской обла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AutoShape 46">
            <a:hlinkClick r:id="rId1" action="ppaction://hlinksldjump"/>
          </p:cNvPr>
          <p:cNvSpPr/>
          <p:nvPr/>
        </p:nvSpPr>
        <p:spPr>
          <a:xfrm>
            <a:off x="395280" y="6021360"/>
            <a:ext cx="649440" cy="647640"/>
          </a:xfrm>
          <a:custGeom>
            <a:avLst/>
            <a:gdLst>
              <a:gd name="textAreaLeft" fmla="*/ 41760 w 649440"/>
              <a:gd name="textAreaRight" fmla="*/ 607680 w 6494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60" h="21600">
                <a:moveTo>
                  <a:pt x="0" y="0"/>
                </a:moveTo>
                <a:lnTo>
                  <a:pt x="21660" y="0"/>
                </a:lnTo>
                <a:lnTo>
                  <a:pt x="21660" y="21600"/>
                </a:lnTo>
                <a:lnTo>
                  <a:pt x="0" y="21600"/>
                </a:lnTo>
                <a:close/>
              </a:path>
              <a:path fill="lightenLess" w="21660" h="21600">
                <a:moveTo>
                  <a:pt x="0" y="0"/>
                </a:moveTo>
                <a:lnTo>
                  <a:pt x="21660" y="0"/>
                </a:lnTo>
                <a:lnTo>
                  <a:pt x="20260" y="1400"/>
                </a:lnTo>
                <a:lnTo>
                  <a:pt x="1400" y="1400"/>
                </a:lnTo>
                <a:close/>
              </a:path>
              <a:path fill="darken" w="21660" h="21600">
                <a:moveTo>
                  <a:pt x="21660" y="0"/>
                </a:moveTo>
                <a:lnTo>
                  <a:pt x="21660" y="21600"/>
                </a:lnTo>
                <a:lnTo>
                  <a:pt x="20260" y="20200"/>
                </a:lnTo>
                <a:lnTo>
                  <a:pt x="20260" y="1400"/>
                </a:lnTo>
                <a:close/>
              </a:path>
              <a:path fill="darkenLess" w="21660" h="21600">
                <a:moveTo>
                  <a:pt x="216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0" y="20200"/>
                </a:lnTo>
                <a:close/>
              </a:path>
              <a:path fill="lighten" w="216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0" h="21600">
                <a:moveTo>
                  <a:pt x="10830" y="3837"/>
                </a:moveTo>
                <a:lnTo>
                  <a:pt x="13406" y="6448"/>
                </a:lnTo>
                <a:lnTo>
                  <a:pt x="13406" y="4707"/>
                </a:lnTo>
                <a:lnTo>
                  <a:pt x="15182" y="4707"/>
                </a:lnTo>
                <a:lnTo>
                  <a:pt x="15182" y="8224"/>
                </a:lnTo>
                <a:lnTo>
                  <a:pt x="17793" y="10800"/>
                </a:lnTo>
                <a:lnTo>
                  <a:pt x="16139" y="10800"/>
                </a:lnTo>
                <a:lnTo>
                  <a:pt x="16139" y="17989"/>
                </a:lnTo>
                <a:lnTo>
                  <a:pt x="5521" y="17989"/>
                </a:lnTo>
                <a:lnTo>
                  <a:pt x="5521" y="10800"/>
                </a:lnTo>
                <a:lnTo>
                  <a:pt x="3867" y="10800"/>
                </a:lnTo>
                <a:close/>
              </a:path>
              <a:path fill="darkenLess" w="21660" h="21600">
                <a:moveTo>
                  <a:pt x="13406" y="6448"/>
                </a:moveTo>
                <a:lnTo>
                  <a:pt x="13406" y="4707"/>
                </a:lnTo>
                <a:lnTo>
                  <a:pt x="15182" y="4707"/>
                </a:lnTo>
                <a:lnTo>
                  <a:pt x="15182" y="8224"/>
                </a:lnTo>
                <a:close/>
              </a:path>
              <a:path fill="darkenLess" w="21660" h="21600">
                <a:moveTo>
                  <a:pt x="9907" y="14299"/>
                </a:moveTo>
                <a:lnTo>
                  <a:pt x="11753" y="14299"/>
                </a:lnTo>
                <a:lnTo>
                  <a:pt x="11753" y="17989"/>
                </a:lnTo>
                <a:lnTo>
                  <a:pt x="16139" y="17989"/>
                </a:lnTo>
                <a:lnTo>
                  <a:pt x="16139" y="10800"/>
                </a:lnTo>
                <a:lnTo>
                  <a:pt x="5521" y="10800"/>
                </a:lnTo>
                <a:lnTo>
                  <a:pt x="5521" y="17989"/>
                </a:lnTo>
                <a:lnTo>
                  <a:pt x="9907" y="1798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Text Box 48"/>
          <p:cNvSpPr/>
          <p:nvPr/>
        </p:nvSpPr>
        <p:spPr>
          <a:xfrm>
            <a:off x="7112160" y="219240"/>
            <a:ext cx="1591920" cy="459720"/>
          </a:xfrm>
          <a:prstGeom prst="rect">
            <a:avLst/>
          </a:prstGeom>
          <a:noFill/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ff"/>
                </a:solidFill>
                <a:latin typeface="Cambria"/>
              </a:rPr>
              <a:t>Задача 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75" name="Object 49"/>
          <p:cNvGraphicFramePr/>
          <p:nvPr/>
        </p:nvGraphicFramePr>
        <p:xfrm>
          <a:off x="5656320" y="3544920"/>
          <a:ext cx="3111480" cy="53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6" name="Object 4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56320" y="3544920"/>
                    <a:ext cx="311148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7" name="Object 50"/>
          <p:cNvGraphicFramePr/>
          <p:nvPr/>
        </p:nvGraphicFramePr>
        <p:xfrm>
          <a:off x="5641920" y="4076640"/>
          <a:ext cx="2247840" cy="432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8" name="Object 5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41920" y="4076640"/>
                    <a:ext cx="224784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Line 51"/>
          <p:cNvSpPr/>
          <p:nvPr/>
        </p:nvSpPr>
        <p:spPr>
          <a:xfrm>
            <a:off x="5724360" y="4797360"/>
            <a:ext cx="309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80" name="Object 52"/>
          <p:cNvGraphicFramePr/>
          <p:nvPr/>
        </p:nvGraphicFramePr>
        <p:xfrm>
          <a:off x="5692680" y="5013360"/>
          <a:ext cx="1168560" cy="342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81" name="Object 5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692680" y="5013360"/>
                    <a:ext cx="116856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2" name="Text Box 53"/>
          <p:cNvSpPr/>
          <p:nvPr/>
        </p:nvSpPr>
        <p:spPr>
          <a:xfrm>
            <a:off x="4066920" y="5661000"/>
            <a:ext cx="1607040" cy="581400"/>
          </a:xfrm>
          <a:prstGeom prst="rect">
            <a:avLst/>
          </a:prstGeom>
          <a:gradFill rotWithShape="0">
            <a:gsLst>
              <a:gs pos="0">
                <a:srgbClr val="cc99ff">
                  <a:alpha val="44313"/>
                </a:srgbClr>
              </a:gs>
              <a:gs pos="50000">
                <a:srgbClr val="ffffff"/>
              </a:gs>
              <a:gs pos="100000">
                <a:srgbClr val="cc99ff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83" name="Object 54"/>
          <p:cNvGraphicFramePr/>
          <p:nvPr/>
        </p:nvGraphicFramePr>
        <p:xfrm>
          <a:off x="5775480" y="5710320"/>
          <a:ext cx="1536480" cy="431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84" name="Object 5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775480" y="5710320"/>
                    <a:ext cx="153648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5" name="Freeform 55"/>
          <p:cNvSpPr/>
          <p:nvPr/>
        </p:nvSpPr>
        <p:spPr>
          <a:xfrm rot="7170600">
            <a:off x="969840" y="1701720"/>
            <a:ext cx="4608360" cy="2877840"/>
          </a:xfrm>
          <a:prstGeom prst="pie">
            <a:avLst/>
          </a:prstGeom>
          <a:blipFill rotWithShape="0">
            <a:blip r:embed="rId11"/>
            <a:srcRect/>
            <a:stretch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86" name="Object 56"/>
          <p:cNvGraphicFramePr/>
          <p:nvPr/>
        </p:nvGraphicFramePr>
        <p:xfrm>
          <a:off x="4464000" y="3244680"/>
          <a:ext cx="216000" cy="3686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87" name="Object 5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464000" y="3244680"/>
                    <a:ext cx="216000" cy="3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8" name="Object 58"/>
          <p:cNvGraphicFramePr/>
          <p:nvPr/>
        </p:nvGraphicFramePr>
        <p:xfrm>
          <a:off x="5700600" y="1486080"/>
          <a:ext cx="330480" cy="3301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89" name="Object 58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700600" y="1486080"/>
                    <a:ext cx="33048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0" name="Object 59"/>
          <p:cNvGraphicFramePr/>
          <p:nvPr/>
        </p:nvGraphicFramePr>
        <p:xfrm>
          <a:off x="611280" y="4437000"/>
          <a:ext cx="291960" cy="3301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391" name="Object 59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611280" y="4437000"/>
                    <a:ext cx="29196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2" name="Object 60"/>
          <p:cNvGraphicFramePr/>
          <p:nvPr/>
        </p:nvGraphicFramePr>
        <p:xfrm>
          <a:off x="2468520" y="909720"/>
          <a:ext cx="292320" cy="34272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393" name="Object 60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2468520" y="909720"/>
                    <a:ext cx="29232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4" name="Arc 61"/>
          <p:cNvSpPr/>
          <p:nvPr/>
        </p:nvSpPr>
        <p:spPr>
          <a:xfrm flipV="1" rot="1597800">
            <a:off x="2571840" y="1267920"/>
            <a:ext cx="438120" cy="4316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95" name="Object 62"/>
          <p:cNvGraphicFramePr/>
          <p:nvPr/>
        </p:nvGraphicFramePr>
        <p:xfrm>
          <a:off x="2638440" y="1631880"/>
          <a:ext cx="723960" cy="43200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396" name="Object 62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2638440" y="1631880"/>
                    <a:ext cx="723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7" name="Object 63"/>
          <p:cNvGraphicFramePr/>
          <p:nvPr/>
        </p:nvGraphicFramePr>
        <p:xfrm>
          <a:off x="4410000" y="1130400"/>
          <a:ext cx="228600" cy="33012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398" name="Object 63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4410000" y="1130400"/>
                    <a:ext cx="22860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9" name="Object 64"/>
          <p:cNvGraphicFramePr/>
          <p:nvPr/>
        </p:nvGraphicFramePr>
        <p:xfrm>
          <a:off x="3216240" y="3219480"/>
          <a:ext cx="749160" cy="49536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400" name="Object 64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3216240" y="3219480"/>
                    <a:ext cx="74916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restart="whenNotActive" nodeType="interactiveSeq" fill="hold">
                <p:stCondLst>
                  <p:cond evt="onClick">
                    <p:tgtEl>
                      <p:spTgt spid="382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382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Нижний колонтитул 1"/>
          <p:cNvSpPr/>
          <p:nvPr/>
        </p:nvSpPr>
        <p:spPr>
          <a:xfrm>
            <a:off x="324000" y="6568920"/>
            <a:ext cx="8640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mbria"/>
              </a:rPr>
              <a:t>Обухова Н.С, МОУ СОШ №17 г. Заволжья Нижегородской обла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AutoShape 23">
            <a:hlinkClick r:id="rId1" action="ppaction://hlinksldjump"/>
          </p:cNvPr>
          <p:cNvSpPr/>
          <p:nvPr/>
        </p:nvSpPr>
        <p:spPr>
          <a:xfrm>
            <a:off x="395280" y="6021360"/>
            <a:ext cx="649440" cy="647640"/>
          </a:xfrm>
          <a:custGeom>
            <a:avLst/>
            <a:gdLst>
              <a:gd name="textAreaLeft" fmla="*/ 41760 w 649440"/>
              <a:gd name="textAreaRight" fmla="*/ 607680 w 6494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60" h="21600">
                <a:moveTo>
                  <a:pt x="0" y="0"/>
                </a:moveTo>
                <a:lnTo>
                  <a:pt x="21660" y="0"/>
                </a:lnTo>
                <a:lnTo>
                  <a:pt x="21660" y="21600"/>
                </a:lnTo>
                <a:lnTo>
                  <a:pt x="0" y="21600"/>
                </a:lnTo>
                <a:close/>
              </a:path>
              <a:path fill="lightenLess" w="21660" h="21600">
                <a:moveTo>
                  <a:pt x="0" y="0"/>
                </a:moveTo>
                <a:lnTo>
                  <a:pt x="21660" y="0"/>
                </a:lnTo>
                <a:lnTo>
                  <a:pt x="20260" y="1400"/>
                </a:lnTo>
                <a:lnTo>
                  <a:pt x="1400" y="1400"/>
                </a:lnTo>
                <a:close/>
              </a:path>
              <a:path fill="darken" w="21660" h="21600">
                <a:moveTo>
                  <a:pt x="21660" y="0"/>
                </a:moveTo>
                <a:lnTo>
                  <a:pt x="21660" y="21600"/>
                </a:lnTo>
                <a:lnTo>
                  <a:pt x="20260" y="20200"/>
                </a:lnTo>
                <a:lnTo>
                  <a:pt x="20260" y="1400"/>
                </a:lnTo>
                <a:close/>
              </a:path>
              <a:path fill="darkenLess" w="21660" h="21600">
                <a:moveTo>
                  <a:pt x="216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0" y="20200"/>
                </a:lnTo>
                <a:close/>
              </a:path>
              <a:path fill="lighten" w="216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0" h="21600">
                <a:moveTo>
                  <a:pt x="10830" y="3837"/>
                </a:moveTo>
                <a:lnTo>
                  <a:pt x="13406" y="6448"/>
                </a:lnTo>
                <a:lnTo>
                  <a:pt x="13406" y="4707"/>
                </a:lnTo>
                <a:lnTo>
                  <a:pt x="15182" y="4707"/>
                </a:lnTo>
                <a:lnTo>
                  <a:pt x="15182" y="8224"/>
                </a:lnTo>
                <a:lnTo>
                  <a:pt x="17793" y="10800"/>
                </a:lnTo>
                <a:lnTo>
                  <a:pt x="16139" y="10800"/>
                </a:lnTo>
                <a:lnTo>
                  <a:pt x="16139" y="17989"/>
                </a:lnTo>
                <a:lnTo>
                  <a:pt x="5521" y="17989"/>
                </a:lnTo>
                <a:lnTo>
                  <a:pt x="5521" y="10800"/>
                </a:lnTo>
                <a:lnTo>
                  <a:pt x="3867" y="10800"/>
                </a:lnTo>
                <a:close/>
              </a:path>
              <a:path fill="darkenLess" w="21660" h="21600">
                <a:moveTo>
                  <a:pt x="13406" y="6448"/>
                </a:moveTo>
                <a:lnTo>
                  <a:pt x="13406" y="4707"/>
                </a:lnTo>
                <a:lnTo>
                  <a:pt x="15182" y="4707"/>
                </a:lnTo>
                <a:lnTo>
                  <a:pt x="15182" y="8224"/>
                </a:lnTo>
                <a:close/>
              </a:path>
              <a:path fill="darkenLess" w="21660" h="21600">
                <a:moveTo>
                  <a:pt x="9907" y="14299"/>
                </a:moveTo>
                <a:lnTo>
                  <a:pt x="11753" y="14299"/>
                </a:lnTo>
                <a:lnTo>
                  <a:pt x="11753" y="17989"/>
                </a:lnTo>
                <a:lnTo>
                  <a:pt x="16139" y="17989"/>
                </a:lnTo>
                <a:lnTo>
                  <a:pt x="16139" y="10800"/>
                </a:lnTo>
                <a:lnTo>
                  <a:pt x="5521" y="10800"/>
                </a:lnTo>
                <a:lnTo>
                  <a:pt x="5521" y="17989"/>
                </a:lnTo>
                <a:lnTo>
                  <a:pt x="9907" y="1798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Text Box 25"/>
          <p:cNvSpPr/>
          <p:nvPr/>
        </p:nvSpPr>
        <p:spPr>
          <a:xfrm>
            <a:off x="7106040" y="219240"/>
            <a:ext cx="1595160" cy="459720"/>
          </a:xfrm>
          <a:prstGeom prst="rect">
            <a:avLst/>
          </a:prstGeom>
          <a:noFill/>
          <a:ln w="284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ff"/>
                </a:solidFill>
                <a:latin typeface="Cambria"/>
              </a:rPr>
              <a:t>Задача 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04" name="Object 26"/>
          <p:cNvGraphicFramePr/>
          <p:nvPr/>
        </p:nvGraphicFramePr>
        <p:xfrm>
          <a:off x="5661000" y="3490920"/>
          <a:ext cx="3073320" cy="53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5" name="Object 2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61000" y="3490920"/>
                    <a:ext cx="30733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6" name="Object 27"/>
          <p:cNvGraphicFramePr/>
          <p:nvPr/>
        </p:nvGraphicFramePr>
        <p:xfrm>
          <a:off x="5718240" y="4076640"/>
          <a:ext cx="2095560" cy="432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7" name="Object 2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18240" y="4076640"/>
                    <a:ext cx="20955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8" name="Line 28"/>
          <p:cNvSpPr/>
          <p:nvPr/>
        </p:nvSpPr>
        <p:spPr>
          <a:xfrm>
            <a:off x="5724360" y="4797360"/>
            <a:ext cx="309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09" name="Object 29"/>
          <p:cNvGraphicFramePr/>
          <p:nvPr/>
        </p:nvGraphicFramePr>
        <p:xfrm>
          <a:off x="5711760" y="5013360"/>
          <a:ext cx="1130400" cy="342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10" name="Object 2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11760" y="5013360"/>
                    <a:ext cx="113040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1" name="Text Box 30"/>
          <p:cNvSpPr/>
          <p:nvPr/>
        </p:nvSpPr>
        <p:spPr>
          <a:xfrm>
            <a:off x="4066920" y="5661000"/>
            <a:ext cx="1607040" cy="581400"/>
          </a:xfrm>
          <a:prstGeom prst="rect">
            <a:avLst/>
          </a:prstGeom>
          <a:gradFill rotWithShape="0">
            <a:gsLst>
              <a:gs pos="0">
                <a:srgbClr val="cc99ff">
                  <a:alpha val="44313"/>
                </a:srgbClr>
              </a:gs>
              <a:gs pos="50000">
                <a:srgbClr val="ffffff"/>
              </a:gs>
              <a:gs pos="100000">
                <a:srgbClr val="cc99ff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12" name="Object 31"/>
          <p:cNvGraphicFramePr/>
          <p:nvPr/>
        </p:nvGraphicFramePr>
        <p:xfrm>
          <a:off x="5775480" y="5710320"/>
          <a:ext cx="1536480" cy="431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13" name="Object 3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775480" y="5710320"/>
                    <a:ext cx="153648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4" name="Freeform 32"/>
          <p:cNvSpPr/>
          <p:nvPr/>
        </p:nvSpPr>
        <p:spPr>
          <a:xfrm>
            <a:off x="1042920" y="1125360"/>
            <a:ext cx="3241800" cy="3024360"/>
          </a:xfrm>
          <a:prstGeom prst="pie">
            <a:avLst/>
          </a:prstGeom>
          <a:blipFill rotWithShape="0">
            <a:blip r:embed="rId11"/>
            <a:srcRect/>
            <a:stretch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15" name="Object 33"/>
          <p:cNvGraphicFramePr/>
          <p:nvPr/>
        </p:nvGraphicFramePr>
        <p:xfrm>
          <a:off x="544680" y="3854520"/>
          <a:ext cx="330120" cy="3301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416" name="Object 33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44680" y="3854520"/>
                    <a:ext cx="33012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7" name="Object 34"/>
          <p:cNvGraphicFramePr/>
          <p:nvPr/>
        </p:nvGraphicFramePr>
        <p:xfrm>
          <a:off x="3054240" y="716040"/>
          <a:ext cx="292320" cy="3301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418" name="Object 34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054240" y="716040"/>
                    <a:ext cx="29232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9" name="Object 35"/>
          <p:cNvGraphicFramePr/>
          <p:nvPr/>
        </p:nvGraphicFramePr>
        <p:xfrm>
          <a:off x="4322880" y="3790800"/>
          <a:ext cx="299880" cy="3430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420" name="Object 35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322880" y="3790800"/>
                    <a:ext cx="2998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1" name="Arc 36"/>
          <p:cNvSpPr/>
          <p:nvPr/>
        </p:nvSpPr>
        <p:spPr>
          <a:xfrm>
            <a:off x="1362240" y="3676680"/>
            <a:ext cx="257040" cy="4730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22" name="Object 37"/>
          <p:cNvGraphicFramePr/>
          <p:nvPr/>
        </p:nvGraphicFramePr>
        <p:xfrm>
          <a:off x="1692360" y="3500280"/>
          <a:ext cx="558720" cy="43200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423" name="Object 37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1692360" y="3500280"/>
                    <a:ext cx="5587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4" name="Object 38"/>
          <p:cNvGraphicFramePr/>
          <p:nvPr/>
        </p:nvGraphicFramePr>
        <p:xfrm>
          <a:off x="1317600" y="2238480"/>
          <a:ext cx="546120" cy="4953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425" name="Object 38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1317600" y="2238480"/>
                    <a:ext cx="54612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6" name="Object 39"/>
          <p:cNvGraphicFramePr/>
          <p:nvPr/>
        </p:nvGraphicFramePr>
        <p:xfrm>
          <a:off x="3863880" y="2209680"/>
          <a:ext cx="520920" cy="50796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427" name="Object 39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3863880" y="2209680"/>
                    <a:ext cx="52092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restart="whenNotActive" nodeType="interactiveSeq" fill="hold">
                <p:stCondLst>
                  <p:cond evt="onClick">
                    <p:tgtEl>
                      <p:spTgt spid="411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411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Нижний колонтитул 1"/>
          <p:cNvSpPr/>
          <p:nvPr/>
        </p:nvSpPr>
        <p:spPr>
          <a:xfrm>
            <a:off x="324000" y="6568920"/>
            <a:ext cx="8640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mbria"/>
              </a:rPr>
              <a:t>Обухова Н.С, МОУ СОШ №17 г. Заволжья Нижегородской обла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AutoShape 57">
            <a:hlinkClick r:id="rId1" action="ppaction://hlinksldjump"/>
          </p:cNvPr>
          <p:cNvSpPr/>
          <p:nvPr/>
        </p:nvSpPr>
        <p:spPr>
          <a:xfrm>
            <a:off x="395280" y="6021360"/>
            <a:ext cx="649440" cy="647640"/>
          </a:xfrm>
          <a:custGeom>
            <a:avLst/>
            <a:gdLst>
              <a:gd name="textAreaLeft" fmla="*/ 41760 w 649440"/>
              <a:gd name="textAreaRight" fmla="*/ 607680 w 6494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60" h="21600">
                <a:moveTo>
                  <a:pt x="0" y="0"/>
                </a:moveTo>
                <a:lnTo>
                  <a:pt x="21660" y="0"/>
                </a:lnTo>
                <a:lnTo>
                  <a:pt x="21660" y="21600"/>
                </a:lnTo>
                <a:lnTo>
                  <a:pt x="0" y="21600"/>
                </a:lnTo>
                <a:close/>
              </a:path>
              <a:path fill="lightenLess" w="21660" h="21600">
                <a:moveTo>
                  <a:pt x="0" y="0"/>
                </a:moveTo>
                <a:lnTo>
                  <a:pt x="21660" y="0"/>
                </a:lnTo>
                <a:lnTo>
                  <a:pt x="20260" y="1400"/>
                </a:lnTo>
                <a:lnTo>
                  <a:pt x="1400" y="1400"/>
                </a:lnTo>
                <a:close/>
              </a:path>
              <a:path fill="darken" w="21660" h="21600">
                <a:moveTo>
                  <a:pt x="21660" y="0"/>
                </a:moveTo>
                <a:lnTo>
                  <a:pt x="21660" y="21600"/>
                </a:lnTo>
                <a:lnTo>
                  <a:pt x="20260" y="20200"/>
                </a:lnTo>
                <a:lnTo>
                  <a:pt x="20260" y="1400"/>
                </a:lnTo>
                <a:close/>
              </a:path>
              <a:path fill="darkenLess" w="21660" h="21600">
                <a:moveTo>
                  <a:pt x="216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0" y="20200"/>
                </a:lnTo>
                <a:close/>
              </a:path>
              <a:path fill="lighten" w="216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0" h="21600">
                <a:moveTo>
                  <a:pt x="10830" y="3837"/>
                </a:moveTo>
                <a:lnTo>
                  <a:pt x="13406" y="6448"/>
                </a:lnTo>
                <a:lnTo>
                  <a:pt x="13406" y="4707"/>
                </a:lnTo>
                <a:lnTo>
                  <a:pt x="15182" y="4707"/>
                </a:lnTo>
                <a:lnTo>
                  <a:pt x="15182" y="8224"/>
                </a:lnTo>
                <a:lnTo>
                  <a:pt x="17793" y="10800"/>
                </a:lnTo>
                <a:lnTo>
                  <a:pt x="16139" y="10800"/>
                </a:lnTo>
                <a:lnTo>
                  <a:pt x="16139" y="17989"/>
                </a:lnTo>
                <a:lnTo>
                  <a:pt x="5521" y="17989"/>
                </a:lnTo>
                <a:lnTo>
                  <a:pt x="5521" y="10800"/>
                </a:lnTo>
                <a:lnTo>
                  <a:pt x="3867" y="10800"/>
                </a:lnTo>
                <a:close/>
              </a:path>
              <a:path fill="darkenLess" w="21660" h="21600">
                <a:moveTo>
                  <a:pt x="13406" y="6448"/>
                </a:moveTo>
                <a:lnTo>
                  <a:pt x="13406" y="4707"/>
                </a:lnTo>
                <a:lnTo>
                  <a:pt x="15182" y="4707"/>
                </a:lnTo>
                <a:lnTo>
                  <a:pt x="15182" y="8224"/>
                </a:lnTo>
                <a:close/>
              </a:path>
              <a:path fill="darkenLess" w="21660" h="21600">
                <a:moveTo>
                  <a:pt x="9907" y="14299"/>
                </a:moveTo>
                <a:lnTo>
                  <a:pt x="11753" y="14299"/>
                </a:lnTo>
                <a:lnTo>
                  <a:pt x="11753" y="17989"/>
                </a:lnTo>
                <a:lnTo>
                  <a:pt x="16139" y="17989"/>
                </a:lnTo>
                <a:lnTo>
                  <a:pt x="16139" y="10800"/>
                </a:lnTo>
                <a:lnTo>
                  <a:pt x="5521" y="10800"/>
                </a:lnTo>
                <a:lnTo>
                  <a:pt x="5521" y="17989"/>
                </a:lnTo>
                <a:lnTo>
                  <a:pt x="9907" y="1798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Text Box 58"/>
          <p:cNvSpPr/>
          <p:nvPr/>
        </p:nvSpPr>
        <p:spPr>
          <a:xfrm>
            <a:off x="7112880" y="219240"/>
            <a:ext cx="1590480" cy="459720"/>
          </a:xfrm>
          <a:prstGeom prst="rect">
            <a:avLst/>
          </a:prstGeom>
          <a:noFill/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ff"/>
                </a:solidFill>
                <a:latin typeface="Cambria"/>
              </a:rPr>
              <a:t>Задача 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31" name="Object 74"/>
          <p:cNvGraphicFramePr/>
          <p:nvPr/>
        </p:nvGraphicFramePr>
        <p:xfrm>
          <a:off x="5576760" y="3573360"/>
          <a:ext cx="146052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2" name="Object 7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76760" y="3573360"/>
                    <a:ext cx="146052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3" name="Line 75"/>
          <p:cNvSpPr/>
          <p:nvPr/>
        </p:nvSpPr>
        <p:spPr>
          <a:xfrm>
            <a:off x="5657760" y="4797360"/>
            <a:ext cx="309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34" name="Object 77"/>
          <p:cNvGraphicFramePr/>
          <p:nvPr/>
        </p:nvGraphicFramePr>
        <p:xfrm>
          <a:off x="5619600" y="4076640"/>
          <a:ext cx="2121120" cy="432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5" name="Object 7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19600" y="4076640"/>
                    <a:ext cx="21211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6" name="Object 78"/>
          <p:cNvGraphicFramePr/>
          <p:nvPr/>
        </p:nvGraphicFramePr>
        <p:xfrm>
          <a:off x="6959520" y="3463920"/>
          <a:ext cx="2082960" cy="431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37" name="Object 7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959520" y="3463920"/>
                    <a:ext cx="2082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8" name="Object 79"/>
          <p:cNvGraphicFramePr/>
          <p:nvPr/>
        </p:nvGraphicFramePr>
        <p:xfrm>
          <a:off x="5737320" y="4995720"/>
          <a:ext cx="1104840" cy="343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39" name="Object 7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737320" y="4995720"/>
                    <a:ext cx="11048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0" name="Text Box 80"/>
          <p:cNvSpPr/>
          <p:nvPr/>
        </p:nvSpPr>
        <p:spPr>
          <a:xfrm>
            <a:off x="4079880" y="5643720"/>
            <a:ext cx="1607040" cy="581400"/>
          </a:xfrm>
          <a:prstGeom prst="rect">
            <a:avLst/>
          </a:prstGeom>
          <a:gradFill rotWithShape="0">
            <a:gsLst>
              <a:gs pos="0">
                <a:srgbClr val="cc99ff">
                  <a:alpha val="44313"/>
                </a:srgbClr>
              </a:gs>
              <a:gs pos="50000">
                <a:srgbClr val="ffffff"/>
              </a:gs>
              <a:gs pos="100000">
                <a:srgbClr val="cc99ff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41" name="Object 81"/>
          <p:cNvGraphicFramePr/>
          <p:nvPr/>
        </p:nvGraphicFramePr>
        <p:xfrm>
          <a:off x="5705640" y="5654520"/>
          <a:ext cx="1701720" cy="508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42" name="Object 8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705640" y="5654520"/>
                    <a:ext cx="1701720" cy="5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43" name="Freeform 82"/>
          <p:cNvGrpSpPr/>
          <p:nvPr/>
        </p:nvGrpSpPr>
        <p:grpSpPr>
          <a:xfrm>
            <a:off x="890640" y="1042920"/>
            <a:ext cx="3552840" cy="3127320"/>
            <a:chOff x="890640" y="1042920"/>
            <a:chExt cx="3552840" cy="3127320"/>
          </a:xfrm>
        </p:grpSpPr>
        <p:pic>
          <p:nvPicPr>
            <p:cNvPr id="444" name="Freeform 82" descr=""/>
            <p:cNvPicPr/>
            <p:nvPr/>
          </p:nvPicPr>
          <p:blipFill>
            <a:blip r:embed="rId13"/>
            <a:stretch/>
          </p:blipFill>
          <p:spPr>
            <a:xfrm>
              <a:off x="890640" y="1042920"/>
              <a:ext cx="3552840" cy="312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5" name=""/>
            <p:cNvSpPr/>
            <p:nvPr/>
          </p:nvSpPr>
          <p:spPr>
            <a:xfrm>
              <a:off x="900000" y="1052640"/>
              <a:ext cx="3527640" cy="30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446" name="Object 83"/>
          <p:cNvGraphicFramePr/>
          <p:nvPr/>
        </p:nvGraphicFramePr>
        <p:xfrm>
          <a:off x="539640" y="3933720"/>
          <a:ext cx="330480" cy="3304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447" name="Object 83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39640" y="3933720"/>
                    <a:ext cx="330480" cy="3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8" name="Object 84"/>
          <p:cNvGraphicFramePr/>
          <p:nvPr/>
        </p:nvGraphicFramePr>
        <p:xfrm>
          <a:off x="4502160" y="3825720"/>
          <a:ext cx="291960" cy="3304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449" name="Object 84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502160" y="3825720"/>
                    <a:ext cx="291960" cy="3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0" name="Object 85"/>
          <p:cNvGraphicFramePr/>
          <p:nvPr/>
        </p:nvGraphicFramePr>
        <p:xfrm>
          <a:off x="3192480" y="623880"/>
          <a:ext cx="291960" cy="34308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451" name="Object 85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3192480" y="623880"/>
                    <a:ext cx="29196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2" name="Object 86"/>
          <p:cNvGraphicFramePr/>
          <p:nvPr/>
        </p:nvGraphicFramePr>
        <p:xfrm>
          <a:off x="1619280" y="3573360"/>
          <a:ext cx="558720" cy="43200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453" name="Object 86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1619280" y="3573360"/>
                    <a:ext cx="5587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4" name="Object 87"/>
          <p:cNvGraphicFramePr/>
          <p:nvPr/>
        </p:nvGraphicFramePr>
        <p:xfrm>
          <a:off x="2843280" y="1773360"/>
          <a:ext cx="558720" cy="43164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455" name="Object 87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2843280" y="1773360"/>
                    <a:ext cx="5587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6" name="Arc 88"/>
          <p:cNvSpPr/>
          <p:nvPr/>
        </p:nvSpPr>
        <p:spPr>
          <a:xfrm>
            <a:off x="1285920" y="3638520"/>
            <a:ext cx="314280" cy="50472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Arc 89"/>
          <p:cNvSpPr/>
          <p:nvPr/>
        </p:nvSpPr>
        <p:spPr>
          <a:xfrm flipH="1" flipV="1" rot="20005800">
            <a:off x="2932560" y="1342800"/>
            <a:ext cx="409680" cy="37152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Line 90"/>
          <p:cNvSpPr/>
          <p:nvPr/>
        </p:nvSpPr>
        <p:spPr>
          <a:xfrm>
            <a:off x="3132000" y="1528920"/>
            <a:ext cx="55800" cy="185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Line 91"/>
          <p:cNvSpPr/>
          <p:nvPr/>
        </p:nvSpPr>
        <p:spPr>
          <a:xfrm>
            <a:off x="3090960" y="1535040"/>
            <a:ext cx="55440" cy="185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60" name="Object 92"/>
          <p:cNvGraphicFramePr/>
          <p:nvPr/>
        </p:nvGraphicFramePr>
        <p:xfrm>
          <a:off x="1649520" y="2135160"/>
          <a:ext cx="393480" cy="33012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461" name="Object 92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1649520" y="2135160"/>
                    <a:ext cx="39348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440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440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9T20:41:58Z</dcterms:created>
  <dc:creator>Наталия Обухова</dc:creator>
  <dc:description/>
  <dc:language>en-US</dc:language>
  <cp:lastModifiedBy>1</cp:lastModifiedBy>
  <dcterms:modified xsi:type="dcterms:W3CDTF">2023-11-29T16:12:46Z</dcterms:modified>
  <cp:revision>29</cp:revision>
  <dc:subject/>
  <dc:title>Слайд 1</dc:title>
</cp:coreProperties>
</file>