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20A-5590-4B7C-B5DF-351D35E0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41F-2952-4137-BF24-F7921F00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55F-DD6E-4780-8002-317BCB0D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BBD-96CD-4391-AF13-0DEA9A7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43F-31F1-4F14-9A73-B6545A59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218-B3B8-4B7E-B571-68940C8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F29-2564-46A5-BBA1-4122E54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A16-764A-4C67-859A-A2E7CABA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B364-4C60-46EA-8419-476F698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E07-56DB-411D-9738-E51E2D7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7845-7BF1-43DC-B225-062A264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773-B615-4B98-9E94-979C56C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ECA1-10E5-4985-A82D-6D9FB15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0B1-4126-4F7D-A078-2072C533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760-475D-40E9-AB36-5FBCBC0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73E2-9E1A-4CA6-BCF9-B1B98538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A3AB-0B4D-412A-8E4F-6F587A68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335-9887-4D30-9B9B-5C2C2E9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517-329C-4F1F-B49B-E151FB9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215-4C05-452A-98C3-10A5325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479-37B3-4685-BC19-E0D31AC2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552-F69A-4875-AB5F-4BCE063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7FE-5C63-4903-8077-F8A0F1A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AD7-58DB-480A-A397-B5E11E6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452-FA8B-4660-914D-31640905BC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4696-B59D-4148-B6A1-1EBB6BF7BB8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анимательная математика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(7 класс)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Учитель математики: Яровая Л.А.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2060280"/>
            <a:ext cx="6408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Формулы сокращенного умножени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11knop"/>
          <p:cNvPicPr/>
          <p:nvPr/>
        </p:nvPicPr>
        <p:blipFill>
          <a:blip r:embed="rId1"/>
          <a:stretch/>
        </p:blipFill>
        <p:spPr>
          <a:xfrm>
            <a:off x="3059280" y="3716280"/>
            <a:ext cx="309708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7.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Закрепление изученного материала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азложить на множители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1/4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– a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– 4a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1/4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+ a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9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 +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2ab + 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2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 +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9/16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2ab+16/9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6ab + 9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4/9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2ab +9/4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8.Решить уравнение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x – 4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 4 = (x –2)(x + 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2x – 5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(7 – 2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x – 1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(1 – 2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 3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 – (5 –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 x(25 – 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2 –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x(x + 1,5) = 4;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0328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 – (4 – 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 x(3 – 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4 – 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x(2 + х)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100 = 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2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25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64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0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81 =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first"/>
          <p:cNvPicPr/>
          <p:nvPr/>
        </p:nvPicPr>
        <p:blipFill>
          <a:blip r:embed="rId1"/>
          <a:stretch/>
        </p:blipFill>
        <p:spPr>
          <a:xfrm>
            <a:off x="5364000" y="333360"/>
            <a:ext cx="295308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9.Вычислить наиболее простым способом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4" descr="img1"/>
          <p:cNvPicPr/>
          <p:nvPr/>
        </p:nvPicPr>
        <p:blipFill>
          <a:blip r:embed="rId1"/>
          <a:stretch/>
        </p:blipFill>
        <p:spPr>
          <a:xfrm>
            <a:off x="1397160" y="2108160"/>
            <a:ext cx="7073640" cy="37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Подведение итогов уро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бщение пройденного материала, учитель проводит блиц-опрос и выставляет учащимся оценки за работу на урок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C41-07"/>
          <p:cNvPicPr/>
          <p:nvPr/>
        </p:nvPicPr>
        <p:blipFill>
          <a:blip r:embed="rId1"/>
          <a:stretch/>
        </p:blipFill>
        <p:spPr>
          <a:xfrm>
            <a:off x="3995640" y="4437000"/>
            <a:ext cx="2094120" cy="20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и: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ршенствование умений и навыков применения формул сокращенного умнож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индивидуальных способностей учащихся, путём развитие интереса к математи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рганизационный момен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готовности класса к уро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бщение темы и цели уро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стные зада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тест с использованием сигнальных карточек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Tahoma"/>
              </a:rPr>
              <a:t>                  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Tahoma"/>
              </a:rPr>
              <a:t>1.Устная работа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какие формулы сокращенного умножения вы знае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На доску записываются эти формул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 + в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2ав +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 – в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2ав +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 + в) (а – в) = 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2. Представить в виде многочлена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) (9 + 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8 – 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3y – 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а) (x + 5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a –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8a –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) (y + 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5с – 7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5a + 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c – p)(c + p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1/2c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/2c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) (в + 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x –1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3y – 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а) (n – 4m)(n + 4m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2c + 9d)(2c – 9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10x – 7y)(10x + 7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) (2 + y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3 – c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2x + 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a + 2b)(a – 2b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– y)(3x + y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+ 2a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– 2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. Разложить на множител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) –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 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64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1 – 9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а) 16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1/36 –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9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) 16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2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9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81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2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64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а) 49 – 16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2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81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16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49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2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0,2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а) 16 – 49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64p2 – 4/4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81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c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а) 9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1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9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а) 1 – 64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- 9/49 + 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25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4. Преобразовать в многочлен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) (3x – 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(2a + в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(y – 4)(y + 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) (2b + 5а)(2b – 5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(a – 3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 х(х + 5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y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+ 1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–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+2b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– 2b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– b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+ b) –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x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– 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– 2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+2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+ 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– 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x(x –9) + (x + 7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а) (a + 5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б) (0,5x + 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в) (b + 0,3)(b – 0,3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г)(0,5y – x)(0,5y + 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16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(4x + 5y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. Упростите выражение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(x + 3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11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3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(a – 7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(3a + p)(3a – p) +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(c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(c 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2c(1+c) –(c –2)(c +3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) (y + 5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2y(y + 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8x(x – 5) – 2x(x + 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(a +6)(a–4)+(a - 8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7a(3 – a) + 7a(a – 3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)(b – 7)(b – 3)–(b +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(x – 5)(x –7)–2x(x - 5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)8a(a – 3) – (a – 7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6.Замените знак * одночленом так, чтобы получившийся трехчлен можно было представить в виде двучлен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а) 16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* + 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9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12ab + *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а) 36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* + 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64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16ху + *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7680" y="-108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http://www.tmn.fio.ru/works/04x/311/boy.gif"/>
          <p:cNvPicPr/>
          <p:nvPr/>
        </p:nvPicPr>
        <p:blipFill>
          <a:blip r:embed="rId1"/>
          <a:stretch/>
        </p:blipFill>
        <p:spPr>
          <a:xfrm>
            <a:off x="4500720" y="2133720"/>
            <a:ext cx="4248000" cy="31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7:10Z</dcterms:created>
  <dc:creator>Катя</dc:creator>
  <dc:description/>
  <dc:language>en-US</dc:language>
  <cp:lastModifiedBy>1</cp:lastModifiedBy>
  <dcterms:modified xsi:type="dcterms:W3CDTF">2023-11-29T15:34:15Z</dcterms:modified>
  <cp:revision>5</cp:revision>
  <dc:subject/>
  <dc:title>Занимательная математика. (7 класс)</dc:title>
</cp:coreProperties>
</file>