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5.jpeg" ContentType="image/jpeg"/>
  <Override PartName="/ppt/media/image4.jpeg" ContentType="image/jpeg"/>
  <Override PartName="/ppt/media/image3.png" ContentType="image/png"/>
  <Override PartName="/ppt/media/image26.png" ContentType="image/png"/>
  <Override PartName="/ppt/media/image2.wmf" ContentType="image/x-wmf"/>
  <Override PartName="/ppt/media/image23.jpeg" ContentType="image/jpeg"/>
  <Override PartName="/ppt/media/image25.wmf" ContentType="image/x-wmf"/>
  <Override PartName="/ppt/media/image29.png" ContentType="image/png"/>
  <Override PartName="/ppt/media/image17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1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24.wmf" ContentType="image/x-wmf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312-8050-43C4-ACF4-289705F5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48AE-1F29-44AE-B099-972A695A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310-C44C-45E9-AB8F-C9580F98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850-5D41-4DD9-9081-D6EA40CC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7431-FA90-462A-AB6D-95D6E285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FFE7-501C-4C03-816C-BD4E6388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F4B8-C99C-494D-9CA7-F33D8C5C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3D1F-4FBD-443D-92F2-1C106BCE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933B-64A5-4E90-BF31-C2449251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4453-3B10-4F3B-968F-20398AC6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253B-FB4C-4C6E-BB93-93A8FA6F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35D-FA97-4F0F-843E-1FA50C28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97D2-0424-495B-A098-F2653CE6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A7D2-7FC7-4F4C-B2FE-06462BBB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BD8F-8B69-4E28-BCD4-B4943115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9F7A-E4CF-4CD5-8C71-78958038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AB9C-261E-4CDF-9DBB-47E26B7C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A6424-7BC8-4498-8E6D-0747673A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178C2-9FA6-499D-91BD-3BB65BF6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FBFB5-59BA-402D-8B5E-6FB68606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97658-2ADD-4788-9CE2-8B891062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C15D6-F340-44D8-9069-7866D6A9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F20-F7C9-40D3-8116-84C2C84A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1CC93-BFF9-460D-A323-6487E0AA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77074-367F-48FE-A32E-ED00A513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3CF4A-F035-45A1-B92B-52F1EE9B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E935C-BC75-428E-95DD-CBCDD8D2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92BAB-10AC-465A-8D5B-5F693FE1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5D767-97CF-49C8-BCF1-5F0553D6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C802D-AF06-4970-A7B7-B56A2214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B65BB-90D8-4009-B2BA-107710B4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2144F-90C8-4A04-AA16-708BA350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4A3F8-2E32-429C-8414-D8055FEF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6568-398F-4F9F-BAA7-4D2049D0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B9810-24C6-4782-89F1-F3B7A8A9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53A5A-DDD2-4C29-B61B-2765C82D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6E764-43A6-410A-A3BF-FB0AF008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F14CA-8A14-4F1E-84CA-C7D97795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D9DBC-8D8A-411A-AB86-7B9A0A0A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54019-A744-40DF-A6A0-0C6A3BD9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23EEA-25FF-4E4B-9CD9-5ACEECCC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B2475-C300-4F5C-A3DB-D31C93EA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6DD2C-4756-406D-AEBB-BE3348B8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640AA-8316-4529-B41C-75BB4F9E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420-D830-4714-AD83-7AA9DCFF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F20BD-3FC9-47F7-ADD8-9CC0ECA8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4B17B-1F21-4ADF-B443-888AD5A0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36B2D-5126-4279-A1A1-AB1E6D63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BDAD6-8CEB-4F48-A05D-3CA7922B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0C41B-F7DC-41FF-8809-0A8CF4FA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F3488-AFEE-4373-8F86-1D9B2F1B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25256-BE9A-46AF-BACE-2DB2C3DB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52D54-48D9-4376-8361-9217C5C7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6658A-BF04-4D34-A3AC-DE78E177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26A95-055A-43AB-AEF7-3259E638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93DF-6C4C-461A-ACBF-CB1FA777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46C99-4927-467E-A8DC-215C0639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492D2-0ECE-440A-82AE-6255C54F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C4B87-9AD5-4A47-9FF8-677C9EEA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F01FB-D604-453F-8403-0FC405C7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F83EF-5C4C-4144-AB8A-5FABEE04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40E33-83A7-4FC4-8E0F-85891BBE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56648-E18C-4895-8E28-3D59EBAE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AF413-A8B6-403F-828C-CE381A42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6F3BA-CF32-418A-B41B-7FFE094C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94C41-679B-462A-96C0-42F273D1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737B-D3EF-4B15-B949-8A560527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25B84-CD95-482C-853F-92FC0C6B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20569-4D44-426A-8175-8D73AAB3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81E04-1F6C-408D-BFDC-43C7D299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0E8CB-F2CE-4856-8553-B230A3D7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C310D-5D0F-43E9-B4DA-D41C1238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BF0CB-6AEC-4B4E-BFB8-50620F38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72BF7-062C-4AB8-9533-38351F6D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31107-79B5-4C3E-8895-79C7FA5C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1E47B-F76B-4438-9C6E-A008A536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F6F46-19F9-42E9-A538-F4D55320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ED9-7C9B-4739-A98F-E79F084B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C5AF5-D1D6-4318-9A97-F6AA6D3A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BD4FC-B7BA-451B-A0BC-1D36B462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84F35-426C-41BE-8BE0-42143B6A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1AC4F-EE9C-4F2C-8D3D-004C2C03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0A6A6-25C5-40D2-86F4-05AB1754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2821B-2B6A-49B7-A8EC-512C6CB6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96F2B-FAA0-4743-B08D-4E66E7B0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87285-497B-47FD-86E1-F4C65ABC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50624-4C02-4141-BB95-A2E91025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83064-92B1-4747-B51B-C00A50C0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A36E-6D27-4B33-9AB1-C6256F84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AD6E7-4D45-43FF-BB80-B0947B91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13367-368B-422C-A4FD-382349C7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220D1-7DB4-4ED8-B96C-68030036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29832-39B5-469D-B648-FA85F0B4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F87D8-704C-4E7D-8534-F6BCCC07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709BA-0610-4953-903A-13777BB7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3FED7-32B7-4E7F-AB7F-58B9A87A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Москва, 2006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42AD-5DF4-4A04-BBDD-A224E116952F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" name="Rectangle 9"/>
          <p:cNvSpPr/>
          <p:nvPr/>
        </p:nvSpPr>
        <p:spPr>
          <a:xfrm>
            <a:off x="8120160" y="6610320"/>
            <a:ext cx="93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6294-B853-4D76-AB21-B656276FCE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з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9"/>
          <p:cNvSpPr/>
          <p:nvPr/>
        </p:nvSpPr>
        <p:spPr>
          <a:xfrm>
            <a:off x="925560" y="0"/>
            <a:ext cx="74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tisse ITC"/>
              </a:rPr>
              <a:t>Л.Л. Босова, УМК по информатике для 5-7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4002120" y="6610320"/>
            <a:ext cx="112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Matisse ITC"/>
              </a:rPr>
              <a:t>Москва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Москва, 2006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240A-4683-44F1-9D8A-DBE4B894D3E0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Москва, 2006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9387-59BB-45D8-9603-A93F9118E54B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8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Москва, 2006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E128-DE0A-4526-8816-034094D1F3D6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6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Москва, 2006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0898-70A3-431E-9677-594D8CFB6E83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4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Москва, 2006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00FF-945B-4B77-BFD3-DC2DB8968114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92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Москва, 2006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D68B-F9EA-4DC0-8F71-417105823BD0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40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Rectangle 9"/>
          <p:cNvSpPr/>
          <p:nvPr/>
        </p:nvSpPr>
        <p:spPr>
          <a:xfrm>
            <a:off x="8120160" y="6610320"/>
            <a:ext cx="93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ECBB-ECE2-4EC4-9AEE-984034B50C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з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Москва, 2006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4209-8F5E-47D7-8352-6857CF3BEAEF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5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9" descr="j0298461"/>
          <p:cNvPicPr/>
          <p:nvPr/>
        </p:nvPicPr>
        <p:blipFill>
          <a:blip r:embed="rId1"/>
          <a:stretch/>
        </p:blipFill>
        <p:spPr>
          <a:xfrm>
            <a:off x="3363840" y="2774880"/>
            <a:ext cx="2662200" cy="2241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90000"/>
                </a:solidFill>
                <a:latin typeface="Candara"/>
              </a:rPr>
              <a:t>ФАЙЛЫ и ПАПКИ</a:t>
            </a:r>
            <a:endParaRPr b="0" lang="en-US" sz="4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9" name="Picture 30" descr="j0298469"/>
          <p:cNvPicPr/>
          <p:nvPr/>
        </p:nvPicPr>
        <p:blipFill>
          <a:blip r:embed="rId2"/>
          <a:stretch/>
        </p:blipFill>
        <p:spPr>
          <a:xfrm>
            <a:off x="730080" y="2292480"/>
            <a:ext cx="2500560" cy="19573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90" name="Picture 3" descr=""/>
          <p:cNvPicPr/>
          <p:nvPr/>
        </p:nvPicPr>
        <p:blipFill>
          <a:blip r:embed="rId3"/>
          <a:stretch/>
        </p:blipFill>
        <p:spPr>
          <a:xfrm>
            <a:off x="6208560" y="3787920"/>
            <a:ext cx="2451240" cy="217008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32"/>
          <p:cNvSpPr/>
          <p:nvPr/>
        </p:nvSpPr>
        <p:spPr>
          <a:xfrm>
            <a:off x="3903840" y="6145200"/>
            <a:ext cx="1887480" cy="552600"/>
          </a:xfrm>
          <a:custGeom>
            <a:avLst/>
            <a:gdLst>
              <a:gd name="textAreaLeft" fmla="*/ 471960 w 1887480"/>
              <a:gd name="textAreaRight" fmla="*/ 1415880 w 1887480"/>
              <a:gd name="textAreaTop" fmla="*/ 69120 h 552600"/>
              <a:gd name="textAreaBottom" fmla="*/ 55296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3"/>
          <p:cNvSpPr/>
          <p:nvPr/>
        </p:nvSpPr>
        <p:spPr>
          <a:xfrm>
            <a:off x="4381560" y="6264360"/>
            <a:ext cx="9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627120" y="1568520"/>
            <a:ext cx="769608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31b6fd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Candara"/>
              </a:rPr>
              <a:t>Файл</a:t>
            </a:r>
            <a:r>
              <a:rPr b="0" lang="ru-RU" sz="2600" spc="-1" strike="noStrike">
                <a:solidFill>
                  <a:srgbClr val="0080ff"/>
                </a:solidFill>
                <a:latin typeface="Candara"/>
              </a:rPr>
              <a:t> – это информация, хранящаяся в долговременной памяти как единое целое и обозначенная именем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49"/>
              </a:spcBef>
              <a:buClr>
                <a:srgbClr val="31b6fd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ff"/>
                </a:solidFill>
                <a:latin typeface="Candara"/>
              </a:rPr>
              <a:t>Имя файла состоит из двух частей – имени и расширения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49"/>
              </a:spcBef>
              <a:buClr>
                <a:srgbClr val="31b6fd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ff"/>
                </a:solidFill>
                <a:latin typeface="Candara"/>
              </a:rPr>
              <a:t>Чтобы не возникло путаницы, все файлы хранятся в определенной системе: в папках, которые, в свою очередь, могут быть вложенными в другие папки и т.д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1" name="Номер слайда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D5CE-BFDB-4B35-BD3B-FF90003DB6EB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98560" y="363240"/>
            <a:ext cx="72756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Candara"/>
              </a:rPr>
              <a:t>Самое главное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533" name="Group 33"/>
          <p:cNvGrpSpPr/>
          <p:nvPr/>
        </p:nvGrpSpPr>
        <p:grpSpPr>
          <a:xfrm>
            <a:off x="219240" y="6265800"/>
            <a:ext cx="8657640" cy="380880"/>
            <a:chOff x="219240" y="6265800"/>
            <a:chExt cx="8657640" cy="380880"/>
          </a:xfrm>
        </p:grpSpPr>
        <p:pic>
          <p:nvPicPr>
            <p:cNvPr id="534" name="Picture 23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013600" y="6265800"/>
              <a:ext cx="8632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30" descr="кнопка назад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19240" y="6269040"/>
              <a:ext cx="864720" cy="3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6" name="AutoShape 34"/>
          <p:cNvSpPr/>
          <p:nvPr/>
        </p:nvSpPr>
        <p:spPr>
          <a:xfrm>
            <a:off x="3903840" y="6251400"/>
            <a:ext cx="1887480" cy="406440"/>
          </a:xfrm>
          <a:custGeom>
            <a:avLst/>
            <a:gdLst>
              <a:gd name="textAreaLeft" fmla="*/ 471960 w 1887480"/>
              <a:gd name="textAreaRight" fmla="*/ 1415880 w 1887480"/>
              <a:gd name="textAreaTop" fmla="*/ 50760 h 406440"/>
              <a:gd name="textAreaBottom" fmla="*/ 406800 h 40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5"/>
          <p:cNvSpPr/>
          <p:nvPr/>
        </p:nvSpPr>
        <p:spPr>
          <a:xfrm>
            <a:off x="4405320" y="631980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9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544680" y="1076040"/>
            <a:ext cx="77724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Что такое файл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70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Из каких частей состоит имя файла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70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Какие правила записи имени файла следует соблюдать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70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Опишите систему хранения файлов на диске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70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Какие операции можно совершать с файлами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70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Каких действий следует избегать при работе с файлами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Номер слайда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ABF9-27D1-4676-9AF8-EB5C332CC564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42960" y="38052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Candara"/>
              </a:rPr>
              <a:t>Давайте обсудим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41" name="Picture 4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sp>
        <p:nvSpPr>
          <p:cNvPr id="542" name="AutoShape 7"/>
          <p:cNvSpPr/>
          <p:nvPr/>
        </p:nvSpPr>
        <p:spPr>
          <a:xfrm>
            <a:off x="3720960" y="6311880"/>
            <a:ext cx="1887840" cy="406440"/>
          </a:xfrm>
          <a:custGeom>
            <a:avLst/>
            <a:gdLst>
              <a:gd name="textAreaLeft" fmla="*/ 471960 w 1887840"/>
              <a:gd name="textAreaRight" fmla="*/ 1415880 w 1887840"/>
              <a:gd name="textAreaTop" fmla="*/ 50760 h 406440"/>
              <a:gd name="textAreaBottom" fmla="*/ 406800 h 40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4243320" y="63802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9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220680" y="552600"/>
            <a:ext cx="8740800" cy="131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990000"/>
                </a:solidFill>
                <a:latin typeface="Comic Sans MS"/>
              </a:rPr>
              <a:t>Файл</a:t>
            </a:r>
            <a:r>
              <a:rPr b="1" lang="ru-RU" sz="2400" spc="-1" strike="noStrike">
                <a:solidFill>
                  <a:srgbClr val="990000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это информация, хранящаяся в долговременной памяти как единое целое и обозначенная имене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Номер слайда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F2F8-0A02-4C72-B227-5DD6C5FF61AD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2185920" y="2370240"/>
            <a:ext cx="483228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мя файла = имя.расши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268200" y="3500280"/>
            <a:ext cx="4189680" cy="11912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Matisse ITC"/>
              </a:rPr>
              <a:t>Имя  файла</a:t>
            </a: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 в </a:t>
            </a:r>
            <a:r>
              <a:rPr b="1" lang="en-US" sz="2400" spc="-1" strike="noStrike">
                <a:solidFill>
                  <a:srgbClr val="000099"/>
                </a:solidFill>
                <a:latin typeface="Matisse ITC"/>
              </a:rPr>
              <a:t>Windows –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до </a:t>
            </a:r>
            <a:r>
              <a:rPr b="1" lang="en-US" sz="2400" spc="-1" strike="noStrike">
                <a:solidFill>
                  <a:srgbClr val="990000"/>
                </a:solidFill>
                <a:latin typeface="Matisse ITC"/>
              </a:rPr>
              <a:t>255 </a:t>
            </a:r>
            <a:r>
              <a:rPr b="1" lang="ru-RU" sz="2400" spc="-1" strike="noStrike">
                <a:solidFill>
                  <a:srgbClr val="990000"/>
                </a:solidFill>
                <a:latin typeface="Matisse ITC"/>
              </a:rPr>
              <a:t>символов</a:t>
            </a: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 (рус. или ла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7"/>
          <p:cNvSpPr/>
          <p:nvPr/>
        </p:nvSpPr>
        <p:spPr>
          <a:xfrm flipH="1">
            <a:off x="2859120" y="2847960"/>
            <a:ext cx="1393920" cy="6253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4770360" y="3500280"/>
            <a:ext cx="4041720" cy="22885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Matisse ITC"/>
              </a:rPr>
              <a:t>Расширение</a:t>
            </a: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 обычно  автоматически задается программой, в которой создается файл. Почти всегда – </a:t>
            </a:r>
            <a:r>
              <a:rPr b="1" lang="ru-RU" sz="2400" spc="-1" strike="noStrike">
                <a:solidFill>
                  <a:srgbClr val="990000"/>
                </a:solidFill>
                <a:latin typeface="Matisse ITC"/>
              </a:rPr>
              <a:t>три латински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324000" y="2023920"/>
            <a:ext cx="78800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3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154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402" name="Line 16"/>
          <p:cNvSpPr/>
          <p:nvPr/>
        </p:nvSpPr>
        <p:spPr>
          <a:xfrm>
            <a:off x="4915080" y="2862360"/>
            <a:ext cx="1393560" cy="6253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22"/>
          <p:cNvGrpSpPr/>
          <p:nvPr/>
        </p:nvGrpSpPr>
        <p:grpSpPr>
          <a:xfrm>
            <a:off x="628560" y="4800600"/>
            <a:ext cx="3286080" cy="985680"/>
            <a:chOff x="628560" y="4800600"/>
            <a:chExt cx="3286080" cy="985680"/>
          </a:xfrm>
        </p:grpSpPr>
        <p:sp>
          <p:nvSpPr>
            <p:cNvPr id="404" name="Text Box 6"/>
            <p:cNvSpPr/>
            <p:nvPr/>
          </p:nvSpPr>
          <p:spPr>
            <a:xfrm>
              <a:off x="1546200" y="5079600"/>
              <a:ext cx="23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 Black"/>
                </a:rPr>
                <a:t>\ / : * ? </a:t>
              </a:r>
              <a:r>
                <a:rPr b="0" lang="en-US" sz="2400" spc="-1" strike="noStrike">
                  <a:solidFill>
                    <a:srgbClr val="000099"/>
                  </a:solidFill>
                  <a:latin typeface="Arial Black"/>
                </a:rPr>
                <a:t>“</a:t>
              </a:r>
              <a:r>
                <a:rPr b="0" lang="ru-RU" sz="2400" spc="-1" strike="noStrike">
                  <a:solidFill>
                    <a:srgbClr val="000099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000099"/>
                  </a:solidFill>
                  <a:latin typeface="Arial Black"/>
                </a:rPr>
                <a:t>&lt; &gt; 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Group 20"/>
            <p:cNvGrpSpPr/>
            <p:nvPr/>
          </p:nvGrpSpPr>
          <p:grpSpPr>
            <a:xfrm>
              <a:off x="771480" y="4914720"/>
              <a:ext cx="685800" cy="685440"/>
              <a:chOff x="771480" y="4914720"/>
              <a:chExt cx="685800" cy="685440"/>
            </a:xfrm>
          </p:grpSpPr>
          <p:sp>
            <p:nvSpPr>
              <p:cNvPr id="406" name="Oval 17"/>
              <p:cNvSpPr/>
              <p:nvPr/>
            </p:nvSpPr>
            <p:spPr>
              <a:xfrm>
                <a:off x="771480" y="4914720"/>
                <a:ext cx="685800" cy="685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Oval 18"/>
              <p:cNvSpPr/>
              <p:nvPr/>
            </p:nvSpPr>
            <p:spPr>
              <a:xfrm>
                <a:off x="871200" y="5028480"/>
                <a:ext cx="471600" cy="471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19"/>
              <p:cNvSpPr/>
              <p:nvPr/>
            </p:nvSpPr>
            <p:spPr>
              <a:xfrm>
                <a:off x="914040" y="5214240"/>
                <a:ext cx="400320" cy="114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Rectangle 21"/>
            <p:cNvSpPr/>
            <p:nvPr/>
          </p:nvSpPr>
          <p:spPr>
            <a:xfrm>
              <a:off x="628560" y="4800600"/>
              <a:ext cx="3286080" cy="9856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Oval 23"/>
          <p:cNvSpPr/>
          <p:nvPr/>
        </p:nvSpPr>
        <p:spPr>
          <a:xfrm>
            <a:off x="4529160" y="3700440"/>
            <a:ext cx="171360" cy="171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4" descr="j0297085"/>
          <p:cNvPicPr/>
          <p:nvPr/>
        </p:nvPicPr>
        <p:blipFill>
          <a:blip r:embed="rId3"/>
          <a:stretch/>
        </p:blipFill>
        <p:spPr>
          <a:xfrm>
            <a:off x="325440" y="2284560"/>
            <a:ext cx="1230480" cy="107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2" name="Object 27"/>
          <p:cNvGraphicFramePr/>
          <p:nvPr/>
        </p:nvGraphicFramePr>
        <p:xfrm>
          <a:off x="7796160" y="2225520"/>
          <a:ext cx="1082880" cy="109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3" name="Object 2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96160" y="2225520"/>
                    <a:ext cx="108288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AutoShape 28"/>
          <p:cNvSpPr/>
          <p:nvPr/>
        </p:nvSpPr>
        <p:spPr>
          <a:xfrm>
            <a:off x="3914640" y="6246720"/>
            <a:ext cx="1887840" cy="552600"/>
          </a:xfrm>
          <a:custGeom>
            <a:avLst/>
            <a:gdLst>
              <a:gd name="textAreaLeft" fmla="*/ 471960 w 1887840"/>
              <a:gd name="textAreaRight" fmla="*/ 1415880 w 1887840"/>
              <a:gd name="textAreaTop" fmla="*/ 69120 h 552600"/>
              <a:gd name="textAreaBottom" fmla="*/ 55296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9"/>
          <p:cNvSpPr/>
          <p:nvPr/>
        </p:nvSpPr>
        <p:spPr>
          <a:xfrm>
            <a:off x="4414680" y="63403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9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98320" y="3538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00"/>
                </a:solidFill>
                <a:latin typeface="Candara"/>
              </a:rPr>
              <a:t>Типы</a:t>
            </a:r>
            <a:r>
              <a:rPr b="1" lang="ru-RU" sz="38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ru-RU" sz="3800" spc="-1" strike="noStrike">
                <a:solidFill>
                  <a:srgbClr val="990000"/>
                </a:solidFill>
                <a:latin typeface="Candara"/>
              </a:rPr>
              <a:t>файлов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33280" y="1257480"/>
          <a:ext cx="8650440" cy="5171760"/>
        </p:xfrm>
        <a:graphic>
          <a:graphicData uri="http://schemas.openxmlformats.org/drawingml/2006/table">
            <a:tbl>
              <a:tblPr/>
              <a:tblGrid>
                <a:gridCol w="1843200"/>
                <a:gridCol w="2903400"/>
                <a:gridCol w="1987560"/>
                <a:gridCol w="1916280"/>
              </a:tblGrid>
              <a:tr h="789120">
                <a:tc>
                  <a:txBody>
                    <a:bodyPr lIns="90000" rIns="90000" tIns="1260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1260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1260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шир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1260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о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99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яем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ы, содержащие готовые к исполнению програм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162000" rIns="90000" tIns="1080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com, ex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2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ов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ы, содержащие текс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162000" rIns="90000" tIns="1080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xt, doc, rt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ы, содержащие изображ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bmp, jpg,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gif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др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ы, содержащие голоса и музык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waw, mid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др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8" name="Picture 153" descr=""/>
          <p:cNvPicPr/>
          <p:nvPr/>
        </p:nvPicPr>
        <p:blipFill>
          <a:blip r:embed="rId1"/>
          <a:stretch/>
        </p:blipFill>
        <p:spPr>
          <a:xfrm>
            <a:off x="7134120" y="2286000"/>
            <a:ext cx="390600" cy="45720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419" name="Picture 154" descr=""/>
          <p:cNvPicPr/>
          <p:nvPr/>
        </p:nvPicPr>
        <p:blipFill>
          <a:blip r:embed="rId2"/>
          <a:stretch/>
        </p:blipFill>
        <p:spPr>
          <a:xfrm>
            <a:off x="7713720" y="2444760"/>
            <a:ext cx="885600" cy="49536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420" name="Picture 156" descr=""/>
          <p:cNvPicPr/>
          <p:nvPr/>
        </p:nvPicPr>
        <p:blipFill>
          <a:blip r:embed="rId3"/>
          <a:stretch/>
        </p:blipFill>
        <p:spPr>
          <a:xfrm>
            <a:off x="7083360" y="3340080"/>
            <a:ext cx="1069920" cy="4604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421" name="Picture 157" descr=""/>
          <p:cNvPicPr/>
          <p:nvPr/>
        </p:nvPicPr>
        <p:blipFill>
          <a:blip r:embed="rId4"/>
          <a:stretch/>
        </p:blipFill>
        <p:spPr>
          <a:xfrm>
            <a:off x="7951680" y="4321080"/>
            <a:ext cx="746280" cy="5288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422" name="Picture 158" descr=""/>
          <p:cNvPicPr/>
          <p:nvPr/>
        </p:nvPicPr>
        <p:blipFill>
          <a:blip r:embed="rId5"/>
          <a:stretch/>
        </p:blipFill>
        <p:spPr>
          <a:xfrm>
            <a:off x="7045200" y="4341960"/>
            <a:ext cx="655920" cy="4363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423" name="Picture 159" descr=""/>
          <p:cNvPicPr/>
          <p:nvPr/>
        </p:nvPicPr>
        <p:blipFill>
          <a:blip r:embed="rId6"/>
          <a:stretch/>
        </p:blipFill>
        <p:spPr>
          <a:xfrm>
            <a:off x="7839000" y="3728880"/>
            <a:ext cx="835200" cy="42876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424" name="Picture 160" descr=""/>
          <p:cNvPicPr/>
          <p:nvPr/>
        </p:nvPicPr>
        <p:blipFill>
          <a:blip r:embed="rId7"/>
          <a:stretch/>
        </p:blipFill>
        <p:spPr>
          <a:xfrm>
            <a:off x="7767720" y="4578480"/>
            <a:ext cx="342720" cy="5270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425" name="Line 185"/>
          <p:cNvSpPr/>
          <p:nvPr/>
        </p:nvSpPr>
        <p:spPr>
          <a:xfrm>
            <a:off x="217440" y="2090880"/>
            <a:ext cx="862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86" descr=""/>
          <p:cNvPicPr/>
          <p:nvPr/>
        </p:nvPicPr>
        <p:blipFill>
          <a:blip r:embed="rId8"/>
          <a:stretch/>
        </p:blipFill>
        <p:spPr>
          <a:xfrm>
            <a:off x="8010360" y="5423040"/>
            <a:ext cx="581040" cy="5140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427" name="Picture 187" descr=""/>
          <p:cNvPicPr/>
          <p:nvPr/>
        </p:nvPicPr>
        <p:blipFill>
          <a:blip r:embed="rId9"/>
          <a:stretch/>
        </p:blipFill>
        <p:spPr>
          <a:xfrm>
            <a:off x="7184880" y="5408640"/>
            <a:ext cx="540000" cy="56520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428" name="Picture 189" descr="кнопка назад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90" descr="кнопка вперед копия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80154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196"/>
          <p:cNvSpPr/>
          <p:nvPr/>
        </p:nvSpPr>
        <p:spPr>
          <a:xfrm>
            <a:off x="3889440" y="6310440"/>
            <a:ext cx="1887480" cy="399960"/>
          </a:xfrm>
          <a:custGeom>
            <a:avLst/>
            <a:gdLst>
              <a:gd name="textAreaLeft" fmla="*/ 471960 w 1887480"/>
              <a:gd name="textAreaRight" fmla="*/ 1415880 w 1887480"/>
              <a:gd name="textAreaTop" fmla="*/ 50040 h 399960"/>
              <a:gd name="textAreaBottom" fmla="*/ 4003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7"/>
          <p:cNvSpPr/>
          <p:nvPr/>
        </p:nvSpPr>
        <p:spPr>
          <a:xfrm>
            <a:off x="4383000" y="6342120"/>
            <a:ext cx="9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9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Номер слайда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CA1E-9B06-47EF-8C7B-CABFA785E437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216000" y="506520"/>
            <a:ext cx="65116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Папка</a:t>
            </a:r>
            <a:r>
              <a:rPr b="0" lang="ru-RU" sz="2800" spc="-1" strike="noStrike">
                <a:solidFill>
                  <a:srgbClr val="0080ff"/>
                </a:solidFill>
                <a:latin typeface="Matisse ITC"/>
              </a:rPr>
              <a:t> – </a:t>
            </a:r>
            <a:r>
              <a:rPr b="1" lang="ru-RU" sz="3200" spc="-1" strike="noStrike">
                <a:solidFill>
                  <a:srgbClr val="7030a0"/>
                </a:solidFill>
                <a:latin typeface="Matisse ITC"/>
              </a:rPr>
              <a:t>группа файлов, объединенных по некоторому принципу, имеющая и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5043600" y="3470400"/>
            <a:ext cx="3555720" cy="32104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Matisse ITC"/>
              </a:rPr>
              <a:t>Папка </a:t>
            </a:r>
            <a:r>
              <a:rPr b="1" lang="en-US" sz="2400" spc="-1" strike="noStrike">
                <a:solidFill>
                  <a:srgbClr val="ff0000"/>
                </a:solidFill>
                <a:latin typeface="Matisse ITC"/>
              </a:rPr>
              <a:t>Pic</a:t>
            </a:r>
            <a:r>
              <a:rPr b="1" lang="en-US" sz="2400" spc="-1" strike="noStrike">
                <a:solidFill>
                  <a:srgbClr val="0033cc"/>
                </a:solidFill>
                <a:latin typeface="Matisse ITC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Matisse ITC"/>
              </a:rPr>
              <a:t>хранит графические фай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Matisse ITC"/>
              </a:rPr>
              <a:t>Папка </a:t>
            </a:r>
            <a:r>
              <a:rPr b="1" lang="ru-RU" sz="2400" spc="-1" strike="noStrike">
                <a:solidFill>
                  <a:srgbClr val="ff0000"/>
                </a:solidFill>
                <a:latin typeface="Matisse ITC"/>
              </a:rPr>
              <a:t>Уроки</a:t>
            </a:r>
            <a:r>
              <a:rPr b="1" lang="ru-RU" sz="2400" spc="-1" strike="noStrike">
                <a:solidFill>
                  <a:srgbClr val="0033cc"/>
                </a:solidFill>
                <a:latin typeface="Matisse ITC"/>
              </a:rPr>
              <a:t> хранит в себе другие папки и файлы с информацией об уроках по клас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2" descr=""/>
          <p:cNvPicPr/>
          <p:nvPr/>
        </p:nvPicPr>
        <p:blipFill>
          <a:blip r:embed="rId1"/>
          <a:stretch/>
        </p:blipFill>
        <p:spPr>
          <a:xfrm>
            <a:off x="420840" y="4206960"/>
            <a:ext cx="1095120" cy="6094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436" name="Picture 13" descr=""/>
          <p:cNvPicPr/>
          <p:nvPr/>
        </p:nvPicPr>
        <p:blipFill>
          <a:blip r:embed="rId2"/>
          <a:stretch/>
        </p:blipFill>
        <p:spPr>
          <a:xfrm>
            <a:off x="976320" y="4619520"/>
            <a:ext cx="3595680" cy="154476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437" name="Picture 14" descr=""/>
          <p:cNvPicPr/>
          <p:nvPr/>
        </p:nvPicPr>
        <p:blipFill>
          <a:blip r:embed="rId3"/>
          <a:stretch/>
        </p:blipFill>
        <p:spPr>
          <a:xfrm>
            <a:off x="657360" y="2160720"/>
            <a:ext cx="714240" cy="49500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438" name="Picture 15" descr=""/>
          <p:cNvPicPr/>
          <p:nvPr/>
        </p:nvPicPr>
        <p:blipFill>
          <a:blip r:embed="rId4"/>
          <a:stretch/>
        </p:blipFill>
        <p:spPr>
          <a:xfrm>
            <a:off x="1182600" y="2468520"/>
            <a:ext cx="3549600" cy="15796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439" name="Picture 16" descr="кнопка назад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7" descr="кнопка вперед копия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154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0" descr="Выбор клипов мультимедиа"/>
          <p:cNvPicPr/>
          <p:nvPr/>
        </p:nvPicPr>
        <p:blipFill>
          <a:blip r:embed="rId7"/>
          <a:stretch/>
        </p:blipFill>
        <p:spPr>
          <a:xfrm>
            <a:off x="6977160" y="743040"/>
            <a:ext cx="1711080" cy="17110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442" name="AutoShape 21"/>
          <p:cNvSpPr/>
          <p:nvPr/>
        </p:nvSpPr>
        <p:spPr>
          <a:xfrm>
            <a:off x="3903840" y="6342120"/>
            <a:ext cx="1887480" cy="406440"/>
          </a:xfrm>
          <a:custGeom>
            <a:avLst/>
            <a:gdLst>
              <a:gd name="textAreaLeft" fmla="*/ 471960 w 1887480"/>
              <a:gd name="textAreaRight" fmla="*/ 1415880 w 1887480"/>
              <a:gd name="textAreaTop" fmla="*/ 50760 h 406440"/>
              <a:gd name="textAreaBottom" fmla="*/ 406800 h 40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2"/>
          <p:cNvSpPr/>
          <p:nvPr/>
        </p:nvSpPr>
        <p:spPr>
          <a:xfrm>
            <a:off x="4411800" y="6381720"/>
            <a:ext cx="8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9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Номер слайда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A0F8-2EFF-4DC3-A12B-910597198B1C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736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Candara"/>
              </a:rPr>
              <a:t>Система хранения файлов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446" name="Group 16"/>
          <p:cNvGrpSpPr/>
          <p:nvPr/>
        </p:nvGrpSpPr>
        <p:grpSpPr>
          <a:xfrm>
            <a:off x="901800" y="3524400"/>
            <a:ext cx="7327800" cy="2486880"/>
            <a:chOff x="901800" y="3524400"/>
            <a:chExt cx="7327800" cy="2486880"/>
          </a:xfrm>
        </p:grpSpPr>
        <p:sp>
          <p:nvSpPr>
            <p:cNvPr id="447" name="Text Box 4"/>
            <p:cNvSpPr/>
            <p:nvPr/>
          </p:nvSpPr>
          <p:spPr>
            <a:xfrm>
              <a:off x="901800" y="4019400"/>
              <a:ext cx="2728800" cy="459720"/>
            </a:xfrm>
            <a:prstGeom prst="rect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99"/>
                  </a:solidFill>
                  <a:latin typeface="Matisse ITC"/>
                </a:rPr>
                <a:t>Шка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5"/>
            <p:cNvSpPr/>
            <p:nvPr/>
          </p:nvSpPr>
          <p:spPr>
            <a:xfrm>
              <a:off x="901800" y="3524400"/>
              <a:ext cx="2728800" cy="489960"/>
            </a:xfrm>
            <a:prstGeom prst="rect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Matisse ITC"/>
                </a:rPr>
                <a:t>Библиоте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"/>
            <p:cNvSpPr/>
            <p:nvPr/>
          </p:nvSpPr>
          <p:spPr>
            <a:xfrm>
              <a:off x="901800" y="4538520"/>
              <a:ext cx="2728800" cy="459720"/>
            </a:xfrm>
            <a:prstGeom prst="rect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99"/>
                  </a:solidFill>
                  <a:latin typeface="Matisse ITC"/>
                </a:rPr>
                <a:t>Пол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7"/>
            <p:cNvSpPr/>
            <p:nvPr/>
          </p:nvSpPr>
          <p:spPr>
            <a:xfrm>
              <a:off x="901800" y="5059440"/>
              <a:ext cx="2728800" cy="459720"/>
            </a:xfrm>
            <a:prstGeom prst="rect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99"/>
                  </a:solidFill>
                  <a:latin typeface="Matisse ITC"/>
                </a:rPr>
                <a:t>Книг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8"/>
            <p:cNvSpPr/>
            <p:nvPr/>
          </p:nvSpPr>
          <p:spPr>
            <a:xfrm>
              <a:off x="901800" y="5551560"/>
              <a:ext cx="2728800" cy="459720"/>
            </a:xfrm>
            <a:prstGeom prst="rect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99"/>
                  </a:solidFill>
                  <a:latin typeface="Matisse ITC"/>
                </a:rPr>
                <a:t>Название 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9"/>
            <p:cNvSpPr/>
            <p:nvPr/>
          </p:nvSpPr>
          <p:spPr>
            <a:xfrm>
              <a:off x="5500800" y="3524400"/>
              <a:ext cx="2728800" cy="489960"/>
            </a:xfrm>
            <a:prstGeom prst="rect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Matisse ITC"/>
                </a:rPr>
                <a:t>Дис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10"/>
            <p:cNvSpPr/>
            <p:nvPr/>
          </p:nvSpPr>
          <p:spPr>
            <a:xfrm>
              <a:off x="5500800" y="4019400"/>
              <a:ext cx="2728800" cy="459720"/>
            </a:xfrm>
            <a:prstGeom prst="rect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99"/>
                  </a:solidFill>
                  <a:latin typeface="Matisse ITC"/>
                </a:rPr>
                <a:t>Пап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11"/>
            <p:cNvSpPr/>
            <p:nvPr/>
          </p:nvSpPr>
          <p:spPr>
            <a:xfrm>
              <a:off x="5500800" y="4538520"/>
              <a:ext cx="2728800" cy="825480"/>
            </a:xfrm>
            <a:prstGeom prst="rect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99"/>
                  </a:solidFill>
                  <a:latin typeface="Matisse ITC"/>
                </a:rPr>
                <a:t>Вложенная пап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12"/>
            <p:cNvSpPr/>
            <p:nvPr/>
          </p:nvSpPr>
          <p:spPr>
            <a:xfrm>
              <a:off x="5500800" y="5059440"/>
              <a:ext cx="2728800" cy="459720"/>
            </a:xfrm>
            <a:prstGeom prst="rect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99"/>
                  </a:solidFill>
                  <a:latin typeface="Matisse ITC"/>
                </a:rPr>
                <a:t>Фай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13"/>
            <p:cNvSpPr/>
            <p:nvPr/>
          </p:nvSpPr>
          <p:spPr>
            <a:xfrm>
              <a:off x="5500800" y="5551560"/>
              <a:ext cx="2728800" cy="459720"/>
            </a:xfrm>
            <a:prstGeom prst="rect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99"/>
                  </a:solidFill>
                  <a:latin typeface="Matisse ITC"/>
                </a:rPr>
                <a:t>Имя фай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Text Box 14"/>
          <p:cNvSpPr/>
          <p:nvPr/>
        </p:nvSpPr>
        <p:spPr>
          <a:xfrm>
            <a:off x="844560" y="1222200"/>
            <a:ext cx="74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напоминает хранение книг в библиоте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15" descr="cd1"/>
          <p:cNvPicPr/>
          <p:nvPr/>
        </p:nvPicPr>
        <p:blipFill>
          <a:blip r:embed="rId1"/>
          <a:stretch/>
        </p:blipFill>
        <p:spPr>
          <a:xfrm>
            <a:off x="5840280" y="2195640"/>
            <a:ext cx="1697040" cy="102852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59" name="Picture 20" descr="bibl1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847800" y="1989000"/>
            <a:ext cx="2062080" cy="1357560"/>
          </a:xfrm>
          <a:prstGeom prst="rect">
            <a:avLst/>
          </a:prstGeom>
          <a:ln w="9360">
            <a:solidFill>
              <a:srgbClr val="00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460" name="Group 30"/>
          <p:cNvGrpSpPr/>
          <p:nvPr/>
        </p:nvGrpSpPr>
        <p:grpSpPr>
          <a:xfrm>
            <a:off x="3807000" y="3803760"/>
            <a:ext cx="1566720" cy="2025720"/>
            <a:chOff x="3807000" y="3803760"/>
            <a:chExt cx="1566720" cy="2025720"/>
          </a:xfrm>
        </p:grpSpPr>
        <p:sp>
          <p:nvSpPr>
            <p:cNvPr id="461" name="Line 22"/>
            <p:cNvSpPr/>
            <p:nvPr/>
          </p:nvSpPr>
          <p:spPr>
            <a:xfrm>
              <a:off x="3807000" y="3803760"/>
              <a:ext cx="1566720" cy="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23"/>
            <p:cNvSpPr/>
            <p:nvPr/>
          </p:nvSpPr>
          <p:spPr>
            <a:xfrm>
              <a:off x="3807000" y="4265640"/>
              <a:ext cx="1566720" cy="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24"/>
            <p:cNvSpPr/>
            <p:nvPr/>
          </p:nvSpPr>
          <p:spPr>
            <a:xfrm>
              <a:off x="3807000" y="4743720"/>
              <a:ext cx="1566720" cy="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25"/>
            <p:cNvSpPr/>
            <p:nvPr/>
          </p:nvSpPr>
          <p:spPr>
            <a:xfrm>
              <a:off x="3807000" y="5264280"/>
              <a:ext cx="1566720" cy="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26"/>
            <p:cNvSpPr/>
            <p:nvPr/>
          </p:nvSpPr>
          <p:spPr>
            <a:xfrm>
              <a:off x="3807000" y="5829480"/>
              <a:ext cx="1566720" cy="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6" name="Picture 27" descr="кнопка 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8" descr="кнопка вперед копия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154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31"/>
          <p:cNvSpPr/>
          <p:nvPr/>
        </p:nvSpPr>
        <p:spPr>
          <a:xfrm>
            <a:off x="3952800" y="6278400"/>
            <a:ext cx="1887480" cy="363600"/>
          </a:xfrm>
          <a:custGeom>
            <a:avLst/>
            <a:gdLst>
              <a:gd name="textAreaLeft" fmla="*/ 471960 w 1887480"/>
              <a:gd name="textAreaRight" fmla="*/ 1415880 w 1887480"/>
              <a:gd name="textAreaTop" fmla="*/ 45360 h 363600"/>
              <a:gd name="textAreaBottom" fmla="*/ 363960 h 36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2"/>
          <p:cNvSpPr/>
          <p:nvPr/>
        </p:nvSpPr>
        <p:spPr>
          <a:xfrm>
            <a:off x="4473720" y="62895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9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Номер слайда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745B-A1E2-40CE-9C64-A70C6A6C3C55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7120" y="28224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Candara"/>
              </a:rPr>
              <a:t>Операции с файлами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473040" y="3513240"/>
            <a:ext cx="3035160" cy="94716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Matisse ITC"/>
              </a:rPr>
              <a:t>Реставрировать кни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220680" y="2232000"/>
            <a:ext cx="27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atisse ITC"/>
              </a:rPr>
              <a:t>Библиот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5353200" y="22017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atisse ITC"/>
              </a:rPr>
              <a:t>Файлов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1"/>
          <p:cNvSpPr/>
          <p:nvPr/>
        </p:nvSpPr>
        <p:spPr>
          <a:xfrm>
            <a:off x="5068800" y="3527280"/>
            <a:ext cx="3440160" cy="106884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Matisse ITC"/>
              </a:rPr>
              <a:t>Модифицировать фай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5"/>
          <p:cNvSpPr/>
          <p:nvPr/>
        </p:nvSpPr>
        <p:spPr>
          <a:xfrm>
            <a:off x="1119240" y="4311720"/>
            <a:ext cx="31716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Matisse ITC"/>
              </a:rPr>
              <a:t>Снять книгу с по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Matisse ITC"/>
              </a:rPr>
              <a:t>Заменить поврежденные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Matisse ITC"/>
              </a:rPr>
              <a:t>Поставить на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5514840" y="4280040"/>
            <a:ext cx="28432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Matisse ITC"/>
              </a:rPr>
              <a:t>Открыть фай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Matisse ITC"/>
              </a:rPr>
              <a:t>Внести в него из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Matisse ITC"/>
              </a:rPr>
              <a:t>Сохранить под тем же име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8"/>
          <p:cNvSpPr/>
          <p:nvPr/>
        </p:nvSpPr>
        <p:spPr>
          <a:xfrm>
            <a:off x="1027080" y="4365720"/>
            <a:ext cx="0" cy="1549440"/>
          </a:xfrm>
          <a:prstGeom prst="line">
            <a:avLst/>
          </a:prstGeom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9"/>
          <p:cNvSpPr/>
          <p:nvPr/>
        </p:nvSpPr>
        <p:spPr>
          <a:xfrm>
            <a:off x="5353200" y="4309920"/>
            <a:ext cx="0" cy="1605240"/>
          </a:xfrm>
          <a:prstGeom prst="line">
            <a:avLst/>
          </a:prstGeom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0"/>
          <p:cNvSpPr/>
          <p:nvPr/>
        </p:nvSpPr>
        <p:spPr>
          <a:xfrm>
            <a:off x="3508200" y="3768840"/>
            <a:ext cx="1567080" cy="0"/>
          </a:xfrm>
          <a:prstGeom prst="line">
            <a:avLst/>
          </a:prstGeom>
          <a:ln w="76320">
            <a:solidFill>
              <a:srgbClr val="99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1" descr="AMORGAN2"/>
          <p:cNvPicPr/>
          <p:nvPr/>
        </p:nvPicPr>
        <p:blipFill>
          <a:blip r:embed="rId1"/>
          <a:stretch/>
        </p:blipFill>
        <p:spPr>
          <a:xfrm flipH="1">
            <a:off x="3322800" y="1677960"/>
            <a:ext cx="1628640" cy="13701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2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3" descr="кнопка вперед копия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154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484" name="AutoShape 25"/>
          <p:cNvSpPr/>
          <p:nvPr/>
        </p:nvSpPr>
        <p:spPr>
          <a:xfrm>
            <a:off x="3664080" y="6267600"/>
            <a:ext cx="1887480" cy="392040"/>
          </a:xfrm>
          <a:custGeom>
            <a:avLst/>
            <a:gdLst>
              <a:gd name="textAreaLeft" fmla="*/ 471960 w 1887480"/>
              <a:gd name="textAreaRight" fmla="*/ 1415880 w 1887480"/>
              <a:gd name="textAreaTop" fmla="*/ 48960 h 392040"/>
              <a:gd name="textAreaBottom" fmla="*/ 392400 h 3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6"/>
          <p:cNvSpPr/>
          <p:nvPr/>
        </p:nvSpPr>
        <p:spPr>
          <a:xfrm>
            <a:off x="4137120" y="62928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9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Номер слайда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B84C-8EE6-4CE5-99A0-39B29F483139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7120" y="28224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andara"/>
              </a:rPr>
              <a:t>Операции с файлами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576360" y="2322360"/>
            <a:ext cx="2730240" cy="764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Matisse ITC"/>
              </a:rPr>
              <a:t>Изготовить копию кни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600120" y="143352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atisse ITC"/>
              </a:rPr>
              <a:t>Библиот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4954680" y="14349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atisse ITC"/>
              </a:rPr>
              <a:t>Файлов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5207040" y="2451240"/>
            <a:ext cx="3309840" cy="4291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Matisse ITC"/>
              </a:rPr>
              <a:t>Копировать фай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7"/>
          <p:cNvSpPr/>
          <p:nvPr/>
        </p:nvSpPr>
        <p:spPr>
          <a:xfrm>
            <a:off x="958680" y="3060720"/>
            <a:ext cx="28432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Matisse ITC"/>
              </a:rPr>
              <a:t>Сделать копию при помощи ксеро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Matisse ITC"/>
              </a:rPr>
              <a:t>Переплести 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Matisse ITC"/>
              </a:rPr>
              <a:t>Поставить в другой шкаф или на другую по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Matisse ITC"/>
              </a:rPr>
              <a:t>Результат – две одинаковые книги в библио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"/>
          <p:cNvSpPr/>
          <p:nvPr/>
        </p:nvSpPr>
        <p:spPr>
          <a:xfrm>
            <a:off x="5994360" y="3116160"/>
            <a:ext cx="2843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Matisse ITC"/>
              </a:rPr>
              <a:t>Выбрать фай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Matisse ITC"/>
              </a:rPr>
              <a:t>Скопировать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Matisse ITC"/>
              </a:rPr>
              <a:t>Сохранить в другой пап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Matisse ITC"/>
              </a:rPr>
              <a:t>Результат – два одинаковых фай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9"/>
          <p:cNvSpPr/>
          <p:nvPr/>
        </p:nvSpPr>
        <p:spPr>
          <a:xfrm>
            <a:off x="820800" y="3176640"/>
            <a:ext cx="0" cy="2933640"/>
          </a:xfrm>
          <a:prstGeom prst="line">
            <a:avLst/>
          </a:prstGeom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0"/>
          <p:cNvSpPr/>
          <p:nvPr/>
        </p:nvSpPr>
        <p:spPr>
          <a:xfrm>
            <a:off x="5803920" y="3105000"/>
            <a:ext cx="0" cy="2525760"/>
          </a:xfrm>
          <a:prstGeom prst="line">
            <a:avLst/>
          </a:prstGeom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1"/>
          <p:cNvSpPr/>
          <p:nvPr/>
        </p:nvSpPr>
        <p:spPr>
          <a:xfrm>
            <a:off x="3297240" y="2681280"/>
            <a:ext cx="1952640" cy="0"/>
          </a:xfrm>
          <a:prstGeom prst="line">
            <a:avLst/>
          </a:prstGeom>
          <a:ln w="76320">
            <a:solidFill>
              <a:srgbClr val="99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12" descr="BOOK"/>
          <p:cNvPicPr/>
          <p:nvPr/>
        </p:nvPicPr>
        <p:blipFill>
          <a:blip r:embed="rId1"/>
          <a:stretch/>
        </p:blipFill>
        <p:spPr>
          <a:xfrm>
            <a:off x="3860640" y="3720960"/>
            <a:ext cx="1621080" cy="9813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3" descr="BOOK"/>
          <p:cNvPicPr/>
          <p:nvPr/>
        </p:nvPicPr>
        <p:blipFill>
          <a:blip r:embed="rId2"/>
          <a:stretch/>
        </p:blipFill>
        <p:spPr>
          <a:xfrm>
            <a:off x="3946680" y="4299120"/>
            <a:ext cx="1620720" cy="981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4" descr="кнопка 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5" descr="кнопка вперед копия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154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24"/>
          <p:cNvSpPr/>
          <p:nvPr/>
        </p:nvSpPr>
        <p:spPr>
          <a:xfrm>
            <a:off x="3927600" y="6188040"/>
            <a:ext cx="1989000" cy="530280"/>
          </a:xfrm>
          <a:custGeom>
            <a:avLst/>
            <a:gdLst>
              <a:gd name="textAreaLeft" fmla="*/ 497160 w 1989000"/>
              <a:gd name="textAreaRight" fmla="*/ 1491840 w 1989000"/>
              <a:gd name="textAreaTop" fmla="*/ 66240 h 530280"/>
              <a:gd name="textAreaBottom" fmla="*/ 530640 h 53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4427640" y="62722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9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Номер слайда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A10E-1A4A-4C4E-B799-0B366CED947D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7120" y="28224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andara"/>
              </a:rPr>
              <a:t>Операции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ru-RU" sz="3800" spc="-1" strike="noStrike">
                <a:solidFill>
                  <a:srgbClr val="ffffff"/>
                </a:solidFill>
                <a:latin typeface="Candara"/>
              </a:rPr>
              <a:t>с файлами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331920" y="3672000"/>
            <a:ext cx="3475080" cy="764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Matisse ITC"/>
              </a:rPr>
              <a:t>Убрать книгу из библиоте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496800" y="1747800"/>
            <a:ext cx="27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atisse ITC"/>
              </a:rPr>
              <a:t>Библиот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5068800" y="173520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atisse ITC"/>
              </a:rPr>
              <a:t>Файлов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5380200" y="3867120"/>
            <a:ext cx="2701800" cy="4291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Matisse ITC"/>
              </a:rPr>
              <a:t>Удалить фай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345960" y="2473200"/>
            <a:ext cx="3416400" cy="109944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Matisse ITC"/>
              </a:rPr>
              <a:t>Переставить книгу из одного шкафа в друг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5324400" y="2635200"/>
            <a:ext cx="3373560" cy="109944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Matisse ITC"/>
              </a:rPr>
              <a:t>Переместить файл   из одной папки в другу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4"/>
          <p:cNvSpPr/>
          <p:nvPr/>
        </p:nvSpPr>
        <p:spPr>
          <a:xfrm>
            <a:off x="3784680" y="3041640"/>
            <a:ext cx="1566720" cy="0"/>
          </a:xfrm>
          <a:prstGeom prst="line">
            <a:avLst/>
          </a:prstGeom>
          <a:ln w="76320">
            <a:solidFill>
              <a:srgbClr val="99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5"/>
          <p:cNvSpPr/>
          <p:nvPr/>
        </p:nvSpPr>
        <p:spPr>
          <a:xfrm>
            <a:off x="3817800" y="4046400"/>
            <a:ext cx="1508400" cy="0"/>
          </a:xfrm>
          <a:prstGeom prst="line">
            <a:avLst/>
          </a:prstGeom>
          <a:ln w="76320">
            <a:solidFill>
              <a:srgbClr val="99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0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1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154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4" descr="is?XDnIo8uoZAhVHbhcQWSgH5xeddNpw94PK8PPBybDcnk"/>
          <p:cNvPicPr/>
          <p:nvPr/>
        </p:nvPicPr>
        <p:blipFill>
          <a:blip r:embed="rId3"/>
          <a:stretch/>
        </p:blipFill>
        <p:spPr>
          <a:xfrm>
            <a:off x="3840120" y="474012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30"/>
          <p:cNvSpPr/>
          <p:nvPr/>
        </p:nvSpPr>
        <p:spPr>
          <a:xfrm>
            <a:off x="3728880" y="6232680"/>
            <a:ext cx="1887840" cy="377640"/>
          </a:xfrm>
          <a:custGeom>
            <a:avLst/>
            <a:gdLst>
              <a:gd name="textAreaLeft" fmla="*/ 471960 w 1887840"/>
              <a:gd name="textAreaRight" fmla="*/ 1415880 w 1887840"/>
              <a:gd name="textAreaTop" fmla="*/ 47160 h 377640"/>
              <a:gd name="textAreaBottom" fmla="*/ 378000 h 37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1"/>
          <p:cNvSpPr/>
          <p:nvPr/>
        </p:nvSpPr>
        <p:spPr>
          <a:xfrm>
            <a:off x="4230720" y="625320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9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95120" y="1453680"/>
            <a:ext cx="53913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andara"/>
              </a:rPr>
              <a:t>Давать файлу </a:t>
            </a:r>
            <a:r>
              <a:rPr b="0" lang="ru-RU" sz="2400" spc="-1" strike="noStrike">
                <a:solidFill>
                  <a:srgbClr val="cc0000"/>
                </a:solidFill>
                <a:latin typeface="Candara"/>
              </a:rPr>
              <a:t>имя</a:t>
            </a:r>
            <a:r>
              <a:rPr b="0" lang="ru-RU" sz="2400" spc="-1" strike="noStrike">
                <a:solidFill>
                  <a:srgbClr val="003399"/>
                </a:solidFill>
                <a:latin typeface="Candara"/>
              </a:rPr>
              <a:t>, которое </a:t>
            </a:r>
            <a:r>
              <a:rPr b="0" lang="ru-RU" sz="2400" spc="-1" strike="noStrike">
                <a:solidFill>
                  <a:srgbClr val="cc0000"/>
                </a:solidFill>
                <a:latin typeface="Candara"/>
              </a:rPr>
              <a:t>не</a:t>
            </a:r>
            <a:r>
              <a:rPr b="0" lang="ru-RU" sz="2400" spc="-1" strike="noStrike">
                <a:solidFill>
                  <a:srgbClr val="003399"/>
                </a:solidFill>
                <a:latin typeface="Candara"/>
              </a:rPr>
              <a:t> поясняет его </a:t>
            </a:r>
            <a:r>
              <a:rPr b="0" lang="ru-RU" sz="2400" spc="-1" strike="noStrike">
                <a:solidFill>
                  <a:srgbClr val="cc0000"/>
                </a:solidFill>
                <a:latin typeface="Candara"/>
              </a:rPr>
              <a:t>содержа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andara"/>
              </a:rPr>
              <a:t>Сохранять </a:t>
            </a:r>
            <a:r>
              <a:rPr b="0" lang="ru-RU" sz="2400" spc="-1" strike="noStrike">
                <a:solidFill>
                  <a:srgbClr val="cc0000"/>
                </a:solidFill>
                <a:latin typeface="Candara"/>
              </a:rPr>
              <a:t>файл</a:t>
            </a:r>
            <a:r>
              <a:rPr b="0" lang="ru-RU" sz="2400" spc="-1" strike="noStrike">
                <a:solidFill>
                  <a:srgbClr val="003399"/>
                </a:solidFill>
                <a:latin typeface="Candara"/>
              </a:rPr>
              <a:t> в той </a:t>
            </a:r>
            <a:r>
              <a:rPr b="0" lang="ru-RU" sz="2400" spc="-1" strike="noStrike">
                <a:solidFill>
                  <a:srgbClr val="cc0000"/>
                </a:solidFill>
                <a:latin typeface="Candara"/>
              </a:rPr>
              <a:t>папке</a:t>
            </a:r>
            <a:r>
              <a:rPr b="0" lang="ru-RU" sz="2400" spc="-1" strike="noStrike">
                <a:solidFill>
                  <a:srgbClr val="003399"/>
                </a:solidFill>
                <a:latin typeface="Candara"/>
              </a:rPr>
              <a:t>, где его потом будет </a:t>
            </a:r>
            <a:r>
              <a:rPr b="0" lang="ru-RU" sz="2400" spc="-1" strike="noStrike">
                <a:solidFill>
                  <a:srgbClr val="cc0000"/>
                </a:solidFill>
                <a:latin typeface="Candara"/>
              </a:rPr>
              <a:t>трудно</a:t>
            </a:r>
            <a:r>
              <a:rPr b="0" lang="ru-RU" sz="2400" spc="-1" strike="noStrike">
                <a:solidFill>
                  <a:srgbClr val="003399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Candara"/>
              </a:rPr>
              <a:t>найт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andara"/>
              </a:rPr>
              <a:t>Удалять</a:t>
            </a:r>
            <a:r>
              <a:rPr b="0" lang="ru-RU" sz="2400" spc="-1" strike="noStrike">
                <a:solidFill>
                  <a:srgbClr val="003399"/>
                </a:solidFill>
                <a:latin typeface="Candara"/>
              </a:rPr>
              <a:t> файл, точно </a:t>
            </a:r>
            <a:r>
              <a:rPr b="0" lang="ru-RU" sz="2400" spc="-1" strike="noStrike">
                <a:solidFill>
                  <a:srgbClr val="cc0000"/>
                </a:solidFill>
                <a:latin typeface="Candara"/>
              </a:rPr>
              <a:t>не</a:t>
            </a:r>
            <a:r>
              <a:rPr b="0" lang="ru-RU" sz="2400" spc="-1" strike="noStrike">
                <a:solidFill>
                  <a:srgbClr val="003399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Candara"/>
              </a:rPr>
              <a:t>выяснив</a:t>
            </a:r>
            <a:r>
              <a:rPr b="0" lang="ru-RU" sz="2400" spc="-1" strike="noStrike">
                <a:solidFill>
                  <a:srgbClr val="003399"/>
                </a:solidFill>
                <a:latin typeface="Candara"/>
              </a:rPr>
              <a:t>, обязательно ли это следует дела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andara"/>
              </a:rPr>
              <a:t>Удалять</a:t>
            </a:r>
            <a:r>
              <a:rPr b="0" lang="ru-RU" sz="2400" spc="-1" strike="noStrike">
                <a:solidFill>
                  <a:srgbClr val="003399"/>
                </a:solidFill>
                <a:latin typeface="Candara"/>
              </a:rPr>
              <a:t> или </a:t>
            </a:r>
            <a:r>
              <a:rPr b="0" lang="ru-RU" sz="2400" spc="-1" strike="noStrike">
                <a:solidFill>
                  <a:srgbClr val="cc0000"/>
                </a:solidFill>
                <a:latin typeface="Candara"/>
              </a:rPr>
              <a:t>перемещать</a:t>
            </a:r>
            <a:r>
              <a:rPr b="0" lang="ru-RU" sz="2400" spc="-1" strike="noStrike">
                <a:solidFill>
                  <a:srgbClr val="003399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Candara"/>
              </a:rPr>
              <a:t>файлы</a:t>
            </a:r>
            <a:r>
              <a:rPr b="0" lang="ru-RU" sz="2400" spc="-1" strike="noStrike">
                <a:solidFill>
                  <a:srgbClr val="003399"/>
                </a:solidFill>
                <a:latin typeface="Candara"/>
              </a:rPr>
              <a:t>, находящиеся в </a:t>
            </a:r>
            <a:r>
              <a:rPr b="0" lang="ru-RU" sz="2400" spc="-1" strike="noStrike">
                <a:solidFill>
                  <a:srgbClr val="cc0000"/>
                </a:solidFill>
                <a:latin typeface="Candara"/>
              </a:rPr>
              <a:t>папках</a:t>
            </a:r>
            <a:r>
              <a:rPr b="0" lang="ru-RU" sz="2400" spc="-1" strike="noStrike">
                <a:solidFill>
                  <a:srgbClr val="003399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Candara"/>
              </a:rPr>
              <a:t>прикладных</a:t>
            </a:r>
            <a:r>
              <a:rPr b="0" lang="ru-RU" sz="2400" spc="-1" strike="noStrike">
                <a:solidFill>
                  <a:srgbClr val="003399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Candara"/>
              </a:rPr>
              <a:t>программ</a:t>
            </a:r>
            <a:r>
              <a:rPr b="0" lang="ru-RU" sz="2400" spc="-1" strike="noStrike">
                <a:solidFill>
                  <a:srgbClr val="003399"/>
                </a:solidFill>
                <a:latin typeface="Candara"/>
              </a:rPr>
              <a:t> – это может привести к тому, что программы перестанут работа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Номер слайда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DD3E-1175-45D9-A82D-1DFCB7271F8E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1"/>
          <a:stretch/>
        </p:blipFill>
        <p:spPr>
          <a:xfrm>
            <a:off x="6384960" y="1495440"/>
            <a:ext cx="846000" cy="1041480"/>
          </a:xfrm>
          <a:prstGeom prst="rect">
            <a:avLst/>
          </a:prstGeom>
          <a:ln w="28440">
            <a:solidFill>
              <a:srgbClr val="0080ff"/>
            </a:solidFill>
            <a:miter/>
          </a:ln>
        </p:spPr>
      </p:pic>
      <p:pic>
        <p:nvPicPr>
          <p:cNvPr id="521" name="Picture 5" descr=""/>
          <p:cNvPicPr/>
          <p:nvPr/>
        </p:nvPicPr>
        <p:blipFill>
          <a:blip r:embed="rId2"/>
          <a:stretch/>
        </p:blipFill>
        <p:spPr>
          <a:xfrm>
            <a:off x="5923080" y="3236760"/>
            <a:ext cx="2863800" cy="976320"/>
          </a:xfrm>
          <a:prstGeom prst="rect">
            <a:avLst/>
          </a:prstGeom>
          <a:ln w="28440">
            <a:solidFill>
              <a:srgbClr val="0080ff"/>
            </a:solidFill>
            <a:miter/>
          </a:ln>
        </p:spPr>
      </p:pic>
      <p:pic>
        <p:nvPicPr>
          <p:cNvPr id="522" name="Picture 6" descr=""/>
          <p:cNvPicPr/>
          <p:nvPr/>
        </p:nvPicPr>
        <p:blipFill>
          <a:blip r:embed="rId3"/>
          <a:stretch/>
        </p:blipFill>
        <p:spPr>
          <a:xfrm rot="339000">
            <a:off x="5810040" y="4521240"/>
            <a:ext cx="3001680" cy="1673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кнопка назад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кнопка вперед копия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154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525" name="AutoShape 11"/>
          <p:cNvSpPr/>
          <p:nvPr/>
        </p:nvSpPr>
        <p:spPr>
          <a:xfrm>
            <a:off x="457200" y="585720"/>
            <a:ext cx="743040" cy="785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4"/>
          <p:cNvSpPr/>
          <p:nvPr/>
        </p:nvSpPr>
        <p:spPr>
          <a:xfrm>
            <a:off x="1899360" y="746280"/>
            <a:ext cx="565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При работе с файлам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 следует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5"/>
          <p:cNvSpPr/>
          <p:nvPr/>
        </p:nvSpPr>
        <p:spPr>
          <a:xfrm>
            <a:off x="5815080" y="4500720"/>
            <a:ext cx="3000240" cy="1699920"/>
          </a:xfrm>
          <a:prstGeom prst="rect">
            <a:avLst/>
          </a:prstGeom>
          <a:noFill/>
          <a:ln w="2844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16"/>
          <p:cNvSpPr/>
          <p:nvPr/>
        </p:nvSpPr>
        <p:spPr>
          <a:xfrm>
            <a:off x="3687840" y="6297480"/>
            <a:ext cx="1887480" cy="378000"/>
          </a:xfrm>
          <a:custGeom>
            <a:avLst/>
            <a:gdLst>
              <a:gd name="textAreaLeft" fmla="*/ 471960 w 1887480"/>
              <a:gd name="textAreaRight" fmla="*/ 1415880 w 1887480"/>
              <a:gd name="textAreaTop" fmla="*/ 47160 h 378000"/>
              <a:gd name="textAreaBottom" fmla="*/ 378360 h 3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7"/>
          <p:cNvSpPr/>
          <p:nvPr/>
        </p:nvSpPr>
        <p:spPr>
          <a:xfrm>
            <a:off x="4175280" y="635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9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мьЯ</dc:creator>
  <dc:description/>
  <dc:language>en-US</dc:language>
  <cp:lastModifiedBy>СемьЯ</cp:lastModifiedBy>
  <dcterms:modified xsi:type="dcterms:W3CDTF">2019-01-12T19:01:40Z</dcterms:modified>
  <cp:revision>109</cp:revision>
  <dc:subject/>
  <dc:title>PowerPoint Presentation</dc:title>
</cp:coreProperties>
</file>