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4.jpeg" ContentType="image/jpeg"/>
  <Override PartName="/ppt/media/image1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  <p:custShowLst>
    <p:custShow name="Ввод текста" id="0">
      <p:sldLst>
        <p:sld r:id="rId16"/>
        <p:sld r:id="rId17"/>
        <p:sld r:id="rId18"/>
      </p:sldLst>
    </p:custShow>
    <p:custShow name="Редактирование" id="1">
      <p:sldLst>
        <p:sld r:id="rId19"/>
        <p:sld r:id="rId20"/>
        <p:sld r:id="rId21"/>
        <p:sld r:id="rId22"/>
        <p:sld r:id="rId23"/>
      </p:sldLst>
    </p:custShow>
    <p:custShow name="Форматирование" id="2">
      <p:sldLst>
        <p:sld r:id="rId24"/>
        <p:sld r:id="rId25"/>
        <p:sld r:id="rId26"/>
      </p:sldLst>
    </p:custShow>
    <p:custShow name="С засечками" id="3">
      <p:sldLst>
        <p:sld r:id="rId33"/>
      </p:sldLst>
    </p:custShow>
    <p:custShow name="Рубленые" id="4">
      <p:sldLst>
        <p:sld r:id="rId34"/>
      </p:sldLst>
    </p:custShow>
    <p:custShow name="Каллиграфические" id="5">
      <p:sldLst>
        <p:sld r:id="rId35"/>
      </p:sldLst>
    </p:custShow>
    <p:custShow name="Декоративные" id="6">
      <p:sldLst>
        <p:sld r:id="rId36"/>
      </p:sldLst>
    </p:custShow>
    <p:custShow name="Задание1" id="7">
      <p:sldLst>
        <p:sld r:id="rId30"/>
      </p:sldLst>
    </p:custShow>
    <p:custShow name="Задание2" id="8">
      <p:sldLst>
        <p:sld r:id="rId31"/>
      </p:sldLst>
    </p:custShow>
    <p:custShow name="Задание3" id="9">
      <p:sldLst>
        <p:sld r:id="rId32"/>
      </p:sldLst>
    </p:custShow>
    <p:custShow name="Шрифт" id="10">
      <p:sldLst>
        <p:sld r:id="rId25"/>
      </p:sldLst>
    </p:custShow>
    <p:custShow name="Начертание" id="11">
      <p:sldLst>
        <p:sld r:id="rId27"/>
      </p:sldLst>
    </p:custShow>
    <p:custShow name="Выравнивание" id="12">
      <p:sldLst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7EC4-4B79-4BE5-8EAB-51109F4B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AF9C-2756-40BC-8172-DD270AED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0AD-6B72-4612-85B4-5C5F4B70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570-5E52-4079-AC7C-A1EFC335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CA9-B4CC-4D06-BDBA-998C95C3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A96-B449-4487-AAC8-1CD20767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8C08-8304-47BC-B34B-7DBC2445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B11F-9773-471D-A9DF-DE0048D8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83AD-AFA3-42DF-9732-AEEEFDDC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5FCD-DDC0-4086-BD08-CDEC7C41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CEBF-0B3E-4A9C-97DC-0604BE5C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22DA-6B41-4A68-8EAF-5BD937D2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01AF-B356-4637-B5D2-B817FC3F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A3D-8543-43F4-BCC7-44FF7F2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BF4D-962D-48D0-B6B5-D4CD31FB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AF7C-E0B0-43B1-81AC-70DD36C6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B275-755A-4C64-8671-4480F516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8499-DC36-4280-A568-2DCCA0D9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CA6E-84B5-465F-8941-5D6E3C1D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5B8-0CA4-46F3-A531-90B589B8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597-5E5C-4867-8993-C1F2A2AB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0B8-A210-47E2-8501-A4986DEE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94D-035C-4AA7-93F1-628011A4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F4A-E3B5-46E0-83E0-C8A6E40C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969-FDE4-49F4-BDAB-071A2ECB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3E4-ACEC-4FF0-9404-C7BCDEE9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990E-D74B-466A-93D8-F26EEC6412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B229-18FF-41E9-94D5-FA32113046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D187-32E1-47BD-9EC0-D968A0989A0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9440" y="965160"/>
            <a:ext cx="7968960" cy="2131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ТЕКСТ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79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.Л. Босова, УМК по информатике для 5-7 класс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36680" y="2933640"/>
            <a:ext cx="840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Arial"/>
              </a:rPr>
              <a:t>ИСТОРИЯ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СОВРЕМЕННО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21F1-5A97-4E22-A1BA-D38D8374D42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КОМПЬЮТЕР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2120" y="1601640"/>
            <a:ext cx="82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лучший инструмент для подготовки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0" descr="ibm_pc3"/>
          <p:cNvPicPr/>
          <p:nvPr/>
        </p:nvPicPr>
        <p:blipFill>
          <a:blip r:embed="rId1"/>
          <a:stretch/>
        </p:blipFill>
        <p:spPr>
          <a:xfrm>
            <a:off x="2395440" y="2695680"/>
            <a:ext cx="4354560" cy="2182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сква, 2006 г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57B0-36AD-4693-9B81-436F69A9C6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АПЫ СОЗДАНИЯ ТЕКСТОВОГО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32" descr=""/>
          <p:cNvPicPr/>
          <p:nvPr/>
        </p:nvPicPr>
        <p:blipFill>
          <a:blip r:embed="rId1"/>
          <a:stretch/>
        </p:blipFill>
        <p:spPr>
          <a:xfrm>
            <a:off x="6492960" y="5845320"/>
            <a:ext cx="718920" cy="71892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26"/>
          <p:cNvGrpSpPr/>
          <p:nvPr/>
        </p:nvGrpSpPr>
        <p:grpSpPr>
          <a:xfrm>
            <a:off x="468360" y="1268280"/>
            <a:ext cx="6840360" cy="2670120"/>
            <a:chOff x="468360" y="1268280"/>
            <a:chExt cx="6840360" cy="2670120"/>
          </a:xfrm>
        </p:grpSpPr>
        <p:pic>
          <p:nvPicPr>
            <p:cNvPr id="224" name="Picture 23" descr="ввод"/>
            <p:cNvPicPr/>
            <p:nvPr/>
          </p:nvPicPr>
          <p:blipFill>
            <a:blip r:embed="rId2"/>
            <a:stretch/>
          </p:blipFill>
          <p:spPr>
            <a:xfrm>
              <a:off x="468360" y="1268280"/>
              <a:ext cx="684036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25"/>
            <p:cNvSpPr/>
            <p:nvPr/>
          </p:nvSpPr>
          <p:spPr>
            <a:xfrm>
              <a:off x="5292360" y="299520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ВВОД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6" name="Group 28"/>
          <p:cNvGrpSpPr/>
          <p:nvPr/>
        </p:nvGrpSpPr>
        <p:grpSpPr>
          <a:xfrm>
            <a:off x="468360" y="2117880"/>
            <a:ext cx="8351640" cy="2670120"/>
            <a:chOff x="468360" y="2117880"/>
            <a:chExt cx="8351640" cy="2670120"/>
          </a:xfrm>
        </p:grpSpPr>
        <p:pic>
          <p:nvPicPr>
            <p:cNvPr id="227" name="Picture 24" descr="редактирование"/>
            <p:cNvPicPr/>
            <p:nvPr/>
          </p:nvPicPr>
          <p:blipFill>
            <a:blip r:embed="rId3"/>
            <a:stretch/>
          </p:blipFill>
          <p:spPr>
            <a:xfrm>
              <a:off x="468360" y="2117880"/>
              <a:ext cx="511344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27"/>
            <p:cNvSpPr/>
            <p:nvPr/>
          </p:nvSpPr>
          <p:spPr>
            <a:xfrm>
              <a:off x="5580000" y="348624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РЕДАКТИРОВАН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Group 30"/>
          <p:cNvGrpSpPr/>
          <p:nvPr/>
        </p:nvGrpSpPr>
        <p:grpSpPr>
          <a:xfrm>
            <a:off x="539640" y="2492280"/>
            <a:ext cx="8425080" cy="2665440"/>
            <a:chOff x="539640" y="2492280"/>
            <a:chExt cx="8425080" cy="2665440"/>
          </a:xfrm>
        </p:grpSpPr>
        <p:pic>
          <p:nvPicPr>
            <p:cNvPr id="230" name="Picture 22" descr="форматирование"/>
            <p:cNvPicPr/>
            <p:nvPr/>
          </p:nvPicPr>
          <p:blipFill>
            <a:blip r:embed="rId4"/>
            <a:stretch/>
          </p:blipFill>
          <p:spPr>
            <a:xfrm>
              <a:off x="539640" y="2492280"/>
              <a:ext cx="518472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29"/>
            <p:cNvSpPr/>
            <p:nvPr/>
          </p:nvSpPr>
          <p:spPr>
            <a:xfrm>
              <a:off x="5580000" y="4005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ФОРМАТИРОВАНИЕ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0.12026 L -0.16927 -0.04764 E">
                                      <p:cBhvr>
                                        <p:cTn id="23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31 -3.39203E-006 L 0 -3.39203E-006 E">
                                      <p:cBhvr>
                                        <p:cTn id="45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8903 L 0.16944 0.12072 E">
                                      <p:cBhvr>
                                        <p:cTn id="67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22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77BB-E6D6-43DC-B7D4-94C37EE6B9E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ВОД ТЕК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13" descr=""/>
          <p:cNvPicPr/>
          <p:nvPr/>
        </p:nvPicPr>
        <p:blipFill>
          <a:blip r:embed="rId1"/>
          <a:stretch/>
        </p:blipFill>
        <p:spPr>
          <a:xfrm>
            <a:off x="1104840" y="1608120"/>
            <a:ext cx="6935760" cy="4229280"/>
          </a:xfrm>
          <a:prstGeom prst="rect">
            <a:avLst/>
          </a:prstGeom>
          <a:ln w="38160">
            <a:solidFill>
              <a:srgbClr val="00b200"/>
            </a:solidFill>
            <a:miter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10DF-F9EA-41E1-B8A8-D8A860F662C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5880" y="483840"/>
            <a:ext cx="648972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АВИЛА ВВОДА ТЕК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000" y="1341000"/>
            <a:ext cx="8764560" cy="96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Group 20"/>
          <p:cNvGrpSpPr/>
          <p:nvPr/>
        </p:nvGrpSpPr>
        <p:grpSpPr>
          <a:xfrm>
            <a:off x="758880" y="1201680"/>
            <a:ext cx="7656480" cy="1093680"/>
            <a:chOff x="758880" y="1201680"/>
            <a:chExt cx="7656480" cy="1093680"/>
          </a:xfrm>
        </p:grpSpPr>
        <p:sp>
          <p:nvSpPr>
            <p:cNvPr id="239" name="Text Box 9"/>
            <p:cNvSpPr/>
            <p:nvPr/>
          </p:nvSpPr>
          <p:spPr>
            <a:xfrm>
              <a:off x="758880" y="1279440"/>
              <a:ext cx="7656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вод прописной буквы 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–</a:t>
              </a: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                      + 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&lt;</a:t>
              </a: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буква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&gt;</a:t>
              </a: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9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5041800" y="1201680"/>
              <a:ext cx="1362240" cy="541440"/>
            </a:xfrm>
            <a:prstGeom prst="beve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Shif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1" name="Group 21"/>
          <p:cNvGrpSpPr/>
          <p:nvPr/>
        </p:nvGrpSpPr>
        <p:grpSpPr>
          <a:xfrm>
            <a:off x="728640" y="1859040"/>
            <a:ext cx="8151840" cy="1702440"/>
            <a:chOff x="728640" y="1859040"/>
            <a:chExt cx="8151840" cy="1702440"/>
          </a:xfrm>
        </p:grpSpPr>
        <p:sp>
          <p:nvSpPr>
            <p:cNvPr id="242" name="Text Box 12"/>
            <p:cNvSpPr/>
            <p:nvPr/>
          </p:nvSpPr>
          <p:spPr>
            <a:xfrm>
              <a:off x="728640" y="1859040"/>
              <a:ext cx="815184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2. Все знаки препинания, кроме тире, ставятся </a:t>
              </a:r>
              <a:br>
                <a:rPr sz="2400"/>
              </a:b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сразу же за последней буквой слова. После любого знака препинания нажимается                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15"/>
            <p:cNvSpPr/>
            <p:nvPr/>
          </p:nvSpPr>
          <p:spPr>
            <a:xfrm>
              <a:off x="5292720" y="2697120"/>
              <a:ext cx="3406680" cy="541440"/>
            </a:xfrm>
            <a:prstGeom prst="beve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Пробел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2"/>
          <p:cNvGrpSpPr/>
          <p:nvPr/>
        </p:nvGrpSpPr>
        <p:grpSpPr>
          <a:xfrm>
            <a:off x="790560" y="3240000"/>
            <a:ext cx="8013600" cy="1425600"/>
            <a:chOff x="790560" y="3240000"/>
            <a:chExt cx="8013600" cy="1425600"/>
          </a:xfrm>
        </p:grpSpPr>
        <p:sp>
          <p:nvSpPr>
            <p:cNvPr id="245" name="Text Box 14"/>
            <p:cNvSpPr/>
            <p:nvPr/>
          </p:nvSpPr>
          <p:spPr>
            <a:xfrm>
              <a:off x="790560" y="3240000"/>
              <a:ext cx="801360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3. Ошибочный символ, расположенный </a:t>
              </a:r>
              <a:br>
                <a:rPr sz="2400"/>
              </a:b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справа от курсора, удаляется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клавишей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                 ,</a:t>
              </a: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лева – </a:t>
              </a:r>
              <a:r>
                <a:rPr b="0" lang="en-US" sz="2400" spc="-1" strike="noStrike">
                  <a:solidFill>
                    <a:srgbClr val="000099"/>
                  </a:solidFill>
                  <a:latin typeface="Arial"/>
                </a:rPr>
                <a:t>                       </a:t>
              </a: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  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16"/>
            <p:cNvSpPr/>
            <p:nvPr/>
          </p:nvSpPr>
          <p:spPr>
            <a:xfrm>
              <a:off x="6659640" y="3649680"/>
              <a:ext cx="1361880" cy="541440"/>
            </a:xfrm>
            <a:prstGeom prst="beve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Dele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AutoShape 17"/>
            <p:cNvSpPr/>
            <p:nvPr/>
          </p:nvSpPr>
          <p:spPr>
            <a:xfrm>
              <a:off x="2076480" y="4092480"/>
              <a:ext cx="2055960" cy="573120"/>
            </a:xfrm>
            <a:prstGeom prst="beve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Backspac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8" name="Group 23"/>
          <p:cNvGrpSpPr/>
          <p:nvPr/>
        </p:nvGrpSpPr>
        <p:grpSpPr>
          <a:xfrm>
            <a:off x="836640" y="4629240"/>
            <a:ext cx="7904160" cy="1385640"/>
            <a:chOff x="836640" y="4629240"/>
            <a:chExt cx="7904160" cy="1385640"/>
          </a:xfrm>
        </p:grpSpPr>
        <p:sp>
          <p:nvSpPr>
            <p:cNvPr id="249" name="Text Box 18"/>
            <p:cNvSpPr/>
            <p:nvPr/>
          </p:nvSpPr>
          <p:spPr>
            <a:xfrm>
              <a:off x="836640" y="4629240"/>
              <a:ext cx="790416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4. Переход на новую строку происходит автоматически. Для перехода к новому абзацу нажимается                 . 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19"/>
            <p:cNvSpPr/>
            <p:nvPr/>
          </p:nvSpPr>
          <p:spPr>
            <a:xfrm>
              <a:off x="2725560" y="5473800"/>
              <a:ext cx="1362240" cy="541080"/>
            </a:xfrm>
            <a:prstGeom prst="beve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Enter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26C9-2578-44AA-9DBA-F838BE1F06E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КОМБИНАЦИИ КЛАВИ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347840" y="2306520"/>
            <a:ext cx="3041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1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– !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2 –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3 – 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4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5 – %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4718160" y="2314440"/>
            <a:ext cx="342252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6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– :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 – *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{Shift}+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7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1F05-C11E-428E-8ABF-F54A76ECE2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25240" y="369720"/>
            <a:ext cx="7476840" cy="7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ЕДАКТИРОВАНИЕ ТЕК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51120" y="1285920"/>
            <a:ext cx="708012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 редактировании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кст просматривают, чтобы убедиться, что все правильно;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справляют обнаруженные ошибки и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носят необходимые измен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Group 34"/>
          <p:cNvGrpSpPr/>
          <p:nvPr/>
        </p:nvGrpSpPr>
        <p:grpSpPr>
          <a:xfrm>
            <a:off x="1100160" y="3274920"/>
            <a:ext cx="6959520" cy="2311560"/>
            <a:chOff x="1100160" y="3274920"/>
            <a:chExt cx="6959520" cy="2311560"/>
          </a:xfrm>
        </p:grpSpPr>
        <p:grpSp>
          <p:nvGrpSpPr>
            <p:cNvPr id="259" name="Group 30"/>
            <p:cNvGrpSpPr/>
            <p:nvPr/>
          </p:nvGrpSpPr>
          <p:grpSpPr>
            <a:xfrm>
              <a:off x="3649680" y="3718080"/>
              <a:ext cx="1936440" cy="1113840"/>
              <a:chOff x="3649680" y="3718080"/>
              <a:chExt cx="1936440" cy="1113840"/>
            </a:xfrm>
          </p:grpSpPr>
          <p:sp>
            <p:nvSpPr>
              <p:cNvPr id="260" name="AutoShape 18"/>
              <p:cNvSpPr/>
              <p:nvPr/>
            </p:nvSpPr>
            <p:spPr>
              <a:xfrm>
                <a:off x="4332240" y="3718080"/>
                <a:ext cx="558720" cy="556920"/>
              </a:xfrm>
              <a:prstGeom prst="bevel">
                <a:avLst>
                  <a:gd name="adj" fmla="val 12500"/>
                </a:avLst>
              </a:prstGeom>
              <a:solidFill>
                <a:srgbClr val="ffcc99"/>
              </a:solidFill>
              <a:ln w="9360">
                <a:solidFill>
                  <a:srgbClr val="00b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Text Box 21"/>
              <p:cNvSpPr/>
              <p:nvPr/>
            </p:nvSpPr>
            <p:spPr>
              <a:xfrm>
                <a:off x="4455720" y="3774960"/>
                <a:ext cx="30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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AutoShape 24"/>
              <p:cNvSpPr/>
              <p:nvPr/>
            </p:nvSpPr>
            <p:spPr>
              <a:xfrm>
                <a:off x="3649680" y="4306680"/>
                <a:ext cx="573120" cy="510840"/>
              </a:xfrm>
              <a:prstGeom prst="bevel">
                <a:avLst>
                  <a:gd name="adj" fmla="val 12500"/>
                </a:avLst>
              </a:prstGeom>
              <a:solidFill>
                <a:srgbClr val="ffcc99"/>
              </a:solidFill>
              <a:ln w="9360">
                <a:solidFill>
                  <a:srgbClr val="00b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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AutoShape 25"/>
              <p:cNvSpPr/>
              <p:nvPr/>
            </p:nvSpPr>
            <p:spPr>
              <a:xfrm>
                <a:off x="4330440" y="4321080"/>
                <a:ext cx="573120" cy="510840"/>
              </a:xfrm>
              <a:prstGeom prst="bevel">
                <a:avLst>
                  <a:gd name="adj" fmla="val 12500"/>
                </a:avLst>
              </a:prstGeom>
              <a:solidFill>
                <a:srgbClr val="ffcc99"/>
              </a:solidFill>
              <a:ln w="9360">
                <a:solidFill>
                  <a:srgbClr val="00b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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AutoShape 26"/>
              <p:cNvSpPr/>
              <p:nvPr/>
            </p:nvSpPr>
            <p:spPr>
              <a:xfrm>
                <a:off x="5013360" y="4305240"/>
                <a:ext cx="572760" cy="510840"/>
              </a:xfrm>
              <a:prstGeom prst="bevel">
                <a:avLst>
                  <a:gd name="adj" fmla="val 12500"/>
                </a:avLst>
              </a:prstGeom>
              <a:solidFill>
                <a:srgbClr val="ffcc99"/>
              </a:solidFill>
              <a:ln w="9360">
                <a:solidFill>
                  <a:srgbClr val="00b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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5" name="Text Box 31"/>
            <p:cNvSpPr/>
            <p:nvPr/>
          </p:nvSpPr>
          <p:spPr>
            <a:xfrm>
              <a:off x="2673360" y="3274920"/>
              <a:ext cx="38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Matisse ITC"/>
                </a:rPr>
                <a:t>С помощью стрелок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2"/>
            <p:cNvSpPr/>
            <p:nvPr/>
          </p:nvSpPr>
          <p:spPr>
            <a:xfrm>
              <a:off x="1100160" y="4761000"/>
              <a:ext cx="695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Matisse ITC"/>
                </a:rPr>
                <a:t>курсор можно перемещать по всему экрану.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7" name="Text Box 33"/>
          <p:cNvSpPr/>
          <p:nvPr/>
        </p:nvSpPr>
        <p:spPr>
          <a:xfrm>
            <a:off x="419040" y="5330880"/>
            <a:ext cx="821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Для перемещения по всему документу предназначены </a:t>
            </a:r>
            <a:r>
              <a:rPr b="1" lang="ru-RU" sz="2400" spc="-1" strike="noStrike">
                <a:solidFill>
                  <a:srgbClr val="703dff"/>
                </a:solidFill>
                <a:latin typeface="Matisse ITC"/>
              </a:rPr>
              <a:t>специальные комбинации клавиш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" name="Group 78"/>
          <p:cNvGrpSpPr/>
          <p:nvPr/>
        </p:nvGrpSpPr>
        <p:grpSpPr>
          <a:xfrm>
            <a:off x="7021440" y="2190600"/>
            <a:ext cx="1452240" cy="1238040"/>
            <a:chOff x="7021440" y="2190600"/>
            <a:chExt cx="1452240" cy="1238040"/>
          </a:xfrm>
        </p:grpSpPr>
        <p:sp>
          <p:nvSpPr>
            <p:cNvPr id="269" name="Freeform 37"/>
            <p:cNvSpPr/>
            <p:nvPr/>
          </p:nvSpPr>
          <p:spPr>
            <a:xfrm>
              <a:off x="7808040" y="2612520"/>
              <a:ext cx="469440" cy="17640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8"/>
            <p:cNvSpPr/>
            <p:nvPr/>
          </p:nvSpPr>
          <p:spPr>
            <a:xfrm>
              <a:off x="7791120" y="2671920"/>
              <a:ext cx="469440" cy="17640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39"/>
            <p:cNvSpPr/>
            <p:nvPr/>
          </p:nvSpPr>
          <p:spPr>
            <a:xfrm>
              <a:off x="7927560" y="2190600"/>
              <a:ext cx="466920" cy="169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Freeform 40"/>
            <p:cNvSpPr/>
            <p:nvPr/>
          </p:nvSpPr>
          <p:spPr>
            <a:xfrm>
              <a:off x="7913160" y="2243520"/>
              <a:ext cx="466920" cy="169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Freeform 41"/>
            <p:cNvSpPr/>
            <p:nvPr/>
          </p:nvSpPr>
          <p:spPr>
            <a:xfrm>
              <a:off x="7898400" y="2296440"/>
              <a:ext cx="465840" cy="169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Freeform 42"/>
            <p:cNvSpPr/>
            <p:nvPr/>
          </p:nvSpPr>
          <p:spPr>
            <a:xfrm>
              <a:off x="7883640" y="2349360"/>
              <a:ext cx="466920" cy="16992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Freeform 43"/>
            <p:cNvSpPr/>
            <p:nvPr/>
          </p:nvSpPr>
          <p:spPr>
            <a:xfrm>
              <a:off x="7867800" y="2403720"/>
              <a:ext cx="467280" cy="169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44"/>
            <p:cNvSpPr/>
            <p:nvPr/>
          </p:nvSpPr>
          <p:spPr>
            <a:xfrm>
              <a:off x="7853040" y="2456640"/>
              <a:ext cx="466920" cy="169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45"/>
            <p:cNvSpPr/>
            <p:nvPr/>
          </p:nvSpPr>
          <p:spPr>
            <a:xfrm>
              <a:off x="7838280" y="2509920"/>
              <a:ext cx="467280" cy="169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Freeform 46"/>
            <p:cNvSpPr/>
            <p:nvPr/>
          </p:nvSpPr>
          <p:spPr>
            <a:xfrm>
              <a:off x="7823880" y="2562840"/>
              <a:ext cx="467280" cy="169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Freeform 47"/>
            <p:cNvSpPr/>
            <p:nvPr/>
          </p:nvSpPr>
          <p:spPr>
            <a:xfrm>
              <a:off x="7340760" y="2446920"/>
              <a:ext cx="1132920" cy="713160"/>
            </a:xfrm>
            <a:prstGeom prst="pie">
              <a:avLst/>
            </a:prstGeom>
            <a:solidFill>
              <a:srgbClr val="fcc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Freeform 48"/>
            <p:cNvSpPr/>
            <p:nvPr/>
          </p:nvSpPr>
          <p:spPr>
            <a:xfrm>
              <a:off x="7340760" y="2438280"/>
              <a:ext cx="945720" cy="644040"/>
            </a:xfrm>
            <a:prstGeom prst="pie">
              <a:avLst/>
            </a:prstGeom>
            <a:solidFill>
              <a:srgbClr val="ff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Freeform 49"/>
            <p:cNvSpPr/>
            <p:nvPr/>
          </p:nvSpPr>
          <p:spPr>
            <a:xfrm>
              <a:off x="7900560" y="2946960"/>
              <a:ext cx="569880" cy="226080"/>
            </a:xfrm>
            <a:prstGeom prst="pie">
              <a:avLst/>
            </a:prstGeom>
            <a:solidFill>
              <a:srgbClr val="355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Freeform 50"/>
            <p:cNvSpPr/>
            <p:nvPr/>
          </p:nvSpPr>
          <p:spPr>
            <a:xfrm>
              <a:off x="8290080" y="2970000"/>
              <a:ext cx="138960" cy="131040"/>
            </a:xfrm>
            <a:prstGeom prst="pie">
              <a:avLst/>
            </a:prstGeom>
            <a:solidFill>
              <a:srgbClr val="355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Freeform 51"/>
            <p:cNvSpPr/>
            <p:nvPr/>
          </p:nvSpPr>
          <p:spPr>
            <a:xfrm>
              <a:off x="7340760" y="2446920"/>
              <a:ext cx="675000" cy="542160"/>
            </a:xfrm>
            <a:prstGeom prst="pie">
              <a:avLst/>
            </a:prstGeom>
            <a:solidFill>
              <a:srgbClr val="355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Freeform 52"/>
            <p:cNvSpPr/>
            <p:nvPr/>
          </p:nvSpPr>
          <p:spPr>
            <a:xfrm>
              <a:off x="7600320" y="2666520"/>
              <a:ext cx="194040" cy="483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Freeform 53"/>
            <p:cNvSpPr/>
            <p:nvPr/>
          </p:nvSpPr>
          <p:spPr>
            <a:xfrm>
              <a:off x="7623000" y="2658960"/>
              <a:ext cx="194040" cy="483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Freeform 54"/>
            <p:cNvSpPr/>
            <p:nvPr/>
          </p:nvSpPr>
          <p:spPr>
            <a:xfrm>
              <a:off x="7645320" y="2651760"/>
              <a:ext cx="195120" cy="48240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Freeform 55"/>
            <p:cNvSpPr/>
            <p:nvPr/>
          </p:nvSpPr>
          <p:spPr>
            <a:xfrm>
              <a:off x="7669080" y="2644200"/>
              <a:ext cx="193680" cy="483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Freeform 56"/>
            <p:cNvSpPr/>
            <p:nvPr/>
          </p:nvSpPr>
          <p:spPr>
            <a:xfrm>
              <a:off x="7691760" y="2636640"/>
              <a:ext cx="195120" cy="483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Freeform 57"/>
            <p:cNvSpPr/>
            <p:nvPr/>
          </p:nvSpPr>
          <p:spPr>
            <a:xfrm>
              <a:off x="7715520" y="2628000"/>
              <a:ext cx="193680" cy="483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Freeform 58"/>
            <p:cNvSpPr/>
            <p:nvPr/>
          </p:nvSpPr>
          <p:spPr>
            <a:xfrm>
              <a:off x="7738920" y="2620440"/>
              <a:ext cx="194040" cy="483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Freeform 59"/>
            <p:cNvSpPr/>
            <p:nvPr/>
          </p:nvSpPr>
          <p:spPr>
            <a:xfrm>
              <a:off x="7761960" y="2612520"/>
              <a:ext cx="193680" cy="483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Freeform 60"/>
            <p:cNvSpPr/>
            <p:nvPr/>
          </p:nvSpPr>
          <p:spPr>
            <a:xfrm>
              <a:off x="7387920" y="2734920"/>
              <a:ext cx="197280" cy="48492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Freeform 61"/>
            <p:cNvSpPr/>
            <p:nvPr/>
          </p:nvSpPr>
          <p:spPr>
            <a:xfrm>
              <a:off x="7415280" y="2726280"/>
              <a:ext cx="198360" cy="484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Freeform 62"/>
            <p:cNvSpPr/>
            <p:nvPr/>
          </p:nvSpPr>
          <p:spPr>
            <a:xfrm>
              <a:off x="7442280" y="2717640"/>
              <a:ext cx="197280" cy="484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63"/>
            <p:cNvSpPr/>
            <p:nvPr/>
          </p:nvSpPr>
          <p:spPr>
            <a:xfrm>
              <a:off x="7469640" y="2709000"/>
              <a:ext cx="197280" cy="48492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64"/>
            <p:cNvSpPr/>
            <p:nvPr/>
          </p:nvSpPr>
          <p:spPr>
            <a:xfrm>
              <a:off x="7495200" y="2700360"/>
              <a:ext cx="198360" cy="48492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Freeform 65"/>
            <p:cNvSpPr/>
            <p:nvPr/>
          </p:nvSpPr>
          <p:spPr>
            <a:xfrm>
              <a:off x="7523640" y="2690640"/>
              <a:ext cx="197280" cy="48492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66"/>
            <p:cNvSpPr/>
            <p:nvPr/>
          </p:nvSpPr>
          <p:spPr>
            <a:xfrm>
              <a:off x="7549560" y="2682000"/>
              <a:ext cx="198360" cy="48492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Freeform 67"/>
            <p:cNvSpPr/>
            <p:nvPr/>
          </p:nvSpPr>
          <p:spPr>
            <a:xfrm>
              <a:off x="7576560" y="2673360"/>
              <a:ext cx="198720" cy="484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Freeform 68"/>
            <p:cNvSpPr/>
            <p:nvPr/>
          </p:nvSpPr>
          <p:spPr>
            <a:xfrm>
              <a:off x="7021440" y="2804040"/>
              <a:ext cx="356400" cy="53712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Freeform 69"/>
            <p:cNvSpPr/>
            <p:nvPr/>
          </p:nvSpPr>
          <p:spPr>
            <a:xfrm>
              <a:off x="7207200" y="2742480"/>
              <a:ext cx="355680" cy="53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Freeform 70"/>
            <p:cNvSpPr/>
            <p:nvPr/>
          </p:nvSpPr>
          <p:spPr>
            <a:xfrm>
              <a:off x="7643160" y="2207880"/>
              <a:ext cx="430920" cy="1218600"/>
            </a:xfrm>
            <a:prstGeom prst="pie">
              <a:avLst/>
            </a:prstGeom>
            <a:solidFill>
              <a:srgbClr val="fcc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Freeform 71"/>
            <p:cNvSpPr/>
            <p:nvPr/>
          </p:nvSpPr>
          <p:spPr>
            <a:xfrm>
              <a:off x="7867800" y="2853000"/>
              <a:ext cx="206280" cy="575640"/>
            </a:xfrm>
            <a:prstGeom prst="pie">
              <a:avLst/>
            </a:prstGeom>
            <a:solidFill>
              <a:srgbClr val="355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Freeform 72"/>
            <p:cNvSpPr/>
            <p:nvPr/>
          </p:nvSpPr>
          <p:spPr>
            <a:xfrm>
              <a:off x="7886880" y="3247200"/>
              <a:ext cx="143280" cy="113400"/>
            </a:xfrm>
            <a:prstGeom prst="pie">
              <a:avLst/>
            </a:prstGeom>
            <a:solidFill>
              <a:srgbClr val="355b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73"/>
            <p:cNvSpPr/>
            <p:nvPr/>
          </p:nvSpPr>
          <p:spPr>
            <a:xfrm>
              <a:off x="7838280" y="2771640"/>
              <a:ext cx="63000" cy="1796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Freeform 74"/>
            <p:cNvSpPr/>
            <p:nvPr/>
          </p:nvSpPr>
          <p:spPr>
            <a:xfrm>
              <a:off x="7662600" y="2234880"/>
              <a:ext cx="255960" cy="584280"/>
            </a:xfrm>
            <a:prstGeom prst="pie">
              <a:avLst/>
            </a:prstGeom>
            <a:solidFill>
              <a:srgbClr val="ff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Freeform 75"/>
            <p:cNvSpPr/>
            <p:nvPr/>
          </p:nvSpPr>
          <p:spPr>
            <a:xfrm>
              <a:off x="7908480" y="2864880"/>
              <a:ext cx="69840" cy="669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Freeform 76"/>
            <p:cNvSpPr/>
            <p:nvPr/>
          </p:nvSpPr>
          <p:spPr>
            <a:xfrm>
              <a:off x="7905240" y="2861640"/>
              <a:ext cx="64080" cy="6156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Freeform 77"/>
            <p:cNvSpPr/>
            <p:nvPr/>
          </p:nvSpPr>
          <p:spPr>
            <a:xfrm>
              <a:off x="7924320" y="2875680"/>
              <a:ext cx="37080" cy="442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8F11-97FF-4978-81EA-7B1D00262BB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4480" y="347400"/>
            <a:ext cx="6811920" cy="107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ЛАВИШИ БЫСТРОГО ПЕРЕМЕЩЕНИЯ ПО ТЕКСТ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684360" y="2030400"/>
            <a:ext cx="314928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Home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En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Ctrl} +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Ctrl} +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age Up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age Down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Ctrl} + {Page Up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Ctrl} + {Page Down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Ctrl} + {Home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Ctrl} + {En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827520" y="2030400"/>
            <a:ext cx="501012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в начало строки</a:t>
            </a: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в конец стро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на слово впра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на слово вле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на экранную страницу ввер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на экранную страницу вни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на страницу ввер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на страницу вни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в начало текс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tisse ITC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в конец текс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0454-82E6-4541-BDE2-EF3C3C6DABF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07760" y="330120"/>
            <a:ext cx="6823080" cy="13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39840" y="1765080"/>
            <a:ext cx="8418240" cy="140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кстовые редакторы позволяют автоматическ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аходить в тексте заданное слово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менять во всем тексте одно слово други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Picture 8" descr="поиск слова1"/>
          <p:cNvPicPr/>
          <p:nvPr/>
        </p:nvPicPr>
        <p:blipFill>
          <a:blip r:embed="rId1"/>
          <a:stretch/>
        </p:blipFill>
        <p:spPr>
          <a:xfrm>
            <a:off x="4875120" y="3230640"/>
            <a:ext cx="3573720" cy="2590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поиск слова"/>
          <p:cNvPicPr/>
          <p:nvPr/>
        </p:nvPicPr>
        <p:blipFill>
          <a:blip r:embed="rId2"/>
          <a:stretch/>
        </p:blipFill>
        <p:spPr>
          <a:xfrm>
            <a:off x="703440" y="3224160"/>
            <a:ext cx="4033800" cy="2616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DC49-3751-46E1-9913-714B3E8A0F3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1640" y="163440"/>
            <a:ext cx="6780240" cy="13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РЕДАКТИРОВАНИЕ ТЕК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6800" y="1925640"/>
            <a:ext cx="72151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кстовым редакторам можно поручить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бнаружение и исправление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рфографических ошиб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2" name="Picture 8" descr="правописание"/>
          <p:cNvPicPr/>
          <p:nvPr/>
        </p:nvPicPr>
        <p:blipFill>
          <a:blip r:embed="rId1"/>
          <a:stretch/>
        </p:blipFill>
        <p:spPr>
          <a:xfrm>
            <a:off x="658800" y="3325680"/>
            <a:ext cx="7807320" cy="2028960"/>
          </a:xfrm>
          <a:prstGeom prst="rect">
            <a:avLst/>
          </a:prstGeom>
          <a:ln w="0">
            <a:noFill/>
          </a:ln>
        </p:spPr>
      </p:pic>
      <p:sp>
        <p:nvSpPr>
          <p:cNvPr id="323" name="Oval 9"/>
          <p:cNvSpPr/>
          <p:nvPr/>
        </p:nvSpPr>
        <p:spPr>
          <a:xfrm>
            <a:off x="3935520" y="3789360"/>
            <a:ext cx="463320" cy="45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0876-094E-4DD5-9C33-2D562ECD95E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0320" y="452160"/>
            <a:ext cx="773892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ЕДАКТИРОВАНИЕ ТЕК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Picture 15" descr="редактирование фрагмента"/>
          <p:cNvPicPr/>
          <p:nvPr/>
        </p:nvPicPr>
        <p:blipFill>
          <a:blip r:embed="rId1"/>
          <a:stretch/>
        </p:blipFill>
        <p:spPr>
          <a:xfrm>
            <a:off x="1251000" y="2241720"/>
            <a:ext cx="6683400" cy="3925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7"/>
          <p:cNvSpPr/>
          <p:nvPr/>
        </p:nvSpPr>
        <p:spPr>
          <a:xfrm>
            <a:off x="527040" y="1471680"/>
            <a:ext cx="79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Текстовый фрагмент –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произвольная последовательность символ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8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2B4F-7A0A-48F0-A268-39152BD223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2080" y="347400"/>
            <a:ext cx="796752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99"/>
                </a:solidFill>
                <a:latin typeface="Arial"/>
              </a:rPr>
              <a:t>ПЕРВЫЕ «ТЕКСТОВЫЕ ДОКУМЕНТЫ»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0" descr="наскальный рисунок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4320" y="1398600"/>
            <a:ext cx="4359240" cy="3402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1"/>
          <p:cNvSpPr/>
          <p:nvPr/>
        </p:nvSpPr>
        <p:spPr>
          <a:xfrm>
            <a:off x="231840" y="4836960"/>
            <a:ext cx="28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цена охоты.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Наскальное изображени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4329000" y="5729400"/>
            <a:ext cx="434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ассказ об удачном военном походе против враждебного племен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3" descr="первый документ"/>
          <p:cNvPicPr/>
          <p:nvPr/>
        </p:nvPicPr>
        <p:blipFill>
          <a:blip r:embed="rId2"/>
          <a:stretch/>
        </p:blipFill>
        <p:spPr>
          <a:xfrm>
            <a:off x="3214800" y="3489480"/>
            <a:ext cx="5715000" cy="23079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0BB5-9E47-44BB-A29E-1BC57BC0370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0920" y="993600"/>
            <a:ext cx="7797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ФОРМАТИРОВАНИЕ ТЕК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27040" y="2433600"/>
            <a:ext cx="7950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При </a:t>
            </a:r>
            <a:r>
              <a:rPr b="1" i="1" lang="ru-RU" sz="2400" spc="-1" strike="noStrike">
                <a:solidFill>
                  <a:srgbClr val="000099"/>
                </a:solidFill>
                <a:latin typeface="Matisse ITC"/>
              </a:rPr>
              <a:t>форма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тировании (о</a:t>
            </a:r>
            <a:r>
              <a:rPr b="1" i="1" lang="ru-RU" sz="2400" spc="-1" strike="noStrike">
                <a:solidFill>
                  <a:srgbClr val="000099"/>
                </a:solidFill>
                <a:latin typeface="Matisse ITC"/>
              </a:rPr>
              <a:t>форм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лении) изменяется внешний вид текста за счет выбора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Matisse IT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шриф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Matisse IT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начерт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Matisse IT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выравнив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Freeform 10"/>
          <p:cNvSpPr/>
          <p:nvPr/>
        </p:nvSpPr>
        <p:spPr>
          <a:xfrm>
            <a:off x="6613560" y="3078000"/>
            <a:ext cx="1936800" cy="2025720"/>
          </a:xfrm>
          <a:prstGeom prst="pie">
            <a:avLst/>
          </a:prstGeom>
          <a:solidFill>
            <a:srgbClr val="ded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2" name="Group 67"/>
          <p:cNvGrpSpPr/>
          <p:nvPr/>
        </p:nvGrpSpPr>
        <p:grpSpPr>
          <a:xfrm>
            <a:off x="6629400" y="3138480"/>
            <a:ext cx="1836720" cy="1905120"/>
            <a:chOff x="6629400" y="3138480"/>
            <a:chExt cx="1836720" cy="1905120"/>
          </a:xfrm>
        </p:grpSpPr>
        <p:sp>
          <p:nvSpPr>
            <p:cNvPr id="333" name="Freeform 11"/>
            <p:cNvSpPr/>
            <p:nvPr/>
          </p:nvSpPr>
          <p:spPr>
            <a:xfrm>
              <a:off x="6666120" y="3138480"/>
              <a:ext cx="1544400" cy="1225440"/>
            </a:xfrm>
            <a:prstGeom prst="pie">
              <a:avLst/>
            </a:prstGeom>
            <a:solidFill>
              <a:srgbClr val="ffd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6629400" y="3844800"/>
              <a:ext cx="1836720" cy="11988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7669440" y="4487760"/>
              <a:ext cx="153720" cy="139680"/>
            </a:xfrm>
            <a:prstGeom prst="pie">
              <a:avLst/>
            </a:pr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7558200" y="4718160"/>
              <a:ext cx="96840" cy="169920"/>
            </a:xfrm>
            <a:prstGeom prst="pie">
              <a:avLst/>
            </a:prstGeom>
            <a:solidFill>
              <a:srgbClr val="c2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7189920" y="4811760"/>
              <a:ext cx="144360" cy="141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Freeform 16"/>
            <p:cNvSpPr/>
            <p:nvPr/>
          </p:nvSpPr>
          <p:spPr>
            <a:xfrm>
              <a:off x="6970680" y="4764240"/>
              <a:ext cx="54000" cy="144360"/>
            </a:xfrm>
            <a:prstGeom prst="pie">
              <a:avLst/>
            </a:pr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Freeform 17"/>
            <p:cNvSpPr/>
            <p:nvPr/>
          </p:nvSpPr>
          <p:spPr>
            <a:xfrm>
              <a:off x="7942320" y="4000680"/>
              <a:ext cx="274680" cy="752400"/>
            </a:xfrm>
            <a:prstGeom prst="pie">
              <a:avLst/>
            </a:prstGeom>
            <a:solidFill>
              <a:srgbClr val="deb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Freeform 18"/>
            <p:cNvSpPr/>
            <p:nvPr/>
          </p:nvSpPr>
          <p:spPr>
            <a:xfrm>
              <a:off x="7824960" y="4048200"/>
              <a:ext cx="465120" cy="272880"/>
            </a:xfrm>
            <a:prstGeom prst="pie">
              <a:avLst/>
            </a:pr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7593120" y="3633840"/>
              <a:ext cx="403200" cy="803160"/>
            </a:xfrm>
            <a:prstGeom prst="pie">
              <a:avLst/>
            </a:prstGeom>
            <a:solidFill>
              <a:srgbClr val="c4b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Freeform 20"/>
            <p:cNvSpPr/>
            <p:nvPr/>
          </p:nvSpPr>
          <p:spPr>
            <a:xfrm>
              <a:off x="6810480" y="3298680"/>
              <a:ext cx="693720" cy="1395720"/>
            </a:xfrm>
            <a:prstGeom prst="pie">
              <a:avLst/>
            </a:prstGeom>
            <a:solidFill>
              <a:srgbClr val="e6e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Freeform 21"/>
            <p:cNvSpPr/>
            <p:nvPr/>
          </p:nvSpPr>
          <p:spPr>
            <a:xfrm>
              <a:off x="6829560" y="4154400"/>
              <a:ext cx="720720" cy="58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Freeform 22"/>
            <p:cNvSpPr/>
            <p:nvPr/>
          </p:nvSpPr>
          <p:spPr>
            <a:xfrm>
              <a:off x="6864480" y="4510080"/>
              <a:ext cx="6555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Freeform 23"/>
            <p:cNvSpPr/>
            <p:nvPr/>
          </p:nvSpPr>
          <p:spPr>
            <a:xfrm>
              <a:off x="6865920" y="4249800"/>
              <a:ext cx="6382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Freeform 24"/>
            <p:cNvSpPr/>
            <p:nvPr/>
          </p:nvSpPr>
          <p:spPr>
            <a:xfrm>
              <a:off x="6942240" y="4124160"/>
              <a:ext cx="181080" cy="58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Freeform 25"/>
            <p:cNvSpPr/>
            <p:nvPr/>
          </p:nvSpPr>
          <p:spPr>
            <a:xfrm>
              <a:off x="7837560" y="4040280"/>
              <a:ext cx="503280" cy="29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Freeform 26"/>
            <p:cNvSpPr/>
            <p:nvPr/>
          </p:nvSpPr>
          <p:spPr>
            <a:xfrm>
              <a:off x="7890120" y="4175280"/>
              <a:ext cx="488880" cy="17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Freeform 27"/>
            <p:cNvSpPr/>
            <p:nvPr/>
          </p:nvSpPr>
          <p:spPr>
            <a:xfrm>
              <a:off x="7947000" y="4003560"/>
              <a:ext cx="13968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Freeform 28"/>
            <p:cNvSpPr/>
            <p:nvPr/>
          </p:nvSpPr>
          <p:spPr>
            <a:xfrm>
              <a:off x="8020080" y="4260960"/>
              <a:ext cx="262080" cy="54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Freeform 29"/>
            <p:cNvSpPr/>
            <p:nvPr/>
          </p:nvSpPr>
          <p:spPr>
            <a:xfrm>
              <a:off x="7135920" y="3905280"/>
              <a:ext cx="6660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Freeform 30"/>
            <p:cNvSpPr/>
            <p:nvPr/>
          </p:nvSpPr>
          <p:spPr>
            <a:xfrm>
              <a:off x="7131240" y="3421080"/>
              <a:ext cx="117360" cy="12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Freeform 31"/>
            <p:cNvSpPr/>
            <p:nvPr/>
          </p:nvSpPr>
          <p:spPr>
            <a:xfrm>
              <a:off x="7002720" y="3597120"/>
              <a:ext cx="3780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Freeform 32"/>
            <p:cNvSpPr/>
            <p:nvPr/>
          </p:nvSpPr>
          <p:spPr>
            <a:xfrm>
              <a:off x="7240680" y="3683160"/>
              <a:ext cx="88920" cy="12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Freeform 33"/>
            <p:cNvSpPr/>
            <p:nvPr/>
          </p:nvSpPr>
          <p:spPr>
            <a:xfrm>
              <a:off x="7581960" y="3691080"/>
              <a:ext cx="438120" cy="78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Freeform 34"/>
            <p:cNvSpPr/>
            <p:nvPr/>
          </p:nvSpPr>
          <p:spPr>
            <a:xfrm>
              <a:off x="7769160" y="3639960"/>
              <a:ext cx="25884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5"/>
            <p:cNvSpPr/>
            <p:nvPr/>
          </p:nvSpPr>
          <p:spPr>
            <a:xfrm>
              <a:off x="7613640" y="4281480"/>
              <a:ext cx="7164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Freeform 36"/>
            <p:cNvSpPr/>
            <p:nvPr/>
          </p:nvSpPr>
          <p:spPr>
            <a:xfrm>
              <a:off x="6821640" y="3282840"/>
              <a:ext cx="693720" cy="87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Freeform 37"/>
            <p:cNvSpPr/>
            <p:nvPr/>
          </p:nvSpPr>
          <p:spPr>
            <a:xfrm>
              <a:off x="7091280" y="3416400"/>
              <a:ext cx="11592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Freeform 38"/>
            <p:cNvSpPr/>
            <p:nvPr/>
          </p:nvSpPr>
          <p:spPr>
            <a:xfrm>
              <a:off x="6977160" y="3581280"/>
              <a:ext cx="3636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39"/>
            <p:cNvSpPr/>
            <p:nvPr/>
          </p:nvSpPr>
          <p:spPr>
            <a:xfrm>
              <a:off x="7221600" y="3668760"/>
              <a:ext cx="8892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Freeform 40"/>
            <p:cNvSpPr/>
            <p:nvPr/>
          </p:nvSpPr>
          <p:spPr>
            <a:xfrm>
              <a:off x="7564680" y="3676680"/>
              <a:ext cx="436320" cy="78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Freeform 41"/>
            <p:cNvSpPr/>
            <p:nvPr/>
          </p:nvSpPr>
          <p:spPr>
            <a:xfrm>
              <a:off x="7748640" y="3618000"/>
              <a:ext cx="25704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Freeform 42"/>
            <p:cNvSpPr/>
            <p:nvPr/>
          </p:nvSpPr>
          <p:spPr>
            <a:xfrm>
              <a:off x="7591680" y="4259160"/>
              <a:ext cx="72720" cy="15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Freeform 43"/>
            <p:cNvSpPr/>
            <p:nvPr/>
          </p:nvSpPr>
          <p:spPr>
            <a:xfrm>
              <a:off x="7747200" y="3645000"/>
              <a:ext cx="5076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Freeform 44"/>
            <p:cNvSpPr/>
            <p:nvPr/>
          </p:nvSpPr>
          <p:spPr>
            <a:xfrm>
              <a:off x="6800760" y="3274920"/>
              <a:ext cx="685800" cy="87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Freeform 45"/>
            <p:cNvSpPr/>
            <p:nvPr/>
          </p:nvSpPr>
          <p:spPr>
            <a:xfrm>
              <a:off x="7858080" y="4160880"/>
              <a:ext cx="487440" cy="17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Freeform 46"/>
            <p:cNvSpPr/>
            <p:nvPr/>
          </p:nvSpPr>
          <p:spPr>
            <a:xfrm>
              <a:off x="7812000" y="4029120"/>
              <a:ext cx="50184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Freeform 47"/>
            <p:cNvSpPr/>
            <p:nvPr/>
          </p:nvSpPr>
          <p:spPr>
            <a:xfrm>
              <a:off x="7921800" y="3994200"/>
              <a:ext cx="13968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Freeform 48"/>
            <p:cNvSpPr/>
            <p:nvPr/>
          </p:nvSpPr>
          <p:spPr>
            <a:xfrm>
              <a:off x="7983720" y="4243320"/>
              <a:ext cx="261720" cy="53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Freeform 49"/>
            <p:cNvSpPr/>
            <p:nvPr/>
          </p:nvSpPr>
          <p:spPr>
            <a:xfrm>
              <a:off x="7336080" y="4119480"/>
              <a:ext cx="206280" cy="52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Freeform 50"/>
            <p:cNvSpPr/>
            <p:nvPr/>
          </p:nvSpPr>
          <p:spPr>
            <a:xfrm>
              <a:off x="6842160" y="4489560"/>
              <a:ext cx="65880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Freeform 51"/>
            <p:cNvSpPr/>
            <p:nvPr/>
          </p:nvSpPr>
          <p:spPr>
            <a:xfrm>
              <a:off x="6926400" y="4130640"/>
              <a:ext cx="169920" cy="55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Freeform 52"/>
            <p:cNvSpPr/>
            <p:nvPr/>
          </p:nvSpPr>
          <p:spPr>
            <a:xfrm>
              <a:off x="6807240" y="4135320"/>
              <a:ext cx="720720" cy="58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Freeform 53"/>
            <p:cNvSpPr/>
            <p:nvPr/>
          </p:nvSpPr>
          <p:spPr>
            <a:xfrm>
              <a:off x="6859800" y="4229280"/>
              <a:ext cx="63648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Freeform 54"/>
            <p:cNvSpPr/>
            <p:nvPr/>
          </p:nvSpPr>
          <p:spPr>
            <a:xfrm>
              <a:off x="7101000" y="3895560"/>
              <a:ext cx="6840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Freeform 55"/>
            <p:cNvSpPr/>
            <p:nvPr/>
          </p:nvSpPr>
          <p:spPr>
            <a:xfrm>
              <a:off x="7201080" y="4797360"/>
              <a:ext cx="182520" cy="16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Freeform 56"/>
            <p:cNvSpPr/>
            <p:nvPr/>
          </p:nvSpPr>
          <p:spPr>
            <a:xfrm>
              <a:off x="6967800" y="4748040"/>
              <a:ext cx="75960" cy="16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Freeform 57"/>
            <p:cNvSpPr/>
            <p:nvPr/>
          </p:nvSpPr>
          <p:spPr>
            <a:xfrm>
              <a:off x="7664400" y="4475160"/>
              <a:ext cx="192240" cy="18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Freeform 58"/>
            <p:cNvSpPr/>
            <p:nvPr/>
          </p:nvSpPr>
          <p:spPr>
            <a:xfrm>
              <a:off x="7175520" y="4800600"/>
              <a:ext cx="18252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Freeform 59"/>
            <p:cNvSpPr/>
            <p:nvPr/>
          </p:nvSpPr>
          <p:spPr>
            <a:xfrm>
              <a:off x="7174080" y="4813200"/>
              <a:ext cx="47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Freeform 60"/>
            <p:cNvSpPr/>
            <p:nvPr/>
          </p:nvSpPr>
          <p:spPr>
            <a:xfrm>
              <a:off x="7662960" y="4460760"/>
              <a:ext cx="19224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Freeform 61"/>
            <p:cNvSpPr/>
            <p:nvPr/>
          </p:nvSpPr>
          <p:spPr>
            <a:xfrm>
              <a:off x="7702560" y="4470480"/>
              <a:ext cx="414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Freeform 62"/>
            <p:cNvSpPr/>
            <p:nvPr/>
          </p:nvSpPr>
          <p:spPr>
            <a:xfrm>
              <a:off x="6958080" y="4892760"/>
              <a:ext cx="5076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Freeform 63"/>
            <p:cNvSpPr/>
            <p:nvPr/>
          </p:nvSpPr>
          <p:spPr>
            <a:xfrm>
              <a:off x="6958080" y="4749840"/>
              <a:ext cx="74520" cy="16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Freeform 64"/>
            <p:cNvSpPr/>
            <p:nvPr/>
          </p:nvSpPr>
          <p:spPr>
            <a:xfrm>
              <a:off x="7554960" y="4708440"/>
              <a:ext cx="136440" cy="19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Freeform 65"/>
            <p:cNvSpPr/>
            <p:nvPr/>
          </p:nvSpPr>
          <p:spPr>
            <a:xfrm>
              <a:off x="7537680" y="4707000"/>
              <a:ext cx="134640" cy="19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Freeform 66"/>
            <p:cNvSpPr/>
            <p:nvPr/>
          </p:nvSpPr>
          <p:spPr>
            <a:xfrm>
              <a:off x="7540560" y="4773600"/>
              <a:ext cx="4140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Номер слайда 7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3152-549A-4293-AE65-3CED5606CB6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ИДЫ ШРИФ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4171680" cy="35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се компьютерные шрифты можно разделить на четыре группы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с засечкам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убле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ллиграфическ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коратив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Picture 11" descr="шрифты"/>
          <p:cNvPicPr/>
          <p:nvPr/>
        </p:nvPicPr>
        <p:blipFill>
          <a:blip r:embed="rId1"/>
          <a:stretch/>
        </p:blipFill>
        <p:spPr>
          <a:xfrm>
            <a:off x="4705200" y="2054160"/>
            <a:ext cx="3646800" cy="3121200"/>
          </a:xfrm>
          <a:prstGeom prst="rect">
            <a:avLst/>
          </a:prstGeom>
          <a:ln w="28440">
            <a:solidFill>
              <a:srgbClr val="00b200"/>
            </a:solidFill>
            <a:miter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9C21-66A1-4A18-922C-747FD88DAF4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75880" y="152280"/>
            <a:ext cx="64897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РАЗМЕР ШРИФ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424160" y="266220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У аА бБ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8"/>
          <p:cNvSpPr/>
          <p:nvPr/>
        </p:nvSpPr>
        <p:spPr>
          <a:xfrm>
            <a:off x="847800" y="35258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9"/>
          <p:cNvSpPr/>
          <p:nvPr/>
        </p:nvSpPr>
        <p:spPr>
          <a:xfrm>
            <a:off x="847800" y="2916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10"/>
          <p:cNvSpPr/>
          <p:nvPr/>
        </p:nvSpPr>
        <p:spPr>
          <a:xfrm>
            <a:off x="979560" y="2905200"/>
            <a:ext cx="12600" cy="62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293760" y="511992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змер шрифта измеряется в пунктах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1 пункт = 1/72 дюйма (0,3 мм)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0" name="Picture 19" descr="размер шрифта"/>
          <p:cNvPicPr/>
          <p:nvPr/>
        </p:nvPicPr>
        <p:blipFill>
          <a:blip r:embed="rId1"/>
          <a:stretch/>
        </p:blipFill>
        <p:spPr>
          <a:xfrm>
            <a:off x="4476600" y="1689120"/>
            <a:ext cx="3679920" cy="3095640"/>
          </a:xfrm>
          <a:prstGeom prst="rect">
            <a:avLst/>
          </a:prstGeom>
          <a:ln w="28440">
            <a:solidFill>
              <a:srgbClr val="00b200"/>
            </a:solidFill>
            <a:miter/>
          </a:ln>
        </p:spPr>
      </p:pic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9E69-FD13-43CA-A5A0-F34FFE4FAB2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75880" y="388440"/>
            <a:ext cx="6489720" cy="133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НАЧЕРТАНИЕ ШРИФ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500040" y="4068000"/>
            <a:ext cx="8686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Шрифт обычного начертания ничем не выделяется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лужирный шрифт темнее, он хорошо заметен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66"/>
                </a:solidFill>
                <a:latin typeface="Arial"/>
              </a:rPr>
              <a:t>Курсивный шрифт имеет наклон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66"/>
                </a:solidFill>
                <a:uFillTx/>
                <a:latin typeface="Arial"/>
              </a:rPr>
              <a:t>А это подчеркнутый текст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4" name="Picture 12" descr="панели инструментов"/>
          <p:cNvPicPr/>
          <p:nvPr/>
        </p:nvPicPr>
        <p:blipFill>
          <a:blip r:embed="rId1"/>
          <a:stretch/>
        </p:blipFill>
        <p:spPr>
          <a:xfrm>
            <a:off x="393840" y="2025720"/>
            <a:ext cx="8329320" cy="1568520"/>
          </a:xfrm>
          <a:prstGeom prst="rect">
            <a:avLst/>
          </a:prstGeom>
          <a:ln w="38160">
            <a:solidFill>
              <a:srgbClr val="00b200"/>
            </a:solidFill>
            <a:miter/>
          </a:ln>
        </p:spPr>
      </p:pic>
      <p:sp>
        <p:nvSpPr>
          <p:cNvPr id="405" name="Oval 13"/>
          <p:cNvSpPr/>
          <p:nvPr/>
        </p:nvSpPr>
        <p:spPr>
          <a:xfrm>
            <a:off x="4572000" y="2757600"/>
            <a:ext cx="352440" cy="30960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Oval 14"/>
          <p:cNvSpPr/>
          <p:nvPr/>
        </p:nvSpPr>
        <p:spPr>
          <a:xfrm>
            <a:off x="4859280" y="2773440"/>
            <a:ext cx="352440" cy="30960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Oval 15"/>
          <p:cNvSpPr/>
          <p:nvPr/>
        </p:nvSpPr>
        <p:spPr>
          <a:xfrm>
            <a:off x="5118120" y="2789280"/>
            <a:ext cx="352440" cy="30960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8" name="Picture 17" descr=""/>
          <p:cNvPicPr/>
          <p:nvPr/>
        </p:nvPicPr>
        <p:blipFill>
          <a:blip r:embed="rId2"/>
          <a:stretch/>
        </p:blipFill>
        <p:spPr>
          <a:xfrm>
            <a:off x="6453360" y="5959440"/>
            <a:ext cx="744480" cy="744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8C49-97D7-46EF-8D42-B8DD08701C1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324000" y="3552840"/>
            <a:ext cx="842472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гда текст выровнен вправо, правая граница абзаца образует прямую линию. Каждая строка заканчивается на одном и том же расстоянии от края страницы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Данный абзац выровнен по правому краю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395280" y="3429000"/>
            <a:ext cx="835200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Выровненный по центру, или центрированный текст располагается так: с обеих сторон каждой строки ширина свободного пространства одинакова. С обеих сторон края абзаца получаются  неровными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Данный абзац выровнен по центру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ЫРАВНИВАНИЕ ТЕК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tretch/>
        </p:blipFill>
        <p:spPr>
          <a:xfrm>
            <a:off x="6531120" y="586908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7"/>
          <p:cNvSpPr/>
          <p:nvPr/>
        </p:nvSpPr>
        <p:spPr>
          <a:xfrm>
            <a:off x="324000" y="4041720"/>
            <a:ext cx="84960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Когда текст выровнен влево, левая граница абзаца образует прямую линию. Все строки имеют одинаковые отступы от левого края страницы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Arial"/>
              </a:rPr>
              <a:t>Данный абзац выровнен по левому краю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5" name="Picture 18" descr="панели инструментов"/>
          <p:cNvPicPr/>
          <p:nvPr/>
        </p:nvPicPr>
        <p:blipFill>
          <a:blip r:embed="rId2"/>
          <a:stretch/>
        </p:blipFill>
        <p:spPr>
          <a:xfrm>
            <a:off x="281160" y="1793880"/>
            <a:ext cx="8586720" cy="1485720"/>
          </a:xfrm>
          <a:prstGeom prst="rect">
            <a:avLst/>
          </a:prstGeom>
          <a:ln w="28440">
            <a:solidFill>
              <a:srgbClr val="00b200"/>
            </a:solidFill>
            <a:miter/>
          </a:ln>
        </p:spPr>
      </p:pic>
      <p:sp>
        <p:nvSpPr>
          <p:cNvPr id="416" name="Oval 19"/>
          <p:cNvSpPr/>
          <p:nvPr/>
        </p:nvSpPr>
        <p:spPr>
          <a:xfrm>
            <a:off x="5838840" y="2522520"/>
            <a:ext cx="352440" cy="30960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Oval 20"/>
          <p:cNvSpPr/>
          <p:nvPr/>
        </p:nvSpPr>
        <p:spPr>
          <a:xfrm>
            <a:off x="6121440" y="2498760"/>
            <a:ext cx="352440" cy="30960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Oval 21"/>
          <p:cNvSpPr/>
          <p:nvPr/>
        </p:nvSpPr>
        <p:spPr>
          <a:xfrm>
            <a:off x="6365880" y="2503440"/>
            <a:ext cx="352440" cy="309600"/>
          </a:xfrm>
          <a:prstGeom prst="ellips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F170-3D30-463A-B720-A0D29B1FD63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61960" y="387000"/>
            <a:ext cx="81072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ДАВАЙТЕ ОБСУД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38360" y="2096640"/>
            <a:ext cx="741672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айте характеристику текстовому документу по план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шриф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чертани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16680" indent="-2372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ыравнив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AutoShape 12"/>
          <p:cNvSpPr/>
          <p:nvPr/>
        </p:nvSpPr>
        <p:spPr>
          <a:xfrm>
            <a:off x="714240" y="4835520"/>
            <a:ext cx="2264040" cy="6350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3460680" y="4821120"/>
            <a:ext cx="2263680" cy="6350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6156360" y="4821120"/>
            <a:ext cx="2263680" cy="6350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atisse ITC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2E71-5494-474C-A4B9-A01E4C5369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35080" y="1980720"/>
            <a:ext cx="864216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Дорогой Иван Иванович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ердечно поздравляем Вас с Днем рождения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Желаем здоровья, счастья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успехов в Ваших начинания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и исполнения желаний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027C-6D46-43B3-B9EF-8791565F6C6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репаха Тортилла не указала дороги из страны дурак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уратино бежал куда глаза глядят. За черными деревьями блестели звезды. Над дорогой свешивались скалы. В ущелье лежало облако тума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B4AE-E69F-4C83-A4B4-D3EB112FB2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828360" y="2136600"/>
            <a:ext cx="7475400" cy="22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лядя на экран монитора, вы на самом деле видите тысячи крошечных световых квадратиков. Для наглядности представьте себе экран в виде листа миллиметровк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5115-2E5B-4985-90F0-599264B3FA9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ШРИФТЫ С ЗАСЕЧКА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4360" y="2391840"/>
            <a:ext cx="76975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внимательно рассмотреть этот текст, то можно заметить, что на концах букв имеются маленькие черточки – засечки. При чтении за них «цепляется» глаз. Засечки облегчают зрительное восприятие букв, а значит – процесс чт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9A01-6E0A-484D-AE3A-1B54F8FB2F5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840" y="41076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ИДЫ ДРЕВНЕЙ ПИСЬМЕН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029" descr="клиноп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11760" y="1276200"/>
            <a:ext cx="3152880" cy="430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27" descr="иероглифический текст"/>
          <p:cNvPicPr/>
          <p:nvPr/>
        </p:nvPicPr>
        <p:blipFill>
          <a:blip r:embed="rId2"/>
          <a:stretch/>
        </p:blipFill>
        <p:spPr>
          <a:xfrm>
            <a:off x="274680" y="1735200"/>
            <a:ext cx="4343400" cy="2921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30" descr="китай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618000" y="3257640"/>
            <a:ext cx="2297160" cy="25336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34"/>
          <p:cNvSpPr/>
          <p:nvPr/>
        </p:nvSpPr>
        <p:spPr>
          <a:xfrm>
            <a:off x="282600" y="479592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гипетские иероглиф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035"/>
          <p:cNvSpPr/>
          <p:nvPr/>
        </p:nvSpPr>
        <p:spPr>
          <a:xfrm>
            <a:off x="2954160" y="5783400"/>
            <a:ext cx="32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итайские иероглиф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036"/>
          <p:cNvSpPr/>
          <p:nvPr/>
        </p:nvSpPr>
        <p:spPr>
          <a:xfrm>
            <a:off x="5724360" y="562932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линопи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BA28-5C04-47C6-86F4-37069083623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РУБЛЕНЫЕ ШРИФ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55280" y="2347920"/>
            <a:ext cx="31338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леные шрифты применяются в газетах и журналах, где текст расположен в не-сколько колоно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05120" y="2403360"/>
            <a:ext cx="3771720" cy="14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кст этого слайда набран рубленым шрифтом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hom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расположен в двух колон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13C9-6C9D-4452-B37A-EDF554E7795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AutoShape 16"/>
          <p:cNvSpPr/>
          <p:nvPr/>
        </p:nvSpPr>
        <p:spPr>
          <a:xfrm>
            <a:off x="647640" y="1898640"/>
            <a:ext cx="8172360" cy="3179880"/>
          </a:xfrm>
          <a:prstGeom prst="foldedCorner">
            <a:avLst>
              <a:gd name="adj" fmla="val 12500"/>
            </a:avLst>
          </a:prstGeom>
          <a:solidFill>
            <a:srgbClr val="ffd5ab"/>
          </a:solidFill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4720" y="277920"/>
            <a:ext cx="7543800" cy="110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ЛЛИГРАФИЧЕСКИЕ ШРИФ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28680" y="2039400"/>
            <a:ext cx="848520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ллиграфические шрифты имитируют почерк человека. Они часто применяются для оформления обложек и открыток. Ими набираются поздравления и письм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2" name="Group 46"/>
          <p:cNvGrpSpPr/>
          <p:nvPr/>
        </p:nvGrpSpPr>
        <p:grpSpPr>
          <a:xfrm>
            <a:off x="1147680" y="4294080"/>
            <a:ext cx="1622520" cy="2055960"/>
            <a:chOff x="1147680" y="4294080"/>
            <a:chExt cx="1622520" cy="2055960"/>
          </a:xfrm>
        </p:grpSpPr>
        <p:sp>
          <p:nvSpPr>
            <p:cNvPr id="443" name="Freeform 17"/>
            <p:cNvSpPr/>
            <p:nvPr/>
          </p:nvSpPr>
          <p:spPr>
            <a:xfrm>
              <a:off x="1166760" y="4976640"/>
              <a:ext cx="1146240" cy="1159200"/>
            </a:xfrm>
            <a:prstGeom prst="pie">
              <a:avLst/>
            </a:pr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18"/>
            <p:cNvSpPr/>
            <p:nvPr/>
          </p:nvSpPr>
          <p:spPr>
            <a:xfrm>
              <a:off x="1701720" y="5559480"/>
              <a:ext cx="1059120" cy="704880"/>
            </a:xfrm>
            <a:prstGeom prst="pie">
              <a:avLst/>
            </a:prstGeom>
            <a:solidFill>
              <a:srgbClr val="b0e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19"/>
            <p:cNvSpPr/>
            <p:nvPr/>
          </p:nvSpPr>
          <p:spPr>
            <a:xfrm>
              <a:off x="1592280" y="5495760"/>
              <a:ext cx="490680" cy="166680"/>
            </a:xfrm>
            <a:prstGeom prst="pie">
              <a:avLst/>
            </a:pr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>
              <a:off x="1639800" y="4311720"/>
              <a:ext cx="405000" cy="233280"/>
            </a:xfrm>
            <a:prstGeom prst="pie">
              <a:avLst/>
            </a:pr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>
              <a:off x="1389240" y="4492800"/>
              <a:ext cx="965160" cy="823680"/>
            </a:xfrm>
            <a:prstGeom prst="pie">
              <a:avLst/>
            </a:pr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Freeform 22"/>
            <p:cNvSpPr/>
            <p:nvPr/>
          </p:nvSpPr>
          <p:spPr>
            <a:xfrm>
              <a:off x="1343160" y="4784760"/>
              <a:ext cx="412560" cy="590400"/>
            </a:xfrm>
            <a:prstGeom prst="pie">
              <a:avLst/>
            </a:pr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Freeform 24"/>
            <p:cNvSpPr/>
            <p:nvPr/>
          </p:nvSpPr>
          <p:spPr>
            <a:xfrm>
              <a:off x="1374840" y="4640400"/>
              <a:ext cx="423720" cy="73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Freeform 25"/>
            <p:cNvSpPr/>
            <p:nvPr/>
          </p:nvSpPr>
          <p:spPr>
            <a:xfrm>
              <a:off x="1901880" y="4753080"/>
              <a:ext cx="344520" cy="431640"/>
            </a:xfrm>
            <a:prstGeom prst="pie">
              <a:avLst/>
            </a:prstGeom>
            <a:solidFill>
              <a:srgbClr val="82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Freeform 26"/>
            <p:cNvSpPr/>
            <p:nvPr/>
          </p:nvSpPr>
          <p:spPr>
            <a:xfrm>
              <a:off x="1766880" y="4649760"/>
              <a:ext cx="162000" cy="64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1835280" y="4541760"/>
              <a:ext cx="569880" cy="79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1878120" y="4740120"/>
              <a:ext cx="369720" cy="44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Freeform 29"/>
            <p:cNvSpPr/>
            <p:nvPr/>
          </p:nvSpPr>
          <p:spPr>
            <a:xfrm>
              <a:off x="2008080" y="4762440"/>
              <a:ext cx="247680" cy="38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Freeform 30"/>
            <p:cNvSpPr/>
            <p:nvPr/>
          </p:nvSpPr>
          <p:spPr>
            <a:xfrm>
              <a:off x="1641600" y="4390920"/>
              <a:ext cx="406440" cy="23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Freeform 31"/>
            <p:cNvSpPr/>
            <p:nvPr/>
          </p:nvSpPr>
          <p:spPr>
            <a:xfrm>
              <a:off x="1601640" y="4294080"/>
              <a:ext cx="387360" cy="27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Freeform 32"/>
            <p:cNvSpPr/>
            <p:nvPr/>
          </p:nvSpPr>
          <p:spPr>
            <a:xfrm>
              <a:off x="1657440" y="4417920"/>
              <a:ext cx="4428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Freeform 33"/>
            <p:cNvSpPr/>
            <p:nvPr/>
          </p:nvSpPr>
          <p:spPr>
            <a:xfrm>
              <a:off x="1760400" y="4405320"/>
              <a:ext cx="5904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Freeform 34"/>
            <p:cNvSpPr/>
            <p:nvPr/>
          </p:nvSpPr>
          <p:spPr>
            <a:xfrm>
              <a:off x="1857240" y="4390920"/>
              <a:ext cx="5724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Freeform 38"/>
            <p:cNvSpPr/>
            <p:nvPr/>
          </p:nvSpPr>
          <p:spPr>
            <a:xfrm>
              <a:off x="1147680" y="4908600"/>
              <a:ext cx="908280" cy="10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39"/>
            <p:cNvSpPr/>
            <p:nvPr/>
          </p:nvSpPr>
          <p:spPr>
            <a:xfrm>
              <a:off x="1298520" y="5079960"/>
              <a:ext cx="4608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40"/>
            <p:cNvSpPr/>
            <p:nvPr/>
          </p:nvSpPr>
          <p:spPr>
            <a:xfrm>
              <a:off x="1662120" y="5508720"/>
              <a:ext cx="495360" cy="20160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Freeform 41"/>
            <p:cNvSpPr/>
            <p:nvPr/>
          </p:nvSpPr>
          <p:spPr>
            <a:xfrm>
              <a:off x="2027160" y="5670720"/>
              <a:ext cx="266760" cy="14112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Freeform 42"/>
            <p:cNvSpPr/>
            <p:nvPr/>
          </p:nvSpPr>
          <p:spPr>
            <a:xfrm>
              <a:off x="1344600" y="5238720"/>
              <a:ext cx="1425600" cy="111132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Freeform 43"/>
            <p:cNvSpPr/>
            <p:nvPr/>
          </p:nvSpPr>
          <p:spPr>
            <a:xfrm>
              <a:off x="2190600" y="5800680"/>
              <a:ext cx="311400" cy="19044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Freeform 44"/>
            <p:cNvSpPr/>
            <p:nvPr/>
          </p:nvSpPr>
          <p:spPr>
            <a:xfrm>
              <a:off x="1481040" y="4802040"/>
              <a:ext cx="320760" cy="12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Freeform 45"/>
            <p:cNvSpPr/>
            <p:nvPr/>
          </p:nvSpPr>
          <p:spPr>
            <a:xfrm>
              <a:off x="1949400" y="4646520"/>
              <a:ext cx="428760" cy="19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FF44-B7FD-4712-9D61-BCFA915583E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9" name="Picture 69" descr="decor"/>
          <p:cNvPicPr/>
          <p:nvPr/>
        </p:nvPicPr>
        <p:blipFill>
          <a:blip r:embed="rId1"/>
          <a:stretch/>
        </p:blipFill>
        <p:spPr>
          <a:xfrm>
            <a:off x="501480" y="2106720"/>
            <a:ext cx="8164800" cy="42228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36800" y="330120"/>
            <a:ext cx="5222880" cy="15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ЕКОРАТИВНЫЕ ШРИФТ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Group 68"/>
          <p:cNvGrpSpPr/>
          <p:nvPr/>
        </p:nvGrpSpPr>
        <p:grpSpPr>
          <a:xfrm>
            <a:off x="360360" y="247680"/>
            <a:ext cx="1790640" cy="1150560"/>
            <a:chOff x="360360" y="247680"/>
            <a:chExt cx="1790640" cy="1150560"/>
          </a:xfrm>
        </p:grpSpPr>
        <p:sp>
          <p:nvSpPr>
            <p:cNvPr id="472" name="Freeform 23"/>
            <p:cNvSpPr/>
            <p:nvPr/>
          </p:nvSpPr>
          <p:spPr>
            <a:xfrm>
              <a:off x="1730520" y="1112400"/>
              <a:ext cx="2476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Freeform 24"/>
            <p:cNvSpPr/>
            <p:nvPr/>
          </p:nvSpPr>
          <p:spPr>
            <a:xfrm>
              <a:off x="1730520" y="298080"/>
              <a:ext cx="420480" cy="69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Freeform 25"/>
            <p:cNvSpPr/>
            <p:nvPr/>
          </p:nvSpPr>
          <p:spPr>
            <a:xfrm>
              <a:off x="1495440" y="317520"/>
              <a:ext cx="235080" cy="106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Freeform 26"/>
            <p:cNvSpPr/>
            <p:nvPr/>
          </p:nvSpPr>
          <p:spPr>
            <a:xfrm>
              <a:off x="1392120" y="269640"/>
              <a:ext cx="103320" cy="27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Freeform 27"/>
            <p:cNvSpPr/>
            <p:nvPr/>
          </p:nvSpPr>
          <p:spPr>
            <a:xfrm>
              <a:off x="1392120" y="542520"/>
              <a:ext cx="103320" cy="41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Freeform 28"/>
            <p:cNvSpPr/>
            <p:nvPr/>
          </p:nvSpPr>
          <p:spPr>
            <a:xfrm>
              <a:off x="1392120" y="973080"/>
              <a:ext cx="103320" cy="25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Freeform 29"/>
            <p:cNvSpPr/>
            <p:nvPr/>
          </p:nvSpPr>
          <p:spPr>
            <a:xfrm>
              <a:off x="1112760" y="247680"/>
              <a:ext cx="279360" cy="20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>
              <a:off x="1112760" y="390600"/>
              <a:ext cx="279360" cy="36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Freeform 31"/>
            <p:cNvSpPr/>
            <p:nvPr/>
          </p:nvSpPr>
          <p:spPr>
            <a:xfrm>
              <a:off x="1112760" y="706680"/>
              <a:ext cx="279360" cy="58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32"/>
            <p:cNvSpPr/>
            <p:nvPr/>
          </p:nvSpPr>
          <p:spPr>
            <a:xfrm>
              <a:off x="950760" y="262080"/>
              <a:ext cx="162000" cy="25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33"/>
            <p:cNvSpPr/>
            <p:nvPr/>
          </p:nvSpPr>
          <p:spPr>
            <a:xfrm>
              <a:off x="950760" y="406080"/>
              <a:ext cx="162000" cy="36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Freeform 34"/>
            <p:cNvSpPr/>
            <p:nvPr/>
          </p:nvSpPr>
          <p:spPr>
            <a:xfrm>
              <a:off x="950760" y="774360"/>
              <a:ext cx="16200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Freeform 35"/>
            <p:cNvSpPr/>
            <p:nvPr/>
          </p:nvSpPr>
          <p:spPr>
            <a:xfrm>
              <a:off x="950760" y="1160640"/>
              <a:ext cx="16200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Freeform 36"/>
            <p:cNvSpPr/>
            <p:nvPr/>
          </p:nvSpPr>
          <p:spPr>
            <a:xfrm>
              <a:off x="950760" y="981000"/>
              <a:ext cx="525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Freeform 37"/>
            <p:cNvSpPr/>
            <p:nvPr/>
          </p:nvSpPr>
          <p:spPr>
            <a:xfrm>
              <a:off x="687240" y="306360"/>
              <a:ext cx="263520" cy="9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Freeform 38"/>
            <p:cNvSpPr/>
            <p:nvPr/>
          </p:nvSpPr>
          <p:spPr>
            <a:xfrm>
              <a:off x="595440" y="411480"/>
              <a:ext cx="9180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Freeform 39"/>
            <p:cNvSpPr/>
            <p:nvPr/>
          </p:nvSpPr>
          <p:spPr>
            <a:xfrm>
              <a:off x="360360" y="675360"/>
              <a:ext cx="326880" cy="36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Freeform 40"/>
            <p:cNvSpPr/>
            <p:nvPr/>
          </p:nvSpPr>
          <p:spPr>
            <a:xfrm>
              <a:off x="628560" y="1218960"/>
              <a:ext cx="5868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Freeform 41"/>
            <p:cNvSpPr/>
            <p:nvPr/>
          </p:nvSpPr>
          <p:spPr>
            <a:xfrm>
              <a:off x="1552680" y="1121400"/>
              <a:ext cx="40464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Freeform 42"/>
            <p:cNvSpPr/>
            <p:nvPr/>
          </p:nvSpPr>
          <p:spPr>
            <a:xfrm>
              <a:off x="642960" y="975960"/>
              <a:ext cx="503280" cy="30924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Freeform 43"/>
            <p:cNvSpPr/>
            <p:nvPr/>
          </p:nvSpPr>
          <p:spPr>
            <a:xfrm>
              <a:off x="1717560" y="1200960"/>
              <a:ext cx="9216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Freeform 44"/>
            <p:cNvSpPr/>
            <p:nvPr/>
          </p:nvSpPr>
          <p:spPr>
            <a:xfrm>
              <a:off x="960480" y="554400"/>
              <a:ext cx="947520" cy="71244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Freeform 45"/>
            <p:cNvSpPr/>
            <p:nvPr/>
          </p:nvSpPr>
          <p:spPr>
            <a:xfrm>
              <a:off x="1735200" y="1206000"/>
              <a:ext cx="60120" cy="586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Freeform 46"/>
            <p:cNvSpPr/>
            <p:nvPr/>
          </p:nvSpPr>
          <p:spPr>
            <a:xfrm>
              <a:off x="1087560" y="1156680"/>
              <a:ext cx="214200" cy="8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Freeform 47"/>
            <p:cNvSpPr/>
            <p:nvPr/>
          </p:nvSpPr>
          <p:spPr>
            <a:xfrm>
              <a:off x="1360440" y="674280"/>
              <a:ext cx="392040" cy="56268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Freeform 48"/>
            <p:cNvSpPr/>
            <p:nvPr/>
          </p:nvSpPr>
          <p:spPr>
            <a:xfrm>
              <a:off x="1508040" y="1170720"/>
              <a:ext cx="120600" cy="5040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Freeform 49"/>
            <p:cNvSpPr/>
            <p:nvPr/>
          </p:nvSpPr>
          <p:spPr>
            <a:xfrm>
              <a:off x="369720" y="734040"/>
              <a:ext cx="355680" cy="29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Freeform 50"/>
            <p:cNvSpPr/>
            <p:nvPr/>
          </p:nvSpPr>
          <p:spPr>
            <a:xfrm>
              <a:off x="625320" y="402480"/>
              <a:ext cx="586080" cy="59400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Freeform 51"/>
            <p:cNvSpPr/>
            <p:nvPr/>
          </p:nvSpPr>
          <p:spPr>
            <a:xfrm>
              <a:off x="493560" y="839520"/>
              <a:ext cx="130320" cy="1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Freeform 52"/>
            <p:cNvSpPr/>
            <p:nvPr/>
          </p:nvSpPr>
          <p:spPr>
            <a:xfrm>
              <a:off x="782640" y="765000"/>
              <a:ext cx="79200" cy="18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Freeform 53"/>
            <p:cNvSpPr/>
            <p:nvPr/>
          </p:nvSpPr>
          <p:spPr>
            <a:xfrm>
              <a:off x="517680" y="852480"/>
              <a:ext cx="87120" cy="81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Freeform 54"/>
            <p:cNvSpPr/>
            <p:nvPr/>
          </p:nvSpPr>
          <p:spPr>
            <a:xfrm>
              <a:off x="1820880" y="624600"/>
              <a:ext cx="314280" cy="29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55"/>
            <p:cNvSpPr/>
            <p:nvPr/>
          </p:nvSpPr>
          <p:spPr>
            <a:xfrm>
              <a:off x="901800" y="876960"/>
              <a:ext cx="7920" cy="464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56"/>
            <p:cNvSpPr/>
            <p:nvPr/>
          </p:nvSpPr>
          <p:spPr>
            <a:xfrm>
              <a:off x="1504800" y="818280"/>
              <a:ext cx="14472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57"/>
            <p:cNvSpPr/>
            <p:nvPr/>
          </p:nvSpPr>
          <p:spPr>
            <a:xfrm>
              <a:off x="1004760" y="835200"/>
              <a:ext cx="20484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58"/>
            <p:cNvSpPr/>
            <p:nvPr/>
          </p:nvSpPr>
          <p:spPr>
            <a:xfrm>
              <a:off x="1909800" y="732600"/>
              <a:ext cx="11412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59"/>
            <p:cNvSpPr/>
            <p:nvPr/>
          </p:nvSpPr>
          <p:spPr>
            <a:xfrm>
              <a:off x="1930320" y="743040"/>
              <a:ext cx="82800" cy="70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60"/>
            <p:cNvSpPr/>
            <p:nvPr/>
          </p:nvSpPr>
          <p:spPr>
            <a:xfrm>
              <a:off x="1724040" y="680760"/>
              <a:ext cx="82440" cy="11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61"/>
            <p:cNvSpPr/>
            <p:nvPr/>
          </p:nvSpPr>
          <p:spPr>
            <a:xfrm>
              <a:off x="870120" y="717120"/>
              <a:ext cx="63360" cy="453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62"/>
            <p:cNvSpPr/>
            <p:nvPr/>
          </p:nvSpPr>
          <p:spPr>
            <a:xfrm>
              <a:off x="774720" y="723600"/>
              <a:ext cx="34920" cy="234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Freeform 63"/>
            <p:cNvSpPr/>
            <p:nvPr/>
          </p:nvSpPr>
          <p:spPr>
            <a:xfrm>
              <a:off x="668160" y="256680"/>
              <a:ext cx="1036800" cy="417240"/>
            </a:xfrm>
            <a:prstGeom prst="pi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Freeform 64"/>
            <p:cNvSpPr/>
            <p:nvPr/>
          </p:nvSpPr>
          <p:spPr>
            <a:xfrm>
              <a:off x="1030320" y="459360"/>
              <a:ext cx="57240" cy="202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Freeform 65"/>
            <p:cNvSpPr/>
            <p:nvPr/>
          </p:nvSpPr>
          <p:spPr>
            <a:xfrm>
              <a:off x="1279440" y="596160"/>
              <a:ext cx="152640" cy="6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Freeform 66"/>
            <p:cNvSpPr/>
            <p:nvPr/>
          </p:nvSpPr>
          <p:spPr>
            <a:xfrm>
              <a:off x="1712880" y="325800"/>
              <a:ext cx="265320" cy="28692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Freeform 67"/>
            <p:cNvSpPr/>
            <p:nvPr/>
          </p:nvSpPr>
          <p:spPr>
            <a:xfrm>
              <a:off x="1832040" y="398520"/>
              <a:ext cx="87120" cy="16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E57B-5873-426E-AC30-58066BF3E84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24000"/>
            <a:ext cx="82296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ИСЬМЕННЫЕ ПРИНАДЛЕЖНОСТ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027" descr="письменные принадлежности"/>
          <p:cNvPicPr/>
          <p:nvPr/>
        </p:nvPicPr>
        <p:blipFill>
          <a:blip r:embed="rId1"/>
          <a:stretch/>
        </p:blipFill>
        <p:spPr>
          <a:xfrm>
            <a:off x="407880" y="1366920"/>
            <a:ext cx="5668920" cy="4446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028"/>
          <p:cNvSpPr/>
          <p:nvPr/>
        </p:nvSpPr>
        <p:spPr>
          <a:xfrm>
            <a:off x="1407960" y="58104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ревний Египет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XIV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до н.э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031"/>
          <p:cNvSpPr/>
          <p:nvPr/>
        </p:nvSpPr>
        <p:spPr>
          <a:xfrm>
            <a:off x="6259680" y="4770360"/>
            <a:ext cx="244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огиня письма и счета Сешат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XIII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до н.э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32"/>
          <p:cNvSpPr/>
          <p:nvPr/>
        </p:nvSpPr>
        <p:spPr>
          <a:xfrm>
            <a:off x="-8424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1036"/>
          <p:cNvGrpSpPr/>
          <p:nvPr/>
        </p:nvGrpSpPr>
        <p:grpSpPr>
          <a:xfrm>
            <a:off x="3371760" y="1805040"/>
            <a:ext cx="2232000" cy="3247920"/>
            <a:chOff x="3371760" y="1805040"/>
            <a:chExt cx="2232000" cy="3247920"/>
          </a:xfrm>
        </p:grpSpPr>
        <p:sp>
          <p:nvSpPr>
            <p:cNvPr id="183" name="Rectangle 1033"/>
            <p:cNvSpPr/>
            <p:nvPr/>
          </p:nvSpPr>
          <p:spPr>
            <a:xfrm>
              <a:off x="3371760" y="180504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1034"/>
            <p:cNvSpPr/>
            <p:nvPr/>
          </p:nvSpPr>
          <p:spPr>
            <a:xfrm>
              <a:off x="3371760" y="1805040"/>
              <a:ext cx="1785960" cy="32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MS Sans Serif"/>
                </a:rPr>
                <a:t> </a:t>
              </a:r>
              <a:r>
                <a:rPr b="0" lang="en-US" sz="600" spc="-1" strike="noStrike">
                  <a:solidFill>
                    <a:srgbClr val="000000"/>
                  </a:solidFill>
                  <a:latin typeface="MS Sans Serif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85" name="Picture 1035" descr="Богиня письма и счета Сешат. Рельеф с трона колосса Рамсеса II в Луксоре. Гранит. 13 в. до н.э.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132600" y="1359000"/>
            <a:ext cx="251136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6BB0-A822-4A4C-BE08-D2685F7A028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ИМСКИЕ КНИГ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2741760" y="1195560"/>
          <a:ext cx="579096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1760" y="1195560"/>
                    <a:ext cx="57909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Picture 22" descr="латинский алфавит"/>
          <p:cNvPicPr/>
          <p:nvPr/>
        </p:nvPicPr>
        <p:blipFill>
          <a:blip r:embed="rId3"/>
          <a:stretch/>
        </p:blipFill>
        <p:spPr>
          <a:xfrm>
            <a:off x="611280" y="4092480"/>
            <a:ext cx="5411520" cy="2117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5459-242F-47C1-9E53-6BC4125E8D1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14480" y="35352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РУКОПИСНЫЕ КНИ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1030" descr="летописец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74800" y="1227240"/>
            <a:ext cx="2981160" cy="543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31"/>
          <p:cNvSpPr/>
          <p:nvPr/>
        </p:nvSpPr>
        <p:spPr>
          <a:xfrm>
            <a:off x="3846600" y="5538960"/>
            <a:ext cx="450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стор летописец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ртина В. Васнецова, 1919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1032" descr="страница"/>
          <p:cNvPicPr/>
          <p:nvPr/>
        </p:nvPicPr>
        <p:blipFill>
          <a:blip r:embed="rId2"/>
          <a:stretch/>
        </p:blipFill>
        <p:spPr>
          <a:xfrm>
            <a:off x="5578560" y="1965240"/>
            <a:ext cx="2636640" cy="365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033"/>
          <p:cNvSpPr/>
          <p:nvPr/>
        </p:nvSpPr>
        <p:spPr>
          <a:xfrm>
            <a:off x="5502240" y="1322280"/>
            <a:ext cx="28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раница греческой рукописной книги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X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8FA1-B6C0-41C4-B24B-D7165D8D39D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027"/>
          <p:cNvSpPr/>
          <p:nvPr/>
        </p:nvSpPr>
        <p:spPr>
          <a:xfrm>
            <a:off x="871560" y="6026040"/>
            <a:ext cx="724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 книгопечатной мастерской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 границе времен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028" descr="гутенберг"/>
          <p:cNvPicPr/>
          <p:nvPr/>
        </p:nvPicPr>
        <p:blipFill>
          <a:blip r:embed="rId1"/>
          <a:stretch/>
        </p:blipFill>
        <p:spPr>
          <a:xfrm>
            <a:off x="1598760" y="503280"/>
            <a:ext cx="5908680" cy="5522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786F-7795-4ACE-83CF-FF1163A44B0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5880" y="293400"/>
            <a:ext cx="64897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ЕРВОПЕЧАТНИК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6" descr="страница книги из типографии Федо"/>
          <p:cNvPicPr/>
          <p:nvPr/>
        </p:nvPicPr>
        <p:blipFill>
          <a:blip r:embed="rId1"/>
          <a:stretch/>
        </p:blipFill>
        <p:spPr>
          <a:xfrm>
            <a:off x="949320" y="1214280"/>
            <a:ext cx="2824200" cy="4429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4433760" y="5635800"/>
            <a:ext cx="456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амятник Ивану Фёдорову (1510-1583 гг.) Авторы: С. Волнухин и И. Машков. 1909 г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63600" y="5595840"/>
            <a:ext cx="34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траница книги, напечатанной в типографии И.Фёдоров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22" descr="257"/>
          <p:cNvPicPr/>
          <p:nvPr/>
        </p:nvPicPr>
        <p:blipFill>
          <a:blip r:embed="rId2"/>
          <a:stretch/>
        </p:blipFill>
        <p:spPr>
          <a:xfrm>
            <a:off x="4991040" y="1150920"/>
            <a:ext cx="3406680" cy="4556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B59A-CEDB-4E6A-A178-5240378906D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75880" y="196920"/>
            <a:ext cx="6489720" cy="13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ПИШУЩИЕ МАШИН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1663560" y="2273400"/>
            <a:ext cx="5827680" cy="2220840"/>
            <a:chOff x="1663560" y="2273400"/>
            <a:chExt cx="5827680" cy="2220840"/>
          </a:xfrm>
        </p:grpSpPr>
        <p:pic>
          <p:nvPicPr>
            <p:cNvPr id="210" name="Picture 4" descr="первая печатная машинка"/>
            <p:cNvPicPr/>
            <p:nvPr/>
          </p:nvPicPr>
          <p:blipFill>
            <a:blip r:embed="rId1"/>
            <a:stretch/>
          </p:blipFill>
          <p:spPr>
            <a:xfrm>
              <a:off x="1663560" y="2275920"/>
              <a:ext cx="1855440" cy="21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0" descr="печатная машинка1"/>
            <p:cNvPicPr/>
            <p:nvPr/>
          </p:nvPicPr>
          <p:blipFill>
            <a:blip r:embed="rId2"/>
            <a:stretch/>
          </p:blipFill>
          <p:spPr>
            <a:xfrm>
              <a:off x="3652560" y="2273400"/>
              <a:ext cx="1844640" cy="22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7" descr="печатная машинка4"/>
            <p:cNvPicPr/>
            <p:nvPr/>
          </p:nvPicPr>
          <p:blipFill>
            <a:blip r:embed="rId3"/>
            <a:stretch/>
          </p:blipFill>
          <p:spPr>
            <a:xfrm>
              <a:off x="5621040" y="2273400"/>
              <a:ext cx="1870200" cy="22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 Box 21"/>
          <p:cNvSpPr/>
          <p:nvPr/>
        </p:nvSpPr>
        <p:spPr>
          <a:xfrm>
            <a:off x="1019160" y="5392800"/>
            <a:ext cx="71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ишущие машинки разных л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1019160" y="1692360"/>
            <a:ext cx="71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рвая пишущая машинка появилась в 1873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мьЯ</dc:creator>
  <dc:description/>
  <dc:language>en-US</dc:language>
  <cp:lastModifiedBy>1</cp:lastModifiedBy>
  <dcterms:modified xsi:type="dcterms:W3CDTF">2016-11-02T10:43:56Z</dcterms:modified>
  <cp:revision>58</cp:revision>
  <dc:subject/>
  <dc:title>PowerPoint Presentation</dc:title>
</cp:coreProperties>
</file>