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5ED-B623-498D-86DA-6A1944B9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CEE-AE6B-4983-9FC3-C9734C50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2B3-3942-4182-B521-05F9C2D4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3FF-2384-4702-B30E-5FB2E48F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7BB2-C27D-43CA-BCEB-C05F0F09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0E2-842F-452A-82D1-3B3D6CA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5C9A-B9F3-4444-B28E-426EF5F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D9A8-3599-45BA-9A42-ACC7A643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F1E-146F-4CB3-9953-C91313BC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B74-D337-490B-90F0-4EA733B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479B-754E-4AA3-AA6B-73563D1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88A-BEF1-4773-8A21-31E001C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C9B-0F81-477B-8F17-76B4DE1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02DF-046A-4383-912B-4F27A1E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C58-0464-4C9E-B699-0A3E4D6C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E69F-4687-4E80-80A7-C9986F85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61B-A625-4A73-B996-5A973DFE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DF2-5514-4FDF-BA07-5121189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8D0-C2A3-4B45-A612-146A4E8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F03-D3C6-4B12-9D65-B535BF0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B7C-8A4F-413B-9433-8608670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17D-2F60-43C5-A526-0C8F31F0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9ED-D28F-427C-8749-96CEA83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A3E-F35D-4CBA-BFCA-BBB71012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D43-5948-44E3-BFE7-F75370C7EF9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B0EA-EF1F-475B-8DC5-81A46B3B3C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788B-8969-4BF2-8537-EC424D313F6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BBC-B5C6-4C7A-BBE2-80F9E3F721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8 класс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презент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 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Смена слайд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628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ройка презент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берите в меню Показ слайдов команду «Настройка презентации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11280" y="47628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ной слай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ется способ появления слайда во время показа слайдов. Возможен выбор из большого числа способов и изменение скорости смены слайд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"/>
          <p:cNvPicPr/>
          <p:nvPr/>
        </p:nvPicPr>
        <p:blipFill>
          <a:blip r:embed="rId1"/>
          <a:srcRect l="83883" t="7583" r="0" b="6064"/>
          <a:stretch/>
        </p:blipFill>
        <p:spPr>
          <a:xfrm>
            <a:off x="7380360" y="0"/>
            <a:ext cx="18939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3609720" cy="2863800"/>
          </a:xfrm>
          <a:prstGeom prst="rect">
            <a:avLst/>
          </a:prstGeom>
          <a:ln w="0">
            <a:noFill/>
          </a:ln>
        </p:spPr>
      </p:pic>
      <p:sp>
        <p:nvSpPr>
          <p:cNvPr id="174" name="Line 7"/>
          <p:cNvSpPr/>
          <p:nvPr/>
        </p:nvSpPr>
        <p:spPr>
          <a:xfrm flipV="1">
            <a:off x="3492360" y="191628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 flipV="1">
            <a:off x="3708360" y="2781360"/>
            <a:ext cx="3743280" cy="107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2987640" y="4292640"/>
            <a:ext cx="4753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3564000" y="4581360"/>
            <a:ext cx="410364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3492360" y="4869000"/>
            <a:ext cx="4032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11280" y="270828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берите в меню Показ слайдов команду «Смена слайд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перехода (просмотр происходит автоматическ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перех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е сопрово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ядок смены слай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Настройка показа слайд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11280" y="162864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стройка времени пока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в меню Показ слайдов команду «Настройка времени» (автоматически начнется показ с записью времени показа слай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11280" y="47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йка показа слайдов заключается в настройке времени показа и звукового сопровождения пока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611280" y="342900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вукозапи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в меню Показ слайдов команду «Звукозапис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йка параметров звукозапис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слайдов со звуковым сопровождени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4284720" y="3284640"/>
            <a:ext cx="4562280" cy="1908000"/>
          </a:xfrm>
          <a:prstGeom prst="rect">
            <a:avLst/>
          </a:prstGeom>
          <a:ln w="0">
            <a:noFill/>
          </a:ln>
        </p:spPr>
      </p:pic>
      <p:sp>
        <p:nvSpPr>
          <p:cNvPr id="185" name="Line 7"/>
          <p:cNvSpPr/>
          <p:nvPr/>
        </p:nvSpPr>
        <p:spPr>
          <a:xfrm flipV="1">
            <a:off x="3276720" y="4292640"/>
            <a:ext cx="1008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4284720" y="5445000"/>
            <a:ext cx="4505400" cy="809640"/>
          </a:xfrm>
          <a:prstGeom prst="rect">
            <a:avLst/>
          </a:prstGeom>
          <a:ln w="0">
            <a:noFill/>
          </a:ln>
        </p:spPr>
      </p:pic>
      <p:sp>
        <p:nvSpPr>
          <p:cNvPr id="187" name="Line 15"/>
          <p:cNvSpPr/>
          <p:nvPr/>
        </p:nvSpPr>
        <p:spPr>
          <a:xfrm>
            <a:off x="3635280" y="5516640"/>
            <a:ext cx="576360" cy="7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Показ слайд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611280" y="162864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особы пока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вого слайда меню Показ слайдов команда Начать показ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кущего слай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ift+F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в окн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11280" y="47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 слайдов позволяет просматривать созданную презентацию на мониторе или другом оборудован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11280" y="3429000"/>
            <a:ext cx="331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правляющие кно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ый нижний угол экран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т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1"/>
          <a:srcRect l="83883" t="7583" r="0" b="6064"/>
          <a:stretch/>
        </p:blipFill>
        <p:spPr>
          <a:xfrm>
            <a:off x="7380360" y="0"/>
            <a:ext cx="18939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7"/>
          <p:cNvSpPr/>
          <p:nvPr/>
        </p:nvSpPr>
        <p:spPr>
          <a:xfrm>
            <a:off x="3924360" y="2637000"/>
            <a:ext cx="3600360" cy="381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2627280" y="2924280"/>
            <a:ext cx="4969080" cy="33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evt="end">
                                        <p:tn val="392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0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Публикация слайд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11280" y="1628640"/>
            <a:ext cx="41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к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а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меню Файл команда Сохранить ка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аницу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в файлах или в архив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слайдов публик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обозревате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11280" y="476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owerPoi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оздавать страницы для публикации в Интернет и упаковывать презентации для их переноса на другой компью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860640"/>
            <a:ext cx="40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паковка файлов для перено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меню Файл команда Подготовить для компакт-дис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файла (файлов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ы упаковки (просмотрщик, связанные объекты, шрифты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ровать на компакт-диск или в папку компью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5365800" y="155736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2"/>
          <a:stretch/>
        </p:blipFill>
        <p:spPr>
          <a:xfrm>
            <a:off x="5435640" y="4029120"/>
            <a:ext cx="3529080" cy="2828880"/>
          </a:xfrm>
          <a:prstGeom prst="rect">
            <a:avLst/>
          </a:prstGeom>
          <a:ln w="0">
            <a:noFill/>
          </a:ln>
        </p:spPr>
      </p:pic>
      <p:sp>
        <p:nvSpPr>
          <p:cNvPr id="201" name="Line 7"/>
          <p:cNvSpPr/>
          <p:nvPr/>
        </p:nvSpPr>
        <p:spPr>
          <a:xfrm flipV="1">
            <a:off x="3780000" y="2060280"/>
            <a:ext cx="165564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3564000" y="2492280"/>
            <a:ext cx="475308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V="1">
            <a:off x="3708360" y="2997000"/>
            <a:ext cx="1800360" cy="50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3419640" y="4869000"/>
            <a:ext cx="244764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500720" y="5516640"/>
            <a:ext cx="3816360" cy="64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2843280" y="6237360"/>
            <a:ext cx="388944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evt="end">
                                        <p:tn val="429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evt="end">
                                        <p:tn val="44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evt="end">
                                        <p:tn val="466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3" descr=""/>
          <p:cNvPicPr/>
          <p:nvPr/>
        </p:nvPicPr>
        <p:blipFill>
          <a:blip r:embed="rId1"/>
          <a:srcRect l="0" t="0" r="-402" b="0"/>
          <a:stretch/>
        </p:blipFill>
        <p:spPr>
          <a:xfrm>
            <a:off x="2268360" y="1501920"/>
            <a:ext cx="6840720" cy="531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44280"/>
            <a:ext cx="8280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Структура интерфейса </a:t>
            </a:r>
            <a:r>
              <a:rPr b="1" lang="en-US" sz="1800" spc="-1" strike="noStrike" u="sng">
                <a:solidFill>
                  <a:srgbClr val="330033"/>
                </a:solidFill>
                <a:uFillTx/>
                <a:latin typeface="Verdana"/>
              </a:rPr>
              <a:t>Microsoft PowerPoint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4360" y="4773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рамма для создания , редактирования и просмот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езентация состоит из последовательности отдельных, взаимосвязанных кадров, называем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йд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684360" y="4292640"/>
            <a:ext cx="1147680" cy="649080"/>
          </a:xfrm>
          <a:prstGeom prst="borderCallout1">
            <a:avLst>
              <a:gd name="adj1" fmla="val 18750"/>
              <a:gd name="adj2" fmla="val -8333"/>
              <a:gd name="adj3" fmla="val -116379"/>
              <a:gd name="adj4" fmla="val 26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ь слайд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684360" y="3398760"/>
            <a:ext cx="1079280" cy="750960"/>
          </a:xfrm>
          <a:prstGeom prst="borderCallout1">
            <a:avLst>
              <a:gd name="adj1" fmla="val 18750"/>
              <a:gd name="adj2" fmla="val -8333"/>
              <a:gd name="adj3" fmla="val -43976"/>
              <a:gd name="adj4" fmla="val 16793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йд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684360" y="6021360"/>
            <a:ext cx="1152360" cy="609480"/>
          </a:xfrm>
          <a:prstGeom prst="borderCallout1">
            <a:avLst>
              <a:gd name="adj1" fmla="val 18750"/>
              <a:gd name="adj2" fmla="val -8333"/>
              <a:gd name="adj3" fmla="val 120833"/>
              <a:gd name="adj4" fmla="val 15743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684360" y="2525760"/>
            <a:ext cx="1079280" cy="690480"/>
          </a:xfrm>
          <a:prstGeom prst="borderCallout1">
            <a:avLst>
              <a:gd name="adj1" fmla="val 18750"/>
              <a:gd name="adj2" fmla="val -8333"/>
              <a:gd name="adj3" fmla="val -85518"/>
              <a:gd name="adj4" fmla="val 15647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703440" y="1700280"/>
            <a:ext cx="1060200" cy="609480"/>
          </a:xfrm>
          <a:prstGeom prst="borderCallout1">
            <a:avLst>
              <a:gd name="adj1" fmla="val 18750"/>
              <a:gd name="adj2" fmla="val -8333"/>
              <a:gd name="adj3" fmla="val 14842"/>
              <a:gd name="adj4" fmla="val 1386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ока мен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684360" y="5157720"/>
            <a:ext cx="1147680" cy="647640"/>
          </a:xfrm>
          <a:prstGeom prst="borderCallout1">
            <a:avLst>
              <a:gd name="adj1" fmla="val 18750"/>
              <a:gd name="adj2" fmla="val -8333"/>
              <a:gd name="adj3" fmla="val -37500"/>
              <a:gd name="adj4" fmla="val 658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ь задач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0" t="0" r="-402" b="0"/>
          <a:stretch/>
        </p:blipFill>
        <p:spPr>
          <a:xfrm>
            <a:off x="611280" y="1557360"/>
            <a:ext cx="3960720" cy="3075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4280"/>
            <a:ext cx="8280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Способы отображения слайдов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40392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ю Вид или пиктограммы в левом нижнем углу экр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4032360" cy="314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3"/>
          <a:srcRect l="0" t="3738" r="0" b="2964"/>
          <a:stretch/>
        </p:blipFill>
        <p:spPr>
          <a:xfrm>
            <a:off x="3348000" y="477036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4"/>
          <p:cNvSpPr/>
          <p:nvPr/>
        </p:nvSpPr>
        <p:spPr>
          <a:xfrm>
            <a:off x="611280" y="9072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ЫЧ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ПОКАЗ СЛАЙДОВ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ТИРОВЩ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1332000" y="1197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4572000" y="1197000"/>
            <a:ext cx="431640" cy="3600360"/>
          </a:xfrm>
          <a:prstGeom prst="downArrow">
            <a:avLst>
              <a:gd name="adj1" fmla="val 50000"/>
              <a:gd name="adj2" fmla="val 208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7885080" y="1197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Порядок создания презентации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8436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тематики презент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материала (текст, фото, видео, аудио и т.д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лайдов (выбор структуры, форматирование презентации) и наполнение их материал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и настройка анимации объек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йка смены слай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 слай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презент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4360" y="620640"/>
            <a:ext cx="8064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тапы создания презент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оследовательность может быть изменена по желанию создателя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Операции со слайдами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755640" y="155736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слай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удалить слайд или группу слайдов, необходимо выделить их и удалить, используя операцию «Удалить слайд» пункта меню «Правка» или операцию «Вырезать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лирование слай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ублирования слайда выделите нужный слайд и выберите команд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лировать в контекстном меню пункта «Правка». Так же мож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лировать и группу слайд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ние слай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оответствующей команды копируйте нужный слайд. Дл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авки выделите слайд, за которым должен следовать скопированн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, а затем нажмите правую кнопку мыши и в контекстном 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команду Встави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авка нового слай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ойте тот слайд, после которого Вы хотите вставить новый, 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е команду Вставка - Создать слайд или воспользуй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ктограммой, размещенной в панели Форматирование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755640" y="692280"/>
            <a:ext cx="77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При открытии </a:t>
            </a:r>
            <a:r>
              <a:rPr b="0" lang="en-US" sz="1800" spc="-1" strike="noStrike">
                <a:solidFill>
                  <a:srgbClr val="330033"/>
                </a:solidFill>
                <a:latin typeface="Verdana"/>
              </a:rPr>
              <a:t>Microsoft PowerPoint 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открывается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новая презентация с одним слайд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Форматирование слайд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26920" y="162864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разме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ункцией "Разметка слайда" в меню "Формат"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rcRect l="83883" t="7583" r="195" b="5780"/>
          <a:stretch/>
        </p:blipFill>
        <p:spPr>
          <a:xfrm>
            <a:off x="7524720" y="1341360"/>
            <a:ext cx="161928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90000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араметров форматирования значительно упрощает работу со слайд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900000" y="2781360"/>
            <a:ext cx="32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слай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еню Формат команда Оформление слайда ссылка Цветовые схемы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блоны оформ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меню Формат команда Оформление слайда ссылка Шаблоны оформления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2"/>
          <a:srcRect l="83868" t="7564" r="195" b="40167"/>
          <a:stretch/>
        </p:blipFill>
        <p:spPr>
          <a:xfrm>
            <a:off x="3924360" y="2305080"/>
            <a:ext cx="1792080" cy="4508640"/>
          </a:xfrm>
          <a:prstGeom prst="rect">
            <a:avLst/>
          </a:prstGeom>
          <a:ln w="0">
            <a:noFill/>
          </a:ln>
        </p:spPr>
      </p:pic>
      <p:sp>
        <p:nvSpPr>
          <p:cNvPr id="129" name="Line 15"/>
          <p:cNvSpPr/>
          <p:nvPr/>
        </p:nvSpPr>
        <p:spPr>
          <a:xfrm flipV="1">
            <a:off x="3203640" y="3068640"/>
            <a:ext cx="863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"/>
          <p:cNvPicPr/>
          <p:nvPr/>
        </p:nvPicPr>
        <p:blipFill>
          <a:blip r:embed="rId3"/>
          <a:srcRect l="83868" t="7564" r="195" b="33350"/>
          <a:stretch/>
        </p:blipFill>
        <p:spPr>
          <a:xfrm>
            <a:off x="5724360" y="1800360"/>
            <a:ext cx="175896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Line 17"/>
          <p:cNvSpPr/>
          <p:nvPr/>
        </p:nvSpPr>
        <p:spPr>
          <a:xfrm flipV="1">
            <a:off x="3564000" y="2420640"/>
            <a:ext cx="237636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3780000" y="1483920"/>
            <a:ext cx="3671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4140360" y="3068640"/>
            <a:ext cx="86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5940360" y="2421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Объекты слайд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81080" y="220572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ъектам, размещаемым 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е, относятся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н (меню Форма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кст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иперссылки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онтитулы (меню Вид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аблицы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афические изображ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еню Вставка - Рисунок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иаграммы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ильм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272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вук (меню Вставка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82200" y="404280"/>
            <a:ext cx="76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ы, подготовленные средствами Microsoft PowerPoint, 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и с анимацией и интерактивными элементами обеспечиваю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предоставления информ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3" descr=""/>
          <p:cNvPicPr/>
          <p:nvPr/>
        </p:nvPicPr>
        <p:blipFill>
          <a:blip r:embed="rId1"/>
          <a:srcRect l="16536" t="20158" r="17903" b="17722"/>
          <a:stretch/>
        </p:blipFill>
        <p:spPr>
          <a:xfrm>
            <a:off x="4067280" y="2243160"/>
            <a:ext cx="4825800" cy="3564000"/>
          </a:xfrm>
          <a:prstGeom prst="rect">
            <a:avLst/>
          </a:prstGeom>
          <a:ln w="0">
            <a:noFill/>
          </a:ln>
        </p:spPr>
      </p:pic>
      <p:sp>
        <p:nvSpPr>
          <p:cNvPr id="139" name="Line 24"/>
          <p:cNvSpPr/>
          <p:nvPr/>
        </p:nvSpPr>
        <p:spPr>
          <a:xfrm flipV="1">
            <a:off x="2987640" y="2492280"/>
            <a:ext cx="129708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V="1">
            <a:off x="3203640" y="2492280"/>
            <a:ext cx="230508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3995640" y="3500280"/>
            <a:ext cx="792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0"/>
          <p:cNvSpPr/>
          <p:nvPr/>
        </p:nvSpPr>
        <p:spPr>
          <a:xfrm>
            <a:off x="3564000" y="3789360"/>
            <a:ext cx="863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3564000" y="4076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3780000" y="4869000"/>
            <a:ext cx="33130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V="1">
            <a:off x="3059280" y="3429000"/>
            <a:ext cx="316836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6" descr="MM900296922[1]"/>
          <p:cNvPicPr/>
          <p:nvPr/>
        </p:nvPicPr>
        <p:blipFill>
          <a:blip r:embed="rId2"/>
          <a:stretch/>
        </p:blipFill>
        <p:spPr>
          <a:xfrm>
            <a:off x="5940360" y="3691080"/>
            <a:ext cx="1011240" cy="745920"/>
          </a:xfrm>
          <a:prstGeom prst="rect">
            <a:avLst/>
          </a:prstGeom>
          <a:ln w="0">
            <a:noFill/>
          </a:ln>
        </p:spPr>
      </p:pic>
      <p:sp>
        <p:nvSpPr>
          <p:cNvPr id="147" name="Line 34"/>
          <p:cNvSpPr/>
          <p:nvPr/>
        </p:nvSpPr>
        <p:spPr>
          <a:xfrm flipV="1">
            <a:off x="3276720" y="4149720"/>
            <a:ext cx="29509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MS902870.wav" descr=""/>
          <p:cNvPicPr/>
          <p:nvPr/>
        </p:nvPicPr>
        <p:blipFill>
          <a:blip r:embed="rId3"/>
          <a:stretch/>
        </p:blipFill>
        <p:spPr>
          <a:xfrm>
            <a:off x="622764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9" name="Line 32"/>
          <p:cNvSpPr/>
          <p:nvPr/>
        </p:nvSpPr>
        <p:spPr>
          <a:xfrm flipV="1">
            <a:off x="3492360" y="3284640"/>
            <a:ext cx="3600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233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684360" y="1632600"/>
            <a:ext cx="66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поиска и выбора объекто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 образца пои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коллекций (личные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ffice, 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ци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типа объекта (картинки, фото, фильм, звук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объек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ка в слайд (команда вставить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Коллекция клип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475920"/>
            <a:ext cx="66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ция клипов позволяет ускорить процесс поиска и наполнения слайдов мультимедийным материалом. Меню «Вставка» подменю «Фильм и звук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"/>
          <p:cNvPicPr/>
          <p:nvPr/>
        </p:nvPicPr>
        <p:blipFill>
          <a:blip r:embed="rId1"/>
          <a:srcRect l="83765" t="7867" r="0" b="5780"/>
          <a:stretch/>
        </p:blipFill>
        <p:spPr>
          <a:xfrm>
            <a:off x="7321680" y="0"/>
            <a:ext cx="18223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V="1">
            <a:off x="3564000" y="620640"/>
            <a:ext cx="3887640" cy="165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4932360" y="981000"/>
            <a:ext cx="2519280" cy="165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V="1">
            <a:off x="6588000" y="1341000"/>
            <a:ext cx="2305080" cy="180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0033"/>
                </a:solidFill>
                <a:uFillTx/>
                <a:latin typeface="Verdana"/>
              </a:rPr>
              <a:t>Анимация объект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4360" y="162864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авка аним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берите в меню Показ слайдов команду «Настройка анимации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Щелкните на объект и нажмите кнопку добавить эффек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берите эффект (просмотр автоматическ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астрой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метры ани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авой кнопкой на эффек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астройте последовательность и порядок появления эффек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1280" y="476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има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воляет задать и настроить для текста и других объектов слайда один из встроенных анимационных эффектов PowerPoint, включающих как видео так и звуковые эффект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"/>
          <p:cNvPicPr/>
          <p:nvPr/>
        </p:nvPicPr>
        <p:blipFill>
          <a:blip r:embed="rId1"/>
          <a:srcRect l="83871" t="7583" r="-402" b="5310"/>
          <a:stretch/>
        </p:blipFill>
        <p:spPr>
          <a:xfrm>
            <a:off x="7345440" y="1125360"/>
            <a:ext cx="1798560" cy="561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525760" cy="3016440"/>
          </a:xfrm>
          <a:prstGeom prst="rect">
            <a:avLst/>
          </a:prstGeom>
          <a:ln w="0">
            <a:noFill/>
          </a:ln>
        </p:spPr>
      </p:pic>
      <p:sp>
        <p:nvSpPr>
          <p:cNvPr id="162" name="Line 11"/>
          <p:cNvSpPr/>
          <p:nvPr/>
        </p:nvSpPr>
        <p:spPr>
          <a:xfrm flipV="1">
            <a:off x="3348000" y="1557360"/>
            <a:ext cx="410364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4140360" y="4581360"/>
            <a:ext cx="3127320" cy="2168640"/>
          </a:xfrm>
          <a:prstGeom prst="rect">
            <a:avLst/>
          </a:prstGeom>
          <a:ln w="0">
            <a:noFill/>
          </a:ln>
        </p:spPr>
      </p:pic>
      <p:sp>
        <p:nvSpPr>
          <p:cNvPr id="164" name="Line 10"/>
          <p:cNvSpPr/>
          <p:nvPr/>
        </p:nvSpPr>
        <p:spPr>
          <a:xfrm>
            <a:off x="3348000" y="4365720"/>
            <a:ext cx="1224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 flipV="1">
            <a:off x="3419640" y="2565000"/>
            <a:ext cx="4032000" cy="165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132000" y="3357720"/>
            <a:ext cx="172728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2916360" y="2133360"/>
            <a:ext cx="4535280" cy="31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3924360" y="5734080"/>
            <a:ext cx="410364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1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79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9:49:28Z</dcterms:created>
  <dc:creator>Admin</dc:creator>
  <dc:description/>
  <dc:language>en-US</dc:language>
  <cp:lastModifiedBy>СемьЯ</cp:lastModifiedBy>
  <dcterms:modified xsi:type="dcterms:W3CDTF">2015-02-02T20:16:25Z</dcterms:modified>
  <cp:revision>91</cp:revision>
  <dc:subject/>
  <dc:title>Урок № 1</dc:title>
</cp:coreProperties>
</file>