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64CA-BDD6-44BC-9247-797A6388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08C-9910-4116-A061-198287B1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911-90C2-486F-87E9-9C3FF1FF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67C-3A14-4254-8B31-B5F44B72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8E4B-D247-470D-8C46-5EC0341C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9E75-35C8-4D52-B5FA-305EE3E9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92F9-6DD4-4574-A924-138923E6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32E1-C4AB-48D5-A10F-DC1E2F02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F525-D547-4ECF-A375-5223E6AA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0C04-C7AC-4B4D-8A4C-ED38BCB6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30A7-97CF-4EA3-B2B9-48A5D24A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757-56C0-4AE7-9844-68916758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38A4-0632-45EA-8C81-2F1C8878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FB4A-01B0-4278-A84A-E65A60AD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7A1D-3430-439A-8B77-1588AEE9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F9EB-505F-4694-A8D2-B695C0BC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49DE-65CC-4A86-8AAF-E10C76E2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260D-C35B-482F-8A52-CA819ADE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1F44-2EB3-45EB-B084-4E84CDB4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41FE-C4D8-426C-B4EC-730BC235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AFE4-557F-4F72-BF25-F15F0893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BDDC-756A-47F1-A3B0-1159FE2F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50D-CE65-42B2-9D27-8BF1B44C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E28-696C-428A-B2C1-5488FF7D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D7BF-5665-4F7D-8A1F-8AB20865B08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EACD-34A8-4CC2-B61C-C586EFE7C0E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57200" y="189000"/>
            <a:ext cx="8229600" cy="1901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07640" y="4653000"/>
            <a:ext cx="8785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МБУК МО Северский райо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«Межпоселенческая библиоте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8723160" cy="1573200"/>
          </a:xfrm>
          <a:prstGeom prst="rect">
            <a:avLst/>
          </a:prstGeom>
          <a:ln w="0">
            <a:noFill/>
          </a:ln>
        </p:spPr>
      </p:pic>
      <p:sp>
        <p:nvSpPr>
          <p:cNvPr id="110" name="Содержимое 2"/>
          <p:cNvSpPr/>
          <p:nvPr/>
        </p:nvSpPr>
        <p:spPr>
          <a:xfrm>
            <a:off x="214200" y="1928880"/>
            <a:ext cx="5072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man Old Style"/>
              </a:rPr>
              <a:t>Данное издание имеет учебно-методический и познавательный характер. Ярко, емко и доступ­но коллектив авторов рассказывает о древнейшей борьбе мира дзюдо, его истории, философии и технике. Освещены основные проблемы теории и методики подготовки дзюдоистов. Издание явля­ется актуальным и необходимым для отечественного дзюдо. Учебный материал проиллюстрирован. Книга представляет собой полноценное учебное пособие и рекомендуется для дзюдоистов спортив­ных школ, тренеров, студентов институтов физической культуры, спе­циализирующихся по дзюдо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Объект 3" descr=""/>
          <p:cNvPicPr/>
          <p:nvPr/>
        </p:nvPicPr>
        <p:blipFill>
          <a:blip r:embed="rId2"/>
          <a:stretch/>
        </p:blipFill>
        <p:spPr>
          <a:xfrm>
            <a:off x="5435640" y="1857240"/>
            <a:ext cx="336384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26960" y="304920"/>
            <a:ext cx="8283600" cy="993600"/>
          </a:xfrm>
          <a:prstGeom prst="rect">
            <a:avLst/>
          </a:prstGeom>
          <a:ln w="0">
            <a:noFill/>
          </a:ln>
        </p:spPr>
      </p:pic>
      <p:sp>
        <p:nvSpPr>
          <p:cNvPr id="113" name="Содержимое 2"/>
          <p:cNvSpPr/>
          <p:nvPr/>
        </p:nvSpPr>
        <p:spPr>
          <a:xfrm>
            <a:off x="3429000" y="1357200"/>
            <a:ext cx="557208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Bookman Old Style"/>
              </a:rPr>
              <a:t>В 2008 году Россия отмечает столетие выступления наших спортсменов на Олимпи­адах. Это не просто спортивные состязания, Олимпийские игры являются гимном муже­ству, стойкости, силе воли и героизму!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Bookman Old Style"/>
              </a:rPr>
              <a:t>Когда Алексею Немову в Сиднее за блестящее выступление на любимой им перекла­дине поставили заниженные оценки, зал встал. Встали те, кто болел за Алексея, и те, кто желал ему поражения, - не могли не встать и не требовать пересмотра результатов. Толь­ко Алексею удалось успокоить разъяренный зал. И тогда тысячи людей стали рукоплес­кать человеку, который совершил подвиг, который выстоял, несмотря на невероятное давление и ужасающую несправедливость. Рукоплескали ГЕРОЮ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Bookman Old Style"/>
              </a:rPr>
              <a:t>В этой книге собраны самые яркие и драматичные, трагические и курьезные момен­ты Олимпийских игр, моменты, от которых бегут по спине мурашки и захватывает дух. Это и есть настоящая история Олимпиады - история, которую написали Геро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Объект 3" descr=""/>
          <p:cNvPicPr/>
          <p:nvPr/>
        </p:nvPicPr>
        <p:blipFill>
          <a:blip r:embed="rId2"/>
          <a:stretch/>
        </p:blipFill>
        <p:spPr>
          <a:xfrm>
            <a:off x="115920" y="1574640"/>
            <a:ext cx="329724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53360" cy="1219320"/>
          </a:xfrm>
          <a:prstGeom prst="rect">
            <a:avLst/>
          </a:prstGeom>
          <a:ln w="0">
            <a:noFill/>
          </a:ln>
        </p:spPr>
      </p:pic>
      <p:sp>
        <p:nvSpPr>
          <p:cNvPr id="116" name="Содержимое 2"/>
          <p:cNvSpPr/>
          <p:nvPr/>
        </p:nvSpPr>
        <p:spPr>
          <a:xfrm>
            <a:off x="3357720" y="1714680"/>
            <a:ext cx="557208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Bookman Old Style"/>
              </a:rPr>
              <a:t>Игорь Рабинер, автор ряда спортивных бестселлеров, впер­вые написал книгу не о футболе. Побывав на трех летних Олим­пийских играх - в Сиднее-2000, Афинах-2004 и Пекине-2008, он решил поделиться своими впечатлениями о российских ге­роях этих соревнований, их драматических судьбах и ярких ха­рактерах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Bookman Old Style"/>
              </a:rPr>
              <a:t>Какой, скажем, была прыгунья с шестом Елена Исинбаева перед Афинами, когда ездила на трамвае в родном Волгогра­де, - и какой она, ныне суперзвезда и житель Монако, стала к Пекину? Что в корне отличает Елену Дементьеву от остальных ведущих теннисистов мира? Каково было чемпионке Афин в прыжках в длину Татьяне Лебедевой проиграть в Китае один сантиметр? Что такое расти в семье из 13 детей, как первый российский чемпион Пекина Назир Манкиев? Как можно в один миг из обитателя московской общаги с единственным туале­том на этаже превратиться в долларового миллионера, подобно еще одному борцу греко-римского стиля Исламбеку Апьбиеву?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Объект 4" descr=""/>
          <p:cNvPicPr/>
          <p:nvPr/>
        </p:nvPicPr>
        <p:blipFill>
          <a:blip r:embed="rId2"/>
          <a:stretch/>
        </p:blipFill>
        <p:spPr>
          <a:xfrm>
            <a:off x="324000" y="1714680"/>
            <a:ext cx="29764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96200" cy="1219320"/>
          </a:xfrm>
          <a:prstGeom prst="rect">
            <a:avLst/>
          </a:prstGeom>
          <a:ln w="0">
            <a:noFill/>
          </a:ln>
        </p:spPr>
      </p:pic>
      <p:sp>
        <p:nvSpPr>
          <p:cNvPr id="119" name="Содержимое 2"/>
          <p:cNvSpPr/>
          <p:nvPr/>
        </p:nvSpPr>
        <p:spPr>
          <a:xfrm>
            <a:off x="3571920" y="1857240"/>
            <a:ext cx="542916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Эта книга одного из старейших и опытнейших деятелей междуна­родного олимпийского движения посвящена спорту, многим и многим спортсменам и деятелям спорта, с которыми автор был тесно связан более 60 лет и стал очевидцем их достижений и вклада в развитие спорта и олимпийской иде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Объект 3" descr=""/>
          <p:cNvPicPr/>
          <p:nvPr/>
        </p:nvPicPr>
        <p:blipFill>
          <a:blip r:embed="rId2"/>
          <a:stretch/>
        </p:blipFill>
        <p:spPr>
          <a:xfrm>
            <a:off x="324000" y="1792440"/>
            <a:ext cx="31543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Объект 2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Содержимое 2"/>
          <p:cNvSpPr/>
          <p:nvPr/>
        </p:nvSpPr>
        <p:spPr>
          <a:xfrm>
            <a:off x="428760" y="285840"/>
            <a:ext cx="82864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Бутин, И.М. Лыжный спорт: Учеб. пособие для студ. высш. пед. учеб. заве­дений. - М.: Издательский центр «Академия», 2000. - 368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5364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3714840" y="1643040"/>
            <a:ext cx="52862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пособии изложены основные вопросы истории возникновения и развития лыж и лыжного спорта, техника и методика обучения способам передвижения на лыжах, организация и методика проведения уроков лыжной подготовки в школе. Отдельные главы посвящены общим основам методики тренировки в лыжном спорте, методике тренировки школьников, а также организации и про­ведению соревнований по лыжным гонкам и т.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чебное пособие может быть использовано также учителями общеобразо­вательных школ, тренерами ДЮСШ, студентами и преподавателями средних педагогических учебных заведен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Объект 2" descr=""/>
          <p:cNvPicPr/>
          <p:nvPr/>
        </p:nvPicPr>
        <p:blipFill>
          <a:blip r:embed="rId1"/>
          <a:stretch/>
        </p:blipFill>
        <p:spPr>
          <a:xfrm>
            <a:off x="324000" y="1643040"/>
            <a:ext cx="32637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одержимое 2"/>
          <p:cNvSpPr/>
          <p:nvPr/>
        </p:nvSpPr>
        <p:spPr>
          <a:xfrm>
            <a:off x="428760" y="214200"/>
            <a:ext cx="82864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Гомельский, А.Я. Энциклопедия баскетбола от Гомельского / А.Я.Гомельский. - М.: ФАИР-ПРЕСС, 2002. - 352 с: и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Содержимое 2"/>
          <p:cNvSpPr/>
          <p:nvPr/>
        </p:nvSpPr>
        <p:spPr>
          <a:xfrm>
            <a:off x="142920" y="1500120"/>
            <a:ext cx="54291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омельский Александр Яковлевич - человек-легенда, патриарх мирового баскетбола, обладатель уникальной коллекции титулов и наград. Его команды завоевывали «золото» на чемпионатах и спартакиадах. Он воспитал плеяду талантливых игроков, ставших знаменитыми во всем мир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своей новой книге он рассказывает о жизни, карьере, друзьях, семье, о том, кто и как управляет игрой гигантов, о баскетбольном кодексе и правилах игры, о судействе, о баскет­больных школах и великих игроках. У читателей появляется возможность узнать о мире баскетбола из первых рук, от человека, чье имя представлено в американск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ля широкого круга чита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Объект 2" descr=""/>
          <p:cNvPicPr/>
          <p:nvPr/>
        </p:nvPicPr>
        <p:blipFill>
          <a:blip r:embed="rId1"/>
          <a:stretch/>
        </p:blipFill>
        <p:spPr>
          <a:xfrm>
            <a:off x="5626080" y="1500120"/>
            <a:ext cx="33750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Содержимое 2"/>
          <p:cNvSpPr/>
          <p:nvPr/>
        </p:nvSpPr>
        <p:spPr>
          <a:xfrm>
            <a:off x="428760" y="214200"/>
            <a:ext cx="82864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рдамонова, Н.Н. Плавание: лечение и спорт. - Ростов н/Д: Феникс, 2001. - 320 с. - (Серия «Пана­цея»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3857760" y="1643040"/>
            <a:ext cx="51433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книге описывается плавание как уникальное сред­ство поддержания организма в хорошей форме. Инфор­мация, рекомендации и упражнения помогут любому желающему освоить этот вид физической нагрузки. Спе­циальные главы посвящены плаванию грудных детей и детей дошкольного и младшего школьного возраста, а также плаванию как доступному лечебно-терапевтичес­кому средст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широкого круга чит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Объект 2" descr=""/>
          <p:cNvPicPr/>
          <p:nvPr/>
        </p:nvPicPr>
        <p:blipFill>
          <a:blip r:embed="rId1"/>
          <a:stretch/>
        </p:blipFill>
        <p:spPr>
          <a:xfrm>
            <a:off x="539640" y="1500120"/>
            <a:ext cx="300384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одержимое 2"/>
          <p:cNvSpPr/>
          <p:nvPr/>
        </p:nvSpPr>
        <p:spPr>
          <a:xfrm>
            <a:off x="428760" y="214200"/>
            <a:ext cx="82864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пасский,  О. Валерий    Харламов. - М.: Агентство «ФАИР», 1998. - 256 с:   ил. - (Звезды  спорт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Содержимое 2"/>
          <p:cNvSpPr/>
          <p:nvPr/>
        </p:nvSpPr>
        <p:spPr>
          <a:xfrm>
            <a:off x="214200" y="1857240"/>
            <a:ext cx="49294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 судьбе Валерия Харламова, самого великого в истории нашего спорта, фантастически талантли­вого хоккеиста, о том, как он поднимался к верши­нам спорта, как играл, каким был за пределами хоккейной площадки, рассказывает в этой книге журналист, помогавший когда-то Харламову в работе над  его  книг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широкого круга чит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Объект 2" descr=""/>
          <p:cNvPicPr/>
          <p:nvPr/>
        </p:nvPicPr>
        <p:blipFill>
          <a:blip r:embed="rId1"/>
          <a:stretch/>
        </p:blipFill>
        <p:spPr>
          <a:xfrm>
            <a:off x="5651640" y="1500120"/>
            <a:ext cx="2982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одержимое 2"/>
          <p:cNvSpPr/>
          <p:nvPr/>
        </p:nvSpPr>
        <p:spPr>
          <a:xfrm>
            <a:off x="428760" y="357120"/>
            <a:ext cx="8286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Метцлер П. Теннис / Пер. с англ. В.Вашедченко, Ю.Яснева. - М.: Агентство «ФАИР», 1997. - 336 с, ил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Содержимое 2"/>
          <p:cNvSpPr/>
          <p:nvPr/>
        </p:nvSpPr>
        <p:spPr>
          <a:xfrm>
            <a:off x="3500280" y="1500120"/>
            <a:ext cx="55008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этой книге раскрываются секреты мирового тенниса, и адресована она в первую очередь тем, кто выходит на корт по субботам и воскресенья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доступной и непринужденной форме в книге освещаются важнейшие вопросы техники, тактики, психоло­гического настроя теннисиста перед встречей с соперником, даются полезные советы, рассчитанные в том числе и на игроков с небольшим стажем: как сдерживать эмоции, что влияет на успех игры, как относиться к соперниками спорным решениям судей, как играть против левши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иложены Правила игры и соревнований, утвержденные  Всероссийской  теннисной  ассоциаци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ля широкого круга чита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Объект 2" descr=""/>
          <p:cNvPicPr/>
          <p:nvPr/>
        </p:nvPicPr>
        <p:blipFill>
          <a:blip r:embed="rId1"/>
          <a:stretch/>
        </p:blipFill>
        <p:spPr>
          <a:xfrm>
            <a:off x="324000" y="1617840"/>
            <a:ext cx="298764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одержимое 2"/>
          <p:cNvSpPr/>
          <p:nvPr/>
        </p:nvSpPr>
        <p:spPr>
          <a:xfrm>
            <a:off x="357120" y="428760"/>
            <a:ext cx="82868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Мисакян, М.А. Каратэ Киокушинкай: Самоучитель / Мисак Арцрунович Мисакян. - М.: ФАИР-ПРЕСС, 2002. - 400 с: ил. - (Боевые искусства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Содержимое 2"/>
          <p:cNvSpPr/>
          <p:nvPr/>
        </p:nvSpPr>
        <p:spPr>
          <a:xfrm>
            <a:off x="214200" y="1785960"/>
            <a:ext cx="5286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иокушинкай - сильнейший вид каратэ, отличаю­щийся силой, простотой и эффективностью приемов. Это наука и философия рукопашного боя, предельное разви­тие духовных и физических возможностей человека, это скорее жизненный путь, чем спорт. В книге представле­ны разминка, силовые упражнения, стойки, удары, блоки, подсечки. Даны методы самозащиты от вооруженного противника, техники уклонения от ударов, освобождения от захватов, бросков, реанимации. Прекрасно выполнен­ные рисунки помогут освоить все комбинации и отрабо­тать их на тренировка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ля широкого круга чита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Объект 2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306684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Содержимое 2"/>
          <p:cNvSpPr/>
          <p:nvPr/>
        </p:nvSpPr>
        <p:spPr>
          <a:xfrm>
            <a:off x="428760" y="357120"/>
            <a:ext cx="82864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имнастика: Учеб. для студ. высш. пед. учеб. заведений / М.Л.Журавин, О.В.Загрядская, Н.В.Казакевич и др.; Под ред. М.Л.Журавина, Н.К.Меньшикова. - М.: Издательский центр «Академия», 2001. - 448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571920" y="2071800"/>
            <a:ext cx="542916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учебнике рассматриваются важные вопросы теории и методики пре­подавания гимнастики как спортивно-педагогической дисциплины, в ча­стности основы техники гимнастических упражнений, основы обучения гимнастическим упражнениям, предупреждение травматизма, основные средства гимнастики, формы организации занятий и др.; специальные главы посвящены истории развития гимнастики, организации и проведе­нию соревнований, научной работе по гимнастик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нига может представлять интерес также для преподавателей высших и средних учебных заведений физической культур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Объект 2" descr=""/>
          <p:cNvPicPr/>
          <p:nvPr/>
        </p:nvPicPr>
        <p:blipFill>
          <a:blip r:embed="rId1"/>
          <a:stretch/>
        </p:blipFill>
        <p:spPr>
          <a:xfrm>
            <a:off x="250920" y="1828800"/>
            <a:ext cx="31557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Содержимое 2"/>
          <p:cNvSpPr/>
          <p:nvPr/>
        </p:nvSpPr>
        <p:spPr>
          <a:xfrm>
            <a:off x="357120" y="428760"/>
            <a:ext cx="82868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Роубел С. Айкидо для самопознания/Стэн Роубел. — Пер. с англ. Ю. Бондарева. — М.: ФАИР-ПРЕСС, 2002. — 208 с. — (Боевые искусства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одержимое 2"/>
          <p:cNvSpPr/>
          <p:nvPr/>
        </p:nvSpPr>
        <p:spPr>
          <a:xfrm>
            <a:off x="214200" y="1785960"/>
            <a:ext cx="55008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Эта книга представляет уроки айкидо для развития интуиции и достижения духовного просветления. Благода­ря автору появляется возможность через айкидо глубже понять свой мир и свою жизнь. Он направляет вас на путь внутренней гармонии, познания своей сути и говорит о знаменитом боевом искусстве как о зеркале, отражаю­щем душу бойца, как об «инструменте» установления кон­тактов, между людьми. Он дает возможность через физи­ческие аспекты айкидо войти в мир чувств. Испытайте себя, проявите терпение, настойчивость, открытость, и вы поймете, как живете, творите, чувствуете, действуете и ме­няетес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ля широкого круга чита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Объект 2" descr=""/>
          <p:cNvPicPr/>
          <p:nvPr/>
        </p:nvPicPr>
        <p:blipFill>
          <a:blip r:embed="rId1"/>
          <a:stretch/>
        </p:blipFill>
        <p:spPr>
          <a:xfrm>
            <a:off x="5867280" y="1785960"/>
            <a:ext cx="29098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6-07-28T09:18:18Z</dcterms:modified>
  <cp:revision>26</cp:revision>
  <dc:subject/>
  <dc:title>Слайд 1</dc:title>
</cp:coreProperties>
</file>