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5A5-0F91-4A6A-BF95-4D752EF7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CC7-6282-478D-BE1A-10406760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D68-FD49-4EF9-B098-D73FB303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67C-1DE4-47DA-9EDD-14DBEBE1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F5A-D03C-4D13-80C0-12DEBEF7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DBF1-BE33-42B0-ABB4-9FCA14E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57BA-2E43-43F7-A6DF-18854265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2E1-C87A-4C19-BA61-0F57407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5F6-1A26-4138-8369-9B76591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FAEE-B77A-40FA-8A06-9ED2311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4873-0025-4244-A578-0DE28BC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605-3FE9-489A-9F40-FDF844F9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CEBE-C602-4A90-A369-906F0B5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20AA-3854-48F5-BD2C-AA875AB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5AD5-96A1-4A9A-B810-85416EA7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6EA-B6FF-4ED8-98D7-4327EEB3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2D3-6A22-42D7-9B31-EA3D7488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D87-FAFA-4D7C-8216-E130EE1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A81-037E-464E-811C-978E627F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D3F-EE7E-4501-B2DC-6498AA8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92A-6B20-4260-8221-D065E5C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923-B9F2-413D-9258-0276EBC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271-0995-432C-9B2A-9387D3D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ADC-3323-42D9-A0F3-2968D77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5BC0-90F5-4156-A1B8-D0231E72D2B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420-E08B-4CD9-9260-AFDE3D30FF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7200" y="1890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7640" y="465300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БУК МО Северский райо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Межпоселенческая библиоте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23160" cy="1573200"/>
          </a:xfrm>
          <a:prstGeom prst="rect">
            <a:avLst/>
          </a:prstGeom>
          <a:ln w="0">
            <a:noFill/>
          </a:ln>
        </p:spPr>
      </p:pic>
      <p:sp>
        <p:nvSpPr>
          <p:cNvPr id="110" name="Содержимое 2"/>
          <p:cNvSpPr/>
          <p:nvPr/>
        </p:nvSpPr>
        <p:spPr>
          <a:xfrm>
            <a:off x="214200" y="1928880"/>
            <a:ext cx="5072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man Old Style"/>
              </a:rPr>
              <a:t>Данное издание имеет учебно-методический и познавательный характер. Ярко, емко и доступ­но коллектив авторов рассказывает о древнейшей борьбе мира дзюдо, его истории, философии и технике. Освещены основные проблемы теории и методики подготовки дзюдоистов. Издание явля­ется актуальным и необходимым для отечественного дзюдо. Учебный материал проиллюстрирован. Книга представляет собой полноценное учебное пособие и рекомендуется для дзюдоистов спортив­ных школ, тренеров, студентов институтов физической культуры, спе­циализирующихся по дзюдо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2"/>
          <a:stretch/>
        </p:blipFill>
        <p:spPr>
          <a:xfrm>
            <a:off x="5435640" y="1857240"/>
            <a:ext cx="33638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304920"/>
            <a:ext cx="8283600" cy="993600"/>
          </a:xfrm>
          <a:prstGeom prst="rect">
            <a:avLst/>
          </a:prstGeom>
          <a:ln w="0">
            <a:noFill/>
          </a:ln>
        </p:spPr>
      </p:pic>
      <p:sp>
        <p:nvSpPr>
          <p:cNvPr id="113" name="Содержимое 2"/>
          <p:cNvSpPr/>
          <p:nvPr/>
        </p:nvSpPr>
        <p:spPr>
          <a:xfrm>
            <a:off x="3429000" y="1357200"/>
            <a:ext cx="5572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В 2008 году Россия отмечает столетие выступления наших спортсменов на Олимпи­адах. Это не просто спортивные состязания, Олимпийские игры являются гимном муже­ству, стойкости, силе воли и героизму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Когда Алексею Немову в Сиднее за блестящее выступление на любимой им перекла­дине поставили заниженные оценки, зал встал. Встали те, кто болел за Алексея, и те, кто желал ему поражения, - не могли не встать и не требовать пересмотра результатов. Толь­ко Алексею удалось успокоить разъяренный зал. И тогда тысячи людей стали рукоплес­кать человеку, который совершил подвиг, который выстоял, несмотря на невероятное давление и ужасающую несправедливость. Рукоплескали ГЕРО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В этой книге собраны самые яркие и драматичные, трагические и курьезные момен­ты Олимпийских игр, моменты, от которых бегут по спине мурашки и захватывает дух. Это и есть настоящая история Олимпиады - история, которую написали Геро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2"/>
          <a:stretch/>
        </p:blipFill>
        <p:spPr>
          <a:xfrm>
            <a:off x="115920" y="1574640"/>
            <a:ext cx="3297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336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3357720" y="1714680"/>
            <a:ext cx="5572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Игорь Рабинер, автор ряда спортивных бестселлеров, впер­вые написал книгу не о футболе. Побывав на трех летних Олим­пийских играх - в Сиднее-2000, Афинах-2004 и Пекине-2008, он решил поделиться своими впечатлениями о российских ге­роях этих соревнований, их драматических судьбах и ярких ха­рактерах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Bookman Old Style"/>
              </a:rPr>
              <a:t>Какой, скажем, была прыгунья с шестом Елена Исинбаева перед Афинами, когда ездила на трамвае в родном Волгогра­де, - и какой она, ныне суперзвезда и житель Монако, стала к Пекину? Что в корне отличает Елену Дементьеву от остальных ведущих теннисистов мира? Каково было чемпионке Афин в прыжках в длину Татьяне Лебедевой проиграть в Китае один сантиметр? Что такое расти в семье из 13 детей, как первый российский чемпион Пекина Назир Манкиев? Как можно в один миг из обитателя московской общаги с единственным туале­том на этаже превратиться в долларового миллионера, подобно еще одному борцу греко-римского стиля Исламбеку Апьбиеву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2"/>
          <a:stretch/>
        </p:blipFill>
        <p:spPr>
          <a:xfrm>
            <a:off x="324000" y="1714680"/>
            <a:ext cx="29764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9620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Содержимое 2"/>
          <p:cNvSpPr/>
          <p:nvPr/>
        </p:nvSpPr>
        <p:spPr>
          <a:xfrm>
            <a:off x="3571920" y="1857240"/>
            <a:ext cx="54291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Эта книга одного из старейших и опытнейших деятелей междуна­родного олимпийского движения посвящена спорту, многим и многим спортсменам и деятелям спорта, с которыми автор был тесно связан более 60 лет и стал очевидцем их достижений и вклада в развитие спорта и олимпийской ид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2"/>
          <a:stretch/>
        </p:blipFill>
        <p:spPr>
          <a:xfrm>
            <a:off x="324000" y="1792440"/>
            <a:ext cx="3154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одержимое 2"/>
          <p:cNvSpPr/>
          <p:nvPr/>
        </p:nvSpPr>
        <p:spPr>
          <a:xfrm>
            <a:off x="428760" y="28584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утин, И.М. Лыжный спорт: Учеб. пособие для студ. высш. пед. учеб. заве­дений. - М.: Издательский центр «Академия», 2000. - 368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5364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714840" y="1643040"/>
            <a:ext cx="52862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пособии изложены основные вопросы истории возникновения и развития лыж и лыжного спорта, техника и методика обучения способам передвижения на лыжах, организация и методика проведения уроков лыжной подготовки в школе. Отдельные главы посвящены общим основам методики тренировки в лыжном спорте, методике тренировки школьников, а также организации и про­ведению соревнований по лыжным гонкам и т.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ебное пособие может быть использовано также учителями общеобразо­вательных школ, тренерами ДЮСШ, студентами и преподавателями средних педагогических учебных завед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324000" y="1643040"/>
            <a:ext cx="3263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омельский, А.Я. Энциклопедия баскетбола от Гомельского / А.Я.Гомельский. - М.: ФАИР-ПРЕСС, 2002. - 352 с: 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142920" y="1500120"/>
            <a:ext cx="5429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мельский Александр Яковлевич - человек-легенда, патриарх мирового баскетбола, обладатель уникальной коллекции титулов и наград. Его команды завоевывали «золото» на чемпионатах и спартакиадах. Он воспитал плеяду талантливых игроков, ставших знаменитыми во всем мир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воей новой книге он рассказывает о жизни, карьере, друзьях, семье, о том, кто и как управляет игрой гигантов, о баскетбольном кодексе и правилах игры, о судействе, о баскет­больных школах и великих игроках. У читателей появляется возможность узнать о мире баскетбола из первых рук, от человека, чье имя представлено в американск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5626080" y="1500120"/>
            <a:ext cx="3375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рдамонова, Н.Н. Плавание: лечение и спорт. - Ростов н/Д: Феникс, 2001. - 320 с. - (Серия «Пана­цея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857760" y="1643040"/>
            <a:ext cx="5143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ниге описывается плавание как уникальное сред­ство поддержания организма в хорошей форме. Инфор­мация, рекомендации и упражнения помогут любому желающему освоить этот вид физической нагрузки. Спе­циальные главы посвящены плаванию грудных детей и детей дошкольного и младшего школьного возраста, а также плаванию как доступному лечебно-терапевтичес­кому сред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Объект 2" descr=""/>
          <p:cNvPicPr/>
          <p:nvPr/>
        </p:nvPicPr>
        <p:blipFill>
          <a:blip r:embed="rId1"/>
          <a:stretch/>
        </p:blipFill>
        <p:spPr>
          <a:xfrm>
            <a:off x="539640" y="1500120"/>
            <a:ext cx="3003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одержимое 2"/>
          <p:cNvSpPr/>
          <p:nvPr/>
        </p:nvSpPr>
        <p:spPr>
          <a:xfrm>
            <a:off x="428760" y="214200"/>
            <a:ext cx="82864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асский,  О. Валерий    Харламов. - М.: Агентство «ФАИР», 1998. - 256 с:   ил. - (Звезды  спор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214200" y="1857240"/>
            <a:ext cx="49294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судьбе Валерия Харламова, самого великого в истории нашего спорта, фантастически талантли­вого хоккеиста, о том, как он поднимался к верши­нам спорта, как играл, каким был за пределами хоккейной площадки, рассказывает в этой книге журналист, помогавший когда-то Харламову в работе над  его  кни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5651640" y="1500120"/>
            <a:ext cx="2982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одержимое 2"/>
          <p:cNvSpPr/>
          <p:nvPr/>
        </p:nvSpPr>
        <p:spPr>
          <a:xfrm>
            <a:off x="428760" y="357120"/>
            <a:ext cx="82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Метцлер П. Теннис / Пер. с англ. В.Вашедченко, Ю.Яснева. - М.: Агентство «ФАИР», 1997. - 336 с, и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3500280" y="1500120"/>
            <a:ext cx="5500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й книге раскрываются секреты мирового тенниса, и адресована она в первую очередь тем, кто выходит на корт по субботам и воскресенья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доступной и непринужденной форме в книге освещаются важнейшие вопросы техники, тактики, психоло­гического настроя теннисиста перед встречей с соперником, даются полезные советы, рассчитанные в том числе и на игроков с небольшим стажем: как сдерживать эмоции, что влияет на успех игры, как относиться к соперниками спорным решениям судей, как играть против левши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ложены Правила игры и соревнований, утвержденные  Всероссийской  теннисной  ассоциаци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324000" y="1617840"/>
            <a:ext cx="2987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одержимое 2"/>
          <p:cNvSpPr/>
          <p:nvPr/>
        </p:nvSpPr>
        <p:spPr>
          <a:xfrm>
            <a:off x="357120" y="428760"/>
            <a:ext cx="8286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Мисакян, М.А. Каратэ Киокушинкай: Самоучитель / Мисак Арцрунович Мисакян. - М.: ФАИР-ПРЕСС, 2002. - 400 с: ил. - (Боевые искусств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214200" y="1785960"/>
            <a:ext cx="5286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иокушинкай - сильнейший вид каратэ, отличаю­щийся силой, простотой и эффективностью приемов. Это наука и философия рукопашного боя, предельное разви­тие духовных и физических возможностей человека, это скорее жизненный путь, чем спорт. В книге представле­ны разминка, силовые упражнения, стойки, удары, блоки, подсечки. Даны методы самозащиты от вооруженного противника, техники уклонения от ударов, освобождения от захватов, бросков, реанимации. Прекрасно выполнен­ные рисунки помогут освоить все комбинации и отрабо­тать их на тренировк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0668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держимое 2"/>
          <p:cNvSpPr/>
          <p:nvPr/>
        </p:nvSpPr>
        <p:spPr>
          <a:xfrm>
            <a:off x="428760" y="357120"/>
            <a:ext cx="82864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имнастика: Учеб. для студ. высш. пед. учеб. заведений / М.Л.Журавин, О.В.Загрядская, Н.В.Казакевич и др.; Под ред. М.Л.Журавина, Н.К.Меньшикова. - М.: Издательский центр «Академия», 2001. - 448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920" y="2071800"/>
            <a:ext cx="5429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учебнике рассматриваются важные вопросы теории и методики пре­подавания гимнастики как спортивно-педагогической дисциплины, в ча­стности основы техники гимнастических упражнений, основы обучения гимнастическим упражнениям, предупреждение травматизма, основные средства гимнастики, формы организации занятий и др.; специальные главы посвящены истории развития гимнастики, организации и проведе­нию соревнований, научной работе по гимнаст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нига может представлять интерес также для преподавателей высших и средних учебных заведений физической культур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250920" y="1828800"/>
            <a:ext cx="31557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одержимое 2"/>
          <p:cNvSpPr/>
          <p:nvPr/>
        </p:nvSpPr>
        <p:spPr>
          <a:xfrm>
            <a:off x="357120" y="428760"/>
            <a:ext cx="8286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оубел С. Айкидо для самопознания/Стэн Роубел. — Пер. с англ. Ю. Бондарева. — М.: ФАИР-ПРЕСС, 2002. — 208 с. — (Боевые искусств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214200" y="1785960"/>
            <a:ext cx="55008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та книга представляет уроки айкидо для развития интуиции и достижения духовного просветления. Благода­ря автору появляется возможность через айкидо глубже понять свой мир и свою жизнь. Он направляет вас на путь внутренней гармонии, познания своей сути и говорит о знаменитом боевом искусстве как о зеркале, отражаю­щем душу бойца, как об «инструменте» установления кон­тактов, между людьми. Он дает возможность через физи­ческие аспекты айкидо войти в мир чувств. Испытайте себя, проявите терпение, настойчивость, открытость, и вы поймете, как живете, творите, чувствуете, действуете и ме­няете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широкого круга чит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Объект 2" descr=""/>
          <p:cNvPicPr/>
          <p:nvPr/>
        </p:nvPicPr>
        <p:blipFill>
          <a:blip r:embed="rId1"/>
          <a:stretch/>
        </p:blipFill>
        <p:spPr>
          <a:xfrm>
            <a:off x="5867280" y="1785960"/>
            <a:ext cx="29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07-28T09:18:18Z</dcterms:modified>
  <cp:revision>26</cp:revision>
  <dc:subject/>
  <dc:title>Слайд 1</dc:title>
</cp:coreProperties>
</file>