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AF8-97BC-4734-8729-833DA5CA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BDD-340E-421E-8063-BFF8670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B2-CBFF-401C-8DFC-BC4B7BE3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528-75E7-4360-9FE6-A2096A38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472-F2A6-4234-B8FD-235DA4F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959-897B-4341-8596-7BDC9E4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EB9-A993-4827-B4A5-96E64E36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ECF-E45A-4938-9FF1-54D2962E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9C2-09B9-47C2-B0FC-91D9951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BB3-A9FA-4696-A972-EFA79E5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11F-F91E-4973-B2BB-140AB9AE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377-3850-42E2-AD08-C4FD9EB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5424-2807-4E54-9634-3F28AAF7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3T17:45:46Z</dcterms:created>
  <dc:creator>Сергей</dc:creator>
  <dc:description/>
  <dc:language>en-US</dc:language>
  <cp:lastModifiedBy>Сергей</cp:lastModifiedBy>
  <dcterms:modified xsi:type="dcterms:W3CDTF">2016-06-23T17:46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