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985-DAB9-4A62-8849-C13A9FBB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950-E87D-4311-B6D2-FEFB7FB2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E39-AD15-4714-81DB-D1C5C078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FB1-8329-4160-A6EE-BC74291C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912-A386-4769-BEF3-E0D24BBE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04FD-161E-40FA-8DCD-F0FCFEBB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561-F13A-4002-AA15-77655BEF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A17-307A-485D-842B-5DBB1E8C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080-BCA7-4550-8D61-9B21AA89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E07-997B-4871-851E-EEA4CB21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E2B-42C8-442D-AE37-E71F3E56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F956-D034-4AD4-A3C5-9686629C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79FB-75F1-4A4B-B5D1-E54771F06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3T17:45:46Z</dcterms:created>
  <dc:creator>Сергей</dc:creator>
  <dc:description/>
  <dc:language>en-US</dc:language>
  <cp:lastModifiedBy>Сергей</cp:lastModifiedBy>
  <dcterms:modified xsi:type="dcterms:W3CDTF">2016-06-23T17:46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