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573-C86A-41A4-98A3-08DA22DC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64E-CB43-491D-B09D-5A257DF7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E8D-CBCF-4B0F-8BE1-A72028A3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897-DF2E-4717-A28E-96A81739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090-E2DE-4EAB-9898-64DABE30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255-3BDA-4264-B6A8-0DFB4BC3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AC6-00E2-4E9D-9478-ED48F42A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ED8-5D3A-48C8-AD08-E62698FE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B5C-757D-4D48-A574-58F2D14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171-BED2-4F7B-8A95-C8D01BF1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15E-511F-490A-8FBA-7B317BBD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5DE-D931-4605-BEAE-687751D2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CBE6-A09D-4EEB-9BD8-72E527F67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&amp;ncy;&amp;acy;&amp;kcy;&amp;acy;&amp;zcy;&amp;acy;&amp;ncy;&amp;icy;&amp;iecy; &amp;Ocy;&amp;tcy;&amp;tscy;&amp;ocy;&amp;vcy;&amp;scy;&amp;tcy;&amp;vcy;&amp;ocy;"/>
          <p:cNvPicPr/>
          <p:nvPr/>
        </p:nvPicPr>
        <p:blipFill>
          <a:blip r:embed="rId1"/>
          <a:stretch/>
        </p:blipFill>
        <p:spPr>
          <a:xfrm>
            <a:off x="5638680" y="4400640"/>
            <a:ext cx="3084480" cy="2309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2666880" y="130320"/>
            <a:ext cx="647712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дителям о наказ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Шлепая ребенка, Вы учите его бояться В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являя при детях худшие черты своего характера, вы показываете им дурной прим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елесные наказания требуют от родителей меньше ума и способностей, чем любые другие воспитательны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Шлепки могут только утвердить, но не изменить поведение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казания вынуждают ребенка опасаться потерять родительскую любовь. Он чувствует себя отверженным и начинает ревновать к брату или сестре, а порой и к родител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У наказанного ребенка может возникнуть враждебное чувство к родителям. И едва в нем объединятся два чувства: любовь и ненависть,- как сразу возникает конфли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сли Вы шлепаете ребенка под горячую руку, это означает, что Вы хуже владеете собой, нежели требуете от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Частые наказания побуждают ребенка привлекать внимание родителей любыми средст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4648320"/>
            <a:ext cx="56386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м заменить наказа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ерпением. Это самая большая добродетель, которая только может быть у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бъяснением. Объясняйте ребенку, почему его поведение неправильно, но будьте предельно кр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еторопливостью. Не спешите наказывать сына или дочь – подождите, пока проступок повтор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градами. Они более эффективны, чем наказ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Cj04360450000[1]"/>
          <p:cNvPicPr/>
          <p:nvPr/>
        </p:nvPicPr>
        <p:blipFill>
          <a:blip r:embed="rId2"/>
          <a:stretch/>
        </p:blipFill>
        <p:spPr>
          <a:xfrm>
            <a:off x="7920" y="2209680"/>
            <a:ext cx="2301840" cy="2438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4"/>
          <p:cNvSpPr/>
          <p:nvPr/>
        </p:nvSpPr>
        <p:spPr>
          <a:xfrm rot="21145800">
            <a:off x="228240" y="151920"/>
            <a:ext cx="22860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.А.Сухомл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овори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«Ребёнок ненавид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ого кто бьё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мните о лич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мере. Будьте во всё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бразцом своим детя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8-29T06:12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