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E27-D27F-4A63-A2E2-F200EB15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924-12D5-47A6-B6C9-A324923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2D0-89A0-4327-92F3-4855B4B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3D0-0953-4DF4-90B7-134CB0E9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34C-8EC6-4172-A1FE-86F760B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8ED-3711-4691-9982-153C1DE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F48-4B94-4634-8AD6-C34ED15A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7CE-611B-41F5-B064-FCF32C8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8DF-7C59-4411-91D5-8EA1359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D2D-81E6-4D4D-BDF5-7A64224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C00-AB25-45F5-A0B9-A4D31990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1C4-2015-4B65-B60B-5902A26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8B8-B04E-4BF6-8E63-8C76BB342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&amp;ncy;&amp;acy;&amp;kcy;&amp;acy;&amp;zcy;&amp;acy;&amp;ncy;&amp;icy;&amp;iecy; &amp;Ocy;&amp;tcy;&amp;tscy;&amp;ocy;&amp;vcy;&amp;scy;&amp;tcy;&amp;vcy;&amp;ocy;"/>
          <p:cNvPicPr/>
          <p:nvPr/>
        </p:nvPicPr>
        <p:blipFill>
          <a:blip r:embed="rId1"/>
          <a:stretch/>
        </p:blipFill>
        <p:spPr>
          <a:xfrm>
            <a:off x="5638680" y="4400640"/>
            <a:ext cx="3084480" cy="2309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2666880" y="130320"/>
            <a:ext cx="64771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дителям о наказ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лепая ребенка, Вы учите его бояться В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являя при детях худшие черты своего характера, вы показываете им дурной при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елесные наказания требуют от родителей меньше ума и способностей, чем любые другие воспитатель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Шлепки могут только утвердить, но не изменить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У наказанного ребенка может возникнуть враждебное чувство к родителям. И едва в нем объединятся два чувства: любовь и ненависть,- как сразу возникает конфли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сли Вы шлепаете ребенка под горячую руку, это означает, что Вы хуже владеете собой, нежели требуете от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астые наказания побуждают ребенка привлекать внимание родителей любыми сред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0" y="4648320"/>
            <a:ext cx="56386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заменить наказ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рпением. Это самая большая добродетель, которая только может быть у 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ъяснением. Объясняйте ребенку, почему его поведение неправильно, но будьте предельно кр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торопливостью. Не спешите наказывать сына или дочь – подождите, пока проступок повтор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градами. Они более эффективны, чем наказ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Cj04360450000[1]"/>
          <p:cNvPicPr/>
          <p:nvPr/>
        </p:nvPicPr>
        <p:blipFill>
          <a:blip r:embed="rId2"/>
          <a:stretch/>
        </p:blipFill>
        <p:spPr>
          <a:xfrm>
            <a:off x="7920" y="2209680"/>
            <a:ext cx="2301840" cy="2438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 rot="21145800">
            <a:off x="228240" y="151920"/>
            <a:ext cx="22860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.А.Сухомл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вор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Ребёнок ненавид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ого кто бьё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мните о лич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е. Будьте во всё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зцом своим детя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8-29T06:12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