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578-4908-4DD9-A3F5-41D5924B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97F-F2D6-4B2C-85B2-4994DDE9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8F5-6E5B-41E6-8B03-63902472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DB3-F5A4-49F8-A438-C38240A1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83-8F17-44EF-8549-2B76CBE4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03B-A024-4F38-94B3-40A2E1E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EDB-9AE1-450B-BDF4-57A18C7C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2EB-EA52-4216-B0E3-5F3321B1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D86-A7DC-449C-9B50-679BF6D6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85B-B3E1-4686-9F79-BA02751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35C0-1DCA-4D43-83C7-5D00C63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32A-F798-41F4-BDCD-22C37E0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7E8D-55F3-4E85-821A-951BB8415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4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2" name="Picture 24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5" descr="http://million-otkrytok.ru/upload/iblock/170/1701e3f7541029dcaa2153050f3716e4.jpg"/>
            <p:cNvPicPr/>
            <p:nvPr/>
          </p:nvPicPr>
          <p:blipFill>
            <a:blip r:embed="rId2"/>
            <a:stretch/>
          </p:blipFill>
          <p:spPr>
            <a:xfrm>
              <a:off x="4724640" y="15228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Группа 2"/>
            <p:cNvGrpSpPr/>
            <p:nvPr/>
          </p:nvGrpSpPr>
          <p:grpSpPr>
            <a:xfrm>
              <a:off x="623880" y="458640"/>
              <a:ext cx="5473800" cy="8633520"/>
              <a:chOff x="623880" y="458640"/>
              <a:chExt cx="5473800" cy="8633520"/>
            </a:xfrm>
          </p:grpSpPr>
          <p:sp>
            <p:nvSpPr>
              <p:cNvPr id="45" name="AutoShape 12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4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6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20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981440" y="609120"/>
                <a:ext cx="18158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800" y="609120"/>
                <a:ext cx="4952880" cy="236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960" y="1828440"/>
                <a:ext cx="449856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Rectangle 30"/>
              <p:cNvSpPr/>
              <p:nvPr/>
            </p:nvSpPr>
            <p:spPr>
              <a:xfrm>
                <a:off x="1067040" y="3481200"/>
                <a:ext cx="4724280" cy="56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 u="sng">
                    <a:solidFill>
                      <a:srgbClr val="7030a0"/>
                    </a:solidFill>
                    <a:uFillTx/>
                    <a:latin typeface="Arial"/>
                  </a:rPr>
                  <a:t>В нашем номере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Поздравляем пап с 23 февраля! Праздники в нашем сад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Воспитываем грамотных и дисциплинированных участников дорожного движения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ЛЕГО-КОНКУР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Масленица: весну встречаем, зиму провожаем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Родителям на заметку: подготовка детей к школ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31"/>
              <p:cNvSpPr/>
              <p:nvPr/>
            </p:nvSpPr>
            <p:spPr>
              <a:xfrm>
                <a:off x="3813120" y="3124080"/>
                <a:ext cx="206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9194d"/>
                    </a:solidFill>
                    <a:latin typeface="Arial"/>
                  </a:rPr>
                  <a:t>ФЕВРАЛЬ 2018г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23880" y="458640"/>
                <a:ext cx="1042200" cy="137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56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6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"/>
            <p:cNvSpPr/>
            <p:nvPr/>
          </p:nvSpPr>
          <p:spPr>
            <a:xfrm>
              <a:off x="990360" y="533160"/>
              <a:ext cx="5181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вадцать третье февра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аздником зовем не зр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 спешим поздравить 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сех защитников страны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"/>
            <p:cNvSpPr/>
            <p:nvPr/>
          </p:nvSpPr>
          <p:spPr>
            <a:xfrm>
              <a:off x="457200" y="1904760"/>
              <a:ext cx="59436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здник 23 февраля в детском саду – хороший повод для воспитания у дошкольников чувства патриотизма, сопричастности к лучшим традициям своей Родины, формирования у детей гордости за славных защитников Отечества. Это праздник всех людей, которые стоят на страже нашей Родины. Это праздник настоящих мужчин — смелых и отважных, ловких и надёжных, а также праздник мальчиков, которые вырастут и станут защитниками Отечества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преддверии 23 февраля в нашем учреждении прошли праздничные мероприятия посвященные этому событию. Ребята поздравляли пап и дедушек, состязались в ловкости и силе, пели песни, читали стих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же большим интересом воспитанники с помощью воспитателей изготовили из разного материала подарки для любимых пап, дедушек, старших братьев.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0" descr="july-fireworks-free-clipart-1"/>
            <p:cNvPicPr/>
            <p:nvPr/>
          </p:nvPicPr>
          <p:blipFill>
            <a:blip r:embed="rId2"/>
            <a:stretch/>
          </p:blipFill>
          <p:spPr>
            <a:xfrm>
              <a:off x="838080" y="380880"/>
              <a:ext cx="1828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0" descr=""/>
            <p:cNvPicPr/>
            <p:nvPr/>
          </p:nvPicPr>
          <p:blipFill>
            <a:blip r:embed="rId3"/>
            <a:srcRect l="6802" t="7908" r="5813" b="15000"/>
            <a:stretch/>
          </p:blipFill>
          <p:spPr>
            <a:xfrm>
              <a:off x="1317600" y="5702760"/>
              <a:ext cx="4527360" cy="299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11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66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1"/>
            <p:cNvSpPr/>
            <p:nvPr/>
          </p:nvSpPr>
          <p:spPr>
            <a:xfrm>
              <a:off x="723600" y="323640"/>
              <a:ext cx="5715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ВСТРЕЧА С НАЧАЛЬНИКОМ ОТДЕЛЕНИЯ ТЕХНИЧЕСКОГО НАДЗОРА ГИБДД  ПОДПОЛКОВНИКОМ ПОЛИЦИИ АЛЕКСАНДРОМ НИКОЛАЕВИЧЕМ УРАЗОВЫМ В ДЕТСКОМ СА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2"/>
            <p:cNvSpPr/>
            <p:nvPr/>
          </p:nvSpPr>
          <p:spPr>
            <a:xfrm>
              <a:off x="533160" y="1295280"/>
              <a:ext cx="6019920" cy="74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чение детей правильному поведению на дорогах необходимо начинать с раннего возраста. Задача педагогов и родителей – воспитать из сегодняшних дошкольников грамотных и дисциплинированных участников дорожного движени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м саду вопросу безопасности детей на улицах и дорогах уделяется большое внимание. Профилактика детского дорожно-транспортного травматизма – проблема всего общества. Она решается общими усилиями и осуществляется в трех направлениях: с педагогами, детьми и их родителями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, 14 февраля  2018 года, для наших воспитанников была организована  встреча с подполковником полиции Уразовым Александром Николаевичем. В ходе встречи для ребят были показаны циклы обучающих мультфильмов  по  правилам перехода улицы в положенном месте, рассмотрены виды переходов и светофоров и основные правила дорожного движения для пешеходов. Воспитанники активно принимали участие в обсуждении мультфильма и показали свои знания правил дорожного движения. Подобные мероприятия проходят систематически и способствуют сознательному формированию у детей правил поведения в дорожной обстановке, помогают предостеречь от опасных ситуаций на дорог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7" descr=""/>
            <p:cNvPicPr/>
            <p:nvPr/>
          </p:nvPicPr>
          <p:blipFill>
            <a:blip r:embed="rId2"/>
            <a:stretch/>
          </p:blipFill>
          <p:spPr>
            <a:xfrm>
              <a:off x="3941640" y="3209760"/>
              <a:ext cx="2595600" cy="27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3"/>
            <a:srcRect l="6342" t="8848" r="3780" b="20667"/>
            <a:stretch/>
          </p:blipFill>
          <p:spPr>
            <a:xfrm>
              <a:off x="228600" y="3368520"/>
              <a:ext cx="2297160" cy="21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4"/>
            <a:stretch/>
          </p:blipFill>
          <p:spPr>
            <a:xfrm>
              <a:off x="1630440" y="4343400"/>
              <a:ext cx="39020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11"/>
          <p:cNvGrpSpPr/>
          <p:nvPr/>
        </p:nvGrpSpPr>
        <p:grpSpPr>
          <a:xfrm>
            <a:off x="304920" y="380880"/>
            <a:ext cx="6248160" cy="8278200"/>
            <a:chOff x="304920" y="380880"/>
            <a:chExt cx="6248160" cy="8278200"/>
          </a:xfrm>
        </p:grpSpPr>
        <p:sp>
          <p:nvSpPr>
            <p:cNvPr id="78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762120" y="1295280"/>
              <a:ext cx="563868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 нашем саду стало доброй традицией ежегодно проводить Лего-конкурс. В этом году ребятам было предложено пофантазировать на тему: «БЕЛОЛЕГОГРАД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оспитанники старших и средних групп представили очень интересные и необычные проекты лего-городов будущего, а также подготовили небольшие презентации к своим работа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9"/>
            <p:cNvSpPr txBox="1"/>
            <p:nvPr/>
          </p:nvSpPr>
          <p:spPr>
            <a:xfrm>
              <a:off x="1600200" y="380880"/>
              <a:ext cx="3552840" cy="89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ЛЕГО-КОНКУРС</a:t>
              </a:r>
              <a:endPara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84" name="Picture 10" descr=""/>
            <p:cNvPicPr/>
            <p:nvPr/>
          </p:nvPicPr>
          <p:blipFill>
            <a:blip r:embed="rId4"/>
            <a:srcRect l="13015" t="23913" r="0" b="5435"/>
            <a:stretch/>
          </p:blipFill>
          <p:spPr>
            <a:xfrm>
              <a:off x="3886200" y="4267080"/>
              <a:ext cx="2666880" cy="2971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85" name="Picture 11" descr=""/>
            <p:cNvPicPr/>
            <p:nvPr/>
          </p:nvPicPr>
          <p:blipFill>
            <a:blip r:embed="rId5"/>
            <a:srcRect l="0" t="11591" r="0" b="7247"/>
            <a:stretch/>
          </p:blipFill>
          <p:spPr>
            <a:xfrm>
              <a:off x="304920" y="4508640"/>
              <a:ext cx="3733560" cy="2273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6" name="Text Box 12"/>
            <p:cNvSpPr/>
            <p:nvPr/>
          </p:nvSpPr>
          <p:spPr>
            <a:xfrm>
              <a:off x="609480" y="746784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ервое место жюри присудило ребятам средней группы №11 Литвиненко Лене и Кудрявцеву Артему, однако и остальные участники конкурса получили памятные призы!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88" name="Группа 3"/>
          <p:cNvGrpSpPr/>
          <p:nvPr/>
        </p:nvGrpSpPr>
        <p:grpSpPr>
          <a:xfrm>
            <a:off x="457200" y="380880"/>
            <a:ext cx="6019920" cy="8427960"/>
            <a:chOff x="457200" y="380880"/>
            <a:chExt cx="6019920" cy="8427960"/>
          </a:xfrm>
        </p:grpSpPr>
        <p:sp>
          <p:nvSpPr>
            <p:cNvPr id="89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ик 6"/>
            <p:cNvSpPr/>
            <p:nvPr/>
          </p:nvSpPr>
          <p:spPr>
            <a:xfrm>
              <a:off x="457200" y="380880"/>
              <a:ext cx="6019920" cy="81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леница в детском саду проводится по-особенному весело, ведь дети очень любят обрядовые праздники: различные конкурсы, переодева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м детском саду уже стало доброй традицией праздновать весёлую Масленицу: зиму-матушку провожать, величать её, да Весну-красну встречать. Мы знакомим наших воспитанников с последним зимним праздником Масленица – одним из самых весёлых, шумных, озорных народных праздников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 ребята с нетерпением ждали этот праздник, готовились к нему, учили стихи, заклички, песн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здник получился очень веселый, дети водили хороводы, катались на карусели, проверяли свою меткость, ловкость, быстроту, находчивость в игра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леницу провожаем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у встречае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тья погостила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зимушкой простилася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чился праздни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елым застольем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кусными угощениями 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ечно же, блина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8" descr=""/>
            <p:cNvPicPr/>
            <p:nvPr/>
          </p:nvPicPr>
          <p:blipFill>
            <a:blip r:embed="rId2"/>
            <a:srcRect l="14367" t="10132" r="1148" b="23923"/>
            <a:stretch/>
          </p:blipFill>
          <p:spPr>
            <a:xfrm>
              <a:off x="761760" y="3886560"/>
              <a:ext cx="1984320" cy="19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"/>
            <p:cNvPicPr/>
            <p:nvPr/>
          </p:nvPicPr>
          <p:blipFill>
            <a:blip r:embed="rId3"/>
            <a:srcRect l="0" t="15762" r="0" b="5437"/>
            <a:stretch/>
          </p:blipFill>
          <p:spPr>
            <a:xfrm>
              <a:off x="3238560" y="5181840"/>
              <a:ext cx="298440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1"/>
            <p:cNvSpPr/>
            <p:nvPr/>
          </p:nvSpPr>
          <p:spPr>
            <a:xfrm>
              <a:off x="647640" y="5800680"/>
              <a:ext cx="2590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родители группы №4 разыграли для своих детей сказку «Колобок», повеселив тем самым не только ребят, но и себ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0" descr=""/>
            <p:cNvPicPr/>
            <p:nvPr/>
          </p:nvPicPr>
          <p:blipFill>
            <a:blip r:embed="rId4"/>
            <a:stretch/>
          </p:blipFill>
          <p:spPr>
            <a:xfrm>
              <a:off x="761760" y="7124040"/>
              <a:ext cx="2995200" cy="16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99" name="Группа 8"/>
          <p:cNvGrpSpPr/>
          <p:nvPr/>
        </p:nvGrpSpPr>
        <p:grpSpPr>
          <a:xfrm>
            <a:off x="609480" y="609480"/>
            <a:ext cx="5867640" cy="8204400"/>
            <a:chOff x="609480" y="609480"/>
            <a:chExt cx="5867640" cy="8204400"/>
          </a:xfrm>
        </p:grpSpPr>
        <p:sp>
          <p:nvSpPr>
            <p:cNvPr id="100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1828800" y="609480"/>
              <a:ext cx="44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рубрика: РОДИТЕЛЯМ НА ЗАМЕ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5" descr="http://www.sonechko3.in.ua/images/356.jpg"/>
            <p:cNvPicPr/>
            <p:nvPr/>
          </p:nvPicPr>
          <p:blipFill>
            <a:blip r:embed="rId2"/>
            <a:srcRect l="7314" t="6037" r="3367" b="9433"/>
            <a:stretch/>
          </p:blipFill>
          <p:spPr>
            <a:xfrm>
              <a:off x="609480" y="990360"/>
              <a:ext cx="5867640" cy="78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4T18:35:31Z</dcterms:created>
  <dc:creator>User</dc:creator>
  <dc:description/>
  <dc:language>en-US</dc:language>
  <cp:lastModifiedBy>User</cp:lastModifiedBy>
  <dcterms:modified xsi:type="dcterms:W3CDTF">2018-03-13T12:55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