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7F1-880C-4551-BB18-5096382C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6E3-2387-4D6E-90F8-E6197FF2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247-DD24-4C4C-9F6A-2F8FBF99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0D4-2A7B-44E8-A387-D853A5A0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141-A35C-497A-8A4A-F94B0E04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91E-1DF6-4228-9B8D-D9D151A3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13C-41ED-4CEB-994C-A5C4D7DB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7A7-148F-4AE0-9B48-2DA7D910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1D3-547D-4B6B-B91A-EBE6CD12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8091-C39F-4025-800D-3A4D3268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54E-6E4D-4337-AFA8-90B9243B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043-1ABA-40B6-BBE2-1312316A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CBF2-335B-4BB9-AF66-C9DE9D29E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4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pic>
          <p:nvPicPr>
            <p:cNvPr id="42" name="Picture 24" descr="i?id=c528e22d064e1f052a2bc282b9a062dd&amp;n=1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5" descr="http://million-otkrytok.ru/upload/iblock/170/1701e3f7541029dcaa2153050f3716e4.jpg"/>
            <p:cNvPicPr/>
            <p:nvPr/>
          </p:nvPicPr>
          <p:blipFill>
            <a:blip r:embed="rId2"/>
            <a:stretch/>
          </p:blipFill>
          <p:spPr>
            <a:xfrm>
              <a:off x="4724640" y="15228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Группа 2"/>
            <p:cNvGrpSpPr/>
            <p:nvPr/>
          </p:nvGrpSpPr>
          <p:grpSpPr>
            <a:xfrm>
              <a:off x="623880" y="458640"/>
              <a:ext cx="5473800" cy="8633520"/>
              <a:chOff x="623880" y="458640"/>
              <a:chExt cx="5473800" cy="8633520"/>
            </a:xfrm>
          </p:grpSpPr>
          <p:sp>
            <p:nvSpPr>
              <p:cNvPr id="45" name="AutoShape 12"/>
              <p:cNvSpPr/>
              <p:nvPr/>
            </p:nvSpPr>
            <p:spPr>
              <a:xfrm>
                <a:off x="3277080" y="4419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AutoShape 14"/>
              <p:cNvSpPr/>
              <p:nvPr/>
            </p:nvSpPr>
            <p:spPr>
              <a:xfrm>
                <a:off x="3277080" y="4419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16"/>
              <p:cNvSpPr/>
              <p:nvPr/>
            </p:nvSpPr>
            <p:spPr>
              <a:xfrm>
                <a:off x="3277080" y="4419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AutoShape 20"/>
              <p:cNvSpPr/>
              <p:nvPr/>
            </p:nvSpPr>
            <p:spPr>
              <a:xfrm>
                <a:off x="3277080" y="4419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Pictur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981440" y="609120"/>
                <a:ext cx="181584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Pictur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800" y="609120"/>
                <a:ext cx="4952880" cy="236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960" y="1828440"/>
                <a:ext cx="4498560" cy="12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Rectangle 30"/>
              <p:cNvSpPr/>
              <p:nvPr/>
            </p:nvSpPr>
            <p:spPr>
              <a:xfrm>
                <a:off x="1067040" y="3481200"/>
                <a:ext cx="4724280" cy="56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 u="sng">
                    <a:solidFill>
                      <a:srgbClr val="7030a0"/>
                    </a:solidFill>
                    <a:uFillTx/>
                    <a:latin typeface="Arial"/>
                  </a:rPr>
                  <a:t>В нашем номере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- Поздравляем пап с 23 февраля! Праздники в нашем сад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- Воспитываем грамотных и дисциплинированных участников дорожного движения.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- ЛЕГО-КОНКУР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- Масленица: весну встречаем, зиму провожаем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Arial"/>
                  </a:rPr>
                  <a:t>- Родителям на заметку: подготовка детей к школ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31"/>
              <p:cNvSpPr/>
              <p:nvPr/>
            </p:nvSpPr>
            <p:spPr>
              <a:xfrm>
                <a:off x="3813120" y="3124080"/>
                <a:ext cx="206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19194d"/>
                    </a:solidFill>
                    <a:latin typeface="Arial"/>
                  </a:rPr>
                  <a:t>ФЕВРАЛЬ 2018г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623880" y="458640"/>
                <a:ext cx="1042200" cy="1379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1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sp>
          <p:nvSpPr>
            <p:cNvPr id="56" name="AutoShape 2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3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4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6" descr="i?id=c528e22d064e1f052a2bc282b9a062dd&amp;n=1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1"/>
            <p:cNvSpPr/>
            <p:nvPr/>
          </p:nvSpPr>
          <p:spPr>
            <a:xfrm>
              <a:off x="990360" y="533160"/>
              <a:ext cx="51818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Двадцать третье феврал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раздником зовем не зр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И спешим поздравить 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Всех защитников страны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2"/>
            <p:cNvSpPr/>
            <p:nvPr/>
          </p:nvSpPr>
          <p:spPr>
            <a:xfrm>
              <a:off x="457200" y="1904760"/>
              <a:ext cx="594360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здник 23 февраля в детском саду – хороший повод для воспитания у дошкольников чувства патриотизма, сопричастности к лучшим традициям своей Родины, формирования у детей гордости за славных защитников Отечества. Это праздник всех людей, которые стоят на страже нашей Родины. Это праздник настоящих мужчин — смелых и отважных, ловких и надёжных, а также праздник мальчиков, которые вырастут и станут защитниками Отечества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преддверии 23 февраля в нашем учреждении прошли праздничные мероприятия посвященные этому событию. Ребята поздравляли пап и дедушек, состязались в ловкости и силе, пели песни, читали стих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к же большим интересом воспитанники с помощью воспитателей изготовили из разного материала подарки для любимых пап, дедушек, старших братьев.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0" descr="july-fireworks-free-clipart-1"/>
            <p:cNvPicPr/>
            <p:nvPr/>
          </p:nvPicPr>
          <p:blipFill>
            <a:blip r:embed="rId2"/>
            <a:stretch/>
          </p:blipFill>
          <p:spPr>
            <a:xfrm>
              <a:off x="838080" y="380880"/>
              <a:ext cx="182880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0" descr=""/>
            <p:cNvPicPr/>
            <p:nvPr/>
          </p:nvPicPr>
          <p:blipFill>
            <a:blip r:embed="rId3"/>
            <a:srcRect l="6802" t="7908" r="5813" b="15000"/>
            <a:stretch/>
          </p:blipFill>
          <p:spPr>
            <a:xfrm>
              <a:off x="1317600" y="5702760"/>
              <a:ext cx="4527360" cy="299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Группа 11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sp>
          <p:nvSpPr>
            <p:cNvPr id="66" name="AutoShape 2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4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5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6" descr="i?id=c528e22d064e1f052a2bc282b9a062dd&amp;n=1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Прямоугольник 1"/>
            <p:cNvSpPr/>
            <p:nvPr/>
          </p:nvSpPr>
          <p:spPr>
            <a:xfrm>
              <a:off x="723600" y="323640"/>
              <a:ext cx="5715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c00000"/>
                  </a:solidFill>
                  <a:latin typeface="Arial"/>
                </a:rPr>
                <a:t>ВСТРЕЧА С НАЧАЛЬНИКОМ ОТДЕЛЕНИЯ ТЕХНИЧЕСКОГО НАДЗОРА ГИБДД  ПОДПОЛКОВНИКОМ ПОЛИЦИИ АЛЕКСАНДРОМ НИКОЛАЕВИЧЕМ УРАЗОВЫМ В ДЕТСКОМ САД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2"/>
            <p:cNvSpPr/>
            <p:nvPr/>
          </p:nvSpPr>
          <p:spPr>
            <a:xfrm>
              <a:off x="533160" y="1295280"/>
              <a:ext cx="6019920" cy="74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учение детей правильному поведению на дорогах необходимо начинать с раннего возраста. Задача педагогов и родителей – воспитать из сегодняшних дошкольников грамотных и дисциплинированных участников дорожного движения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нашем саду вопросу безопасности детей на улицах и дорогах уделяется большое внимание. Профилактика детского дорожно-транспортного травматизма – проблема всего общества. Она решается общими усилиями и осуществляется в трех направлениях: с педагогами, детьми и их родителями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к, 14 февраля  2018 года, для наших воспитанников была организована  встреча с подполковником полиции Уразовым Александром Николаевичем. В ходе встречи для ребят были показаны циклы обучающих мультфильмов  по  правилам перехода улицы в положенном месте, рассмотрены виды переходов и светофоров и основные правила дорожного движения для пешеходов. Воспитанники активно принимали участие в обсуждении мультфильма и показали свои знания правил дорожного движения. Подобные мероприятия проходят систематически и способствуют сознательному формированию у детей правил поведения в дорожной обстановке, помогают предостеречь от опасных ситуаций на дорогах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7" descr=""/>
            <p:cNvPicPr/>
            <p:nvPr/>
          </p:nvPicPr>
          <p:blipFill>
            <a:blip r:embed="rId2"/>
            <a:stretch/>
          </p:blipFill>
          <p:spPr>
            <a:xfrm>
              <a:off x="3941640" y="3209760"/>
              <a:ext cx="2595600" cy="27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9" descr=""/>
            <p:cNvPicPr/>
            <p:nvPr/>
          </p:nvPicPr>
          <p:blipFill>
            <a:blip r:embed="rId3"/>
            <a:srcRect l="6342" t="8848" r="3780" b="20667"/>
            <a:stretch/>
          </p:blipFill>
          <p:spPr>
            <a:xfrm>
              <a:off x="228600" y="3368520"/>
              <a:ext cx="2297160" cy="21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8" descr=""/>
            <p:cNvPicPr/>
            <p:nvPr/>
          </p:nvPicPr>
          <p:blipFill>
            <a:blip r:embed="rId4"/>
            <a:stretch/>
          </p:blipFill>
          <p:spPr>
            <a:xfrm>
              <a:off x="1630440" y="4343400"/>
              <a:ext cx="390204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i?id=c528e22d064e1f052a2bc282b9a062dd&amp;n=13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grpSp>
        <p:nvGrpSpPr>
          <p:cNvPr id="77" name="Группа 11"/>
          <p:cNvGrpSpPr/>
          <p:nvPr/>
        </p:nvGrpSpPr>
        <p:grpSpPr>
          <a:xfrm>
            <a:off x="304920" y="380880"/>
            <a:ext cx="6248160" cy="8278200"/>
            <a:chOff x="304920" y="380880"/>
            <a:chExt cx="6248160" cy="8278200"/>
          </a:xfrm>
        </p:grpSpPr>
        <p:sp>
          <p:nvSpPr>
            <p:cNvPr id="78" name="AutoShape 2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4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5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762120" y="1295280"/>
              <a:ext cx="5638680" cy="29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В нашем саду стало доброй традицией ежегодно проводить Лего-конкурс. В этом году ребятам было предложено пофантазировать на тему: «БЕЛОЛЕГОГРАД!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Воспитанники старших и средних групп представили очень интересные и необычные проекты лего-городов будущего, а также подготовили небольшие презентации к своим работа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WordArt 9"/>
            <p:cNvSpPr txBox="1"/>
            <p:nvPr/>
          </p:nvSpPr>
          <p:spPr>
            <a:xfrm>
              <a:off x="1600200" y="380880"/>
              <a:ext cx="3552840" cy="89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ЛЕГО-КОНКУРС</a:t>
              </a:r>
              <a:endParaRPr b="1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pic>
          <p:nvPicPr>
            <p:cNvPr id="84" name="Picture 10" descr=""/>
            <p:cNvPicPr/>
            <p:nvPr/>
          </p:nvPicPr>
          <p:blipFill>
            <a:blip r:embed="rId4"/>
            <a:srcRect l="13015" t="23913" r="0" b="5435"/>
            <a:stretch/>
          </p:blipFill>
          <p:spPr>
            <a:xfrm>
              <a:off x="3886200" y="4267080"/>
              <a:ext cx="2666880" cy="2971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85" name="Picture 11" descr=""/>
            <p:cNvPicPr/>
            <p:nvPr/>
          </p:nvPicPr>
          <p:blipFill>
            <a:blip r:embed="rId5"/>
            <a:srcRect l="0" t="11591" r="0" b="7247"/>
            <a:stretch/>
          </p:blipFill>
          <p:spPr>
            <a:xfrm>
              <a:off x="304920" y="4508640"/>
              <a:ext cx="3733560" cy="2273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86" name="Text Box 12"/>
            <p:cNvSpPr/>
            <p:nvPr/>
          </p:nvSpPr>
          <p:spPr>
            <a:xfrm>
              <a:off x="609480" y="7467840"/>
              <a:ext cx="5867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Первое место жюри присудило ребятам средней группы №11 Литвиненко Лене и Кудрявцеву Артему, однако и остальные участники конкурса получили памятные призы!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i?id=c528e22d064e1f052a2bc282b9a062dd&amp;n=13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grpSp>
        <p:nvGrpSpPr>
          <p:cNvPr id="88" name="Группа 3"/>
          <p:cNvGrpSpPr/>
          <p:nvPr/>
        </p:nvGrpSpPr>
        <p:grpSpPr>
          <a:xfrm>
            <a:off x="457200" y="380880"/>
            <a:ext cx="6019920" cy="8427960"/>
            <a:chOff x="457200" y="380880"/>
            <a:chExt cx="6019920" cy="8427960"/>
          </a:xfrm>
        </p:grpSpPr>
        <p:sp>
          <p:nvSpPr>
            <p:cNvPr id="89" name="AutoShape 2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3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оугольник 6"/>
            <p:cNvSpPr/>
            <p:nvPr/>
          </p:nvSpPr>
          <p:spPr>
            <a:xfrm>
              <a:off x="457200" y="380880"/>
              <a:ext cx="6019920" cy="81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леница в детском саду проводится по-особенному весело, ведь дети очень любят обрядовые праздники: различные конкурсы, переодевани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нашем детском саду уже стало доброй традицией праздновать весёлую Масленицу: зиму-матушку провожать, величать её, да Весну-красну встречать. Мы знакомим наших воспитанников с последним зимним праздником Масленица – одним из самых весёлых, шумных, озорных народных праздников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се ребята с нетерпением ждали этот праздник, готовились к нему, учили стихи, заклички, песн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здник получился очень веселый, дети водили хороводы, катались на карусели, проверяли свою меткость, ловкость, быстроту, находчивость в играх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асленицу провожаем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ну встречае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стья погостила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зимушкой простилася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акончился праздни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селым застольем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кусными угощениями и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ечно же, блинам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8" descr=""/>
            <p:cNvPicPr/>
            <p:nvPr/>
          </p:nvPicPr>
          <p:blipFill>
            <a:blip r:embed="rId2"/>
            <a:srcRect l="14367" t="10132" r="1148" b="23923"/>
            <a:stretch/>
          </p:blipFill>
          <p:spPr>
            <a:xfrm>
              <a:off x="761760" y="3886560"/>
              <a:ext cx="1984320" cy="191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9" descr=""/>
            <p:cNvPicPr/>
            <p:nvPr/>
          </p:nvPicPr>
          <p:blipFill>
            <a:blip r:embed="rId3"/>
            <a:srcRect l="0" t="15762" r="0" b="5437"/>
            <a:stretch/>
          </p:blipFill>
          <p:spPr>
            <a:xfrm>
              <a:off x="3238560" y="5181840"/>
              <a:ext cx="2984400" cy="17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1"/>
            <p:cNvSpPr/>
            <p:nvPr/>
          </p:nvSpPr>
          <p:spPr>
            <a:xfrm>
              <a:off x="647640" y="5800680"/>
              <a:ext cx="25909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 родители группы №4 разыграли для своих детей сказку «Колобок», повеселив тем самым не только ребят, но и себ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0" descr=""/>
            <p:cNvPicPr/>
            <p:nvPr/>
          </p:nvPicPr>
          <p:blipFill>
            <a:blip r:embed="rId4"/>
            <a:stretch/>
          </p:blipFill>
          <p:spPr>
            <a:xfrm>
              <a:off x="761760" y="7124040"/>
              <a:ext cx="2995200" cy="16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i?id=c528e22d064e1f052a2bc282b9a062dd&amp;n=13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grpSp>
        <p:nvGrpSpPr>
          <p:cNvPr id="99" name="Группа 8"/>
          <p:cNvGrpSpPr/>
          <p:nvPr/>
        </p:nvGrpSpPr>
        <p:grpSpPr>
          <a:xfrm>
            <a:off x="609480" y="609480"/>
            <a:ext cx="5867640" cy="8204400"/>
            <a:chOff x="609480" y="609480"/>
            <a:chExt cx="5867640" cy="8204400"/>
          </a:xfrm>
        </p:grpSpPr>
        <p:sp>
          <p:nvSpPr>
            <p:cNvPr id="100" name="AutoShape 2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4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2"/>
            <p:cNvSpPr/>
            <p:nvPr/>
          </p:nvSpPr>
          <p:spPr>
            <a:xfrm>
              <a:off x="1828800" y="609480"/>
              <a:ext cx="44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600" spc="-1" strike="noStrike">
                  <a:solidFill>
                    <a:srgbClr val="000000"/>
                  </a:solidFill>
                  <a:latin typeface="Arial"/>
                </a:rPr>
                <a:t>рубрика: РОДИТЕЛЯМ НА ЗАМЕТ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5" descr="http://www.sonechko3.in.ua/images/356.jpg"/>
            <p:cNvPicPr/>
            <p:nvPr/>
          </p:nvPicPr>
          <p:blipFill>
            <a:blip r:embed="rId2"/>
            <a:srcRect l="7314" t="6037" r="3367" b="9433"/>
            <a:stretch/>
          </p:blipFill>
          <p:spPr>
            <a:xfrm>
              <a:off x="609480" y="990360"/>
              <a:ext cx="5867640" cy="782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4T18:35:31Z</dcterms:created>
  <dc:creator>User</dc:creator>
  <dc:description/>
  <dc:language>en-US</dc:language>
  <cp:lastModifiedBy>User</cp:lastModifiedBy>
  <dcterms:modified xsi:type="dcterms:W3CDTF">2018-03-13T12:55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