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578725" cy="10583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EF58-9415-4A06-8EE2-F406111C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9440" y="423720"/>
            <a:ext cx="6819840" cy="1765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9440" y="2470320"/>
            <a:ext cx="68198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9440" y="6118560"/>
            <a:ext cx="68198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4525-2185-49F2-A392-2A7C6376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9440" y="423720"/>
            <a:ext cx="6819840" cy="1765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9440" y="2470320"/>
            <a:ext cx="33278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73960" y="2470320"/>
            <a:ext cx="33278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9440" y="6118560"/>
            <a:ext cx="33278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73960" y="6118560"/>
            <a:ext cx="33278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78D6-CE2E-4772-A802-2EE3AD26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9440" y="423720"/>
            <a:ext cx="6819840" cy="1765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9440" y="2470320"/>
            <a:ext cx="21956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85240" y="2470320"/>
            <a:ext cx="21956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91040" y="2470320"/>
            <a:ext cx="21956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9440" y="6118560"/>
            <a:ext cx="21956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85240" y="6118560"/>
            <a:ext cx="21956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91040" y="6118560"/>
            <a:ext cx="21956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B7E2-C7EE-43B9-9F53-19F6EFA2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9440" y="423720"/>
            <a:ext cx="6819840" cy="1765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9440" y="2470320"/>
            <a:ext cx="681984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034F-3586-4C99-B9A1-F78FAC11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9440" y="423720"/>
            <a:ext cx="6819840" cy="1765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9440" y="2470320"/>
            <a:ext cx="6819840" cy="6984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FB91-309C-4E92-A1A3-F5F8F28C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440" y="423720"/>
            <a:ext cx="6819840" cy="1765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9440" y="2470320"/>
            <a:ext cx="3327840" cy="6984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73960" y="2470320"/>
            <a:ext cx="3327840" cy="6984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3639-FBD1-4BBB-8DC6-4D77967D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9440" y="423720"/>
            <a:ext cx="6819840" cy="1765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7FF5-9DFB-441C-8545-1FE20104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9440" y="423720"/>
            <a:ext cx="6819840" cy="81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3582-9A3F-4A20-87C1-4D9F53F0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440" y="423720"/>
            <a:ext cx="6819840" cy="1765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9440" y="2470320"/>
            <a:ext cx="33278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73960" y="2470320"/>
            <a:ext cx="3327840" cy="6984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9440" y="6118560"/>
            <a:ext cx="33278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438F-093B-4B17-8712-E919EF00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9440" y="423720"/>
            <a:ext cx="6819840" cy="1765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9440" y="2470320"/>
            <a:ext cx="3327840" cy="6984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73960" y="2470320"/>
            <a:ext cx="33278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73960" y="6118560"/>
            <a:ext cx="33278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3E9-FE3C-41DF-8518-7849F974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9440" y="423720"/>
            <a:ext cx="6819840" cy="1765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9440" y="2470320"/>
            <a:ext cx="33278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73960" y="2470320"/>
            <a:ext cx="33278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9440" y="6118560"/>
            <a:ext cx="68198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12B1-510A-4622-8387-4F4118F8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9440" y="423720"/>
            <a:ext cx="6819840" cy="1765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9440" y="2470320"/>
            <a:ext cx="6819840" cy="6984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76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3120" indent="-2476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41720" indent="-24768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41720" indent="-24768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41720" indent="-24768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9440" y="9639360"/>
            <a:ext cx="1768320" cy="7351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9120" y="9639360"/>
            <a:ext cx="2400480" cy="7351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30960" y="9639360"/>
            <a:ext cx="1768320" cy="7351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FC8F-3B2F-4DD2-9484-7402AFDAA9E0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img-fotki.yandex.ru/get/4100/annaze63.44/0_31f30_759d259d_XL.jpg"/>
          <p:cNvPicPr/>
          <p:nvPr/>
        </p:nvPicPr>
        <p:blipFill>
          <a:blip r:embed="rId1"/>
          <a:stretch/>
        </p:blipFill>
        <p:spPr>
          <a:xfrm>
            <a:off x="0" y="0"/>
            <a:ext cx="7578720" cy="105854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1943640" y="264960"/>
            <a:ext cx="389592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9680" bIns="49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Arial"/>
              </a:rPr>
              <a:t>СОВЕТЫ РОДИТЕЛ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-20520" y="757080"/>
            <a:ext cx="7599240" cy="39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овет 1.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Поддерживайте интер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ребёнка к занятиям физ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культурой, ни в коем случае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выказывайте сво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пренебрежение к физическ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развитию. Пример взрослых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этом вопросе чрезвычайно важ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Как вы относитесь к физ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культуре, так будет относ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к ней и ваш ребёнок. Ча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ребёнок живёт под груз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запретов: не бегай, не шуми, не кричи громко. А ущемление потребности в самовыражении больнее всего ударяет по самооценке и активности растущего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4842720"/>
            <a:ext cx="757872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овет 2.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 Высокая самооценка — один из мощных стимулов для ребёнка выполнять любую работу, будь то домашние задания или утренняя  гимнастика. Всемерно поддерживайте в своём ребёнке высокую самооценку — поощряйте любое его достижение, и в ответ вы получите ещё большее стар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http://dg-sosh3.ru/sites/default/files/hello_html_5c71c904.png"/>
          <p:cNvPicPr/>
          <p:nvPr/>
        </p:nvPicPr>
        <p:blipFill>
          <a:blip r:embed="rId2"/>
          <a:srcRect l="0" t="22234" r="0" b="15118"/>
          <a:stretch/>
        </p:blipFill>
        <p:spPr>
          <a:xfrm>
            <a:off x="-42840" y="6318360"/>
            <a:ext cx="3594240" cy="278424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0"/>
          <p:cNvSpPr/>
          <p:nvPr/>
        </p:nvSpPr>
        <p:spPr>
          <a:xfrm>
            <a:off x="0" y="6475320"/>
            <a:ext cx="757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                                                      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овет 3.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 Наблюдайте за повед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                            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и   состоянием своего ребёнка во время зан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                                          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физическими упражнениями. Ин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                                           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родители не могут понять, поч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                                             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ребёнок капризничает, не выполня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                                                   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казалось бы, элемента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                                           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распоряжений родителей. Причи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                                                            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могут быть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                                                 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усталость, и какое-то скрыт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                                               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желание (например, ребёнок хо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                                           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быстрее закончить занятие физкультурой, чтобы посмотреть интересную телепередачу). Постарайтесь понять причину его негативных реакций. Не жалейте времени и внимания на то, чтобы установить с ним душевный контакт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http://simply4joy.ru/wp-content/uploads/2015/01/family-fitness-e1421512108282.jpg"/>
          <p:cNvPicPr/>
          <p:nvPr/>
        </p:nvPicPr>
        <p:blipFill>
          <a:blip r:embed="rId3"/>
          <a:stretch/>
        </p:blipFill>
        <p:spPr>
          <a:xfrm>
            <a:off x="3255840" y="1101600"/>
            <a:ext cx="432288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mg-fotki.yandex.ru/get/4100/annaze63.44/0_31f30_759d259d_XL.jpg"/>
          <p:cNvPicPr/>
          <p:nvPr/>
        </p:nvPicPr>
        <p:blipFill>
          <a:blip r:embed="rId1"/>
          <a:stretch/>
        </p:blipFill>
        <p:spPr>
          <a:xfrm>
            <a:off x="0" y="0"/>
            <a:ext cx="7578720" cy="10585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0" y="268920"/>
            <a:ext cx="75787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овет 4.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 Ни в коем случае не настаивайте на продолжении тренировочного занятия, если по каким-то причинам ребёнок этого не хочет. Нужно, прежде всего, выяснить причину отказа, устранить её и только после этого продолжить занятие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4236480"/>
            <a:ext cx="7578720" cy="22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овет 5. 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Не ругайте своего ребёнка за временные неудачи. Ребёнок делает только первые шаги в неизвестном для него мире, а потому он очень болезненно реагирует на то, когда другие считают его слабым и неумелым. Особенно остро это проявляется, если родители не знают, как дать ребёнку понять, что они уважают его чувства, желания и мнения.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https://ds03.infourok.ru/uploads/ex/0159/000139d8-797ca52e/hello_html_m294c51d1.jpg"/>
          <p:cNvPicPr/>
          <p:nvPr/>
        </p:nvPicPr>
        <p:blipFill>
          <a:blip r:embed="rId2"/>
          <a:srcRect l="8778" t="6359" r="4337" b="2693"/>
          <a:stretch/>
        </p:blipFill>
        <p:spPr>
          <a:xfrm>
            <a:off x="1422360" y="1557360"/>
            <a:ext cx="5273640" cy="259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mognovse.ru/mogno/642/641553/641553_html_m20fce197.png"/>
          <p:cNvPicPr/>
          <p:nvPr/>
        </p:nvPicPr>
        <p:blipFill>
          <a:blip r:embed="rId3"/>
          <a:stretch/>
        </p:blipFill>
        <p:spPr>
          <a:xfrm>
            <a:off x="3789360" y="5826240"/>
            <a:ext cx="3718080" cy="33526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1"/>
          <p:cNvSpPr/>
          <p:nvPr/>
        </p:nvSpPr>
        <p:spPr>
          <a:xfrm>
            <a:off x="0" y="5826240"/>
            <a:ext cx="757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овет 6. 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Важно определить индивиду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приоритеты ребёнка в выбо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физических упражн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Практически  всем дет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 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нравятся подвиж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игры, но бывают и исклю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Например, ребёнок хоч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Подражать  своему любим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герою книги или  кино­фильма, 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каких-то качест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например физической силы, е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не хватает. В этом случае н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удивляйтесь, если ваш ребёнок вдруг попросит купить ему гантели или навесную перекладину для подтягивания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img-fotki.yandex.ru/get/4100/annaze63.44/0_31f30_759d259d_XL.jpg"/>
          <p:cNvPicPr/>
          <p:nvPr/>
        </p:nvPicPr>
        <p:blipFill>
          <a:blip r:embed="rId1"/>
          <a:stretch/>
        </p:blipFill>
        <p:spPr>
          <a:xfrm>
            <a:off x="0" y="0"/>
            <a:ext cx="7578720" cy="105854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-20520" y="280800"/>
            <a:ext cx="757872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овет 7.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 Не меняйте слиш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часто набор физиче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упражн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Если комплекс ребё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нравится, пусть 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выполняет его как мо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дольше, чтобы прочно усво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тот или иной навы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дви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овет 8.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 Важно соблюдать культуру физических упражнений. Ни в коем случае не должно быть  небрежности, исполнения спустя рука­ва. Всё должно делаться «взаправд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4150080"/>
            <a:ext cx="7578720" cy="22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т 9. 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перегружайте ребёнка, учитывайте его возраст. Никогда не заставляйте ребёнка выполнять физические упражнения, если он этого не хочет. При­учайте его к физической культуре исподволь, соб­ственным приме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т 10. 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и незыблемых закона должны сопровождать вас в воспитании ребёнка: понимание, любовь и терп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64960" y="9483840"/>
            <a:ext cx="3484440" cy="4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9680" bIns="49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Успехов вам и удач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http://kapitoshka.pp.ua/images/articles/sport/Family-Sports.png"/>
          <p:cNvPicPr/>
          <p:nvPr/>
        </p:nvPicPr>
        <p:blipFill>
          <a:blip r:embed="rId2"/>
          <a:stretch/>
        </p:blipFill>
        <p:spPr>
          <a:xfrm>
            <a:off x="131760" y="6066000"/>
            <a:ext cx="4495680" cy="360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http://lib-avt.ru/sites/default/files/image001.gif"/>
          <p:cNvPicPr/>
          <p:nvPr/>
        </p:nvPicPr>
        <p:blipFill>
          <a:blip r:embed="rId3"/>
          <a:stretch/>
        </p:blipFill>
        <p:spPr>
          <a:xfrm>
            <a:off x="2930400" y="187200"/>
            <a:ext cx="464832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11-16T08:46:1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