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578725" cy="10583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FEA-9821-465C-85A3-FE3B6F16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6819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9440" y="6118560"/>
            <a:ext cx="6819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AC1-D73C-44CC-8E5A-83906859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440" y="611856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73960" y="611856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735-55F2-43B3-B23E-67209459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85240" y="247032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91040" y="247032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9440" y="611856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85240" y="611856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91040" y="6118560"/>
            <a:ext cx="21956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16B-293E-43BD-B737-CF0B90A8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9440" y="2470320"/>
            <a:ext cx="6819840" cy="69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EC3-B5E2-432D-83A9-77CEE1E0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6819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0E9-2DFD-459E-B532-A2F15348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708-7515-49B2-9D32-8E0BE2E1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173-EC46-4E7B-AC04-A031880D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440" y="423720"/>
            <a:ext cx="6819840" cy="81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DF5-8C35-4791-97D7-EED72B13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9440" y="611856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A57-F5AC-485B-9698-65ED03A7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3960" y="611856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C76-1767-4CD8-A675-4E63C47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944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73960" y="2470320"/>
            <a:ext cx="3327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9440" y="6118560"/>
            <a:ext cx="6819840" cy="3331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739-90C9-409E-BE3F-3986EA77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9440" y="423720"/>
            <a:ext cx="6819840" cy="17654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9440" y="2470320"/>
            <a:ext cx="6819840" cy="6984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7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417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417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417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9440" y="9639360"/>
            <a:ext cx="1768320" cy="73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9120" y="9639360"/>
            <a:ext cx="2400480" cy="73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0960" y="9639360"/>
            <a:ext cx="1768320" cy="73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2822-31BD-4A93-80EA-8DEFE5D10638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-fotki.yandex.ru/get/4100/annaze63.44/0_31f30_759d259d_XL.jpg"/>
          <p:cNvPicPr/>
          <p:nvPr/>
        </p:nvPicPr>
        <p:blipFill>
          <a:blip r:embed="rId1"/>
          <a:stretch/>
        </p:blipFill>
        <p:spPr>
          <a:xfrm>
            <a:off x="0" y="0"/>
            <a:ext cx="7578720" cy="10585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943640" y="264960"/>
            <a:ext cx="38959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Arial"/>
              </a:rPr>
              <a:t>СОВЕТЫ РОДИТЕЛ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-20520" y="757080"/>
            <a:ext cx="759924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1.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оддерживайте инте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ебёнка к занятиям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ультурой, ни в коем случае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выказывайте сво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ренебрежение к физиче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азвитию. Пример взрослых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этом вопросе чрезвычайно ва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ак вы относитесь к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ультуре, так будет относ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 ней и ваш ребёнок. Ча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ебёнок живёт под гру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запретов: не бегай, не шуми, не кричи громко. А ущемление потребности в самовыражении больнее всего ударяет по самооценке и активности растущег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4842720"/>
            <a:ext cx="75787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2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Высокая самооценка — один из мощных стимулов для ребёнка выполнять любую работу, будь то домашние задания или утренняя  гимнастика. Всемерно поддерживайте в своём ребёнке высокую самооценку — поощряйте любое его достижение, и в ответ вы получите ещё большее стар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ttp://dg-sosh3.ru/sites/default/files/hello_html_5c71c904.png"/>
          <p:cNvPicPr/>
          <p:nvPr/>
        </p:nvPicPr>
        <p:blipFill>
          <a:blip r:embed="rId2"/>
          <a:srcRect l="0" t="22234" r="0" b="15118"/>
          <a:stretch/>
        </p:blipFill>
        <p:spPr>
          <a:xfrm>
            <a:off x="-42840" y="6318360"/>
            <a:ext cx="3594240" cy="27842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0"/>
          <p:cNvSpPr/>
          <p:nvPr/>
        </p:nvSpPr>
        <p:spPr>
          <a:xfrm>
            <a:off x="0" y="6475320"/>
            <a:ext cx="757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3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Наблюдайте за повед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и   состоянием своего ребёнка во время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физическими упражнениями. Ин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одители не могут понять, поч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ебёнок капризничает, не выпол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азалось бы, элемента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аспоряжений родителей. Прич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могут быть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усталость, и какое-то с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желание (например, ребёнок х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быстрее закончить занятие физкультурой, чтобы посмотреть интересную телепередачу). Постарайтесь понять причину его негативных реакций. Не жалейте времени и внимания на то, чтобы установить с ним душевный контак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http://simply4joy.ru/wp-content/uploads/2015/01/family-fitness-e1421512108282.jpg"/>
          <p:cNvPicPr/>
          <p:nvPr/>
        </p:nvPicPr>
        <p:blipFill>
          <a:blip r:embed="rId3"/>
          <a:stretch/>
        </p:blipFill>
        <p:spPr>
          <a:xfrm>
            <a:off x="3255840" y="1101600"/>
            <a:ext cx="432288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-fotki.yandex.ru/get/4100/annaze63.44/0_31f30_759d259d_XL.jpg"/>
          <p:cNvPicPr/>
          <p:nvPr/>
        </p:nvPicPr>
        <p:blipFill>
          <a:blip r:embed="rId1"/>
          <a:stretch/>
        </p:blipFill>
        <p:spPr>
          <a:xfrm>
            <a:off x="0" y="0"/>
            <a:ext cx="7578720" cy="10585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268920"/>
            <a:ext cx="7578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4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Ни в коем случае не настаивайте на продолжении тренировочного занятия, если по каким-то причинам ребёнок этого не хочет. Нужно, прежде всего, выяснить причину отказа, устранить её и только после этого продолжить занят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4236480"/>
            <a:ext cx="757872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5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е ругайте своего ребёнка за временные неудачи. Ребёнок делает только первые шаги в неизвестном для него мире, а потому он очень болезненно реагирует на то, когда другие считают его слабым и неумелым. Особенно остро это проявляется, если родители не знают, как дать ребёнку понять, что они уважают его чувства, желания и мнения.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tps://ds03.infourok.ru/uploads/ex/0159/000139d8-797ca52e/hello_html_m294c51d1.jpg"/>
          <p:cNvPicPr/>
          <p:nvPr/>
        </p:nvPicPr>
        <p:blipFill>
          <a:blip r:embed="rId2"/>
          <a:srcRect l="8778" t="6359" r="4337" b="2693"/>
          <a:stretch/>
        </p:blipFill>
        <p:spPr>
          <a:xfrm>
            <a:off x="1422360" y="1557360"/>
            <a:ext cx="5273640" cy="25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mognovse.ru/mogno/642/641553/641553_html_m20fce197.png"/>
          <p:cNvPicPr/>
          <p:nvPr/>
        </p:nvPicPr>
        <p:blipFill>
          <a:blip r:embed="rId3"/>
          <a:stretch/>
        </p:blipFill>
        <p:spPr>
          <a:xfrm>
            <a:off x="3789360" y="5826240"/>
            <a:ext cx="3718080" cy="33526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0" y="5826240"/>
            <a:ext cx="757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6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Важно определить 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риоритеты ребёнка в выб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физических упраж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рактически  всем дет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равятся подви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игры, но бывают и исклю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апример, ребёнок хоч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Подражать  своему любим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герою книги или  кино­фильма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каких-то кач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апример физической силы, 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е хватает. В этом случае н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удивляйтесь, если ваш ребёнок вдруг попросит купить ему гантели или навесную перекладину для подтягива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-fotki.yandex.ru/get/4100/annaze63.44/0_31f30_759d259d_XL.jpg"/>
          <p:cNvPicPr/>
          <p:nvPr/>
        </p:nvPicPr>
        <p:blipFill>
          <a:blip r:embed="rId1"/>
          <a:stretch/>
        </p:blipFill>
        <p:spPr>
          <a:xfrm>
            <a:off x="0" y="0"/>
            <a:ext cx="7578720" cy="10585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-20520" y="280800"/>
            <a:ext cx="757872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7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Не меняйте сли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часто набор физ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упраж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Если комплекс ребё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нравится, пусть 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выполняет его как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дольше, чтобы прочно усв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тот или иной нав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вет 8.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 Важно соблюдать культуру физических упражнений. Ни в коем случае не должно быть  небрежности, исполнения спустя рука­ва. Всё должно делаться «взаправ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4150080"/>
            <a:ext cx="75787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 9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ерегружайте ребёнка, учитывайте его возраст. Никогда не заставляйте ребёнка выполнять физические упражнения, если он этого не хочет. При­учайте его к физической культуре исподволь, соб­ственным прим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 10. 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 незыблемых закона должны сопровождать вас в воспитании ребёнка: понимание, любовь и терп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64960" y="9483840"/>
            <a:ext cx="348444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Успехов вам и 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http://kapitoshka.pp.ua/images/articles/sport/Family-Sports.png"/>
          <p:cNvPicPr/>
          <p:nvPr/>
        </p:nvPicPr>
        <p:blipFill>
          <a:blip r:embed="rId2"/>
          <a:stretch/>
        </p:blipFill>
        <p:spPr>
          <a:xfrm>
            <a:off x="131760" y="6066000"/>
            <a:ext cx="4495680" cy="36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lib-avt.ru/sites/default/files/image001.gif"/>
          <p:cNvPicPr/>
          <p:nvPr/>
        </p:nvPicPr>
        <p:blipFill>
          <a:blip r:embed="rId3"/>
          <a:stretch/>
        </p:blipFill>
        <p:spPr>
          <a:xfrm>
            <a:off x="2930400" y="187200"/>
            <a:ext cx="46483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1-16T08:46:1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