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BB8-0B3E-4070-9D35-7590642A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70E-149B-4ED5-8AD3-4786CBD7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E24-FF62-4979-99B0-8DC332D9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39B-3D4B-40B5-9CA4-A67FA4D4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707-07A0-43AC-A2BF-9C4B4F2E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CB8-3AD1-4693-99CB-02660678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0CF-A335-4289-AC23-4634D817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C39-DF98-4CE6-A1C7-2A1D8043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2AA-D02F-42C7-8784-66B935AB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9FA-5CE4-451A-A4E4-9944FAF9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7CE-E623-4913-B78C-1B74D117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025-E2DD-485E-9C12-2EF6A8DE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5926-4D92-43DE-8AB4-9DF4C96F1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4724280" y="60480"/>
            <a:ext cx="441972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ыхательные упражнения для дошкольник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ние – это исполнение музыки средствами певческого голоса. Пение – это  сложный психофизический процесс, связанный с работой важных систем – дыханием, кровообращением и д.т. Поэтому важно, чтобы ребенок при пении чувствовал себя комфортно, пел с удовольствием. У детей дошкольного возраста голос ещё не сформирован и слаб. Дыхание – один из факторов голосообразования. Певческое дыхание требует волевых усилий. Оно состоит из вдоха, задержки дыхания и выдо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ладеть навыком певческого дыхания детям помогают упражнения, которые делятся на дыхательные упражнения без звука и звуковые дыхательные упражнения. Эти упражнения способствуют оздоровлению всей дыхательной системы, насыщают ткани кислородом, укрепляют нервную систему, улучшают дренажную функцию бронхов, восстанавливают нарушенное носовое дых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тельные упражнения можно использовать в качестве начальных этапов музыкального занятия или непосредственно перед тем, как перейти к пению. Важно понимать, что для хорошего пения сначала нужно научиться правильно дышать, а помогут в этом дыхательные упраж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агаемый несложный комплекс упражнений для правильного дыхания можно выполнять не только на музыкальных занятиях, но и дома с родителями, на прогулке, в поездке на машине, в гостях у бабушки с дедуш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«Бегемот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улучшить функцию внешнего дыхания, освоить первичные приемы дыхательной гимнастики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ок, находящийся в положении лежа, кладет ладонь на область диафрагмы. Взрослый произносит рифмовку: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емотики лежали, бегемотики дышали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ивотик поднимается (вдох),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ивотик опускается (выдох).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может выполняться в положении сидя и сопровождаться рифмовкой: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Сели бегемотики, потрогали живот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ивотик поднимается (вдох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ивотик опускается (выдох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ох и выдох производится через нос.   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Чей паровоз громче гуди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формировать навык продолжительного и целенаправленного выдоха (не надувая при этом ще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маленькие пузырьки с маленьким горлышком из-под лекарств или дух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й подносит пузырек к губам и дует в него, чтобы послышался свист, затем предлагает сделать тоже самое ребенку – подуть в каждый пузырек по очереди (не надувая при этом ще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«Погреем ру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формировать целенаправленную теплую струю выдыхаемого возду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й предлагает ребенку погреть свои, мамины ручки. Необходимо обращать внимание на положение губ (рот широко откры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жнение: «греем ручки» с одновременным длительным произнесением гласных звуков «А, У, О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«Отгадай по запах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формировать носовой вдо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шесть коробочек от киндер-сюрпризов с проделанными в них множеством отверстий: 2 коробочки наполнены апельсиновыми корками, 2 коробочки наполнены листьями сухой мяты, 2 коробочки наполнены пакетиками с ванильным сахар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«Парные коробочки»: ребенок последовательно нюхает каждую коробочку из своего набора и подбирает с аналогичным запахом из набора взросло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«Поставь по порядку»: коробочки взрослого выставлены в определенном порядке, малыш нюхает их и пытается поставить свой набор в той же последовательности. Предлагаемая инструкция: «Поставь сначала мятную коробочку, потом апельсиновую, потом ванильную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18" descr="hippopotamus-vector-2-40681"/>
          <p:cNvPicPr/>
          <p:nvPr/>
        </p:nvPicPr>
        <p:blipFill>
          <a:blip r:embed="rId1"/>
          <a:stretch/>
        </p:blipFill>
        <p:spPr>
          <a:xfrm>
            <a:off x="3124080" y="2057400"/>
            <a:ext cx="1333800" cy="1274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1"/>
          <p:cNvPicPr/>
          <p:nvPr/>
        </p:nvPicPr>
        <p:blipFill>
          <a:blip r:embed="rId2"/>
          <a:stretch/>
        </p:blipFill>
        <p:spPr>
          <a:xfrm>
            <a:off x="5867280" y="304920"/>
            <a:ext cx="1676520" cy="90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a36ecce8135de983b89d0510e62bf1b9"/>
          <p:cNvPicPr/>
          <p:nvPr/>
        </p:nvPicPr>
        <p:blipFill>
          <a:blip r:embed="rId3"/>
          <a:stretch/>
        </p:blipFill>
        <p:spPr>
          <a:xfrm>
            <a:off x="1447920" y="5562720"/>
            <a:ext cx="167616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«Качел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улучшить функцию внешнего дыхания, освоить первичные приемы дыхательной гимнастики.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мягкие игрушки небольшого размера по количеству детей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ку, находящемуся в положении лежа, кладут на живот в области диафрагмы легкую игрушку. Взрослый произносит рифмовк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ли вверх (вдох)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ли вниз (выдох),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че ты, дружок, держис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ох и выдох производится через но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«Ныряльщики за жемчуг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улучшить функцию внешнего дыхания, увеличить силу дыхательных мыш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вляется, что на морском дне лежит красивейшая жемчужин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ь ее сможет тот, кто уме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ерживать дыхание. Ребенок 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и стоя делает два спокойн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оха и два спокойных выдоха через нос, а с третьим глубоким вдохом закрывает рот, зажимает пальцами нос и приседает до желания сделать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«Дыхани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улучшить функцию внешнего дыхания, осваивать носовое дых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картинки с изображением птиц, животных, людей, раст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ок находится в положении сидя. Взрослый произносит рифмовку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ком дышу свободн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ше - громче, как угод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дыханья жизни нет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дыханья меркнет св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шат птицы и цвет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шим он, и я, и 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охи всем телом после каждой строч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«Воздушный футбо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ыработать более глубокий вдох и более длительный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«мячи» из ваты, куб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кусочков ваты скатать шарик – «мяч». Ворота - 2 кубика. Ребенок дует на «мяч», пытаясь «забить гол» - вата должна оказаться между куби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Picture 17" descr="Kids_2561"/>
          <p:cNvPicPr/>
          <p:nvPr/>
        </p:nvPicPr>
        <p:blipFill>
          <a:blip r:embed="rId1"/>
          <a:stretch/>
        </p:blipFill>
        <p:spPr>
          <a:xfrm>
            <a:off x="3278160" y="1981080"/>
            <a:ext cx="1141560" cy="1141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1463238990_jemchujina"/>
          <p:cNvPicPr/>
          <p:nvPr/>
        </p:nvPicPr>
        <p:blipFill>
          <a:blip r:embed="rId2"/>
          <a:stretch/>
        </p:blipFill>
        <p:spPr>
          <a:xfrm>
            <a:off x="7743960" y="1143000"/>
            <a:ext cx="1400040" cy="1038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54726483"/>
          <p:cNvPicPr/>
          <p:nvPr/>
        </p:nvPicPr>
        <p:blipFill>
          <a:blip r:embed="rId3"/>
          <a:stretch/>
        </p:blipFill>
        <p:spPr>
          <a:xfrm>
            <a:off x="2362320" y="487692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huckvatolck"/>
          <p:cNvPicPr/>
          <p:nvPr/>
        </p:nvPicPr>
        <p:blipFill>
          <a:blip r:embed="rId4"/>
          <a:stretch/>
        </p:blipFill>
        <p:spPr>
          <a:xfrm>
            <a:off x="5715000" y="5421240"/>
            <a:ext cx="23623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«Листопа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ыработать более глубокий вдох и более длительный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листочки из тонкой бумаг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езать листочки из тонкой цветной бумаги и предложите ребенку «устроить листопад» - сдувать листочки с ладо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Снегопа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ыработать более глубокий вдох и более длительный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«снежки» из ва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лать из ваты мелкие шарики – «снежинки», положить ребенку на ладонь и предложить «устроить снегопад» - сдувать снежинки с ладо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инок много я собра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ерочком легким ста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очень постаратьс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инки дружно разлетят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«Корабл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ыработать более глубокий вдох и более длительный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бумажный кораблик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з с водой. Пустить в таз с вод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ий бумажный кораблик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уть плавно и длительно, чтоб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аблик поплыл. Взросл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носит русскую народную поговорк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ерок, ветерок, натяни парусок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аблик гони до Кубань-ре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«Лети, перышко!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ыработать более глубокий вдох и более длительный выдо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перышки небольшого разме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ь ребенку на ладонь перышко и предложить подуть так, чтобы оно полете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19" descr="10053798"/>
          <p:cNvPicPr/>
          <p:nvPr/>
        </p:nvPicPr>
        <p:blipFill>
          <a:blip r:embed="rId1"/>
          <a:srcRect l="0" t="16196" r="0" b="22274"/>
          <a:stretch/>
        </p:blipFill>
        <p:spPr>
          <a:xfrm>
            <a:off x="533520" y="304920"/>
            <a:ext cx="255276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hello_html_3dc7601a"/>
          <p:cNvPicPr/>
          <p:nvPr/>
        </p:nvPicPr>
        <p:blipFill>
          <a:blip r:embed="rId2"/>
          <a:stretch/>
        </p:blipFill>
        <p:spPr>
          <a:xfrm>
            <a:off x="7238880" y="1752480"/>
            <a:ext cx="1505160" cy="1328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1_525501a938ce3525501a938d20"/>
          <p:cNvPicPr/>
          <p:nvPr/>
        </p:nvPicPr>
        <p:blipFill>
          <a:blip r:embed="rId3"/>
          <a:stretch/>
        </p:blipFill>
        <p:spPr>
          <a:xfrm>
            <a:off x="3200400" y="4038480"/>
            <a:ext cx="1305000" cy="13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post-1659409-1307025484"/>
          <p:cNvPicPr/>
          <p:nvPr/>
        </p:nvPicPr>
        <p:blipFill>
          <a:blip r:embed="rId4"/>
          <a:stretch/>
        </p:blipFill>
        <p:spPr>
          <a:xfrm rot="16884000">
            <a:off x="7403760" y="3187800"/>
            <a:ext cx="9302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«Мой воздушный шар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ыработать более глубокий вдох, сильный длительный выдох; активизировать мышцы г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воздушные шар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лжны надуть воздушные шары, набирая воздух через нос и медленно выдыхая его через ро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 сопровождает действия детей стихотворным текстом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 воздушный шарик, раз, два, тр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ий, как комарик, посмотр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ом я вдыхаю, не спешу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воим дыханием слеж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ый день я в шарик дую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 дыханием колдую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рик я надуть стремлюс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ильнее становлюс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Самый быстрый каранда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звитие длинного и плавного выдо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цветные карандаши с гладкой или ребристой поверхность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ребенком сидящим за стол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расстоянии 20 см клад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ндаш. Сначала сами показыва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ку, как дуть на карандаш, чтоб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укатился на противоположный край стол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поиграть в эту игру вдвоем сидя друг напротив друга и перекатывать карандаш друг друг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«Горо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формировать сильный направленный ротовой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но неглубокой тарелки приклеивается картинка, сверху насыпается горох. Ребенок должен раздуть горох с середины, чтобы увидеть картин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-то спряталось на дн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пока не видно мн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горох подую 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кажу, что там, друзь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«Бабоч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формировать сильную воздушную стру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тол выставляется цветочная полянка. Ребенок должен сдуть бумажную бабочку с ладошки. Желательно, чтобы она улетела на самый дальний цвет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бочка-красав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ладошку с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е с легким ветер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янку полет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1" descr="small"/>
          <p:cNvPicPr/>
          <p:nvPr/>
        </p:nvPicPr>
        <p:blipFill>
          <a:blip r:embed="rId1"/>
          <a:stretch/>
        </p:blipFill>
        <p:spPr>
          <a:xfrm>
            <a:off x="2341440" y="15238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0_dba6b_b44ecb4_orig"/>
          <p:cNvPicPr/>
          <p:nvPr/>
        </p:nvPicPr>
        <p:blipFill>
          <a:blip r:embed="rId2"/>
          <a:stretch/>
        </p:blipFill>
        <p:spPr>
          <a:xfrm>
            <a:off x="7924680" y="914400"/>
            <a:ext cx="1067040" cy="903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1" descr="4217_html_16306819"/>
          <p:cNvPicPr/>
          <p:nvPr/>
        </p:nvPicPr>
        <p:blipFill>
          <a:blip r:embed="rId3"/>
          <a:srcRect l="9939" t="0" r="13581" b="21034"/>
          <a:stretch/>
        </p:blipFill>
        <p:spPr>
          <a:xfrm>
            <a:off x="2362320" y="4952880"/>
            <a:ext cx="2133360" cy="120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7" descr="0_1694e8_413d110a_orig"/>
          <p:cNvPicPr/>
          <p:nvPr/>
        </p:nvPicPr>
        <p:blipFill>
          <a:blip r:embed="rId4"/>
          <a:stretch/>
        </p:blipFill>
        <p:spPr>
          <a:xfrm>
            <a:off x="7192800" y="4724280"/>
            <a:ext cx="1463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                  </a:t>
                      </a: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«Кома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звивать фон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звученный)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предм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инка «комар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оводится, если ребенок правильно произносит звук «з»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ок стоит, кисти к плечам, легко покачивается на месте, произнося звук «з». Взрослый произносит рифмовк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-з-з - комар летит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-з-з - комар звен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«Жу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звивать фонацион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звученный) выдо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предм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инка - жу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оводится, если ребенок правильно произносит звук «ж»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ок стоит, руки на поясе, корпус поворачивает вправо-влево, произнося звук «ж». Взрослый произносит рифмовк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жуки, мы жуки, мы живем у рек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летаем и жужжим, соблюдаем свой режи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«Варим каш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звивать фонационный (озвученный) выдох, умение действовать в коллектив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: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детские стулья, поставленные в виде круг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педагогом договариваются варить кашу и распределяют «роли»: молоко, сахар, крупа, соль. На слова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, два, три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шочек, вари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«Продукты» поочередно входят в круг –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оршочек»).Каша варитс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ети , выпячивая живот и набирая воздуха в грудь, делают вдох, опуская грудь и втягивая живот - выдох и произносят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Ш-Ш-Ш»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онь прибавляют.(Дети произносят: «Ш-Ш-Ш» в убыстренном темпе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, два, три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шочек, не вари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«Изобрази животно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звивать речевое дыхание через произнесение на выдохе слог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й произносит рифмовку, а ребенок изображает животных звуками и движениям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лю дразнить я хрюшек, барашков и лягуш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день за ними я хожу и все твержу, твержу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-кар, гав-гав, жу-жу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-бе, ме-ме, ква-к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17" descr="17823050_454f1f14a0561b307681f7268ad9425d_800"/>
          <p:cNvPicPr/>
          <p:nvPr/>
        </p:nvPicPr>
        <p:blipFill>
          <a:blip r:embed="rId1"/>
          <a:stretch/>
        </p:blipFill>
        <p:spPr>
          <a:xfrm>
            <a:off x="2743200" y="152280"/>
            <a:ext cx="123336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5357983"/>
          <p:cNvPicPr/>
          <p:nvPr/>
        </p:nvPicPr>
        <p:blipFill>
          <a:blip r:embed="rId2"/>
          <a:stretch/>
        </p:blipFill>
        <p:spPr>
          <a:xfrm>
            <a:off x="7391520" y="152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2" descr="91285020"/>
          <p:cNvPicPr/>
          <p:nvPr/>
        </p:nvPicPr>
        <p:blipFill>
          <a:blip r:embed="rId3"/>
          <a:stretch/>
        </p:blipFill>
        <p:spPr>
          <a:xfrm>
            <a:off x="2743200" y="4267080"/>
            <a:ext cx="1590840" cy="136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cartoon-little-pig_small"/>
          <p:cNvPicPr/>
          <p:nvPr/>
        </p:nvPicPr>
        <p:blipFill>
          <a:blip r:embed="rId4"/>
          <a:stretch/>
        </p:blipFill>
        <p:spPr>
          <a:xfrm>
            <a:off x="6858000" y="5257800"/>
            <a:ext cx="134316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11:37:35Z</dcterms:created>
  <dc:creator>User</dc:creator>
  <dc:description/>
  <dc:language>en-US</dc:language>
  <cp:lastModifiedBy>User</cp:lastModifiedBy>
  <dcterms:modified xsi:type="dcterms:W3CDTF">2017-01-27T06:54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