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834-AD81-4268-A591-F995449B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C04-23C8-4638-BB0E-14A4908B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373-009B-4B61-85FB-589F34D4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D9F-B416-408E-B814-AE6EE82F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AC2-AD58-4E40-B778-709C2FE9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F4A-7BCE-43C9-A029-CFD5A1FE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E86-4EAE-4731-B668-18CC304E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A08-71DB-4FBD-9BFF-F6F3D54C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764-F15E-4A29-8A8A-686AF5FD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6C4-2AD4-4F45-9EA0-9C9595D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26A-777A-4320-8DD8-ACD7AA6C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6FE-FC18-4121-84F8-670F451F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5648-3696-4834-BC34-9B293B52E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1052280"/>
            <a:ext cx="5832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вершенствование работы по обучению и воспитанию на основе историко-культурных традиций кубанского каз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260280"/>
            <a:ext cx="9144000" cy="289080"/>
          </a:xfrm>
          <a:prstGeom prst="rect">
            <a:avLst/>
          </a:prstGeom>
          <a:solidFill>
            <a:srgbClr val="ff0066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549360"/>
            <a:ext cx="914400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Picture 8" descr="АКК_с_Казаком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95640" y="3068640"/>
            <a:ext cx="4825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работы на 2016-2017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14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0" y="1052640"/>
          <a:ext cx="9144000" cy="5664240"/>
        </p:xfrm>
        <a:graphic>
          <a:graphicData uri="http://schemas.openxmlformats.org/drawingml/2006/table">
            <a:tbl>
              <a:tblPr/>
              <a:tblGrid>
                <a:gridCol w="1393920"/>
                <a:gridCol w="77500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2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класс для учителей ОПК «Святые заступники Рус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2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иторинг численности учащихся, содержания образования и кадрового обеспечения в классах и группах казачьей направленности в 2016-2017 учебном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инг изучения в 2016-2017 учебном году учащимися ОО основ правосла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90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 для заместителей директора по методической работе «ОРКСЭ, ОПК: опыт построения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9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класс  для учителей кубановедения «Роль школьных музеев и музейных комнат в преподавании кубановед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стиваль «Казачьему роду нет переводу!» среди классов казачьей направ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работы на 2016-2017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20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23" name=""/>
          <p:cNvGraphicFramePr/>
          <p:nvPr/>
        </p:nvGraphicFramePr>
        <p:xfrm>
          <a:off x="0" y="981000"/>
          <a:ext cx="8964720" cy="6112080"/>
        </p:xfrm>
        <a:graphic>
          <a:graphicData uri="http://schemas.openxmlformats.org/drawingml/2006/table">
            <a:tbl>
              <a:tblPr/>
              <a:tblGrid>
                <a:gridCol w="2203560"/>
                <a:gridCol w="67611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й стол для библиотекарей «Духовно- нравственное воспитание школьников в условиях школьной библиоте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4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для учителей ОПК и ОРКС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спользование интерактивных форм при изучении курса ОРКСЭ и ОП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6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вой конкурс «Лучший кабинет кубановед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конкурс стендов казачьей направ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5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 для учителей, работающих в классах казачьей направленности «Особенности духовно-нравственного воспитания школьников в классах казачьей направленности: актуальные проблемы и перспективы развит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7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ый творческий конкурс  «Милая сердцу кубанская земля» для учащихся 1-11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ля ОП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работы на 2016-2017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26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29" name=""/>
          <p:cNvGraphicFramePr/>
          <p:nvPr/>
        </p:nvGraphicFramePr>
        <p:xfrm>
          <a:off x="250920" y="1268280"/>
          <a:ext cx="8569080" cy="5400720"/>
        </p:xfrm>
        <a:graphic>
          <a:graphicData uri="http://schemas.openxmlformats.org/drawingml/2006/table">
            <a:tbl>
              <a:tblPr/>
              <a:tblGrid>
                <a:gridCol w="1376280"/>
                <a:gridCol w="7192800"/>
              </a:tblGrid>
              <a:tr h="10620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инг общеобразовательных организаций, реализующих казачий компон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6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на по кубановедению для 1-5 клас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этап краевого конкурса  «За нравственный подвиг учител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этап краевого смотра-конкурса «Моя Кубань – мой дом родно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ля классов казачьей направ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егиональная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ормативно-правовая баз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50920" y="1916280"/>
            <a:ext cx="417672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АВ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МИНИСТРАЦИИ КРАСНОДАРСКОГО КРА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9 июля  2008 г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 644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 утверждении Концепции развития общего, начального профессионального и дополнительного образования на основе историко-культурных традиций кубанского казачест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8" name="Picture 7" descr="Герб_Кубани_новый"/>
          <p:cNvPicPr/>
          <p:nvPr/>
        </p:nvPicPr>
        <p:blipFill>
          <a:blip r:embed="rId1"/>
          <a:stretch/>
        </p:blipFill>
        <p:spPr>
          <a:xfrm>
            <a:off x="2050920" y="1916280"/>
            <a:ext cx="649440" cy="7999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5"/>
          <p:cNvGrpSpPr/>
          <p:nvPr/>
        </p:nvGrpSpPr>
        <p:grpSpPr>
          <a:xfrm>
            <a:off x="0" y="0"/>
            <a:ext cx="9144000" cy="836280"/>
            <a:chOff x="0" y="0"/>
            <a:chExt cx="9144000" cy="836280"/>
          </a:xfrm>
        </p:grpSpPr>
        <p:sp>
          <p:nvSpPr>
            <p:cNvPr id="50" name="Rectangle 6"/>
            <p:cNvSpPr/>
            <p:nvPr/>
          </p:nvSpPr>
          <p:spPr>
            <a:xfrm>
              <a:off x="0" y="0"/>
              <a:ext cx="9144000" cy="332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332640"/>
              <a:ext cx="9144000" cy="216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0" y="54900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" name="Rectangle 3"/>
          <p:cNvSpPr/>
          <p:nvPr/>
        </p:nvSpPr>
        <p:spPr>
          <a:xfrm>
            <a:off x="4932360" y="1989000"/>
            <a:ext cx="388764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каз администрации Краснодарского края, департамента образования и науки Краснодарского края и войскового казачьего общества Кубанское казачье войско от 31.03.2008 № 1060 «Об утверждении Порядка присвоения государственным и муниципальным образовательным учреждениям Краснодарского края регионального статуса «казачье образовательное учреждение»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4" name="Picture 7" descr="Герб_Кубани_новый"/>
          <p:cNvPicPr/>
          <p:nvPr/>
        </p:nvPicPr>
        <p:blipFill>
          <a:blip r:embed="rId2"/>
          <a:stretch/>
        </p:blipFill>
        <p:spPr>
          <a:xfrm>
            <a:off x="6516720" y="2060640"/>
            <a:ext cx="695160" cy="858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ональна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рмативно-правовая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859280" y="1700280"/>
            <a:ext cx="3960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А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МИНИСТРАЦИИ КРАСНОДАРСКОГО КРАЯ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РЯЖЕНИ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1 декабря 2011 год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1828-р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 совершенствовании работы по обучению и воспитанию на основе историко-культурных традиций кубанского казачества в Краснодарском кра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Герб_Кубани_новый"/>
          <p:cNvPicPr/>
          <p:nvPr/>
        </p:nvPicPr>
        <p:blipFill>
          <a:blip r:embed="rId1"/>
          <a:stretch/>
        </p:blipFill>
        <p:spPr>
          <a:xfrm>
            <a:off x="6485040" y="1916280"/>
            <a:ext cx="582480" cy="7207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0" y="0"/>
            <a:ext cx="9144000" cy="836280"/>
            <a:chOff x="0" y="0"/>
            <a:chExt cx="9144000" cy="836280"/>
          </a:xfrm>
        </p:grpSpPr>
        <p:sp>
          <p:nvSpPr>
            <p:cNvPr id="59" name="Rectangle 6"/>
            <p:cNvSpPr/>
            <p:nvPr/>
          </p:nvSpPr>
          <p:spPr>
            <a:xfrm>
              <a:off x="0" y="0"/>
              <a:ext cx="9144000" cy="332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0" y="332640"/>
              <a:ext cx="9144000" cy="216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0" y="54900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2" name="Rectangle 6"/>
          <p:cNvSpPr/>
          <p:nvPr/>
        </p:nvSpPr>
        <p:spPr>
          <a:xfrm>
            <a:off x="324000" y="1700280"/>
            <a:ext cx="388764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ПАРТАМЕНТ ОБРАЗОВАНИЯ И НАУКИ КРАСНОДАРСКОГО КРАЯ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КАЗ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4 ноября  2010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№ 389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 утверждении Положения  о классах и группах казачьей направленности на терри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стоящее время новое Положение о классах и группах казачьей направленности находится в разработк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Picture 4" descr="Герб_Кубани_новый"/>
          <p:cNvPicPr/>
          <p:nvPr/>
        </p:nvPicPr>
        <p:blipFill>
          <a:blip r:embed="rId2"/>
          <a:stretch/>
        </p:blipFill>
        <p:spPr>
          <a:xfrm>
            <a:off x="1835280" y="1916280"/>
            <a:ext cx="623880" cy="769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егиональная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ормативно-правовая баз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716360" y="2060640"/>
            <a:ext cx="367200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ПАРТАМЕНТ ОБРАЗОВАНИЯ И НАУКИ КРАСНОДАРСКОГО КРАЯ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КАЗ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 мая 2006 год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№ 01.5/2329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введении с 2006-2007 учебного года в ОУ Краснодарского края регионального учебного предмета «Основы православной культуры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язательно в школах и классах казачьей направленност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6" name="Picture 7" descr="Герб_Кубани_новый"/>
          <p:cNvPicPr/>
          <p:nvPr/>
        </p:nvPicPr>
        <p:blipFill>
          <a:blip r:embed="rId1"/>
          <a:stretch/>
        </p:blipFill>
        <p:spPr>
          <a:xfrm>
            <a:off x="6227640" y="2060640"/>
            <a:ext cx="623880" cy="7700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"/>
          <p:cNvGrpSpPr/>
          <p:nvPr/>
        </p:nvGrpSpPr>
        <p:grpSpPr>
          <a:xfrm>
            <a:off x="0" y="0"/>
            <a:ext cx="9144000" cy="836280"/>
            <a:chOff x="0" y="0"/>
            <a:chExt cx="9144000" cy="836280"/>
          </a:xfrm>
        </p:grpSpPr>
        <p:sp>
          <p:nvSpPr>
            <p:cNvPr id="68" name="Rectangle 6"/>
            <p:cNvSpPr/>
            <p:nvPr/>
          </p:nvSpPr>
          <p:spPr>
            <a:xfrm>
              <a:off x="0" y="0"/>
              <a:ext cx="9144000" cy="332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0" y="332640"/>
              <a:ext cx="9144000" cy="216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0" y="54900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71" name="Rectangle 6"/>
          <p:cNvSpPr/>
          <p:nvPr/>
        </p:nvSpPr>
        <p:spPr>
          <a:xfrm>
            <a:off x="324000" y="2060640"/>
            <a:ext cx="36716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НИСТЕРСТВО  ОБРАЗОВАНИЯ, НАУКИ  И МОЛОДЁЖНОЙ ПОЛИТИКИ  КРАСНОДАРСКОГО КРАЯ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е письмо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.07.2016 года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7-12537/16-11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совершенствовании работы по обучению и воспитанию на основе историко-культурных традиций кубанского казачества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4" descr="Герб_Кубани_новый"/>
          <p:cNvPicPr/>
          <p:nvPr/>
        </p:nvPicPr>
        <p:blipFill>
          <a:blip r:embed="rId2"/>
          <a:stretch/>
        </p:blipFill>
        <p:spPr>
          <a:xfrm>
            <a:off x="1908000" y="2060640"/>
            <a:ext cx="551160" cy="681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 Министерства образования, науки и молодёжной политики Краснодарского края  от 18 июля 2016 год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47-12537/16-11 «О совершенствовании работы по обучению и воспитанию на основе историко-культурных традиций кубанского казачеств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держание образования в классах казачье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75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78" name="AutoShape 10"/>
          <p:cNvSpPr/>
          <p:nvPr/>
        </p:nvSpPr>
        <p:spPr>
          <a:xfrm>
            <a:off x="250920" y="2708280"/>
            <a:ext cx="2952720" cy="1728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УБАНОВЕДЕНИ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3492360" y="2708280"/>
            <a:ext cx="2519640" cy="1728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вославной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ульту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300720" y="2708280"/>
            <a:ext cx="2592360" cy="1728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убанского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(российского)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зачеств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684360" y="4724280"/>
            <a:ext cx="3240000" cy="1944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Традиции  кубанского 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казачества  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(декоративно-прикладное 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творчество, фольклор)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AutoShape 14"/>
          <p:cNvSpPr/>
          <p:nvPr/>
        </p:nvSpPr>
        <p:spPr>
          <a:xfrm>
            <a:off x="5003640" y="4724280"/>
            <a:ext cx="3240360" cy="1944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урс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оенно-спортивной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правленност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о  Министерства образования, науки и молодёжной политики Краснодарского края  от 18 июля 2016 год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 47-12537/16-11 «О совершенствовании работы по обучению и воспитанию на основе историко-культурных традиций кубанского казачества»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85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88" name="Прямоугольник 14"/>
          <p:cNvSpPr/>
          <p:nvPr/>
        </p:nvSpPr>
        <p:spPr>
          <a:xfrm>
            <a:off x="179280" y="2421000"/>
            <a:ext cx="4321440" cy="576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я внеурочной деятельности ФГОС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Прямоугольник 15"/>
          <p:cNvSpPr/>
          <p:nvPr/>
        </p:nvSpPr>
        <p:spPr>
          <a:xfrm>
            <a:off x="4572000" y="2421000"/>
            <a:ext cx="4321080" cy="576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я реализации казачьего образовани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3068640"/>
          <a:ext cx="8748720" cy="3506760"/>
        </p:xfrm>
        <a:graphic>
          <a:graphicData uri="http://schemas.openxmlformats.org/drawingml/2006/table">
            <a:tbl>
              <a:tblPr/>
              <a:tblGrid>
                <a:gridCol w="4373640"/>
                <a:gridCol w="437508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ивно-оздоро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о-спортивное 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культур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онная культура кубанского каз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интеллекту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 кубанского каз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ховно-нрав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ы правосла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89647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ведены единые дни (среда, пятница) для изучения истории и традиционной культуры кубанского казачеств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93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6" name="Rectangle 3"/>
          <p:cNvSpPr/>
          <p:nvPr/>
        </p:nvSpPr>
        <p:spPr>
          <a:xfrm>
            <a:off x="324000" y="620640"/>
            <a:ext cx="338436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ЛАВА 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ДМИНИСТРАЦИИ КРАСНОДАРСКОГО КРАЯ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1 декабря 2011 г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 1828-р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совершенствовании работы по обучению и воспитанию на основе историко-культурных традиций кубанского казачества в Краснодарском кра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Picture 7" descr="Герб_Кубани_новый"/>
          <p:cNvPicPr/>
          <p:nvPr/>
        </p:nvPicPr>
        <p:blipFill>
          <a:blip r:embed="rId1"/>
          <a:stretch/>
        </p:blipFill>
        <p:spPr>
          <a:xfrm>
            <a:off x="1619280" y="620640"/>
            <a:ext cx="649080" cy="800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5219640" y="620640"/>
            <a:ext cx="374328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Monotype Corsi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о ДОН Краснодарского кра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13 декабря 2011 года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-19715/11-14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О совершенствовании работы по обучению и воспитанию на основе историко-культурных традиций кубанского казачест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7" descr="Герб_Кубани_новый"/>
          <p:cNvPicPr/>
          <p:nvPr/>
        </p:nvPicPr>
        <p:blipFill>
          <a:blip r:embed="rId2"/>
          <a:stretch/>
        </p:blipFill>
        <p:spPr>
          <a:xfrm>
            <a:off x="6732720" y="620640"/>
            <a:ext cx="695160" cy="85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классов казачьей направленности в образовательных организациях на 01.09.2016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02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539640" y="1460520"/>
          <a:ext cx="8209080" cy="5137200"/>
        </p:xfrm>
        <a:graphic>
          <a:graphicData uri="http://schemas.openxmlformats.org/drawingml/2006/table">
            <a:tbl>
              <a:tblPr/>
              <a:tblGrid>
                <a:gridCol w="2087640"/>
                <a:gridCol w="3673440"/>
                <a:gridCol w="244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ОУ СОШ №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б, 1в, 2б, 2в, 3б, 3в, 4б, 4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2а, 2б, 3а, 3б, 4а, 4б, 5а, 5б, 6а, 6б, 7а, 7б, 8а, 8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1б, 1в, 2а, 2б, 3а, 3б, 3в, 4а, 4б, 4в, 5а, 5б, 5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2а, 2б, 3а, 3б, 4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4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классов казачьей направленности в образовательных организациях на 01.09.2016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08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539640" y="1460520"/>
          <a:ext cx="8209080" cy="5254560"/>
        </p:xfrm>
        <a:graphic>
          <a:graphicData uri="http://schemas.openxmlformats.org/drawingml/2006/table">
            <a:tbl>
              <a:tblPr/>
              <a:tblGrid>
                <a:gridCol w="2232000"/>
                <a:gridCol w="3529080"/>
                <a:gridCol w="24480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1б, 1в, 2а, 2б, 2в, 3а, 3б, 4а, 4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1б, 1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, 3, 4, 5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, 3, 4, 5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ООШ №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ООШ №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ООШ №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8:10:00Z</dcterms:created>
  <dc:creator>Мама</dc:creator>
  <dc:description/>
  <dc:language>en-US</dc:language>
  <cp:lastModifiedBy>Roza</cp:lastModifiedBy>
  <dcterms:modified xsi:type="dcterms:W3CDTF">2019-12-07T04:21:30Z</dcterms:modified>
  <cp:revision>84</cp:revision>
  <dc:subject/>
  <dc:title>Изучение и сохранение традиций казачества в СОШ №4</dc:title>
</cp:coreProperties>
</file>