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D01-6A75-4C17-B7B4-6876F5E1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414-BC3A-4934-970F-9A0BA3BC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C34-DA37-456D-968D-61141DD8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899-661B-402F-B00A-44B60E7C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848-9C71-43E0-97FD-1D2AB4BD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97C-6D10-4617-86E8-D78AEFAE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1A9-ED9D-4940-8301-6102F0B1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EE2-39E9-477F-85D6-4D3F28BE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3B4-2354-4DBD-979B-672B5B3C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318-AB2C-4536-8427-D7CA2D13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2EE-ED1E-43EC-A0A6-34B8A6AB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A1B-A692-4CF4-98A2-F924309F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8C62-AC90-4FEA-9FBE-4778FF37F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1052280"/>
            <a:ext cx="5832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вершенствование работы по обучению и воспитанию на основе историко-культурных традиций кубанского каз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260280"/>
            <a:ext cx="9144000" cy="289080"/>
          </a:xfrm>
          <a:prstGeom prst="rect">
            <a:avLst/>
          </a:prstGeom>
          <a:solidFill>
            <a:srgbClr val="ff0066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549360"/>
            <a:ext cx="914400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Picture 8" descr="АКК_с_Казаком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95640" y="3068640"/>
            <a:ext cx="48258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работы на 2016-2017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114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0" y="1052640"/>
          <a:ext cx="9144000" cy="5664240"/>
        </p:xfrm>
        <a:graphic>
          <a:graphicData uri="http://schemas.openxmlformats.org/drawingml/2006/table">
            <a:tbl>
              <a:tblPr/>
              <a:tblGrid>
                <a:gridCol w="1393920"/>
                <a:gridCol w="77500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27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класс для учителей ОПК «Святые заступники Рус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2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иторинг численности учащихся, содержания образования и кадрового обеспечения в классах и группах казачьей направленности в 2016-2017 учебном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инг изучения в 2016-2017 учебном году учащимися ОО основ православн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890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-практикум  для заместителей директора по методической работе «ОРКСЭ, ОПК: опыт построения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9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класс  для учителей кубановедения «Роль школьных музеев и музейных комнат в преподавании кубановед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стиваль «Казачьему роду нет переводу!» среди классов казачьей направл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работы на 2016-2017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120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aphicFrame>
        <p:nvGraphicFramePr>
          <p:cNvPr id="123" name=""/>
          <p:cNvGraphicFramePr/>
          <p:nvPr/>
        </p:nvGraphicFramePr>
        <p:xfrm>
          <a:off x="0" y="981000"/>
          <a:ext cx="8964720" cy="6112080"/>
        </p:xfrm>
        <a:graphic>
          <a:graphicData uri="http://schemas.openxmlformats.org/drawingml/2006/table">
            <a:tbl>
              <a:tblPr/>
              <a:tblGrid>
                <a:gridCol w="2203560"/>
                <a:gridCol w="67611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ый стол для библиотекарей «Духовно- нравственное воспитание школьников в условиях школьной библиоте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4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-практикум для учителей ОПК и ОРКС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спользование интерактивных форм при изучении курса ОРКСЭ и ОП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6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евой конкурс «Лучший кабинет кубановед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конкурс стендов казачьей направл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5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-практикум  для учителей, работающих в классах казачьей направленности «Особенности духовно-нравственного воспитания школьников в классах казачьей направленности: актуальные проблемы и перспективы развит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7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ый творческий конкурс  «Милая сердцу кубанская земля» для учащихся 1-11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ля ОП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работы на 2016-2017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126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aphicFrame>
        <p:nvGraphicFramePr>
          <p:cNvPr id="129" name=""/>
          <p:cNvGraphicFramePr/>
          <p:nvPr/>
        </p:nvGraphicFramePr>
        <p:xfrm>
          <a:off x="250920" y="1268280"/>
          <a:ext cx="8569080" cy="5400720"/>
        </p:xfrm>
        <a:graphic>
          <a:graphicData uri="http://schemas.openxmlformats.org/drawingml/2006/table">
            <a:tbl>
              <a:tblPr/>
              <a:tblGrid>
                <a:gridCol w="1376280"/>
                <a:gridCol w="7192800"/>
              </a:tblGrid>
              <a:tr h="10620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инг общеобразовательных организаций, реализующих казачий компон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6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ина по кубановедению для 1-5 клас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этап краевого конкурса  «За нравственный подвиг учител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этап краевого смотра-конкурса «Моя Кубань – мой дом родно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ля классов казачьей направ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егиональная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ормативно-правовая баз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50920" y="1916280"/>
            <a:ext cx="417672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АВА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МИНИСТРАЦИИ КРАСНОДАРСКОГО КРА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АНОВЛЕНИ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9 июля  2008 г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 644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 утверждении Концепции развития общего, начального профессионального и дополнительного образования на основе историко-культурных традиций кубанского казачест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8" name="Picture 7" descr="Герб_Кубани_новый"/>
          <p:cNvPicPr/>
          <p:nvPr/>
        </p:nvPicPr>
        <p:blipFill>
          <a:blip r:embed="rId1"/>
          <a:stretch/>
        </p:blipFill>
        <p:spPr>
          <a:xfrm>
            <a:off x="2050920" y="1916280"/>
            <a:ext cx="649440" cy="7999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5"/>
          <p:cNvGrpSpPr/>
          <p:nvPr/>
        </p:nvGrpSpPr>
        <p:grpSpPr>
          <a:xfrm>
            <a:off x="0" y="0"/>
            <a:ext cx="9144000" cy="836280"/>
            <a:chOff x="0" y="0"/>
            <a:chExt cx="9144000" cy="836280"/>
          </a:xfrm>
        </p:grpSpPr>
        <p:sp>
          <p:nvSpPr>
            <p:cNvPr id="50" name="Rectangle 6"/>
            <p:cNvSpPr/>
            <p:nvPr/>
          </p:nvSpPr>
          <p:spPr>
            <a:xfrm>
              <a:off x="0" y="0"/>
              <a:ext cx="9144000" cy="332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332640"/>
              <a:ext cx="9144000" cy="216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0" y="54900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3" name="Rectangle 3"/>
          <p:cNvSpPr/>
          <p:nvPr/>
        </p:nvSpPr>
        <p:spPr>
          <a:xfrm>
            <a:off x="4932360" y="1989000"/>
            <a:ext cx="388764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каз администрации Краснодарского края, департамента образования и науки Краснодарского края и войскового казачьего общества Кубанское казачье войско от 31.03.2008 № 1060 «Об утверждении Порядка присвоения государственным и муниципальным образовательным учреждениям Краснодарского края регионального статуса «казачье образовательное учреждение»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4" name="Picture 7" descr="Герб_Кубани_новый"/>
          <p:cNvPicPr/>
          <p:nvPr/>
        </p:nvPicPr>
        <p:blipFill>
          <a:blip r:embed="rId2"/>
          <a:stretch/>
        </p:blipFill>
        <p:spPr>
          <a:xfrm>
            <a:off x="6516720" y="2060640"/>
            <a:ext cx="695160" cy="858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ональна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рмативно-правовая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859280" y="1700280"/>
            <a:ext cx="3960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А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МИНИСТРАЦИИ КРАСНОДАРСКОГО КРАЯ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РЯЖЕНИ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1 декабря 2011 год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1828-р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 совершенствовании работы по обучению и воспитанию на основе историко-культурных традиций кубанского казачества в Краснодарском кра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Герб_Кубани_новый"/>
          <p:cNvPicPr/>
          <p:nvPr/>
        </p:nvPicPr>
        <p:blipFill>
          <a:blip r:embed="rId1"/>
          <a:stretch/>
        </p:blipFill>
        <p:spPr>
          <a:xfrm>
            <a:off x="6485040" y="1916280"/>
            <a:ext cx="582480" cy="7207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"/>
          <p:cNvGrpSpPr/>
          <p:nvPr/>
        </p:nvGrpSpPr>
        <p:grpSpPr>
          <a:xfrm>
            <a:off x="0" y="0"/>
            <a:ext cx="9144000" cy="836280"/>
            <a:chOff x="0" y="0"/>
            <a:chExt cx="9144000" cy="836280"/>
          </a:xfrm>
        </p:grpSpPr>
        <p:sp>
          <p:nvSpPr>
            <p:cNvPr id="59" name="Rectangle 6"/>
            <p:cNvSpPr/>
            <p:nvPr/>
          </p:nvSpPr>
          <p:spPr>
            <a:xfrm>
              <a:off x="0" y="0"/>
              <a:ext cx="9144000" cy="332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0" y="332640"/>
              <a:ext cx="9144000" cy="216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0" y="54900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2" name="Rectangle 6"/>
          <p:cNvSpPr/>
          <p:nvPr/>
        </p:nvSpPr>
        <p:spPr>
          <a:xfrm>
            <a:off x="324000" y="1700280"/>
            <a:ext cx="388764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ПАРТАМЕНТ ОБРАЗОВАНИЯ И НАУКИ КРАСНОДАРСКОГО КРАЯ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КАЗ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4 ноября  2010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№ 389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 утверждении Положения  о классах и группах казачьей направленности на территории Краснодарского кра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стоящее время новое Положение о классах и группах казачьей направленности находится в разработк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Picture 4" descr="Герб_Кубани_новый"/>
          <p:cNvPicPr/>
          <p:nvPr/>
        </p:nvPicPr>
        <p:blipFill>
          <a:blip r:embed="rId2"/>
          <a:stretch/>
        </p:blipFill>
        <p:spPr>
          <a:xfrm>
            <a:off x="1835280" y="1916280"/>
            <a:ext cx="623880" cy="769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егиональная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ормативно-правовая баз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716360" y="2060640"/>
            <a:ext cx="367200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ПАРТАМЕНТ ОБРАЗОВАНИЯ И НАУКИ КРАСНОДАРСКОГО КРАЯ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КАЗ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 мая 2006 год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№ 01.5/2329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 введении с 2006-2007 учебного года в ОУ Краснодарского края регионального учебного предмета «Основы православной культуры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язательно в школах и классах казачьей направленност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6" name="Picture 7" descr="Герб_Кубани_новый"/>
          <p:cNvPicPr/>
          <p:nvPr/>
        </p:nvPicPr>
        <p:blipFill>
          <a:blip r:embed="rId1"/>
          <a:stretch/>
        </p:blipFill>
        <p:spPr>
          <a:xfrm>
            <a:off x="6227640" y="2060640"/>
            <a:ext cx="623880" cy="7700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"/>
          <p:cNvGrpSpPr/>
          <p:nvPr/>
        </p:nvGrpSpPr>
        <p:grpSpPr>
          <a:xfrm>
            <a:off x="0" y="0"/>
            <a:ext cx="9144000" cy="836280"/>
            <a:chOff x="0" y="0"/>
            <a:chExt cx="9144000" cy="836280"/>
          </a:xfrm>
        </p:grpSpPr>
        <p:sp>
          <p:nvSpPr>
            <p:cNvPr id="68" name="Rectangle 6"/>
            <p:cNvSpPr/>
            <p:nvPr/>
          </p:nvSpPr>
          <p:spPr>
            <a:xfrm>
              <a:off x="0" y="0"/>
              <a:ext cx="9144000" cy="332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0" y="332640"/>
              <a:ext cx="9144000" cy="216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0" y="54900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71" name="Rectangle 6"/>
          <p:cNvSpPr/>
          <p:nvPr/>
        </p:nvSpPr>
        <p:spPr>
          <a:xfrm>
            <a:off x="324000" y="2060640"/>
            <a:ext cx="36716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НИСТЕРСТВО  ОБРАЗОВАНИЯ, НАУКИ  И МОЛОДЁЖНОЙ ПОЛИТИКИ  КРАСНОДАРСКОГО КРАЯ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е письмо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.07.2016 года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7-12537/16-11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 совершенствовании работы по обучению и воспитанию на основе историко-культурных традиций кубанского казачества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4" descr="Герб_Кубани_новый"/>
          <p:cNvPicPr/>
          <p:nvPr/>
        </p:nvPicPr>
        <p:blipFill>
          <a:blip r:embed="rId2"/>
          <a:stretch/>
        </p:blipFill>
        <p:spPr>
          <a:xfrm>
            <a:off x="1908000" y="2060640"/>
            <a:ext cx="551160" cy="681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о  Министерства образования, науки и молодёжной политики Краснодарского края  от 18 июля 2016 год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47-12537/16-11 «О совершенствовании работы по обучению и воспитанию на основе историко-культурных традиций кубанского казачеств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держание образования в классах казачье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75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7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78" name="AutoShape 10"/>
          <p:cNvSpPr/>
          <p:nvPr/>
        </p:nvSpPr>
        <p:spPr>
          <a:xfrm>
            <a:off x="250920" y="2708280"/>
            <a:ext cx="2952720" cy="1728720"/>
          </a:xfrm>
          <a:prstGeom prst="bevel">
            <a:avLst>
              <a:gd name="adj" fmla="val 7398"/>
            </a:avLst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УБАНОВЕДЕНИ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3492360" y="2708280"/>
            <a:ext cx="2519640" cy="1728720"/>
          </a:xfrm>
          <a:prstGeom prst="bevel">
            <a:avLst>
              <a:gd name="adj" fmla="val 7398"/>
            </a:avLst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ы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вославной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ульту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300720" y="2708280"/>
            <a:ext cx="2592360" cy="1728720"/>
          </a:xfrm>
          <a:prstGeom prst="bevel">
            <a:avLst>
              <a:gd name="adj" fmla="val 7398"/>
            </a:avLst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тория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убанского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(российского)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зачеств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684360" y="4724280"/>
            <a:ext cx="3240000" cy="1944720"/>
          </a:xfrm>
          <a:prstGeom prst="bevel">
            <a:avLst>
              <a:gd name="adj" fmla="val 7398"/>
            </a:avLst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Традиции  кубанского 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казачества  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(декоративно-прикладное 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творчество, фольклор)</a:t>
            </a: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AutoShape 14"/>
          <p:cNvSpPr/>
          <p:nvPr/>
        </p:nvSpPr>
        <p:spPr>
          <a:xfrm>
            <a:off x="5003640" y="4724280"/>
            <a:ext cx="3240360" cy="1944720"/>
          </a:xfrm>
          <a:prstGeom prst="bevel">
            <a:avLst>
              <a:gd name="adj" fmla="val 7398"/>
            </a:avLst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урсы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оенно-спортивной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правленност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о  Министерства образования, науки и молодёжной политики Краснодарского края  от 18 июля 2016 год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 47-12537/16-11 «О совершенствовании работы по обучению и воспитанию на основе историко-культурных традиций кубанского казачества»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85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88" name="Прямоугольник 14"/>
          <p:cNvSpPr/>
          <p:nvPr/>
        </p:nvSpPr>
        <p:spPr>
          <a:xfrm>
            <a:off x="179280" y="2421000"/>
            <a:ext cx="4321440" cy="5763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ия внеурочной деятельности ФГОС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Прямоугольник 15"/>
          <p:cNvSpPr/>
          <p:nvPr/>
        </p:nvSpPr>
        <p:spPr>
          <a:xfrm>
            <a:off x="4572000" y="2421000"/>
            <a:ext cx="4321080" cy="576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ия реализации казачьего образовани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3068640"/>
          <a:ext cx="8748720" cy="3506760"/>
        </p:xfrm>
        <a:graphic>
          <a:graphicData uri="http://schemas.openxmlformats.org/drawingml/2006/table">
            <a:tbl>
              <a:tblPr/>
              <a:tblGrid>
                <a:gridCol w="4373640"/>
                <a:gridCol w="437508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ивно-оздоро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о-спортивное 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культур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диционная культура кубанского каз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интеллекту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 кубанского каз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ховно-нравств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ы православн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013360"/>
            <a:ext cx="896472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ведены единые дни (среда, пятница) для изучения истории и традиционной культуры кубанского казачеств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93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96" name="Rectangle 3"/>
          <p:cNvSpPr/>
          <p:nvPr/>
        </p:nvSpPr>
        <p:spPr>
          <a:xfrm>
            <a:off x="324000" y="620640"/>
            <a:ext cx="338436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ЛАВА 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ДМИНИСТРАЦИИ КРАСНОДАРСКОГО КРАЯ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РЯЖЕНИ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1 декабря 2011 г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 1828-р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 совершенствовании работы по обучению и воспитанию на основе историко-культурных традиций кубанского казачества в Краснодарском кра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Picture 7" descr="Герб_Кубани_новый"/>
          <p:cNvPicPr/>
          <p:nvPr/>
        </p:nvPicPr>
        <p:blipFill>
          <a:blip r:embed="rId1"/>
          <a:stretch/>
        </p:blipFill>
        <p:spPr>
          <a:xfrm>
            <a:off x="1619280" y="620640"/>
            <a:ext cx="649080" cy="800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5219640" y="620640"/>
            <a:ext cx="374328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Monotype Corsi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о ДОН Краснодарского кра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13 декабря 2011 года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-19715/11-14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О совершенствовании работы по обучению и воспитанию на основе историко-культурных традиций кубанского казачест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7" descr="Герб_Кубани_новый"/>
          <p:cNvPicPr/>
          <p:nvPr/>
        </p:nvPicPr>
        <p:blipFill>
          <a:blip r:embed="rId2"/>
          <a:stretch/>
        </p:blipFill>
        <p:spPr>
          <a:xfrm>
            <a:off x="6732720" y="620640"/>
            <a:ext cx="695160" cy="85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классов казачьей направленности в образовательных организациях на 01.09.2016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102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539640" y="1460520"/>
          <a:ext cx="8209080" cy="5137200"/>
        </p:xfrm>
        <a:graphic>
          <a:graphicData uri="http://schemas.openxmlformats.org/drawingml/2006/table">
            <a:tbl>
              <a:tblPr/>
              <a:tblGrid>
                <a:gridCol w="2087640"/>
                <a:gridCol w="3673440"/>
                <a:gridCol w="244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ОУ СОШ №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б, 1в, 2б, 2в, 3б, 3в, 4б, 4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а, 2а, 2б, 3а, 3б, 4а, 4б, 5а, 5б, 6а, 6б, 7а, 7б, 8а, 8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а, 1б, 1в, 2а, 2б, 3а, 3б, 3в, 4а, 4б, 4в, 5а, 5б, 5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а, 2а, 2б, 3а, 3б, 4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4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классов казачьей направленности в образовательных организациях на 01.09.2016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sp>
          <p:nvSpPr>
            <p:cNvPr id="108" name="Rectangle 6"/>
            <p:cNvSpPr/>
            <p:nvPr/>
          </p:nvSpPr>
          <p:spPr>
            <a:xfrm>
              <a:off x="0" y="0"/>
              <a:ext cx="9144000" cy="2066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0" y="206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0" y="413640"/>
              <a:ext cx="9144000" cy="2070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539640" y="1460520"/>
          <a:ext cx="8209080" cy="5254560"/>
        </p:xfrm>
        <a:graphic>
          <a:graphicData uri="http://schemas.openxmlformats.org/drawingml/2006/table">
            <a:tbl>
              <a:tblPr/>
              <a:tblGrid>
                <a:gridCol w="2232000"/>
                <a:gridCol w="3529080"/>
                <a:gridCol w="24480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а, 1б, 1в, 2а, 2б, 2в, 3а, 3б, 4а, 4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а, 1б, 1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, 3, 4, 5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СОШ №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, 3, 4, 5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ООШ №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ООШ №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ООШ №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8:10:00Z</dcterms:created>
  <dc:creator>Мама</dc:creator>
  <dc:description/>
  <dc:language>en-US</dc:language>
  <cp:lastModifiedBy>Roza</cp:lastModifiedBy>
  <dcterms:modified xsi:type="dcterms:W3CDTF">2019-12-07T04:21:30Z</dcterms:modified>
  <cp:revision>84</cp:revision>
  <dc:subject/>
  <dc:title>Изучение и сохранение традиций казачества в СОШ №4</dc:title>
</cp:coreProperties>
</file>