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770-305A-448F-A7D5-04773A92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ACA-2793-45FC-83F3-EE5A149F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42A-9212-4CFF-8574-D1341943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7C0-8038-4717-A99B-F54E6FF4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D9FB-9BAE-43F0-B47C-6FA33144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3C05-5142-4B8F-8E7E-D146F0F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AD1D-E9C0-4E9B-8AF5-B3E0DE64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08E7-BCB9-4274-9C2A-D62B485F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E1DD-B038-4B9E-B47D-A937F4B0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58FD-86E9-4424-86BB-43B5CF53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8FA-32C3-46C3-8F9F-0F9C6AA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0A1-B392-4F6F-A2C4-7EA842C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F371-9624-4F34-8478-B12AD93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6C19-EE69-4AA0-AEB1-A6EBB9C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9425-A504-4CD4-8C4F-7FEC877E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4209-ADAC-4CD8-BD87-03F43587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E6BC-F7E6-4EE4-8850-A5FBE4DF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7357-D7FE-4E30-BFEA-87E90404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9A64-BE82-4406-8A8A-EF9D1ABC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75735-78C1-4843-ADFA-1DFEEED0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63A8-5C91-4AE4-8C94-1F60B02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BAD8-BE76-494F-B568-11AD7D42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C48-6559-4C54-AF1F-69986675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AC77-FE24-46BF-B9BA-D54B898A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6B2E4-0B89-4B61-B021-0E644CB9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79C5-0354-43EB-8094-4492454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4720-8F92-43A8-BBC9-93252280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BE98-2CE8-43DC-89E7-74549AD8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5443-D3F8-4F58-B05E-AE1C86B7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0EC8-ED91-48A1-A40F-88139A47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FEC-45A3-40BA-AB41-694F531A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565-7090-4EEF-8EF1-0B2AB498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232-A4D9-4652-AC03-10CF80EB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61B-9B20-4977-A4EB-57B47DC6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0E9-F65D-4AA5-86D9-BEF28AA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1AD-5597-4B60-8111-618C4B8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F9A711-9FCB-4E26-8B90-1C9082940A9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CF824E-74DD-43CA-AD04-47E84BB2AA5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692783-BECF-4FC1-9292-E195DF83775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5640" cy="20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УГАДАЙ ГЕРОЯ СКАЗК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907640" y="692640"/>
            <a:ext cx="3026160" cy="5040360"/>
          </a:xfrm>
          <a:prstGeom prst="rect">
            <a:avLst/>
          </a:prstGeom>
          <a:ln w="9525">
            <a:noFill/>
          </a:ln>
        </p:spPr>
      </p:pic>
      <p:sp>
        <p:nvSpPr>
          <p:cNvPr id="141" name="Прямоугольник 1"/>
          <p:cNvSpPr/>
          <p:nvPr/>
        </p:nvSpPr>
        <p:spPr>
          <a:xfrm>
            <a:off x="4932000" y="5013000"/>
            <a:ext cx="338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Вот совсем нетрудный,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Коротенький вопрос: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Кто в чернилку сунул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Деревянный но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2286000" y="45810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Всех важней она в загадке,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Хоть и в погребе жила: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Репку вытащить из грядки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Деду с бабкой помо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http://montessoriself.ru/wp-content/uploads/2016/05/m19.jpg"/>
          <p:cNvPicPr/>
          <p:nvPr/>
        </p:nvPicPr>
        <p:blipFill>
          <a:blip r:embed="rId1"/>
          <a:stretch/>
        </p:blipFill>
        <p:spPr>
          <a:xfrm>
            <a:off x="3564000" y="1268640"/>
            <a:ext cx="3058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755640" y="4725000"/>
            <a:ext cx="547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Красна девица грустна: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Ей не нравится весна,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Ей на солнце тяжко!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Слезы льет бедняж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C:\Users\user\Downloads\Новая папка (2)\16366726.jpg"/>
          <p:cNvPicPr/>
          <p:nvPr/>
        </p:nvPicPr>
        <p:blipFill>
          <a:blip r:embed="rId1"/>
          <a:stretch/>
        </p:blipFill>
        <p:spPr>
          <a:xfrm>
            <a:off x="3852000" y="548640"/>
            <a:ext cx="3960000" cy="52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C:\Users\user\Downloads\Новая папка (2)\2.PNG"/>
          <p:cNvPicPr/>
          <p:nvPr/>
        </p:nvPicPr>
        <p:blipFill>
          <a:blip r:embed="rId1"/>
          <a:stretch/>
        </p:blipFill>
        <p:spPr>
          <a:xfrm>
            <a:off x="2123640" y="785160"/>
            <a:ext cx="4824000" cy="41288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3060000" y="4509000"/>
            <a:ext cx="3797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Из муки он был печен,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На сметане был мешен.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На окошке он студился,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По дорожке он катился.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Был он весел, был он смел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И в пути он песню п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C:\Users\user\Downloads\Новая папка (2)\119.jpg"/>
          <p:cNvPicPr/>
          <p:nvPr/>
        </p:nvPicPr>
        <p:blipFill>
          <a:blip r:embed="rId1"/>
          <a:stretch/>
        </p:blipFill>
        <p:spPr>
          <a:xfrm>
            <a:off x="1331640" y="692640"/>
            <a:ext cx="689724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"/>
          <p:cNvSpPr/>
          <p:nvPr/>
        </p:nvSpPr>
        <p:spPr>
          <a:xfrm>
            <a:off x="683640" y="4653000"/>
            <a:ext cx="6174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 Black"/>
              </a:rPr>
              <a:t>Возле леса, на опушке,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 Black"/>
              </a:rPr>
              <a:t>Трое их живет в избушке.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 Black"/>
              </a:rPr>
              <a:t>Там три стула и три кружки,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 Black"/>
              </a:rPr>
              <a:t>Три кроватки, три подушки.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 Black"/>
              </a:rPr>
              <a:t>Угадайте без подсказки,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Arial Black"/>
              </a:rPr>
              <a:t>Кто герои этой сказ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286000" y="53733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Толстяк живет на крыше,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Летает он всех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1187640" y="692640"/>
            <a:ext cx="6624360" cy="4583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267640" y="548640"/>
            <a:ext cx="4266720" cy="4266720"/>
          </a:xfrm>
          <a:prstGeom prst="rect">
            <a:avLst/>
          </a:prstGeom>
          <a:ln w="9525">
            <a:noFill/>
          </a:ln>
        </p:spPr>
      </p:pic>
      <p:sp>
        <p:nvSpPr>
          <p:cNvPr id="153" name="Прямоугольник 1"/>
          <p:cNvSpPr/>
          <p:nvPr/>
        </p:nvSpPr>
        <p:spPr>
          <a:xfrm>
            <a:off x="2286000" y="53733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Она была подружкой гномов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И вам, конечно же, знак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C:\Users\user\Downloads\Новая папка (2)\104617681_large_46.jpg"/>
          <p:cNvPicPr/>
          <p:nvPr/>
        </p:nvPicPr>
        <p:blipFill>
          <a:blip r:embed="rId1"/>
          <a:stretch/>
        </p:blipFill>
        <p:spPr>
          <a:xfrm>
            <a:off x="1259640" y="548640"/>
            <a:ext cx="6984360" cy="49294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"/>
          <p:cNvSpPr/>
          <p:nvPr/>
        </p:nvSpPr>
        <p:spPr>
          <a:xfrm>
            <a:off x="2267640" y="4869000"/>
            <a:ext cx="5760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Хрю-хрю-хрю — каких три братца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Больше волка не боятся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Потому что зверь тот хищный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Не разрушит дом кирпичн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C:\Users\user\Downloads\Новая папка (2)\Снимок.jpg"/>
          <p:cNvPicPr/>
          <p:nvPr/>
        </p:nvPicPr>
        <p:blipFill>
          <a:blip r:embed="rId1"/>
          <a:stretch/>
        </p:blipFill>
        <p:spPr>
          <a:xfrm>
            <a:off x="3780000" y="980640"/>
            <a:ext cx="3656520" cy="5184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"/>
          <p:cNvSpPr/>
          <p:nvPr/>
        </p:nvSpPr>
        <p:spPr>
          <a:xfrm>
            <a:off x="611640" y="4941000"/>
            <a:ext cx="396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Стоит в лесу изб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Живет в избе стару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Не входи в избуш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Съест тебя старуш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C:\Users\user\Downloads\Новая папка (2)\6903.png"/>
          <p:cNvPicPr/>
          <p:nvPr/>
        </p:nvPicPr>
        <p:blipFill>
          <a:blip r:embed="rId1"/>
          <a:stretch/>
        </p:blipFill>
        <p:spPr>
          <a:xfrm>
            <a:off x="1187640" y="738000"/>
            <a:ext cx="6984360" cy="539784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"/>
          <p:cNvSpPr/>
          <p:nvPr/>
        </p:nvSpPr>
        <p:spPr>
          <a:xfrm>
            <a:off x="2286000" y="47664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Он медом хотел подкрепиться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И тучкой решил притвор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На шарике к пчелам взлет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Но меду поесть не сум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Картинки по запросу картинка из сказки волк и семеро козлят для детей"/>
          <p:cNvPicPr/>
          <p:nvPr/>
        </p:nvPicPr>
        <p:blipFill>
          <a:blip r:embed="rId1"/>
          <a:stretch/>
        </p:blipFill>
        <p:spPr>
          <a:xfrm>
            <a:off x="1475640" y="620640"/>
            <a:ext cx="6048360" cy="4536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5580000" y="5085360"/>
            <a:ext cx="356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Ждали маму с молоком,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А пустили волка в дом…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Кем же были эти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Маленькие де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1043640" y="5229360"/>
            <a:ext cx="581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Я с бала коро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Однажды убег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И туфельку хруст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Случайно потеря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3348000" y="1124640"/>
            <a:ext cx="2300760" cy="4228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051640" y="3429000"/>
            <a:ext cx="604836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Загадки с сайта </a:t>
            </a: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deti online.com</a:t>
            </a: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картинки из сети интернет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3348000" y="1989000"/>
            <a:ext cx="316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C:\Users\user\Downloads\Новая папка (2)\1027330-i_018.jpg"/>
          <p:cNvPicPr/>
          <p:nvPr/>
        </p:nvPicPr>
        <p:blipFill>
          <a:blip r:embed="rId1"/>
          <a:stretch/>
        </p:blipFill>
        <p:spPr>
          <a:xfrm>
            <a:off x="1907640" y="312480"/>
            <a:ext cx="5616360" cy="47894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3276000" y="5229360"/>
            <a:ext cx="358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Покупала самовар,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А спасал ее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755640" y="4869000"/>
            <a:ext cx="4392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Была она артисткой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Прекрасной, как звезда,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От злого Карабаса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Сбежала на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C:\Users\user\Downloads\Новая папка (2)\36641525_fe56365e6b36t.jpg"/>
          <p:cNvPicPr/>
          <p:nvPr/>
        </p:nvPicPr>
        <p:blipFill>
          <a:blip r:embed="rId1"/>
          <a:stretch/>
        </p:blipFill>
        <p:spPr>
          <a:xfrm>
            <a:off x="4212000" y="620640"/>
            <a:ext cx="2935440" cy="523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827640" y="0"/>
            <a:ext cx="7581960" cy="5195520"/>
          </a:xfrm>
          <a:prstGeom prst="rect">
            <a:avLst/>
          </a:prstGeom>
          <a:ln w="9525">
            <a:noFill/>
          </a:ln>
        </p:spPr>
      </p:pic>
      <p:sp>
        <p:nvSpPr>
          <p:cNvPr id="131" name="Прямоугольник 1"/>
          <p:cNvSpPr/>
          <p:nvPr/>
        </p:nvSpPr>
        <p:spPr>
          <a:xfrm>
            <a:off x="2267640" y="515736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Уплетая калачи,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Ехал парень на печи.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Прокатился по деревне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И женился на царе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C:\Users\user\Downloads\Новая папка (2)\post-333293-1268850181.jpg"/>
          <p:cNvPicPr/>
          <p:nvPr/>
        </p:nvPicPr>
        <p:blipFill>
          <a:blip r:embed="rId1"/>
          <a:stretch/>
        </p:blipFill>
        <p:spPr>
          <a:xfrm>
            <a:off x="971640" y="746280"/>
            <a:ext cx="3600000" cy="54122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"/>
          <p:cNvSpPr/>
          <p:nvPr/>
        </p:nvSpPr>
        <p:spPr>
          <a:xfrm>
            <a:off x="4932000" y="4869000"/>
            <a:ext cx="396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Сладкий яблок аромат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Заманил ту птицу в сад.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Перья светятся огнём,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И светло вокруг, как д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2286000" y="55893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И зайчонок, и волчица -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Все бегут к нему ле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gbdoy91.ru/uploads/posts/2014-01/1389733111_doctor.png"/>
          <p:cNvPicPr/>
          <p:nvPr/>
        </p:nvPicPr>
        <p:blipFill>
          <a:blip r:embed="rId1"/>
          <a:stretch/>
        </p:blipFill>
        <p:spPr>
          <a:xfrm>
            <a:off x="1763640" y="260640"/>
            <a:ext cx="5616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user\Downloads\Новая папка (2)\0_a70ca_892e7f8_orig.jpg"/>
          <p:cNvPicPr/>
          <p:nvPr/>
        </p:nvPicPr>
        <p:blipFill>
          <a:blip r:embed="rId1"/>
          <a:stretch/>
        </p:blipFill>
        <p:spPr>
          <a:xfrm>
            <a:off x="1115640" y="692640"/>
            <a:ext cx="3408480" cy="53395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"/>
          <p:cNvSpPr/>
          <p:nvPr/>
        </p:nvSpPr>
        <p:spPr>
          <a:xfrm>
            <a:off x="4716000" y="4509000"/>
            <a:ext cx="4032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В гости к бабушке пошла,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Пироги ей понесла.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Серый Волк за ней следил,</a:t>
            </a:r>
            <a:br>
              <a:rPr sz="1800"/>
            </a:b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Обманул и прогло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listrade.net/image/cache/data/product/125479-400x400.jpg"/>
          <p:cNvPicPr/>
          <p:nvPr/>
        </p:nvPicPr>
        <p:blipFill>
          <a:blip r:embed="rId1"/>
          <a:stretch/>
        </p:blipFill>
        <p:spPr>
          <a:xfrm>
            <a:off x="3132000" y="980640"/>
            <a:ext cx="4968360" cy="4968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"/>
          <p:cNvSpPr/>
          <p:nvPr/>
        </p:nvSpPr>
        <p:spPr>
          <a:xfrm>
            <a:off x="899640" y="5013000"/>
            <a:ext cx="396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Он в Италии родился,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Он своей семьёй гордился.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Он не просто мальчик-лук,</a:t>
            </a:r>
            <a:br>
              <a:rPr sz="1800"/>
            </a:b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Arial Black"/>
              </a:rPr>
              <a:t>Он надёжный, верный дру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  <Words>142</Words>
  <Paragraphs>35</Paragraphs>
  <Company>DG Win&amp;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8T09:15:48Z</dcterms:created>
  <dc:creator>user</dc:creator>
  <dc:description/>
  <dc:language>en-US</dc:language>
  <cp:lastModifiedBy>user</cp:lastModifiedBy>
  <dcterms:modified xsi:type="dcterms:W3CDTF">2017-11-23T14:02:28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