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gif" ContentType="image/gif"/>
  <Override PartName="/ppt/media/image16.png" ContentType="image/png"/>
  <Override PartName="/ppt/media/image13.gif" ContentType="image/gif"/>
  <Override PartName="/ppt/media/image4.jpeg" ContentType="image/jpeg"/>
  <Override PartName="/ppt/media/image8.gif" ContentType="image/gif"/>
  <Override PartName="/ppt/media/image22.gif" ContentType="image/gif"/>
  <Override PartName="/ppt/media/image18.jpeg" ContentType="image/jpeg"/>
  <Override PartName="/ppt/media/image26.jpeg" ContentType="image/jpeg"/>
  <Override PartName="/ppt/media/image5.jpeg" ContentType="image/jpeg"/>
  <Override PartName="/ppt/media/image15.gif" ContentType="image/gif"/>
  <Override PartName="/ppt/media/image7.jpeg" ContentType="image/jpeg"/>
  <Override PartName="/ppt/media/image19.jpeg" ContentType="image/jpeg"/>
  <Override PartName="/ppt/media/image11.png" ContentType="image/png"/>
  <Override PartName="/ppt/media/image9.gif" ContentType="image/gif"/>
  <Override PartName="/ppt/media/image10.gif" ContentType="image/gif"/>
  <Override PartName="/ppt/media/image30.jpeg" ContentType="image/jpeg"/>
  <Override PartName="/ppt/media/image12.png" ContentType="image/png"/>
  <Override PartName="/ppt/media/image3.gif" ContentType="image/gif"/>
  <Override PartName="/ppt/media/image2.jpeg" ContentType="image/jpeg"/>
  <Override PartName="/ppt/media/image1.png" ContentType="image/png"/>
  <Override PartName="/ppt/media/image21.gif" ContentType="image/gif"/>
  <Override PartName="/ppt/media/image14.gif" ContentType="image/gif"/>
  <Override PartName="/ppt/media/image17.gif" ContentType="image/gif"/>
  <Override PartName="/ppt/media/image20.gif" ContentType="image/gif"/>
  <Override PartName="/ppt/media/image24.gif" ContentType="image/gif"/>
  <Override PartName="/ppt/media/image6.jpeg" ContentType="image/jpeg"/>
  <Override PartName="/ppt/media/image25.gif" ContentType="image/gif"/>
  <Override PartName="/ppt/media/image29.jpeg" ContentType="image/jpeg"/>
  <Override PartName="/ppt/media/image23.wmf" ContentType="image/x-wmf"/>
  <Override PartName="/ppt/media/image2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7074-2DAD-4B83-9AC3-7E3366B93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0280" y="236232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800280" y="52282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0035-A9FC-4707-BD74-D2D8D5B2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00280" y="236232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87200" y="236232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00280" y="522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3787200" y="522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679B-7E2D-4D21-BFE1-2FF03A548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00280" y="236232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771280" y="236232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41920" y="236232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800280" y="52282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2771280" y="52282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4741920" y="52282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75FC-C941-4262-B258-15ACAC520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0932-E051-422F-B165-1DD36A831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800280" y="236232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17CA7-0BEA-4BFD-B6B2-82E39983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00280" y="236232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86474-50BD-4E71-B26D-1A953788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00280" y="236232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87200" y="236232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02C5-5441-4E6D-A5A7-88B4B639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A796-7061-4E44-8F3D-3E37630D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800280" y="5331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1AAF-073E-4907-BCE9-DD220ED3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00280" y="236232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787200" y="236232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00280" y="522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CB58-6978-4E59-B930-61DB3ACF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800280" y="236232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DE45-D361-4F2C-B7CC-05156D9F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00280" y="236232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787200" y="236232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787200" y="522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E6D8-59D3-4E75-AF42-987568C7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00280" y="236232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787200" y="236232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00280" y="52282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93359-4461-461B-8036-C9CF31FC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00280" y="236232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800280" y="52282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CEB2-D16E-452B-B3E9-E2DAA321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00280" y="236232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787200" y="236232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00280" y="522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3787200" y="522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65318-9AE2-45F7-9973-6A4ED0A79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00280" y="236232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771280" y="236232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741920" y="236232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800280" y="52282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2771280" y="52282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4741920" y="52282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FEE0-D56C-4DFC-AC9C-6F121DFFD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00280" y="236232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08D2-3E0E-494D-A966-FEF3E677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00280" y="236232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87200" y="236232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4535-86FA-4EA7-8768-0D381736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729A-F3DD-43C0-AC64-61A62E9E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800280" y="5331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8604-1A8F-49CA-AC70-E13E6679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00280" y="236232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87200" y="236232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00280" y="522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5303-CF4D-47CA-8865-A5CAF5EA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00280" y="236232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87200" y="236232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787200" y="522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05C6-7C97-4005-93B2-F0D383E0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00280" y="236232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787200" y="236232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00280" y="52282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397A-A952-4E64-A862-C54811BD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8400"/>
            <a:ext cx="6694560" cy="8991000"/>
            <a:chOff x="0" y="68400"/>
            <a:chExt cx="6694560" cy="8991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68400"/>
              <a:ext cx="6694560" cy="8991000"/>
              <a:chOff x="0" y="68400"/>
              <a:chExt cx="6694560" cy="8991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396720" y="269640"/>
                <a:ext cx="6297840" cy="862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68400"/>
                <a:ext cx="885960" cy="57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447840" y="5506920"/>
                <a:ext cx="780840" cy="609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5630760"/>
                <a:ext cx="885960" cy="3428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861840" y="2058840"/>
              <a:ext cx="5807160" cy="6400440"/>
              <a:chOff x="861840" y="2058840"/>
              <a:chExt cx="5807160" cy="640044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861840" y="205884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861840" y="236340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861840" y="266796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861840" y="297288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861840" y="327780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861840" y="358236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861840" y="388728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861840" y="419220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861840" y="449676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861840" y="480168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861840" y="510660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861840" y="541116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861840" y="571608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861840" y="602100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861840" y="632556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861840" y="663048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861840" y="693540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861840" y="723996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861840" y="754488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861840" y="784980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861840" y="815436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861840" y="845928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800280" y="236232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781200" y="8210160"/>
            <a:ext cx="1428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2629080" y="8210160"/>
            <a:ext cx="2171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5200200" y="8210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B43F-EDF7-43F7-9B32-D130CEB03D67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396720" y="268200"/>
            <a:ext cx="6297840" cy="862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3"/>
          <a:stretch/>
        </p:blipFill>
        <p:spPr>
          <a:xfrm>
            <a:off x="0" y="68400"/>
            <a:ext cx="885960" cy="5715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447840" y="5506920"/>
            <a:ext cx="780840" cy="609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5630760"/>
            <a:ext cx="885960" cy="3429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800280" y="236232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838080" y="8152920"/>
            <a:ext cx="1447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2666520" y="8152920"/>
            <a:ext cx="2133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5257800" y="815292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398F-D901-44C9-BC85-224EC318B0C0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rg.ru/img/content/2/51/19/ekzam.gif&amp;imgrefurl=http://www.rg.ru/2004/04/30/repetitory.html&amp;h=250&amp;w=185&amp;sz=34&amp;hl=ru&amp;start=5&amp;tbnid=5Ea8qbBrWKizLM:&amp;tbnh=111&amp;tbnw=82&amp;prev=/images%3Fq%3D%25D1%258D%25D0%25BA%25D0%25B7%25D0%25B0%25D0%25BC%25D0%25B5%25D0%25BD%25D1%258B%26svnum%3D10%26hl%3Dru%26lr%3D%26sa%3DG" TargetMode="External"/><Relationship Id="rId2" Type="http://schemas.openxmlformats.org/officeDocument/2006/relationships/image" Target="../media/image26.jpeg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30.jpeg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pim.ru/i/son/horosh-son.jpg&amp;imgrefurl=http://spim.ru/info/page_903_40.html&amp;h=283&amp;w=400&amp;sz=14&amp;hl=ru&amp;start=2&amp;tbnid=R0LbVZfKUFVYiM:&amp;tbnh=88&amp;tbnw=124&amp;prev=/images%3Fq%3D%25D1%2581%25D0%25BE%25D0%25BD%26svnum%3D10%26hl%3Dru%26lr%3D%26sa%3D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lady-x.ru/beauty/secret/img/013-2.jpg&amp;imgrefurl=http://lady-x.ru/beauty/secret/013.html&amp;h=319&amp;w=213&amp;sz=17&amp;hl=ru&amp;start=3&amp;tbnid=KPr3akd_14tMZM:&amp;tbnh=118&amp;tbnw=79&amp;prev=/images%3Fq%3D%2B%25D0%25B7%25D0%25B0%25D1%2580%25D1%258F%25D0%25B4%25D0%25BA%25D0%25B0%26svnum%3D10%26hl%3Dru%26lr%3D%26sa%3DG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ru/imgres?imgurl=http://school-2013.msk.ru/pic/school-ege.jpg&amp;imgrefurl=http://school-2013.msk.ru/school-ege.html&amp;h=230&amp;w=200&amp;sz=11&amp;hl=ru&amp;start=2&amp;tbnid=fytMxQz0Ecwt1M:&amp;tbnh=108&amp;tbnw=94&amp;prev=/images%3Fq%3D%25D1%258D%25D0%25BA%25D0%25B7%25D0%25B0%25D0%25BC%25D0%25B5%25D0%25BD%26svnum%3D10%26hl%3Dru%26lr%3D%26newwindow%3D1%26sa%3DG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7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images.newsru.com/pict/id/large/863759_20060620090056.gif&amp;imgrefurl=http://www.newsru.com/pict/big/863759.html&amp;h=240&amp;w=320&amp;sz=17&amp;hl=ru&amp;start=8&amp;tbnid=ukdFmcT23YnloM:&amp;tbnh=89&amp;tbnw=118&amp;prev=/images%3Fq%3D%25D0%25BF%25D0%25BE%25D0%25B4%25D0%25B3%25D0%25BE%25D1%2582%25D0%25BE%25D0%25B2%25D0%25BA%25D0%25B0%2B%25D0%25BA%2B%25D1%258D%25D0%25BA%25D0%25B7%25D0%25B0%25D0%25BC%25D0%25B5%25D0%25BD%25D0%25B0%25D0%25BC%26svnum%3D10%26hl%3Dru%26lr%3D%26newwindow%3D1%26sa%3D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images.google.ru/imgres?imgurl=http://foto.mail.ru/mail/minaiev_a/_blogs/i-2.jpg&amp;imgrefurl=http://blogs.mail.ru/mail/kuzia1981/47805B88B6B46DFC.html&amp;h=500&amp;w=403&amp;sz=27&amp;hl=ru&amp;start=17&amp;tbnid=NmGw-NVC3TON6M:&amp;tbnh=130&amp;tbnw=105&amp;prev=/images%3Fq%3D%25D0%25BF%25D0%25BE%25D0%25B4%25D0%25B3%25D0%25BE%25D1%2582%25D0%25BE%25D0%25B2%25D0%25BA%25D0%25B0%2B%25D0%25BA%2B%25D1%258D%25D0%25BA%25D0%25B7%25D0%25B0%25D0%25BC%25D0%25B5%25D0%25BD%25D0%25B0%25D0%25BC%26svnum%3D10%26hl%3Dru%26lr%3D%26newwindow%3D1%26sa%3DG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Copperplate Gothic Bold"/>
              </a:rPr>
              <a:t>Как подготовиться психологически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00280" y="2361960"/>
            <a:ext cx="441144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чинай готовиться к экзаменам заранее, понемногу, по частям, сохраняя спокойств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трудно собраться с мыслями, постарайтесь запомнить сначала самое лёгкое, а потом переходи к изучению трудного материа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жедневно выполняй упражнения, способствующие снятию внутреннего напряжения, усталости, достижению расслаб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8" descr="books"/>
          <p:cNvPicPr/>
          <p:nvPr/>
        </p:nvPicPr>
        <p:blipFill>
          <a:blip r:embed="rId4"/>
          <a:stretch/>
        </p:blipFill>
        <p:spPr>
          <a:xfrm>
            <a:off x="5265720" y="4476600"/>
            <a:ext cx="125748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1000" autoRev="1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" dur="1000" autoRev="1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" dur="1000" autoRev="1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7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9000"/>
                            </p:stCondLst>
                            <p:childTnLst>
                              <p:par>
                                <p:cTn id="26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" dur="2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694b6"/>
                                      </p:to>
                                    </p:animClr>
                                    <p:animClr clrSpc="rgb">
                                      <p:cBhvr>
                                        <p:cTn id="28" dur="2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694b6"/>
                                      </p:to>
                                    </p:animClr>
                                    <p:set>
                                      <p:cBhvr>
                                        <p:cTn id="29" dur="2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Times New Roman"/>
              </a:rPr>
              <a:t>НАКАНУНЕ ЭКЗАМЕН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99920" y="2362320"/>
            <a:ext cx="5599080" cy="61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Перед сном хорошо совершить прогулк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Утром, перед экзаменом не вредно просто перелистать учебн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5" descr="48"/>
          <p:cNvPicPr/>
          <p:nvPr/>
        </p:nvPicPr>
        <p:blipFill>
          <a:blip r:embed="rId1"/>
          <a:stretch/>
        </p:blipFill>
        <p:spPr>
          <a:xfrm>
            <a:off x="3357720" y="2916360"/>
            <a:ext cx="1546200" cy="1871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ученик"/>
          <p:cNvPicPr/>
          <p:nvPr/>
        </p:nvPicPr>
        <p:blipFill>
          <a:blip r:embed="rId2"/>
          <a:stretch/>
        </p:blipFill>
        <p:spPr>
          <a:xfrm>
            <a:off x="2673360" y="6383160"/>
            <a:ext cx="1297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050"/>
                            </p:stCondLst>
                            <p:childTnLst>
                              <p:par>
                                <p:cTn id="35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50"/>
                            </p:stCondLst>
                            <p:childTnLst>
                              <p:par>
                                <p:cTn id="36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7100"/>
                            </p:stCondLst>
                            <p:childTnLst>
                              <p:par>
                                <p:cTn id="3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ЧТО ДЕЛАТЬ ЕСЛИ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37920" y="2266920"/>
            <a:ext cx="35607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ru-RU" sz="2400" spc="-1" strike="noStrike">
                <a:solidFill>
                  <a:srgbClr val="990000"/>
                </a:solidFill>
                <a:latin typeface="Times New Roman"/>
              </a:rPr>
              <a:t>попался вопрос, по которому вы можете сказать совсем немн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впадайте в панику, а сразу начните записывать все, что слышали по этому повод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процессе написания вы, возможно, сможете вспомнить что-нибудь из пройденного материа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4" descr="ekza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9400" y="3035160"/>
            <a:ext cx="1197000" cy="2881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2str3"/>
          <p:cNvPicPr/>
          <p:nvPr/>
        </p:nvPicPr>
        <p:blipFill>
          <a:blip r:embed="rId3"/>
          <a:stretch/>
        </p:blipFill>
        <p:spPr>
          <a:xfrm>
            <a:off x="836640" y="2071800"/>
            <a:ext cx="5731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8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ЧТО ДЕЛАТЬ ЕСЛИ…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93720" y="2362320"/>
            <a:ext cx="334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Times New Roman"/>
              </a:rPr>
              <a:t>…</a:t>
            </a:r>
            <a:r>
              <a:rPr b="1" i="1" lang="ru-RU" sz="2800" spc="-1" strike="noStrike">
                <a:solidFill>
                  <a:srgbClr val="990000"/>
                </a:solidFill>
                <a:latin typeface="Times New Roman"/>
              </a:rPr>
              <a:t>на полуслове забыли о чем говори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жде всего, не следует «терять голову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храняйте спокойствие, хотя бы внеш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торите последнюю фразу, а потом попробуйте перефразировать свою мыс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4" descr="2str3"/>
          <p:cNvPicPr/>
          <p:nvPr/>
        </p:nvPicPr>
        <p:blipFill>
          <a:blip r:embed="rId1"/>
          <a:stretch/>
        </p:blipFill>
        <p:spPr>
          <a:xfrm>
            <a:off x="944640" y="2266920"/>
            <a:ext cx="593640" cy="8049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ballcolor"/>
          <p:cNvPicPr/>
          <p:nvPr/>
        </p:nvPicPr>
        <p:blipFill>
          <a:blip r:embed="rId2"/>
          <a:stretch/>
        </p:blipFill>
        <p:spPr>
          <a:xfrm>
            <a:off x="1646280" y="3995640"/>
            <a:ext cx="201600" cy="358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ballcolor"/>
          <p:cNvPicPr/>
          <p:nvPr/>
        </p:nvPicPr>
        <p:blipFill>
          <a:blip r:embed="rId3"/>
          <a:stretch/>
        </p:blipFill>
        <p:spPr>
          <a:xfrm>
            <a:off x="1646280" y="4859280"/>
            <a:ext cx="201600" cy="358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ballcolor"/>
          <p:cNvPicPr/>
          <p:nvPr/>
        </p:nvPicPr>
        <p:blipFill>
          <a:blip r:embed="rId4"/>
          <a:stretch/>
        </p:blipFill>
        <p:spPr>
          <a:xfrm>
            <a:off x="1646280" y="5722920"/>
            <a:ext cx="201600" cy="358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010"/>
          <p:cNvPicPr/>
          <p:nvPr/>
        </p:nvPicPr>
        <p:blipFill>
          <a:blip r:embed="rId5"/>
          <a:stretch/>
        </p:blipFill>
        <p:spPr>
          <a:xfrm>
            <a:off x="4888080" y="5821200"/>
            <a:ext cx="1782720" cy="25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3000"/>
                            </p:stCondLst>
                            <p:childTnLst>
                              <p:par>
                                <p:cTn id="4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3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6000"/>
                            </p:stCondLst>
                            <p:childTnLst>
                              <p:par>
                                <p:cTn id="43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1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9000"/>
                            </p:stCondLst>
                            <p:childTnLst>
                              <p:par>
                                <p:cTn id="44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3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3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3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3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ЧТО ДЕЛАТЬ ЕСЛИ…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12280" y="1979280"/>
            <a:ext cx="2862360" cy="58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Times New Roman"/>
              </a:rPr>
              <a:t>…</a:t>
            </a:r>
            <a:r>
              <a:rPr b="1" i="1" lang="ru-RU" sz="3200" spc="-1" strike="noStrike">
                <a:solidFill>
                  <a:srgbClr val="990000"/>
                </a:solidFill>
                <a:latin typeface="Times New Roman"/>
              </a:rPr>
              <a:t>вас не слушаю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воспринимайте это на свой счет, просто продолжайте свой ответ, как если бы вы этого не замети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483000" y="1979280"/>
            <a:ext cx="3146400" cy="33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Times New Roman"/>
              </a:rPr>
              <a:t>…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990000"/>
                </a:solidFill>
                <a:latin typeface="Times New Roman"/>
              </a:rPr>
              <a:t>вы оговорились, все стали смеять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мейтесь вместе со всеми и все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4" descr="2str3"/>
          <p:cNvPicPr/>
          <p:nvPr/>
        </p:nvPicPr>
        <p:blipFill>
          <a:blip r:embed="rId1"/>
          <a:stretch/>
        </p:blipFill>
        <p:spPr>
          <a:xfrm>
            <a:off x="728640" y="1789200"/>
            <a:ext cx="519120" cy="482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img_0182"/>
          <p:cNvPicPr/>
          <p:nvPr/>
        </p:nvPicPr>
        <p:blipFill>
          <a:blip r:embed="rId2"/>
          <a:stretch/>
        </p:blipFill>
        <p:spPr>
          <a:xfrm>
            <a:off x="4238640" y="5148360"/>
            <a:ext cx="2160720" cy="2879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2str3"/>
          <p:cNvPicPr/>
          <p:nvPr/>
        </p:nvPicPr>
        <p:blipFill>
          <a:blip r:embed="rId3"/>
          <a:stretch/>
        </p:blipFill>
        <p:spPr>
          <a:xfrm>
            <a:off x="3591000" y="1789200"/>
            <a:ext cx="485640" cy="48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3200"/>
                            </p:stCondLst>
                            <p:childTnLst>
                              <p:par>
                                <p:cTn id="4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4200"/>
                            </p:stCondLst>
                            <p:childTnLst>
                              <p:par>
                                <p:cTn id="48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200"/>
                            </p:stCondLst>
                            <p:childTnLst>
                              <p:par>
                                <p:cTn id="4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ЧТО ДЕЛАТЬ ЕСЛИ…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21920" y="2362320"/>
            <a:ext cx="4915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Times New Roman"/>
              </a:rPr>
              <a:t>…</a:t>
            </a:r>
            <a:r>
              <a:rPr b="1" i="1" lang="ru-RU" sz="2800" spc="-1" strike="noStrike">
                <a:solidFill>
                  <a:srgbClr val="990000"/>
                </a:solidFill>
                <a:latin typeface="Times New Roman"/>
              </a:rPr>
              <a:t>экзаменатор в резкой и неприятной форме перебивает ва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влекитесь от этого, ни в коем случае не показывайте, что разозлилис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амое эффективное – сохраните чувство собственного достоинства и держитесь уверен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4" descr="2str3"/>
          <p:cNvPicPr/>
          <p:nvPr/>
        </p:nvPicPr>
        <p:blipFill>
          <a:blip r:embed="rId1"/>
          <a:stretch/>
        </p:blipFill>
        <p:spPr>
          <a:xfrm>
            <a:off x="728640" y="2459160"/>
            <a:ext cx="48564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50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3850"/>
                            </p:stCondLst>
                            <p:childTnLst>
                              <p:par>
                                <p:cTn id="51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ЧТО ДЕЛАТЬ ЕСЛИ…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79" name="Picture 4" descr="2str3"/>
          <p:cNvPicPr/>
          <p:nvPr/>
        </p:nvPicPr>
        <p:blipFill>
          <a:blip r:embed="rId1"/>
          <a:stretch/>
        </p:blipFill>
        <p:spPr>
          <a:xfrm>
            <a:off x="836640" y="1884240"/>
            <a:ext cx="466560" cy="4827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6"/>
          <p:cNvSpPr/>
          <p:nvPr/>
        </p:nvSpPr>
        <p:spPr>
          <a:xfrm>
            <a:off x="1160640" y="2076480"/>
            <a:ext cx="5238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Times New Roman"/>
              </a:rPr>
              <a:t>…</a:t>
            </a:r>
            <a:r>
              <a:rPr b="1" i="1" lang="ru-RU" sz="2800" spc="-1" strike="noStrike">
                <a:solidFill>
                  <a:srgbClr val="990000"/>
                </a:solidFill>
                <a:latin typeface="Times New Roman"/>
              </a:rPr>
              <a:t>вы ошиблис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сли вы знаете как исправить ошибку, сделайте э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сли вашу ошибку никто не заметил, продолжайте свой ответ без исправл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Times New Roman"/>
              </a:rPr>
              <a:t>…</a:t>
            </a:r>
            <a:r>
              <a:rPr b="1" i="1" lang="ru-RU" sz="2800" spc="-1" strike="noStrike">
                <a:solidFill>
                  <a:srgbClr val="990000"/>
                </a:solidFill>
                <a:latin typeface="Times New Roman"/>
              </a:rPr>
              <a:t>вам снизили оценк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вступайте в спор и не доказывайте (преподаватель всегда может «засадить»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ратитесь к экзаменатору: «Простите, спросите меня еще дополнительно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3000"/>
                            </p:stCondLst>
                            <p:childTnLst>
                              <p:par>
                                <p:cTn id="54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1" dur="250" autoRev="1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42" dur="250" autoRev="1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3" dur="250" autoRev="1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3500"/>
                            </p:stCondLst>
                            <p:childTnLst>
                              <p:par>
                                <p:cTn id="54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4500"/>
                            </p:stCondLst>
                            <p:childTnLst>
                              <p:par>
                                <p:cTn id="55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6500"/>
                            </p:stCondLst>
                            <p:childTnLst>
                              <p:par>
                                <p:cTn id="56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6" dur="250" autoRev="1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67" dur="250" autoRev="1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8" dur="250" autoRev="1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7000"/>
                            </p:stCondLst>
                            <p:childTnLst>
                              <p:par>
                                <p:cTn id="57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8000"/>
                            </p:stCondLst>
                            <p:childTnLst>
                              <p:par>
                                <p:cTn id="57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Times New Roman"/>
              </a:rPr>
              <a:t>Режим дня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04280" y="207648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7" descr="horosh-s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94080" y="6299280"/>
            <a:ext cx="1619280" cy="2043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013-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65720" y="635040"/>
            <a:ext cx="1266840" cy="3360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school-e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07920" y="2484360"/>
            <a:ext cx="1243080" cy="283392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4"/>
          <p:cNvSpPr/>
          <p:nvPr/>
        </p:nvSpPr>
        <p:spPr>
          <a:xfrm>
            <a:off x="1646280" y="5916600"/>
            <a:ext cx="2052720" cy="2495520"/>
          </a:xfrm>
          <a:prstGeom prst="cloudCallout">
            <a:avLst>
              <a:gd name="adj1" fmla="val 73953"/>
              <a:gd name="adj2" fmla="val 194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и не менее 8 часов. Есть желание – сделай тихий час после обе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15"/>
          <p:cNvSpPr/>
          <p:nvPr/>
        </p:nvSpPr>
        <p:spPr>
          <a:xfrm>
            <a:off x="2349360" y="1789200"/>
            <a:ext cx="2159280" cy="2206440"/>
          </a:xfrm>
          <a:prstGeom prst="cloudCallout">
            <a:avLst>
              <a:gd name="adj1" fmla="val -55810"/>
              <a:gd name="adj2" fmla="val 4453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готовка к экзаменам – 8 часов в д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3213000" y="3611520"/>
            <a:ext cx="2160720" cy="2400480"/>
          </a:xfrm>
          <a:prstGeom prst="cloudCallout">
            <a:avLst>
              <a:gd name="adj1" fmla="val 68083"/>
              <a:gd name="adj2" fmla="val -2531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нимайся спортом, гуляй на свежем воздухе – 8 час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0"/>
                            </p:stCondLst>
                            <p:childTnLst>
                              <p:par>
                                <p:cTn id="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000"/>
                            </p:stCondLst>
                            <p:childTnLst>
                              <p:par>
                                <p:cTn id="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Питание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99920" y="2362320"/>
            <a:ext cx="5545080" cy="61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итание должно быть 3-4-х разовым, калорийным и богатым витамин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Употребля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ецкие орех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лочные проду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ыб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яс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вощ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ру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окола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6" descr="foo-apple_drink"/>
          <p:cNvPicPr/>
          <p:nvPr/>
        </p:nvPicPr>
        <p:blipFill>
          <a:blip r:embed="rId1"/>
          <a:stretch/>
        </p:blipFill>
        <p:spPr>
          <a:xfrm>
            <a:off x="1808280" y="444600"/>
            <a:ext cx="685800" cy="1523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gif018"/>
          <p:cNvPicPr/>
          <p:nvPr/>
        </p:nvPicPr>
        <p:blipFill>
          <a:blip r:embed="rId2"/>
          <a:stretch/>
        </p:blipFill>
        <p:spPr>
          <a:xfrm>
            <a:off x="4888080" y="3898800"/>
            <a:ext cx="1125360" cy="2465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9" descr="j1"/>
          <p:cNvPicPr/>
          <p:nvPr/>
        </p:nvPicPr>
        <p:blipFill>
          <a:blip r:embed="rId3"/>
          <a:stretch/>
        </p:blipFill>
        <p:spPr>
          <a:xfrm>
            <a:off x="944640" y="5916600"/>
            <a:ext cx="122544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250" autoRev="1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0" dur="250" autoRev="1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1" dur="250" autoRev="1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250" autoRev="1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4" dur="250" autoRev="1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" dur="250" autoRev="1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250" autoRev="1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8" dur="250" autoRev="1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9" dur="250" autoRev="1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250" autoRev="1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2" dur="250" autoRev="1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3" dur="250" autoRev="1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250" autoRev="1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6" dur="250" autoRev="1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" dur="250" autoRev="1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250" autoRev="1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0" dur="250" autoRev="1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" dur="250" autoRev="1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250" autoRev="1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4" dur="250" autoRev="1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5" dur="250" autoRev="1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Планирование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99920" y="2362320"/>
            <a:ext cx="5329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плане на каждый день определите, что именно сегодня необходимо изучи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еделите в какое время Вы наиболее работоспособны, и в зависимости от этого, загружайте  утренние или вечерние час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7000"/>
                            </p:stCondLst>
                            <p:childTnLst>
                              <p:par>
                                <p:cTn id="1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Условия поддержания работоспособности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99920" y="2362320"/>
            <a:ext cx="5275080" cy="44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редовать умственный и физический тру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гимнастических упражнениях предпочтение следует отдавать кувырку, стойке на голов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 как усиливается приток крови к клеткам моз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нимум телевизионных переда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речь глаза, делать перерыв каждые 20-30 мину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8" descr="13"/>
          <p:cNvPicPr/>
          <p:nvPr/>
        </p:nvPicPr>
        <p:blipFill>
          <a:blip r:embed="rId5"/>
          <a:stretch/>
        </p:blipFill>
        <p:spPr>
          <a:xfrm>
            <a:off x="2889360" y="7067520"/>
            <a:ext cx="928440" cy="1397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gif024"/>
          <p:cNvPicPr/>
          <p:nvPr/>
        </p:nvPicPr>
        <p:blipFill>
          <a:blip r:embed="rId6"/>
          <a:stretch/>
        </p:blipFill>
        <p:spPr>
          <a:xfrm>
            <a:off x="1322280" y="6877080"/>
            <a:ext cx="803520" cy="1535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01"/>
          <p:cNvPicPr/>
          <p:nvPr/>
        </p:nvPicPr>
        <p:blipFill>
          <a:blip r:embed="rId7"/>
          <a:stretch/>
        </p:blipFill>
        <p:spPr>
          <a:xfrm>
            <a:off x="4726080" y="7164360"/>
            <a:ext cx="7207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Некоторые закономерности запоминания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6640" y="2361960"/>
            <a:ext cx="550872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ьшой отрывок учить полезнее, чем короткое изреч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Запоминается то, что понят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учше учить с перерывами, чем подряд, лучше понемногу, чем сраз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Лучше тратить время на повторение по памяти, чем на простое многократное чт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работаешь с двумя материалами – большим и поменьше, разумно начинать с больше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4" descr="книга"/>
          <p:cNvPicPr/>
          <p:nvPr/>
        </p:nvPicPr>
        <p:blipFill>
          <a:blip r:embed="rId6"/>
          <a:stretch/>
        </p:blipFill>
        <p:spPr>
          <a:xfrm>
            <a:off x="2781360" y="7259760"/>
            <a:ext cx="1089000" cy="12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23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6000"/>
                            </p:stCondLst>
                            <p:childTnLst>
                              <p:par>
                                <p:cTn id="237" nodeType="after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8000"/>
                            </p:stCondLst>
                            <p:childTnLst>
                              <p:par>
                                <p:cTn id="2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Times New Roman"/>
              </a:rPr>
              <a:t>НАКАНУНЕ ЭКЗАМЕНА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99920" y="2362320"/>
            <a:ext cx="5437080" cy="31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дин день перед экзаменом оставляется, чтобы вновь повторить все планы ответов, а перед устным экзаменом – пересказать их кому-нибудь или самому себе перед зеркал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4" descr="863759_2006062009005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99000" y="5313240"/>
            <a:ext cx="1438200" cy="1925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i-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26160" y="5702400"/>
            <a:ext cx="127476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Times New Roman"/>
              </a:rPr>
              <a:t>НАКАНУНЕ ЭКЗАМЕНА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99920" y="2362320"/>
            <a:ext cx="2857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жно представить ситуацию экзамена во всех красках, со всеми чувствами, переживаниями, страшными мыслями, так как хотелось бы, чтобы все произошло при успешной сдаче экзаме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4" descr="25"/>
          <p:cNvPicPr/>
          <p:nvPr/>
        </p:nvPicPr>
        <p:blipFill>
          <a:blip r:embed="rId1"/>
          <a:stretch/>
        </p:blipFill>
        <p:spPr>
          <a:xfrm>
            <a:off x="4091040" y="2940120"/>
            <a:ext cx="173196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8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Times New Roman"/>
              </a:rPr>
              <a:t>НАКАНУНЕ ЭКЗАМЕН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079720" y="2747880"/>
            <a:ext cx="3168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очень страшно, можно использовать прием «доведение до абсурда», где представляются все сам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ашные  и немыслимые  подробности и ужасающие последств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Такое предельное усиление страха приводит человека к мысли, что бояться , в сущности, нече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gif012"/>
          <p:cNvPicPr/>
          <p:nvPr/>
        </p:nvPicPr>
        <p:blipFill>
          <a:blip r:embed="rId1"/>
          <a:stretch/>
        </p:blipFill>
        <p:spPr>
          <a:xfrm>
            <a:off x="728640" y="5435640"/>
            <a:ext cx="1344600" cy="2641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31"/>
          <p:cNvPicPr/>
          <p:nvPr/>
        </p:nvPicPr>
        <p:blipFill>
          <a:blip r:embed="rId2"/>
          <a:stretch/>
        </p:blipFill>
        <p:spPr>
          <a:xfrm>
            <a:off x="5157720" y="2363760"/>
            <a:ext cx="1403280" cy="176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2" name="Object 9"/>
          <p:cNvGraphicFramePr/>
          <p:nvPr/>
        </p:nvGraphicFramePr>
        <p:xfrm>
          <a:off x="4888080" y="1211400"/>
          <a:ext cx="2857320" cy="264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88080" y="1211400"/>
                    <a:ext cx="2857320" cy="26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77778E-006 -3.79829E-006 C -0.00487 0.02799 -0.00712 0.03932 0.00677 0.05552 C 0.01597 0.06639 0.00989 0.06292 0.01683 0.06593 C 0.02673 0.07587 0.02222 0.07333 0.02916 0.07634 C 0.03437 0.08721 0.02725 0.07402 0.04045 0.08698 C 0.05208 0.09831 0.06475 0.09785 0.07864 0.10039 C 0.08541 0.10363 0.09166 0.10502 0.09895 0.10641 C 0.10225 0.1078 0.10555 0.10941 0.10902 0.1108 C 0.21649 0.09438 0.15902 0.10803 0.41128 0.10941 C 0.51024 0.10803 0.48975 0.12006 0.53263 0.10479 C 0.54427 0.09484 0.56562 0.1034 0.57986 0.10479 C 0.58402 0.10433 0.58819 0.10479 0.59218 0.1034 C 0.59548 0.10224 0.59808 0.09901 0.60121 0.09739 C 0.60798 0.09368 0.61302 0.09276 0.62031 0.09137 C 0.62864 0.0879 0.63663 0.08096 0.64496 0.07634 C 0.64791 0.07472 0.65104 0.07333 0.65399 0.07194 C 0.65503 0.07148 0.65729 0.07055 0.65729 0.07055 C 0.66232 0.06384 0.66475 0.05667 0.66857 0.0495 C 0.67569 0.03632 0.68541 0.02591 0.69218 0.01203 C 0.69357 -0.00463 0.69652 -0.02359 0.70225 -0.03886 C 0.70173 -0.05552 0.70312 -0.08004 0.69548 -0.09577 C 0.69409 -0.10386 0.68993 -0.11358 0.68541 -0.11959 C 0.68229 -0.13162 0.68211 -0.14388 0.68645 -0.15568 C 0.68749 -0.16516 0.68524 -0.17974 0.69218 -0.18251 C 0.70069 -0.19385 0.70937 -0.20611 0.71579 -0.21999 C 0.7177 -0.22392 0.71944 -0.22808 0.72135 -0.23201 C 0.72308 -0.23572 0.7269 -0.24242 0.7269 -0.24242 E">
                                      <p:cBhvr>
                                        <p:cTn id="308" dur="5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9T14:51:17Z</dcterms:created>
  <dc:creator>NewUser</dc:creator>
  <dc:description/>
  <dc:language>en-US</dc:language>
  <cp:lastModifiedBy>НАТАША</cp:lastModifiedBy>
  <dcterms:modified xsi:type="dcterms:W3CDTF">2018-01-11T10:46:06Z</dcterms:modified>
  <cp:revision>20</cp:revision>
  <dc:subject/>
  <dc:title>Как подготовиться психологичес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