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151-120C-4B58-8430-BD34E7BE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FEE-8BCD-4937-8DEC-5FBB904D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CE7-B4C2-4987-AED5-A0FCF770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FE3-135C-4D14-8F47-96824729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AC4B-A3BD-434C-BD69-0B006548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4AD-A8AA-4CBD-8FBD-FBC5F97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C39C-61D7-4029-816C-E9AAC7B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2C1-4A13-4498-830A-5ADA0610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5175-FAC1-45C1-A322-CFD7273D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C56-65B7-48F7-8F16-4FB7131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0DAD-DDB2-49AD-BAE5-D3FAD07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A93-3465-4274-B335-271AFE9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613-5E42-4EB3-9AB9-BF12DF1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6B77-DDDE-4D2C-BD0B-BCCB00C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6B8D-720F-445D-9FFE-5FC03BC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943-8FB5-4CF8-AE7D-F1F4E71A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BAF-B032-4D11-BE54-35E49AD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5A0-C8B5-49CE-BDFB-70CA157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9E8-D51C-43D6-B8D1-B277A78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646-A9DD-4D11-B319-614B02B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829-8545-46A6-ABD0-7A01C5E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5DD-FF4E-4673-AD60-24FE398F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EC8-4234-4FF7-8C0A-344F8C7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CD8-E892-4025-8586-35555BA3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5E06-4579-4EDF-ABE5-4713311AD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для шаблонов\Новая папка\Копия-raznoe93275.gif"/>
          <p:cNvPicPr/>
          <p:nvPr/>
        </p:nvPicPr>
        <p:blipFill>
          <a:blip r:embed="rId3"/>
          <a:stretch/>
        </p:blipFill>
        <p:spPr>
          <a:xfrm>
            <a:off x="-14292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752-F852-4298-861B-59B1E6543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6"/>
          <p:cNvSpPr txBox="1"/>
          <p:nvPr/>
        </p:nvSpPr>
        <p:spPr>
          <a:xfrm>
            <a:off x="142920" y="214200"/>
            <a:ext cx="721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i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 - я</a:t>
            </a:r>
            <a:endParaRPr b="0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071880" y="2571840"/>
            <a:ext cx="3571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5373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</a:t>
            </a:r>
            <a:endParaRPr b="1" i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95373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10" descr="http://im2-tub.yandex.net/i?id=12929718-06&amp;tov=2"/>
          <p:cNvPicPr/>
          <p:nvPr/>
        </p:nvPicPr>
        <p:blipFill>
          <a:blip r:embed="rId4"/>
          <a:stretch/>
        </p:blipFill>
        <p:spPr>
          <a:xfrm>
            <a:off x="5715000" y="3929040"/>
            <a:ext cx="3429000" cy="2838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57120" y="485784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емья – основ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нности христиан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ь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v_1192623432_214.jpg"/>
          <p:cNvPicPr/>
          <p:nvPr/>
        </p:nvPicPr>
        <p:blipFill>
          <a:blip r:embed="rId1"/>
          <a:stretch/>
        </p:blipFill>
        <p:spPr>
          <a:xfrm>
            <a:off x="5067360" y="1571760"/>
            <a:ext cx="3197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ейные традиц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и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би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428760"/>
          <a:ext cx="8229600" cy="470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(оте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и ответственность за всю сем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(ма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 и дед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ядом с деть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ень Семьи, Любви и Верност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- очень молодой праздник, который начал отмечаться в нашей стране только с 2008 год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ежегодно отмечается 15 мая, начиная с 1994 года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476360" y="250020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46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ители семьи и  бра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нязь Муромский Петр и простая девушка Февро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рак многие века является образцом христианского супру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1818-zr06302008-1"/>
          <p:cNvPicPr/>
          <p:nvPr/>
        </p:nvPicPr>
        <p:blipFill>
          <a:blip r:embed="rId1"/>
          <a:stretch/>
        </p:blipFill>
        <p:spPr>
          <a:xfrm>
            <a:off x="571680" y="1285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384920"/>
          <p:cNvPicPr/>
          <p:nvPr/>
        </p:nvPicPr>
        <p:blipFill>
          <a:blip r:embed="rId2"/>
          <a:stretch/>
        </p:blipFill>
        <p:spPr>
          <a:xfrm>
            <a:off x="5143680" y="13572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000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  близкие и родные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 те люди, которых мы любим, с кого берём 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те  люди,  о ком мы заботимся, кому желаем добра и сча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наши родители, дедушки, бабушки, сёстры и бра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долгожда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cc99ff"/>
                </a:solidFill>
                <a:latin typeface="Calibri"/>
              </a:rPr>
              <a:t>ну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9966"/>
                </a:solidFill>
                <a:latin typeface="Calibri"/>
              </a:rPr>
              <a:t>защищё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8000"/>
                </a:solidFill>
                <a:latin typeface="Calibri"/>
              </a:rPr>
              <a:t>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00ff"/>
                </a:solidFill>
                <a:latin typeface="Calibri"/>
              </a:rPr>
              <a:t>любящ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ru-RU" sz="3600" spc="-1" strike="noStrike">
                <a:solidFill>
                  <a:srgbClr val="0033cc"/>
                </a:solidFill>
                <a:latin typeface="Calibri"/>
              </a:rPr>
              <a:t>неповтор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1852560" y="-6480"/>
            <a:ext cx="58467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ий сын бережет покой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ая дочь заботится о благе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бездельничать, когда родители трудя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тупай в пререканье со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ыражай недовольство тем, что у тебя нет той или иной ве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пускай, чтобы родители отдавали тебе все то, в чем они сами нужд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айся не делать того, что осуждают старшие, - не на глазах у них, ни где-то в стор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обирайтесь в дорогу, не предупредив старш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оставлять родного человека в одиночестве, особенно если у него нет никого кроме т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64260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ля чего люди создают сем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такое венча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означает обручальное кольц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0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357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0" y="357120"/>
            <a:ext cx="5472000" cy="5472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3714480" cy="521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И сотворил Бог человека по образу Своему, по образу Божию сотворил его; мужчину и женщину сотворил их. И благословил их Бог, и сказал им Бог: плодитесь и размножайтесь, и наполняйте землю, и обладайте ею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WDDNG058"/>
          <p:cNvPicPr/>
          <p:nvPr/>
        </p:nvPicPr>
        <p:blipFill>
          <a:blip r:embed="rId1"/>
          <a:stretch/>
        </p:blipFill>
        <p:spPr>
          <a:xfrm>
            <a:off x="6143760" y="500040"/>
            <a:ext cx="2673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840360" cy="4735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енч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мволы брак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Венец                  Обручальные коль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57892868_img_99fe478d1222361c5c01fe1ccaaff758.jpg"/>
          <p:cNvPicPr/>
          <p:nvPr/>
        </p:nvPicPr>
        <p:blipFill>
          <a:blip r:embed="rId1"/>
          <a:stretch/>
        </p:blipFill>
        <p:spPr>
          <a:xfrm>
            <a:off x="457200" y="1428840"/>
            <a:ext cx="403848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u_Santiago_Porrero.jpg"/>
          <p:cNvPicPr/>
          <p:nvPr/>
        </p:nvPicPr>
        <p:blipFill>
          <a:blip r:embed="rId2"/>
          <a:stretch/>
        </p:blipFill>
        <p:spPr>
          <a:xfrm>
            <a:off x="4714920" y="1428840"/>
            <a:ext cx="4000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785880" y="428760"/>
            <a:ext cx="77151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нятия, относящиеся к ценностям семь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, доверие, надежда, терпение, милосердие, прощение, забота,  тактичность, хамство, зависть, ненави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37:17Z</dcterms:created>
  <dc:creator>7</dc:creator>
  <dc:description/>
  <dc:language>en-US</dc:language>
  <cp:lastModifiedBy>User</cp:lastModifiedBy>
  <dcterms:modified xsi:type="dcterms:W3CDTF">2014-02-14T06:21:57Z</dcterms:modified>
  <cp:revision>10</cp:revision>
  <dc:subject/>
  <dc:title>Слайд 1</dc:title>
</cp:coreProperties>
</file>