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279-3D90-43BA-A19F-D2665457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AF5-0FF5-4BD5-8DCF-28F0E1A9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41F-D5D5-4B8D-A0ED-E33CBC9D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743-18C9-47E1-B4C0-4814F2A4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AD22-11E1-40CE-B255-712B083F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6C2B-89DB-4A82-8E03-46079681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D2F3-7DA9-4A0C-A5CA-06BA18A3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BCB2-8797-4B73-BA1C-12B3E290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18F4-F397-48C9-97BD-69F54101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6149-F773-4186-8597-A08F1172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5BC7-F5BF-4496-B9EB-9A708E7B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4E9-D738-4443-A4BC-B553F2FE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1D3D-3BF5-446F-9ADA-00F6B9C1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C4B9-4081-4198-ACD8-F0AE432D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29CA-4E2F-4A8A-9470-3D89A27A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7C5A-B52E-4E63-8A0B-7A1FBCF1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4250-9F6E-4A5D-BDAB-BBBE81A6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F9C-2D07-485E-85F1-004B2183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BA6-3989-41F2-BEE0-64DEB178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69A-AD0A-4861-8C1F-EDEB8DF6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387-B3E1-44DB-BFB2-34873CD5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31C-6D8D-4CF3-B858-87908EA3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51A-2AAF-44D4-9B62-D710C851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74D8-D0CA-46F0-B01C-CC5D6463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D025-57FC-4D5D-AB82-2E7827C71F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F:\для шаблонов\Новая папка\Безимени-1.gif"/>
          <p:cNvPicPr/>
          <p:nvPr/>
        </p:nvPicPr>
        <p:blipFill>
          <a:blip r:embed="rId2"/>
          <a:stretch/>
        </p:blipFill>
        <p:spPr>
          <a:xfrm>
            <a:off x="0" y="4429080"/>
            <a:ext cx="9144000" cy="242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:\для шаблонов\Новая папка\Безимени-1.gif"/>
          <p:cNvPicPr/>
          <p:nvPr/>
        </p:nvPicPr>
        <p:blipFill>
          <a:blip r:embed="rId2"/>
          <a:stretch/>
        </p:blipFill>
        <p:spPr>
          <a:xfrm>
            <a:off x="0" y="4429080"/>
            <a:ext cx="9144000" cy="242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F:\для шаблонов\Новая папка\Копия-raznoe93275.gif"/>
          <p:cNvPicPr/>
          <p:nvPr/>
        </p:nvPicPr>
        <p:blipFill>
          <a:blip r:embed="rId3"/>
          <a:stretch/>
        </p:blipFill>
        <p:spPr>
          <a:xfrm>
            <a:off x="-14292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F56A-4623-49CD-9BDD-50D3BE8B8D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6"/>
          <p:cNvSpPr txBox="1"/>
          <p:nvPr/>
        </p:nvSpPr>
        <p:spPr>
          <a:xfrm>
            <a:off x="142920" y="214200"/>
            <a:ext cx="7215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</a:t>
            </a:r>
            <a:r>
              <a:rPr b="0" i="1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7 - я</a:t>
            </a:r>
            <a:endParaRPr b="0" i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3071880" y="2571840"/>
            <a:ext cx="35719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5373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МЬЯ</a:t>
            </a:r>
            <a:endParaRPr b="1" i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95373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Picture 10" descr="http://im2-tub.yandex.net/i?id=12929718-06&amp;tov=2"/>
          <p:cNvPicPr/>
          <p:nvPr/>
        </p:nvPicPr>
        <p:blipFill>
          <a:blip r:embed="rId4"/>
          <a:stretch/>
        </p:blipFill>
        <p:spPr>
          <a:xfrm>
            <a:off x="5715000" y="3929040"/>
            <a:ext cx="3429000" cy="28386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357120" y="4857840"/>
            <a:ext cx="400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Семья – основная ц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Ценности христианско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емь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500120"/>
            <a:ext cx="40402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ж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осерд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" descr="v_1192623432_214.jpg"/>
          <p:cNvPicPr/>
          <p:nvPr/>
        </p:nvPicPr>
        <p:blipFill>
          <a:blip r:embed="rId1"/>
          <a:stretch/>
        </p:blipFill>
        <p:spPr>
          <a:xfrm>
            <a:off x="5067360" y="1571760"/>
            <a:ext cx="31971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емейные традици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ни рож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с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ждество Христ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би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ле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28760" y="428760"/>
          <a:ext cx="8229600" cy="4708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ы семь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яза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(отец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та и ответственность за всю семь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а(мат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ие де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уш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ушка и деду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рядом с деть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2743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День Семьи, Любви и Верности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- очень молодой праздник, который начал отмечаться в нашей стране только с 2008 года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Международный день семьи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ежегодно отмечается 15 мая, начиная с 1994 года 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476360" y="2500200"/>
            <a:ext cx="650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1465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овители семьи и  брак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нязь Муромский Петр и простая девушка Февро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брак многие века является образцом христианского супруж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1818-zr06302008-1"/>
          <p:cNvPicPr/>
          <p:nvPr/>
        </p:nvPicPr>
        <p:blipFill>
          <a:blip r:embed="rId1"/>
          <a:stretch/>
        </p:blipFill>
        <p:spPr>
          <a:xfrm>
            <a:off x="571680" y="1285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2384920"/>
          <p:cNvPicPr/>
          <p:nvPr/>
        </p:nvPicPr>
        <p:blipFill>
          <a:blip r:embed="rId2"/>
          <a:stretch/>
        </p:blipFill>
        <p:spPr>
          <a:xfrm>
            <a:off x="5143680" y="1357200"/>
            <a:ext cx="335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ья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000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Это  близкие и родные лю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Это  те люди, которых мы любим, с кого берём прим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Это те  люди,  о ком мы заботимся, кому желаем добра и счаст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Это наши родители, дедушки, бабушки, сёстры и брат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3600" spc="-1" strike="noStrike">
                <a:solidFill>
                  <a:srgbClr val="ff3300"/>
                </a:solidFill>
                <a:latin typeface="Calibri"/>
              </a:rPr>
              <a:t>долгождан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cc99ff"/>
                </a:solidFill>
                <a:latin typeface="Calibri"/>
              </a:rPr>
              <a:t>нуж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ff9966"/>
                </a:solidFill>
                <a:latin typeface="Calibri"/>
              </a:rPr>
              <a:t>защищён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0000ff"/>
                </a:solidFill>
                <a:latin typeface="Calibri"/>
              </a:rPr>
              <a:t>заботли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008000"/>
                </a:solidFill>
                <a:latin typeface="Calibri"/>
              </a:rPr>
              <a:t>любим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ff00ff"/>
                </a:solidFill>
                <a:latin typeface="Calibri"/>
              </a:rPr>
              <a:t>любящ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ru-RU" sz="3600" spc="-1" strike="noStrike">
                <a:solidFill>
                  <a:srgbClr val="0033cc"/>
                </a:solidFill>
                <a:latin typeface="Calibri"/>
              </a:rPr>
              <a:t>неповторим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WordArt 4" descr=""/>
          <p:cNvPicPr/>
          <p:nvPr/>
        </p:nvPicPr>
        <p:blipFill>
          <a:blip r:embed="rId1"/>
          <a:stretch/>
        </p:blipFill>
        <p:spPr>
          <a:xfrm>
            <a:off x="1852560" y="-6480"/>
            <a:ext cx="584676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амя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ящий сын бережет покой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ящая дочь заботится о благе своей семь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бездельничать, когда родители трудя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вступай в пререканье со взросл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выражай недовольство тем, что у тебя нет той или иной ве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допускай, чтобы родители отдавали тебе все то, в чем они сами нужд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айся не делать того, что осуждают старшие, - не на глазах у них, ни где-то в сторо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собирайтесь в дорогу, не предупредив старш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оставлять родного человека в одиночестве, особенно если у него нет никого кроме теб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9680" y="642600"/>
            <a:ext cx="81867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Для чего люди создают семью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- Что такое венчани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- Что означает обручальное кольц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c11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30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3579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5"/>
          <p:cNvSpPr/>
          <p:nvPr/>
        </p:nvSpPr>
        <p:spPr>
          <a:xfrm>
            <a:off x="0" y="357120"/>
            <a:ext cx="5472000" cy="5472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3714480" cy="5214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И сотворил Бог человека по образу Своему, по образу Божию сотворил его; мужчину и женщину сотворил их. И благословил их Бог, и сказал им Бог: плодитесь и размножайтесь, и наполняйте землю, и обладайте ею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WDDNG058"/>
          <p:cNvPicPr/>
          <p:nvPr/>
        </p:nvPicPr>
        <p:blipFill>
          <a:blip r:embed="rId1"/>
          <a:stretch/>
        </p:blipFill>
        <p:spPr>
          <a:xfrm>
            <a:off x="6143760" y="500040"/>
            <a:ext cx="2673360" cy="36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12.jpg"/>
          <p:cNvPicPr/>
          <p:nvPr/>
        </p:nvPicPr>
        <p:blipFill>
          <a:blip r:embed="rId1"/>
          <a:stretch/>
        </p:blipFill>
        <p:spPr>
          <a:xfrm>
            <a:off x="1285920" y="1071720"/>
            <a:ext cx="6840360" cy="47354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Венч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имволы брака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Венец                  Обручальные коль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5" descr="57892868_img_99fe478d1222361c5c01fe1ccaaff758.jpg"/>
          <p:cNvPicPr/>
          <p:nvPr/>
        </p:nvPicPr>
        <p:blipFill>
          <a:blip r:embed="rId1"/>
          <a:stretch/>
        </p:blipFill>
        <p:spPr>
          <a:xfrm>
            <a:off x="457200" y="1428840"/>
            <a:ext cx="4038480" cy="39052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u_Santiago_Porrero.jpg"/>
          <p:cNvPicPr/>
          <p:nvPr/>
        </p:nvPicPr>
        <p:blipFill>
          <a:blip r:embed="rId2"/>
          <a:stretch/>
        </p:blipFill>
        <p:spPr>
          <a:xfrm>
            <a:off x="4714920" y="1428840"/>
            <a:ext cx="40003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6"/>
          <p:cNvSpPr/>
          <p:nvPr/>
        </p:nvSpPr>
        <p:spPr>
          <a:xfrm>
            <a:off x="785880" y="428760"/>
            <a:ext cx="77151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онятия, относящиеся к ценностям семьи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ь, доверие, надежда, терпение, милосердие, прощение, забота,  тактичность, хамство, зависть, ненави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6:37:17Z</dcterms:created>
  <dc:creator>7</dc:creator>
  <dc:description/>
  <dc:language>en-US</dc:language>
  <cp:lastModifiedBy>User</cp:lastModifiedBy>
  <dcterms:modified xsi:type="dcterms:W3CDTF">2014-02-14T06:21:57Z</dcterms:modified>
  <cp:revision>10</cp:revision>
  <dc:subject/>
  <dc:title>Слайд 1</dc:title>
</cp:coreProperties>
</file>