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CF6-F2C8-4B78-AA9C-50F4DA98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1F7-D521-4EFA-AAC0-9CFDE725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6E1-2DD6-4C96-BEB9-BEEC7052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026-FAC1-4BBC-B8C9-05F62CE8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A0CF-F91B-40B3-9021-5920B330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7FB8-B285-4962-9D20-AF7075FB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ABE7-2E04-4C41-B8FF-9F05954D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C5E1-EE2F-438E-90C5-2AFA2708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9BC1-EEF9-476E-9739-4BBAD8F5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2F02-8640-4EFA-8E97-11E05F60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4B3A-8ED8-4DAE-960F-FF56C7D8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2F1-6D20-4A8E-9C2C-3381B07F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1765-D0DB-4BC1-9BA9-FDBEA05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4137-66EF-4C03-AB98-201C83FC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12FE-A351-455C-AD86-1E9150C7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EA96-FCFC-4BE4-950A-1825F8D9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0894-2ED3-4A2E-AC65-86EE469D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194-3ADC-4BA9-ADCA-099208A1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C87-AF66-4FEB-90EB-CA92B449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C7B-541F-46A7-9711-469153F8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C95-1B83-47C5-9507-49B5CA84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430-A2A3-46E3-BA67-82ADCA78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47F-8007-4B93-9D12-2CA48FA0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F77-8091-4496-ACED-1ED9CBE3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55D7-012D-457D-8E4E-37BB22EE0D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F:\для шаблонов\Новая папка\Безимени-1.gif"/>
          <p:cNvPicPr/>
          <p:nvPr/>
        </p:nvPicPr>
        <p:blipFill>
          <a:blip r:embed="rId2"/>
          <a:stretch/>
        </p:blipFill>
        <p:spPr>
          <a:xfrm>
            <a:off x="0" y="4429080"/>
            <a:ext cx="9144000" cy="242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:\для шаблонов\Новая папка\Безимени-1.gif"/>
          <p:cNvPicPr/>
          <p:nvPr/>
        </p:nvPicPr>
        <p:blipFill>
          <a:blip r:embed="rId2"/>
          <a:stretch/>
        </p:blipFill>
        <p:spPr>
          <a:xfrm>
            <a:off x="0" y="4429080"/>
            <a:ext cx="9144000" cy="24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F:\для шаблонов\Новая папка\Копия-raznoe93275.gif"/>
          <p:cNvPicPr/>
          <p:nvPr/>
        </p:nvPicPr>
        <p:blipFill>
          <a:blip r:embed="rId3"/>
          <a:stretch/>
        </p:blipFill>
        <p:spPr>
          <a:xfrm>
            <a:off x="-14292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5E25-A563-4A1E-B93E-ED69169DCB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6"/>
          <p:cNvSpPr txBox="1"/>
          <p:nvPr/>
        </p:nvSpPr>
        <p:spPr>
          <a:xfrm>
            <a:off x="142920" y="214200"/>
            <a:ext cx="7215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0" i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7 - я</a:t>
            </a:r>
            <a:endParaRPr b="0" i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3071880" y="2571840"/>
            <a:ext cx="35719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5373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ЬЯ</a:t>
            </a:r>
            <a:endParaRPr b="1" i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95373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Picture 10" descr="http://im2-tub.yandex.net/i?id=12929718-06&amp;tov=2"/>
          <p:cNvPicPr/>
          <p:nvPr/>
        </p:nvPicPr>
        <p:blipFill>
          <a:blip r:embed="rId4"/>
          <a:stretch/>
        </p:blipFill>
        <p:spPr>
          <a:xfrm>
            <a:off x="5715000" y="3929040"/>
            <a:ext cx="3429000" cy="28386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357120" y="4857840"/>
            <a:ext cx="400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емья – основная ц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нности христианск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емь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500120"/>
            <a:ext cx="4040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осерд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" descr="v_1192623432_214.jpg"/>
          <p:cNvPicPr/>
          <p:nvPr/>
        </p:nvPicPr>
        <p:blipFill>
          <a:blip r:embed="rId1"/>
          <a:stretch/>
        </p:blipFill>
        <p:spPr>
          <a:xfrm>
            <a:off x="5067360" y="1571760"/>
            <a:ext cx="31971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емейные традици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ни ро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с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ждество Христ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би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28760" y="428760"/>
          <a:ext cx="8229600" cy="4708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ы семь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яза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(отец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та и ответственность за всю семь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а(мат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ие де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уш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ушка и деду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рядом с деть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2743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День Семьи, Любви и Верности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- очень молодой праздник, который начал отмечаться в нашей стране только с 2008 года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Международный день семьи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ежегодно отмечается 15 мая, начиная с 1994 года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476360" y="2500200"/>
            <a:ext cx="650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1465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овители семьи и  брак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нязь Муромский Петр и простая девушка Февро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брак многие века является образцом христианского супруж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1818-zr06302008-1"/>
          <p:cNvPicPr/>
          <p:nvPr/>
        </p:nvPicPr>
        <p:blipFill>
          <a:blip r:embed="rId1"/>
          <a:stretch/>
        </p:blipFill>
        <p:spPr>
          <a:xfrm>
            <a:off x="571680" y="1285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2384920"/>
          <p:cNvPicPr/>
          <p:nvPr/>
        </p:nvPicPr>
        <p:blipFill>
          <a:blip r:embed="rId2"/>
          <a:stretch/>
        </p:blipFill>
        <p:spPr>
          <a:xfrm>
            <a:off x="5143680" y="1357200"/>
            <a:ext cx="335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ья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000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  близкие и родные лю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  те люди, которых мы любим, с кого берём прим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 те  люди,  о ком мы заботимся, кому желаем добра и счас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 наши родители, дедушки, бабушки, сёстры и бра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3600" spc="-1" strike="noStrike">
                <a:solidFill>
                  <a:srgbClr val="ff3300"/>
                </a:solidFill>
                <a:latin typeface="Calibri"/>
              </a:rPr>
              <a:t>долгождан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cc99ff"/>
                </a:solidFill>
                <a:latin typeface="Calibri"/>
              </a:rPr>
              <a:t>нуж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ff9966"/>
                </a:solidFill>
                <a:latin typeface="Calibri"/>
              </a:rPr>
              <a:t>защищён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0000ff"/>
                </a:solidFill>
                <a:latin typeface="Calibri"/>
              </a:rPr>
              <a:t>забот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008000"/>
                </a:solidFill>
                <a:latin typeface="Calibri"/>
              </a:rPr>
              <a:t>любим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ff00ff"/>
                </a:solidFill>
                <a:latin typeface="Calibri"/>
              </a:rPr>
              <a:t>любящ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ru-RU" sz="3600" spc="-1" strike="noStrike">
                <a:solidFill>
                  <a:srgbClr val="0033cc"/>
                </a:solidFill>
                <a:latin typeface="Calibri"/>
              </a:rPr>
              <a:t>неповторим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WordArt 4" descr=""/>
          <p:cNvPicPr/>
          <p:nvPr/>
        </p:nvPicPr>
        <p:blipFill>
          <a:blip r:embed="rId1"/>
          <a:stretch/>
        </p:blipFill>
        <p:spPr>
          <a:xfrm>
            <a:off x="1852560" y="-6480"/>
            <a:ext cx="58467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амя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ящий сын бережет покой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ящая дочь заботится о благе своей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бездельничать, когда родители трудя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вступай в пререканье со взросл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выражай недовольство тем, что у тебя нет той или иной ве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допускай, чтобы родители отдавали тебе все то, в чем они сами нужд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айся не делать того, что осуждают старшие, - не на глазах у них, ни где-то в сторо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обирайтесь в дорогу, не предупредив старш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оставлять родного человека в одиночестве, особенно если у него нет никого кроме теб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9680" y="642600"/>
            <a:ext cx="81867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Для чего люди создают семью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- Что такое венчани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- Что означает обручальное кольц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c1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30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3579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5"/>
          <p:cNvSpPr/>
          <p:nvPr/>
        </p:nvSpPr>
        <p:spPr>
          <a:xfrm>
            <a:off x="0" y="357120"/>
            <a:ext cx="5472000" cy="5472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3714480" cy="5214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И сотворил Бог человека по образу Своему, по образу Божию сотворил его; мужчину и женщину сотворил их. И благословил их Бог, и сказал им Бог: плодитесь и размножайтесь, и наполняйте землю, и обладайте ею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WDDNG058"/>
          <p:cNvPicPr/>
          <p:nvPr/>
        </p:nvPicPr>
        <p:blipFill>
          <a:blip r:embed="rId1"/>
          <a:stretch/>
        </p:blipFill>
        <p:spPr>
          <a:xfrm>
            <a:off x="6143760" y="500040"/>
            <a:ext cx="267336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12.jpg"/>
          <p:cNvPicPr/>
          <p:nvPr/>
        </p:nvPicPr>
        <p:blipFill>
          <a:blip r:embed="rId1"/>
          <a:stretch/>
        </p:blipFill>
        <p:spPr>
          <a:xfrm>
            <a:off x="1285920" y="1071720"/>
            <a:ext cx="6840360" cy="4735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Венч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имволы брака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Венец                  Обручальные коль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5" descr="57892868_img_99fe478d1222361c5c01fe1ccaaff758.jpg"/>
          <p:cNvPicPr/>
          <p:nvPr/>
        </p:nvPicPr>
        <p:blipFill>
          <a:blip r:embed="rId1"/>
          <a:stretch/>
        </p:blipFill>
        <p:spPr>
          <a:xfrm>
            <a:off x="457200" y="1428840"/>
            <a:ext cx="4038480" cy="3905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u_Santiago_Porrero.jpg"/>
          <p:cNvPicPr/>
          <p:nvPr/>
        </p:nvPicPr>
        <p:blipFill>
          <a:blip r:embed="rId2"/>
          <a:stretch/>
        </p:blipFill>
        <p:spPr>
          <a:xfrm>
            <a:off x="4714920" y="1428840"/>
            <a:ext cx="4000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785880" y="428760"/>
            <a:ext cx="77151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нятия, относящиеся к ценностям семьи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, доверие, надежда, терпение, милосердие, прощение, забота,  тактичность, хамство, зависть, ненави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6:37:17Z</dcterms:created>
  <dc:creator>7</dc:creator>
  <dc:description/>
  <dc:language>en-US</dc:language>
  <cp:lastModifiedBy>User</cp:lastModifiedBy>
  <dcterms:modified xsi:type="dcterms:W3CDTF">2014-02-14T06:21:57Z</dcterms:modified>
  <cp:revision>10</cp:revision>
  <dc:subject/>
  <dc:title>Слайд 1</dc:title>
</cp:coreProperties>
</file>