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F60-7090-40D0-9FA6-53C2D06C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781-F5AF-4E10-8C72-FB240295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E70-57D9-4ADC-87D8-53C513FD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797-59C9-457B-AC39-E319FCB1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1477-408D-4BD7-A34E-E39B4CD9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42AA-3DE6-44B8-83F3-FDACED40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A235-D620-452F-A85E-E86947B5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EDA4-FECB-45F1-98B9-04BC67A5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4F82-CD8A-41D8-BDE5-31795067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0EC2-E062-4800-833C-F7234073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95CB-8325-4181-8790-8153F173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404-242D-4C1D-9638-B416E4ED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CAD5-A5A3-4739-B037-EE2B69F3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67A0-B524-4759-B466-78CF1C46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E016-4CEF-4632-98B0-48CC3592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CFCE-39F7-43E5-8864-B0BC7E0F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D29F-D7FA-4E2E-AE78-06B76B1A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E4A-2DD6-4340-B811-D7713A27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C9F-CDB8-410E-A53B-86BA238F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1A2-7191-48B0-AEEC-9C581F18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209-85AC-49FD-8F08-1896B920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0C3-D09C-4CFF-B07E-2956BFCB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DC5-6275-41DD-9D83-88E493D8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EA1-BB25-45BB-81DE-AFED9B8F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E9C5-B873-431C-B63B-FFE479525E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для шаблонов\Новая папка\Безимени-1.gif"/>
          <p:cNvPicPr/>
          <p:nvPr/>
        </p:nvPicPr>
        <p:blipFill>
          <a:blip r:embed="rId2"/>
          <a:stretch/>
        </p:blipFill>
        <p:spPr>
          <a:xfrm>
            <a:off x="0" y="4429080"/>
            <a:ext cx="9144000" cy="242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:\для шаблонов\Новая папка\Безимени-1.gif"/>
          <p:cNvPicPr/>
          <p:nvPr/>
        </p:nvPicPr>
        <p:blipFill>
          <a:blip r:embed="rId2"/>
          <a:stretch/>
        </p:blipFill>
        <p:spPr>
          <a:xfrm>
            <a:off x="0" y="4429080"/>
            <a:ext cx="9144000" cy="24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F:\для шаблонов\Новая папка\Копия-raznoe93275.gif"/>
          <p:cNvPicPr/>
          <p:nvPr/>
        </p:nvPicPr>
        <p:blipFill>
          <a:blip r:embed="rId3"/>
          <a:stretch/>
        </p:blipFill>
        <p:spPr>
          <a:xfrm>
            <a:off x="-14292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10CD-1C76-4D4D-AE98-B9BDFB5D32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6"/>
          <p:cNvSpPr txBox="1"/>
          <p:nvPr/>
        </p:nvSpPr>
        <p:spPr>
          <a:xfrm>
            <a:off x="142920" y="214200"/>
            <a:ext cx="7215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0" i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 - я</a:t>
            </a:r>
            <a:endParaRPr b="0" i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3071880" y="2571840"/>
            <a:ext cx="35719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5373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</a:t>
            </a:r>
            <a:endParaRPr b="1" i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95373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10" descr="http://im2-tub.yandex.net/i?id=12929718-06&amp;tov=2"/>
          <p:cNvPicPr/>
          <p:nvPr/>
        </p:nvPicPr>
        <p:blipFill>
          <a:blip r:embed="rId4"/>
          <a:stretch/>
        </p:blipFill>
        <p:spPr>
          <a:xfrm>
            <a:off x="5715000" y="3929040"/>
            <a:ext cx="3429000" cy="28386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357120" y="485784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емья – основная ц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нности христианск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мь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00120"/>
            <a:ext cx="40402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" descr="v_1192623432_214.jpg"/>
          <p:cNvPicPr/>
          <p:nvPr/>
        </p:nvPicPr>
        <p:blipFill>
          <a:blip r:embed="rId1"/>
          <a:stretch/>
        </p:blipFill>
        <p:spPr>
          <a:xfrm>
            <a:off x="5067360" y="1571760"/>
            <a:ext cx="3197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емейные традици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и р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с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ждество Христ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би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428760"/>
          <a:ext cx="8229600" cy="4708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ы семь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яза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(отец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та и ответственность за всю сем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а(ма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де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 и деду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рядом с деть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День Семьи, Любви и Верности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- очень молодой праздник, который начал отмечаться в нашей стране только с 2008 года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Международный день семьи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ежегодно отмечается 15 мая, начиная с 1994 года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476360" y="2500200"/>
            <a:ext cx="6500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1465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овители семьи и  бра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нязь Муромский Петр и простая девушка Февро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брак многие века является образцом христианского супруж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1818-zr06302008-1"/>
          <p:cNvPicPr/>
          <p:nvPr/>
        </p:nvPicPr>
        <p:blipFill>
          <a:blip r:embed="rId1"/>
          <a:stretch/>
        </p:blipFill>
        <p:spPr>
          <a:xfrm>
            <a:off x="571680" y="1285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2384920"/>
          <p:cNvPicPr/>
          <p:nvPr/>
        </p:nvPicPr>
        <p:blipFill>
          <a:blip r:embed="rId2"/>
          <a:stretch/>
        </p:blipFill>
        <p:spPr>
          <a:xfrm>
            <a:off x="5143680" y="1357200"/>
            <a:ext cx="335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ья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000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  близкие и родные лю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 те люди, которых мы любим, с кого берём при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те  люди,  о ком мы заботимся, кому желаем добра и счас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Это наши родители, дедушки, бабушки, сёстры и брат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3600" spc="-1" strike="noStrike">
                <a:solidFill>
                  <a:srgbClr val="ff3300"/>
                </a:solidFill>
                <a:latin typeface="Calibri"/>
              </a:rPr>
              <a:t>долгожда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cc99ff"/>
                </a:solidFill>
                <a:latin typeface="Calibri"/>
              </a:rPr>
              <a:t>нуж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ff9966"/>
                </a:solidFill>
                <a:latin typeface="Calibri"/>
              </a:rPr>
              <a:t>защищё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0000ff"/>
                </a:solidFill>
                <a:latin typeface="Calibri"/>
              </a:rPr>
              <a:t>забо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008000"/>
                </a:solidFill>
                <a:latin typeface="Calibri"/>
              </a:rPr>
              <a:t>люб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3600" spc="-1" strike="noStrike">
                <a:solidFill>
                  <a:srgbClr val="ff00ff"/>
                </a:solidFill>
                <a:latin typeface="Calibri"/>
              </a:rPr>
              <a:t>любящ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901"/>
              </a:spcBef>
              <a:buClr>
                <a:srgbClr val="ff7c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7c80"/>
                </a:solidFill>
                <a:latin typeface="Calibri"/>
              </a:rPr>
              <a:t>Я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ru-RU" sz="3600" spc="-1" strike="noStrike">
                <a:solidFill>
                  <a:srgbClr val="0033cc"/>
                </a:solidFill>
                <a:latin typeface="Calibri"/>
              </a:rPr>
              <a:t>неповторим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WordArt 4" descr=""/>
          <p:cNvPicPr/>
          <p:nvPr/>
        </p:nvPicPr>
        <p:blipFill>
          <a:blip r:embed="rId1"/>
          <a:stretch/>
        </p:blipFill>
        <p:spPr>
          <a:xfrm>
            <a:off x="1852560" y="-6480"/>
            <a:ext cx="58467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ящий сын бережет покой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ящая дочь заботится о благе своей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бездельничать, когда родители трудя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ступай в пререканье со взросл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ыражай недовольство тем, что у тебя нет той или иной ве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допускай, чтобы родители отдавали тебе все то, в чем они сами нужд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айся не делать того, что осуждают старшие, - не на глазах у них, ни где-то в сторо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обирайтесь в дорогу, не предупредив старш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оставлять родного человека в одиночестве, особенно если у него нет никого кроме теб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9680" y="642600"/>
            <a:ext cx="81867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Для чего люди создают семь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- Что такое венчани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- Что означает обручальное кольц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0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3579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5"/>
          <p:cNvSpPr/>
          <p:nvPr/>
        </p:nvSpPr>
        <p:spPr>
          <a:xfrm>
            <a:off x="0" y="357120"/>
            <a:ext cx="5472000" cy="5472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3714480" cy="5214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И сотворил Бог человека по образу Своему, по образу Божию сотворил его; мужчину и женщину сотворил их. И благословил их Бог, и сказал им Бог: плодитесь и размножайтесь, и наполняйте землю, и обладайте ею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WDDNG058"/>
          <p:cNvPicPr/>
          <p:nvPr/>
        </p:nvPicPr>
        <p:blipFill>
          <a:blip r:embed="rId1"/>
          <a:stretch/>
        </p:blipFill>
        <p:spPr>
          <a:xfrm>
            <a:off x="6143760" y="500040"/>
            <a:ext cx="26733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12.jpg"/>
          <p:cNvPicPr/>
          <p:nvPr/>
        </p:nvPicPr>
        <p:blipFill>
          <a:blip r:embed="rId1"/>
          <a:stretch/>
        </p:blipFill>
        <p:spPr>
          <a:xfrm>
            <a:off x="1285920" y="1071720"/>
            <a:ext cx="6840360" cy="4735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енч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имволы брака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Венец                  Обручальные коль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5" descr="57892868_img_99fe478d1222361c5c01fe1ccaaff758.jpg"/>
          <p:cNvPicPr/>
          <p:nvPr/>
        </p:nvPicPr>
        <p:blipFill>
          <a:blip r:embed="rId1"/>
          <a:stretch/>
        </p:blipFill>
        <p:spPr>
          <a:xfrm>
            <a:off x="457200" y="1428840"/>
            <a:ext cx="4038480" cy="3905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u_Santiago_Porrero.jpg"/>
          <p:cNvPicPr/>
          <p:nvPr/>
        </p:nvPicPr>
        <p:blipFill>
          <a:blip r:embed="rId2"/>
          <a:stretch/>
        </p:blipFill>
        <p:spPr>
          <a:xfrm>
            <a:off x="4714920" y="1428840"/>
            <a:ext cx="4000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785880" y="428760"/>
            <a:ext cx="77151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нятия, относящиеся к ценностям семьи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, доверие, надежда, терпение, милосердие, прощение, забота,  тактичность, хамство, зависть, ненави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6:37:17Z</dcterms:created>
  <dc:creator>7</dc:creator>
  <dc:description/>
  <dc:language>en-US</dc:language>
  <cp:lastModifiedBy>User</cp:lastModifiedBy>
  <dcterms:modified xsi:type="dcterms:W3CDTF">2014-02-14T06:21:57Z</dcterms:modified>
  <cp:revision>10</cp:revision>
  <dc:subject/>
  <dc:title>Слайд 1</dc:title>
</cp:coreProperties>
</file>