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16.png" ContentType="image/png"/>
  <Override PartName="/ppt/media/image13.gif" ContentType="image/gif"/>
  <Override PartName="/ppt/media/image4.jpeg" ContentType="image/jpeg"/>
  <Override PartName="/ppt/media/image8.gif" ContentType="image/gif"/>
  <Override PartName="/ppt/media/image22.gif" ContentType="image/gif"/>
  <Override PartName="/ppt/media/image18.jpeg" ContentType="image/jpeg"/>
  <Override PartName="/ppt/media/image26.jpeg" ContentType="image/jpeg"/>
  <Override PartName="/ppt/media/image5.jpeg" ContentType="image/jpeg"/>
  <Override PartName="/ppt/media/image15.gif" ContentType="image/gif"/>
  <Override PartName="/ppt/media/image7.jpeg" ContentType="image/jpeg"/>
  <Override PartName="/ppt/media/image19.jpeg" ContentType="image/jpeg"/>
  <Override PartName="/ppt/media/image11.png" ContentType="image/png"/>
  <Override PartName="/ppt/media/image9.gif" ContentType="image/gif"/>
  <Override PartName="/ppt/media/image10.gif" ContentType="image/gif"/>
  <Override PartName="/ppt/media/image30.jpeg" ContentType="image/jpeg"/>
  <Override PartName="/ppt/media/image12.png" ContentType="image/png"/>
  <Override PartName="/ppt/media/image3.gif" ContentType="image/gif"/>
  <Override PartName="/ppt/media/image2.jpeg" ContentType="image/jpeg"/>
  <Override PartName="/ppt/media/image1.png" ContentType="image/png"/>
  <Override PartName="/ppt/media/image21.gif" ContentType="image/gif"/>
  <Override PartName="/ppt/media/image14.gif" ContentType="image/gif"/>
  <Override PartName="/ppt/media/image17.gif" ContentType="image/gif"/>
  <Override PartName="/ppt/media/image20.gif" ContentType="image/gif"/>
  <Override PartName="/ppt/media/image24.gif" ContentType="image/gif"/>
  <Override PartName="/ppt/media/image6.jpeg" ContentType="image/jpeg"/>
  <Override PartName="/ppt/media/image25.gif" ContentType="image/gif"/>
  <Override PartName="/ppt/media/image29.jpeg" ContentType="image/jpeg"/>
  <Override PartName="/ppt/media/image23.wmf" ContentType="image/x-wmf"/>
  <Override PartName="/ppt/media/image2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A53-708E-4BC0-BC35-1F712F03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00280" y="522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397-0A33-4C76-B0F7-1A426E8F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378720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CE5-195E-4D39-A3B2-37D2DD96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77128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192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80028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277128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474192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839-CFE0-4316-BF67-A0721E60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6D48-C7F3-476A-AD38-E51FB9CD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B160-55B9-4228-BD4B-7CB9A1FA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1C62-1858-4397-A054-E058E23C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38E8-7CED-4CF0-88D4-4F3B15C4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37D7-EFF0-4391-AA69-A075A7B1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00280" y="5331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3146-36EE-491E-AB45-A64B7D4E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6313-1638-4006-8E67-8010B6EB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C99-9591-421C-BBF2-0E83D915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78720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8AFE-4EAC-4782-B9FE-2DB11EA4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43EB-6A03-405C-B656-BE0E2021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00280" y="522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A2D8-F325-4AD0-9065-C1660993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78720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4592-25F6-444A-B142-F8A5C2A2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7128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4192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80028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7128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74192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D588-8DEF-44D6-9C30-50299FA5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03E-848F-434A-9D62-6ABF93D3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755-600E-4615-A6E7-D44644C7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0C6-D62A-4E01-A43F-8517B046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800280" y="5331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AA1-6891-455D-B887-9DF28942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39B-82E9-445F-873D-5C26532D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78720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E7C-1A0A-4303-B854-43037CAD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F40-5D77-4F7E-A049-BA092104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6694560" cy="8991000"/>
            <a:chOff x="0" y="68400"/>
            <a:chExt cx="6694560" cy="8991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694560" cy="8991000"/>
              <a:chOff x="0" y="68400"/>
              <a:chExt cx="6694560" cy="8991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96720" y="269640"/>
                <a:ext cx="6297840" cy="862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68400"/>
                <a:ext cx="885960" cy="57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447840" y="5506920"/>
                <a:ext cx="780840" cy="60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5630760"/>
                <a:ext cx="885960" cy="3428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861840" y="2058840"/>
              <a:ext cx="5807160" cy="6400440"/>
              <a:chOff x="861840" y="2058840"/>
              <a:chExt cx="5807160" cy="640044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861840" y="205884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861840" y="23634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861840" y="26679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861840" y="29728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861840" y="32778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861840" y="35823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861840" y="38872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861840" y="41922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861840" y="44967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861840" y="48016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861840" y="51066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861840" y="54111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861840" y="57160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861840" y="60210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861840" y="63255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861840" y="66304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861840" y="69354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861840" y="72399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861840" y="75448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61840" y="78498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861840" y="81543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861840" y="84592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781200" y="82101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2629080" y="821016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5200200" y="8210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9014-9208-45D6-95CF-7D81D9BA576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96720" y="268200"/>
            <a:ext cx="6297840" cy="862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68400"/>
            <a:ext cx="88596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447840" y="5506920"/>
            <a:ext cx="780840" cy="609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5630760"/>
            <a:ext cx="88596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838080" y="81529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2666520" y="815292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5257800" y="81529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568D-07F5-41C4-86C6-1F824D11F9E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g.ru/img/content/2/51/19/ekzam.gif&amp;imgrefurl=http://www.rg.ru/2004/04/30/repetitory.html&amp;h=250&amp;w=185&amp;sz=34&amp;hl=ru&amp;start=5&amp;tbnid=5Ea8qbBrWKizLM:&amp;tbnh=111&amp;tbnw=82&amp;prev=/images%3Fq%3D%25D1%258D%25D0%25BA%25D0%25B7%25D0%25B0%25D0%25BC%25D0%25B5%25D0%25BD%25D1%258B%26svnum%3D10%26hl%3Dru%26lr%3D%26sa%3D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0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pim.ru/i/son/horosh-son.jpg&amp;imgrefurl=http://spim.ru/info/page_903_40.html&amp;h=283&amp;w=400&amp;sz=14&amp;hl=ru&amp;start=2&amp;tbnid=R0LbVZfKUFVYiM:&amp;tbnh=88&amp;tbnw=124&amp;prev=/images%3Fq%3D%25D1%2581%25D0%25BE%25D0%25BD%26svnum%3D10%26hl%3Dru%26lr%3D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lady-x.ru/beauty/secret/img/013-2.jpg&amp;imgrefurl=http://lady-x.ru/beauty/secret/013.html&amp;h=319&amp;w=213&amp;sz=17&amp;hl=ru&amp;start=3&amp;tbnid=KPr3akd_14tMZM:&amp;tbnh=118&amp;tbnw=79&amp;prev=/images%3Fq%3D%2B%25D0%25B7%25D0%25B0%25D1%2580%25D1%258F%25D0%25B4%25D0%25BA%25D0%25B0%26svnum%3D10%26hl%3Dru%26lr%3D%26sa%3D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ru/imgres?imgurl=http://school-2013.msk.ru/pic/school-ege.jpg&amp;imgrefurl=http://school-2013.msk.ru/school-ege.html&amp;h=230&amp;w=200&amp;sz=11&amp;hl=ru&amp;start=2&amp;tbnid=fytMxQz0Ecwt1M:&amp;tbnh=108&amp;tbnw=94&amp;prev=/images%3Fq%3D%25D1%258D%25D0%25BA%25D0%25B7%25D0%25B0%25D0%25BC%25D0%25B5%25D0%25BD%26svnum%3D10%26hl%3Dru%26lr%3D%26newwindow%3D1%26sa%3D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images.newsru.com/pict/id/large/863759_20060620090056.gif&amp;imgrefurl=http://www.newsru.com/pict/big/863759.html&amp;h=240&amp;w=320&amp;sz=17&amp;hl=ru&amp;start=8&amp;tbnid=ukdFmcT23YnloM:&amp;tbnh=89&amp;tbnw=118&amp;prev=/images%3Fq%3D%25D0%25BF%25D0%25BE%25D0%25B4%25D0%25B3%25D0%25BE%25D1%2582%25D0%25BE%25D0%25B2%25D0%25BA%25D0%25B0%2B%25D0%25BA%2B%25D1%258D%25D0%25BA%25D0%25B7%25D0%25B0%25D0%25BC%25D0%25B5%25D0%25BD%25D0%25B0%25D0%25BC%26svnum%3D10%26hl%3Dru%26lr%3D%26newwindow%3D1%26sa%3D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ru/imgres?imgurl=http://foto.mail.ru/mail/minaiev_a/_blogs/i-2.jpg&amp;imgrefurl=http://blogs.mail.ru/mail/kuzia1981/47805B88B6B46DFC.html&amp;h=500&amp;w=403&amp;sz=27&amp;hl=ru&amp;start=17&amp;tbnid=NmGw-NVC3TON6M:&amp;tbnh=130&amp;tbnw=105&amp;prev=/images%3Fq%3D%25D0%25BF%25D0%25BE%25D0%25B4%25D0%25B3%25D0%25BE%25D1%2582%25D0%25BE%25D0%25B2%25D0%25BA%25D0%25B0%2B%25D0%25BA%2B%25D1%258D%25D0%25BA%25D0%25B7%25D0%25B0%25D0%25BC%25D0%25B5%25D0%25BD%25D0%25B0%25D0%25BC%26svnum%3D10%26hl%3Dru%26lr%3D%26newwindow%3D1%26sa%3D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pperplate Gothic Bold"/>
              </a:rPr>
              <a:t>Как подготовиться психологически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0280" y="2361960"/>
            <a:ext cx="441144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инай готовиться к экзаменам заранее, понемногу, по частям, сохраняя споко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трудно собраться с мыслями, постарайтесь запомнить сначала самое лёгкое, а потом переходи к изучению трудного 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дневно выполняй упражнения, способствующие снятию внутреннего напряжения, усталости, достижению расслаб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books"/>
          <p:cNvPicPr/>
          <p:nvPr/>
        </p:nvPicPr>
        <p:blipFill>
          <a:blip r:embed="rId4"/>
          <a:stretch/>
        </p:blipFill>
        <p:spPr>
          <a:xfrm>
            <a:off x="5265720" y="4476600"/>
            <a:ext cx="12574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0" autoRev="1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" dur="1000" autoRev="1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" dur="1000" autoRev="1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694b6"/>
                                      </p:to>
                                    </p:animClr>
                                    <p:animClr clrSpc="rgb">
                                      <p:cBhvr>
                                        <p:cTn id="28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694b6"/>
                                      </p:to>
                                    </p:animClr>
                                    <p:set>
                                      <p:cBhvr>
                                        <p:cTn id="29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НАКАНУНЕ ЭКЗАМЕН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59908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еред сном хорошо совершить прогул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Утром, перед экзаменом не вредно просто перелистать учеб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48"/>
          <p:cNvPicPr/>
          <p:nvPr/>
        </p:nvPicPr>
        <p:blipFill>
          <a:blip r:embed="rId1"/>
          <a:stretch/>
        </p:blipFill>
        <p:spPr>
          <a:xfrm>
            <a:off x="3357720" y="2916360"/>
            <a:ext cx="1546200" cy="1871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ученик"/>
          <p:cNvPicPr/>
          <p:nvPr/>
        </p:nvPicPr>
        <p:blipFill>
          <a:blip r:embed="rId2"/>
          <a:stretch/>
        </p:blipFill>
        <p:spPr>
          <a:xfrm>
            <a:off x="2673360" y="6383160"/>
            <a:ext cx="1297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50"/>
                            </p:stCondLst>
                            <p:childTnLst>
                              <p:par>
                                <p:cTn id="35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50"/>
                            </p:stCondLst>
                            <p:childTnLst>
                              <p:par>
                                <p:cTn id="3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1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37920" y="2266920"/>
            <a:ext cx="3560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попался вопрос, по которому вы можете сказать совсем нем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впадайте в панику, а сразу начните записывать все, что слышали по этому пов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роцессе написания вы, возможно, сможете вспомнить что-нибудь из пройденного 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ekz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9400" y="3035160"/>
            <a:ext cx="1197000" cy="28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2str3"/>
          <p:cNvPicPr/>
          <p:nvPr/>
        </p:nvPicPr>
        <p:blipFill>
          <a:blip r:embed="rId3"/>
          <a:stretch/>
        </p:blipFill>
        <p:spPr>
          <a:xfrm>
            <a:off x="836640" y="2071800"/>
            <a:ext cx="5731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93720" y="2362320"/>
            <a:ext cx="334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на полуслове забыли о чем говор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жде всего, не следует «терять голов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храняйте спокойствие, хотя бы внеш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торите последнюю фразу, а потом попробуйте перефразировать свою мыс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2str3"/>
          <p:cNvPicPr/>
          <p:nvPr/>
        </p:nvPicPr>
        <p:blipFill>
          <a:blip r:embed="rId1"/>
          <a:stretch/>
        </p:blipFill>
        <p:spPr>
          <a:xfrm>
            <a:off x="944640" y="2266920"/>
            <a:ext cx="593640" cy="804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ballcolor"/>
          <p:cNvPicPr/>
          <p:nvPr/>
        </p:nvPicPr>
        <p:blipFill>
          <a:blip r:embed="rId2"/>
          <a:stretch/>
        </p:blipFill>
        <p:spPr>
          <a:xfrm>
            <a:off x="1646280" y="3995640"/>
            <a:ext cx="201600" cy="35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ballcolor"/>
          <p:cNvPicPr/>
          <p:nvPr/>
        </p:nvPicPr>
        <p:blipFill>
          <a:blip r:embed="rId3"/>
          <a:stretch/>
        </p:blipFill>
        <p:spPr>
          <a:xfrm>
            <a:off x="1646280" y="4859280"/>
            <a:ext cx="201600" cy="35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ballcolor"/>
          <p:cNvPicPr/>
          <p:nvPr/>
        </p:nvPicPr>
        <p:blipFill>
          <a:blip r:embed="rId4"/>
          <a:stretch/>
        </p:blipFill>
        <p:spPr>
          <a:xfrm>
            <a:off x="1646280" y="5722920"/>
            <a:ext cx="201600" cy="358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010"/>
          <p:cNvPicPr/>
          <p:nvPr/>
        </p:nvPicPr>
        <p:blipFill>
          <a:blip r:embed="rId5"/>
          <a:stretch/>
        </p:blipFill>
        <p:spPr>
          <a:xfrm>
            <a:off x="4888080" y="5821200"/>
            <a:ext cx="178272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3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000"/>
                            </p:stCondLst>
                            <p:childTnLst>
                              <p:par>
                                <p:cTn id="4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4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3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2280" y="1979280"/>
            <a:ext cx="286236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вас не слуша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воспринимайте это на свой счет, просто продолжайте свой ответ, как если бы вы этого не замет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483000" y="1979280"/>
            <a:ext cx="3146400" cy="33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вы оговорились, все стали смея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мейтесь вместе со всеми и вс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2str3"/>
          <p:cNvPicPr/>
          <p:nvPr/>
        </p:nvPicPr>
        <p:blipFill>
          <a:blip r:embed="rId1"/>
          <a:stretch/>
        </p:blipFill>
        <p:spPr>
          <a:xfrm>
            <a:off x="728640" y="1789200"/>
            <a:ext cx="519120" cy="482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img_0182"/>
          <p:cNvPicPr/>
          <p:nvPr/>
        </p:nvPicPr>
        <p:blipFill>
          <a:blip r:embed="rId2"/>
          <a:stretch/>
        </p:blipFill>
        <p:spPr>
          <a:xfrm>
            <a:off x="4238640" y="5148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2str3"/>
          <p:cNvPicPr/>
          <p:nvPr/>
        </p:nvPicPr>
        <p:blipFill>
          <a:blip r:embed="rId3"/>
          <a:stretch/>
        </p:blipFill>
        <p:spPr>
          <a:xfrm>
            <a:off x="3591000" y="1789200"/>
            <a:ext cx="48564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2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200"/>
                            </p:stCondLst>
                            <p:childTnLst>
                              <p:par>
                                <p:cTn id="4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2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21920" y="2362320"/>
            <a:ext cx="4915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экзаменатор в резкой и неприятной форме перебивает ва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лекитесь от этого, ни в коем случае не показывайте, что разозлили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ое эффективное – сохраните чувство собственного достоинства и держитесь увер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2str3"/>
          <p:cNvPicPr/>
          <p:nvPr/>
        </p:nvPicPr>
        <p:blipFill>
          <a:blip r:embed="rId1"/>
          <a:stretch/>
        </p:blipFill>
        <p:spPr>
          <a:xfrm>
            <a:off x="728640" y="2459160"/>
            <a:ext cx="48564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850"/>
                            </p:stCondLst>
                            <p:childTnLst>
                              <p:par>
                                <p:cTn id="5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9" name="Picture 4" descr="2str3"/>
          <p:cNvPicPr/>
          <p:nvPr/>
        </p:nvPicPr>
        <p:blipFill>
          <a:blip r:embed="rId1"/>
          <a:stretch/>
        </p:blipFill>
        <p:spPr>
          <a:xfrm>
            <a:off x="836640" y="1884240"/>
            <a:ext cx="466560" cy="482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160640" y="2076480"/>
            <a:ext cx="523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вы ошибли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вы знаете как исправить ошибку, сделайте э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вашу ошибку никто не заметил, продолжайте свой ответ без исправл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вам снизили оцен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вступайте в спор и не доказывайте (преподаватель всегда может «засадить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титесь к экзаменатору: «Простите, спросите меня еще дополнительно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25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2" dur="25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25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500"/>
                            </p:stCondLst>
                            <p:childTnLst>
                              <p:par>
                                <p:cTn id="5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6500"/>
                            </p:stCondLst>
                            <p:childTnLst>
                              <p:par>
                                <p:cTn id="5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25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7" dur="25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8" dur="25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000"/>
                            </p:stCondLst>
                            <p:childTnLst>
                              <p:par>
                                <p:cTn id="5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</a:rPr>
              <a:t>Режим дня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4280" y="20764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horosh-s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94080" y="6299280"/>
            <a:ext cx="1619280" cy="20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013-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65720" y="635040"/>
            <a:ext cx="1266840" cy="336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school-e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7920" y="2484360"/>
            <a:ext cx="1243080" cy="28339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4"/>
          <p:cNvSpPr/>
          <p:nvPr/>
        </p:nvSpPr>
        <p:spPr>
          <a:xfrm>
            <a:off x="1646280" y="5916600"/>
            <a:ext cx="2052720" cy="2495520"/>
          </a:xfrm>
          <a:prstGeom prst="cloudCallout">
            <a:avLst>
              <a:gd name="adj1" fmla="val 73953"/>
              <a:gd name="adj2" fmla="val 194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и не менее 8 часов. Есть желание – сделай тихий час после обе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2349360" y="1789200"/>
            <a:ext cx="2159280" cy="2206440"/>
          </a:xfrm>
          <a:prstGeom prst="cloudCallout">
            <a:avLst>
              <a:gd name="adj1" fmla="val -55810"/>
              <a:gd name="adj2" fmla="val 4453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ка к экзаменам – 8 часов в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3213000" y="3611520"/>
            <a:ext cx="2160720" cy="2400480"/>
          </a:xfrm>
          <a:prstGeom prst="cloudCallout">
            <a:avLst>
              <a:gd name="adj1" fmla="val 68083"/>
              <a:gd name="adj2" fmla="val -2531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нимайся спортом, гуляй на свежем воздухе – 8 ча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Питание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54508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тание должно быть 3-4-х разовым, калорийным и богатым витамин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Употребля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цкие оре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очные проду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яс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в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у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окол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foo-apple_drink"/>
          <p:cNvPicPr/>
          <p:nvPr/>
        </p:nvPicPr>
        <p:blipFill>
          <a:blip r:embed="rId1"/>
          <a:stretch/>
        </p:blipFill>
        <p:spPr>
          <a:xfrm>
            <a:off x="1808280" y="444600"/>
            <a:ext cx="685800" cy="1523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gif018"/>
          <p:cNvPicPr/>
          <p:nvPr/>
        </p:nvPicPr>
        <p:blipFill>
          <a:blip r:embed="rId2"/>
          <a:stretch/>
        </p:blipFill>
        <p:spPr>
          <a:xfrm>
            <a:off x="4888080" y="3898800"/>
            <a:ext cx="1125360" cy="2465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j1"/>
          <p:cNvPicPr/>
          <p:nvPr/>
        </p:nvPicPr>
        <p:blipFill>
          <a:blip r:embed="rId3"/>
          <a:stretch/>
        </p:blipFill>
        <p:spPr>
          <a:xfrm>
            <a:off x="944640" y="5916600"/>
            <a:ext cx="12254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50" autoRev="1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0" dur="250" autoRev="1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" dur="250" autoRev="1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50" autoRev="1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4" dur="250" autoRev="1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" dur="250" autoRev="1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50" autoRev="1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8" dur="250" autoRev="1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" dur="250" autoRev="1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250" autoRev="1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250" autoRev="1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250" autoRev="1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6" dur="250" autoRev="1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" dur="250" autoRev="1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50" autoRev="1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250" autoRev="1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250" autoRev="1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50" autoRev="1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250" autoRev="1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250" autoRev="1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Планирование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32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лане на каждый день определите, что именно сегодня необходимо изуч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е в какое время Вы наиболее работоспособны, и в зависимости от этого, загружайте  утренние или вечерние ча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Условия поддержания работоспособност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27508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довать умственный и физический тру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имнастических упражнениях предпочтение следует отдавать кувырку, стойке на голо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ак усиливается приток крови к клеткам моз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мум телевизионных перед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речь глаза, делать перерыв каждые 20-30 мину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13"/>
          <p:cNvPicPr/>
          <p:nvPr/>
        </p:nvPicPr>
        <p:blipFill>
          <a:blip r:embed="rId5"/>
          <a:stretch/>
        </p:blipFill>
        <p:spPr>
          <a:xfrm>
            <a:off x="2889360" y="7067520"/>
            <a:ext cx="928440" cy="1397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gif024"/>
          <p:cNvPicPr/>
          <p:nvPr/>
        </p:nvPicPr>
        <p:blipFill>
          <a:blip r:embed="rId6"/>
          <a:stretch/>
        </p:blipFill>
        <p:spPr>
          <a:xfrm>
            <a:off x="1322280" y="6877080"/>
            <a:ext cx="803520" cy="1535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01"/>
          <p:cNvPicPr/>
          <p:nvPr/>
        </p:nvPicPr>
        <p:blipFill>
          <a:blip r:embed="rId7"/>
          <a:stretch/>
        </p:blipFill>
        <p:spPr>
          <a:xfrm>
            <a:off x="4726080" y="7164360"/>
            <a:ext cx="720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Некоторые закономерности запоминан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6640" y="2361960"/>
            <a:ext cx="550872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ой отрывок учить полезнее, чем короткое изре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поминается то, что понят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учше учить с перерывами, чем подряд, лучше понемногу, чем сраз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Лучше тратить время на повторение по памяти, чем на простое многократное чт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работаешь с двумя материалами – большим и поменьше, разумно начинать с больш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книга"/>
          <p:cNvPicPr/>
          <p:nvPr/>
        </p:nvPicPr>
        <p:blipFill>
          <a:blip r:embed="rId6"/>
          <a:stretch/>
        </p:blipFill>
        <p:spPr>
          <a:xfrm>
            <a:off x="2781360" y="7259760"/>
            <a:ext cx="108900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НАКАНУНЕ ЭКЗАМЕН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43708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ин день перед экзаменом оставляется, чтобы вновь повторить все планы ответов, а перед устным экзаменом – пересказать их кому-нибудь или самому себе перед зеркал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863759_200606200900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99000" y="5313240"/>
            <a:ext cx="1438200" cy="192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i-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26160" y="5702400"/>
            <a:ext cx="12747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НАКАНУНЕ ЭКЗАМЕН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285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представить ситуацию экзамена во всех красках, со всеми чувствами, переживаниями, страшными мыслями, так как хотелось бы, чтобы все произошло при успешной сдаче экза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25"/>
          <p:cNvPicPr/>
          <p:nvPr/>
        </p:nvPicPr>
        <p:blipFill>
          <a:blip r:embed="rId1"/>
          <a:stretch/>
        </p:blipFill>
        <p:spPr>
          <a:xfrm>
            <a:off x="4091040" y="2940120"/>
            <a:ext cx="17319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НАКАНУНЕ ЭКЗАМЕН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79720" y="2747880"/>
            <a:ext cx="316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очень страшно, можно использовать прием «доведение до абсурда», где представляются все сам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шные  и немыслимые  подробности и ужасающие послед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акое предельное усиление страха приводит человека к мысли, что бояться , в сущности, неч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gif012"/>
          <p:cNvPicPr/>
          <p:nvPr/>
        </p:nvPicPr>
        <p:blipFill>
          <a:blip r:embed="rId1"/>
          <a:stretch/>
        </p:blipFill>
        <p:spPr>
          <a:xfrm>
            <a:off x="728640" y="5435640"/>
            <a:ext cx="1344600" cy="264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31"/>
          <p:cNvPicPr/>
          <p:nvPr/>
        </p:nvPicPr>
        <p:blipFill>
          <a:blip r:embed="rId2"/>
          <a:stretch/>
        </p:blipFill>
        <p:spPr>
          <a:xfrm>
            <a:off x="5157720" y="2363760"/>
            <a:ext cx="1403280" cy="176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Object 9"/>
          <p:cNvGraphicFramePr/>
          <p:nvPr/>
        </p:nvGraphicFramePr>
        <p:xfrm>
          <a:off x="4888080" y="1211400"/>
          <a:ext cx="2857320" cy="264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080" y="1211400"/>
                    <a:ext cx="285732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3.79829E-006 C -0.00487 0.02799 -0.00712 0.03932 0.00677 0.05552 C 0.01597 0.06639 0.00989 0.06292 0.01683 0.06593 C 0.02673 0.07587 0.02222 0.07333 0.02916 0.07634 C 0.03437 0.08721 0.02725 0.07402 0.04045 0.08698 C 0.05208 0.09831 0.06475 0.09785 0.07864 0.10039 C 0.08541 0.10363 0.09166 0.10502 0.09895 0.10641 C 0.10225 0.1078 0.10555 0.10941 0.10902 0.1108 C 0.21649 0.09438 0.15902 0.10803 0.41128 0.10941 C 0.51024 0.10803 0.48975 0.12006 0.53263 0.10479 C 0.54427 0.09484 0.56562 0.1034 0.57986 0.10479 C 0.58402 0.10433 0.58819 0.10479 0.59218 0.1034 C 0.59548 0.10224 0.59808 0.09901 0.60121 0.09739 C 0.60798 0.09368 0.61302 0.09276 0.62031 0.09137 C 0.62864 0.0879 0.63663 0.08096 0.64496 0.07634 C 0.64791 0.07472 0.65104 0.07333 0.65399 0.07194 C 0.65503 0.07148 0.65729 0.07055 0.65729 0.07055 C 0.66232 0.06384 0.66475 0.05667 0.66857 0.0495 C 0.67569 0.03632 0.68541 0.02591 0.69218 0.01203 C 0.69357 -0.00463 0.69652 -0.02359 0.70225 -0.03886 C 0.70173 -0.05552 0.70312 -0.08004 0.69548 -0.09577 C 0.69409 -0.10386 0.68993 -0.11358 0.68541 -0.11959 C 0.68229 -0.13162 0.68211 -0.14388 0.68645 -0.15568 C 0.68749 -0.16516 0.68524 -0.17974 0.69218 -0.18251 C 0.70069 -0.19385 0.70937 -0.20611 0.71579 -0.21999 C 0.7177 -0.22392 0.71944 -0.22808 0.72135 -0.23201 C 0.72308 -0.23572 0.7269 -0.24242 0.7269 -0.24242 E">
                                      <p:cBhvr>
                                        <p:cTn id="308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4:51:17Z</dcterms:created>
  <dc:creator>NewUser</dc:creator>
  <dc:description/>
  <dc:language>en-US</dc:language>
  <cp:lastModifiedBy>НАТАША</cp:lastModifiedBy>
  <dcterms:modified xsi:type="dcterms:W3CDTF">2018-01-11T10:46:06Z</dcterms:modified>
  <cp:revision>20</cp:revision>
  <dc:subject/>
  <dc:title>Как подготовиться психологичес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