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16.png" ContentType="image/png"/>
  <Override PartName="/ppt/media/image13.gif" ContentType="image/gif"/>
  <Override PartName="/ppt/media/image4.jpeg" ContentType="image/jpeg"/>
  <Override PartName="/ppt/media/image8.gif" ContentType="image/gif"/>
  <Override PartName="/ppt/media/image2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9.jpeg" ContentType="image/jpeg"/>
  <Override PartName="/ppt/media/image11.png" ContentType="image/png"/>
  <Override PartName="/ppt/media/image9.gif" ContentType="image/gif"/>
  <Override PartName="/ppt/media/image10.gif" ContentType="image/gif"/>
  <Override PartName="/ppt/media/image30.jpeg" ContentType="image/jpeg"/>
  <Override PartName="/ppt/media/image12.png" ContentType="image/png"/>
  <Override PartName="/ppt/media/image3.gif" ContentType="image/gif"/>
  <Override PartName="/ppt/media/image2.jpeg" ContentType="image/jpeg"/>
  <Override PartName="/ppt/media/image1.png" ContentType="image/png"/>
  <Override PartName="/ppt/media/image21.gif" ContentType="image/gif"/>
  <Override PartName="/ppt/media/image14.gif" ContentType="image/gif"/>
  <Override PartName="/ppt/media/image17.gif" ContentType="image/gif"/>
  <Override PartName="/ppt/media/image20.gif" ContentType="image/gif"/>
  <Override PartName="/ppt/media/image24.gif" ContentType="image/gif"/>
  <Override PartName="/ppt/media/image6.jpeg" ContentType="image/jpeg"/>
  <Override PartName="/ppt/media/image25.gif" ContentType="image/gif"/>
  <Override PartName="/ppt/media/image29.jpeg" ContentType="image/jpeg"/>
  <Override PartName="/ppt/media/image23.wmf" ContentType="image/x-wmf"/>
  <Override PartName="/ppt/media/image2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470-0AC3-42C1-BF06-3E9DBFAB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3E8-0957-4581-BF9A-0AC3254F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95E-F62D-41BF-9718-FD890C3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43E-787E-48DA-B004-8345520B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1E5B-9FC2-4B25-848F-C8D0AB02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69A-6EB3-430A-9D64-C7F2D14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C9F9-4013-4BF8-8500-CB640E4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B5A-A58D-4591-9EB2-18D7EBFC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ED2F-6DD1-440B-A431-52755FE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1F51-9A8E-4DDE-B482-5A325D5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72B-40C6-45F2-8A02-2580B7A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FFF-6470-4F40-AFA8-0C6481F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E846-95F0-4279-8DF5-13EDCC9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0D3-DB46-4D10-A295-DDCBC11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E801-C025-4FDD-8433-61408D5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934A-3CCA-475D-BBAE-0B5B2191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128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1920" y="23623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00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7128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741920" y="522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D235-0554-4865-B0CE-C0ACCDE4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91F-09D0-4B96-B7A2-66EDB94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413-5FE3-4F0A-91FA-9D84B49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D70-9D4A-42CC-B14C-C57F69A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00280" y="5331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FAD-3D6E-46AB-8E8E-BC02767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E67-214B-4544-9306-2090DE3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7200" y="522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9CD-0106-4D45-B56C-6111805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028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200" y="23623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00280" y="522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AAD-309C-4E5C-A110-203D6BF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6694560" cy="8991000"/>
            <a:chOff x="0" y="68400"/>
            <a:chExt cx="6694560" cy="8991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694560" cy="8991000"/>
              <a:chOff x="0" y="68400"/>
              <a:chExt cx="6694560" cy="8991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96720" y="269640"/>
                <a:ext cx="6297840" cy="862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68400"/>
                <a:ext cx="885960" cy="57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447840" y="5506920"/>
                <a:ext cx="780840" cy="60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5630760"/>
                <a:ext cx="885960" cy="3428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861840" y="2058840"/>
              <a:ext cx="5807160" cy="6400440"/>
              <a:chOff x="861840" y="2058840"/>
              <a:chExt cx="5807160" cy="640044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861840" y="205884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861840" y="2363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861840" y="2667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861840" y="2972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861840" y="3277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861840" y="3582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861840" y="3887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861840" y="41922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861840" y="44967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861840" y="48016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861840" y="51066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861840" y="54111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861840" y="57160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861840" y="60210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861840" y="63255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861840" y="66304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861840" y="69354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861840" y="72399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861840" y="75448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61840" y="784980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861840" y="815436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861840" y="8459280"/>
                <a:ext cx="58071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781200" y="8210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2629080" y="82101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5200200" y="8210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0BC-C2B0-42BF-8EC2-9A9F288056A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6720" y="268200"/>
            <a:ext cx="6297840" cy="862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68400"/>
            <a:ext cx="8859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47840" y="5506920"/>
            <a:ext cx="780840" cy="609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5630760"/>
            <a:ext cx="8859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0028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838080" y="81529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520" y="81529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5257800" y="8152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962-68D7-4046-B017-3A1C9761445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g.ru/img/content/2/51/19/ekzam.gif&amp;imgrefurl=http://www.rg.ru/2004/04/30/repetitory.html&amp;h=250&amp;w=185&amp;sz=34&amp;hl=ru&amp;start=5&amp;tbnid=5Ea8qbBrWKizLM:&amp;tbnh=111&amp;tbnw=82&amp;prev=/images%3Fq%3D%25D1%258D%25D0%25BA%25D0%25B7%25D0%25B0%25D0%25BC%25D0%25B5%25D0%25BD%25D1%258B%26svnum%3D10%26hl%3Dru%26lr%3D%26sa%3D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pim.ru/i/son/horosh-son.jpg&amp;imgrefurl=http://spim.ru/info/page_903_40.html&amp;h=283&amp;w=400&amp;sz=14&amp;hl=ru&amp;start=2&amp;tbnid=R0LbVZfKUFVYiM:&amp;tbnh=88&amp;tbnw=124&amp;prev=/images%3Fq%3D%25D1%2581%25D0%25BE%25D0%25BD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ady-x.ru/beauty/secret/img/013-2.jpg&amp;imgrefurl=http://lady-x.ru/beauty/secret/013.html&amp;h=319&amp;w=213&amp;sz=17&amp;hl=ru&amp;start=3&amp;tbnid=KPr3akd_14tMZM:&amp;tbnh=118&amp;tbnw=79&amp;prev=/images%3Fq%3D%2B%25D0%25B7%25D0%25B0%25D1%2580%25D1%258F%25D0%25B4%25D0%25BA%25D0%25B0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ru/imgres?imgurl=http://school-2013.msk.ru/pic/school-ege.jpg&amp;imgrefurl=http://school-2013.msk.ru/school-ege.html&amp;h=230&amp;w=200&amp;sz=11&amp;hl=ru&amp;start=2&amp;tbnid=fytMxQz0Ecwt1M:&amp;tbnh=108&amp;tbnw=94&amp;prev=/images%3Fq%3D%25D1%258D%25D0%25BA%25D0%25B7%25D0%25B0%25D0%25BC%25D0%25B5%25D0%25BD%26svnum%3D10%26hl%3Dru%26lr%3D%26newwindow%3D1%26sa%3D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images.newsru.com/pict/id/large/863759_20060620090056.gif&amp;imgrefurl=http://www.newsru.com/pict/big/863759.html&amp;h=240&amp;w=320&amp;sz=17&amp;hl=ru&amp;start=8&amp;tbnid=ukdFmcT23YnloM:&amp;tbnh=89&amp;tbnw=118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u/imgres?imgurl=http://foto.mail.ru/mail/minaiev_a/_blogs/i-2.jpg&amp;imgrefurl=http://blogs.mail.ru/mail/kuzia1981/47805B88B6B46DFC.html&amp;h=500&amp;w=403&amp;sz=27&amp;hl=ru&amp;start=17&amp;tbnid=NmGw-NVC3TON6M:&amp;tbnh=130&amp;tbnw=105&amp;prev=/images%3Fq%3D%25D0%25BF%25D0%25BE%25D0%25B4%25D0%25B3%25D0%25BE%25D1%2582%25D0%25BE%25D0%25B2%25D0%25BA%25D0%25B0%2B%25D0%25BA%2B%25D1%258D%25D0%25BA%25D0%25B7%25D0%25B0%25D0%25BC%25D0%25B5%25D0%25BD%25D0%25B0%25D0%25BC%26svnum%3D10%26hl%3Dru%26lr%3D%26newwindow%3D1%26sa%3D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pperplate Gothic Bold"/>
              </a:rPr>
              <a:t>Как подготовиться психологически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0280" y="2361960"/>
            <a:ext cx="44114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 готовиться к экзаменам заранее, понемногу, по частям, сохраняя споко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трудно собраться с мыслями, постарайтесь запомнить сначала самое лёгкое, а потом переходи к изучению труд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выполняй упражнения, способствующие снятию внутреннего напряжения, усталости, достижению расслаб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books"/>
          <p:cNvPicPr/>
          <p:nvPr/>
        </p:nvPicPr>
        <p:blipFill>
          <a:blip r:embed="rId4"/>
          <a:stretch/>
        </p:blipFill>
        <p:spPr>
          <a:xfrm>
            <a:off x="5265720" y="4476600"/>
            <a:ext cx="1257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28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29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99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еред сном хорошо совершить прогул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тром, перед экзаменом не вредно просто перелистать учеб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48"/>
          <p:cNvPicPr/>
          <p:nvPr/>
        </p:nvPicPr>
        <p:blipFill>
          <a:blip r:embed="rId1"/>
          <a:stretch/>
        </p:blipFill>
        <p:spPr>
          <a:xfrm>
            <a:off x="3357720" y="2916360"/>
            <a:ext cx="154620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ученик"/>
          <p:cNvPicPr/>
          <p:nvPr/>
        </p:nvPicPr>
        <p:blipFill>
          <a:blip r:embed="rId2"/>
          <a:stretch/>
        </p:blipFill>
        <p:spPr>
          <a:xfrm>
            <a:off x="2673360" y="6383160"/>
            <a:ext cx="12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50"/>
                            </p:stCondLst>
                            <p:childTnLst>
                              <p:par>
                                <p:cTn id="35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50"/>
                            </p:stCondLst>
                            <p:childTnLst>
                              <p:par>
                                <p:cTn id="3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37920" y="2266920"/>
            <a:ext cx="356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попался вопрос, по которому вы можете сказать 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падайте в панику, а сразу начните записывать все, что слышали по этому по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оцессе написания вы, возможно, сможете вспомнить что-нибудь из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ekz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9400" y="3035160"/>
            <a:ext cx="119700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2str3"/>
          <p:cNvPicPr/>
          <p:nvPr/>
        </p:nvPicPr>
        <p:blipFill>
          <a:blip r:embed="rId3"/>
          <a:stretch/>
        </p:blipFill>
        <p:spPr>
          <a:xfrm>
            <a:off x="836640" y="2071800"/>
            <a:ext cx="57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93720" y="2362320"/>
            <a:ext cx="334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а полуслове забыли о чем говор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жде всего, не следует «терять голов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йте спокойствие, хотя бы внеш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е последнюю фразу, а потом попробуйте перефразировать свою мыс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2str3"/>
          <p:cNvPicPr/>
          <p:nvPr/>
        </p:nvPicPr>
        <p:blipFill>
          <a:blip r:embed="rId1"/>
          <a:stretch/>
        </p:blipFill>
        <p:spPr>
          <a:xfrm>
            <a:off x="944640" y="2266920"/>
            <a:ext cx="593640" cy="804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allcolor"/>
          <p:cNvPicPr/>
          <p:nvPr/>
        </p:nvPicPr>
        <p:blipFill>
          <a:blip r:embed="rId2"/>
          <a:stretch/>
        </p:blipFill>
        <p:spPr>
          <a:xfrm>
            <a:off x="1646280" y="399564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ballcolor"/>
          <p:cNvPicPr/>
          <p:nvPr/>
        </p:nvPicPr>
        <p:blipFill>
          <a:blip r:embed="rId3"/>
          <a:stretch/>
        </p:blipFill>
        <p:spPr>
          <a:xfrm>
            <a:off x="1646280" y="485928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allcolor"/>
          <p:cNvPicPr/>
          <p:nvPr/>
        </p:nvPicPr>
        <p:blipFill>
          <a:blip r:embed="rId4"/>
          <a:stretch/>
        </p:blipFill>
        <p:spPr>
          <a:xfrm>
            <a:off x="1646280" y="5722920"/>
            <a:ext cx="201600" cy="3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010"/>
          <p:cNvPicPr/>
          <p:nvPr/>
        </p:nvPicPr>
        <p:blipFill>
          <a:blip r:embed="rId5"/>
          <a:stretch/>
        </p:blipFill>
        <p:spPr>
          <a:xfrm>
            <a:off x="4888080" y="5821200"/>
            <a:ext cx="17827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2280" y="1979280"/>
            <a:ext cx="28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ас не слуш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спринимайте это на свой счет, просто продолжайте свой ответ, как если бы вы этого не замет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83000" y="1979280"/>
            <a:ext cx="3146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вы оговорились, все стали см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ейтесь вместе со всеми и вс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2str3"/>
          <p:cNvPicPr/>
          <p:nvPr/>
        </p:nvPicPr>
        <p:blipFill>
          <a:blip r:embed="rId1"/>
          <a:stretch/>
        </p:blipFill>
        <p:spPr>
          <a:xfrm>
            <a:off x="728640" y="1789200"/>
            <a:ext cx="519120" cy="48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mg_0182"/>
          <p:cNvPicPr/>
          <p:nvPr/>
        </p:nvPicPr>
        <p:blipFill>
          <a:blip r:embed="rId2"/>
          <a:stretch/>
        </p:blipFill>
        <p:spPr>
          <a:xfrm>
            <a:off x="4238640" y="5148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2str3"/>
          <p:cNvPicPr/>
          <p:nvPr/>
        </p:nvPicPr>
        <p:blipFill>
          <a:blip r:embed="rId3"/>
          <a:stretch/>
        </p:blipFill>
        <p:spPr>
          <a:xfrm>
            <a:off x="3591000" y="1789200"/>
            <a:ext cx="4856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21920" y="2362320"/>
            <a:ext cx="4915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экзаменатор в резкой и неприятной форме перебивает в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лекитесь от этого, ни в коем случае не показывайте, что разозли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е эффективное – сохраните чувство собственного достоинства и держитесь 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2str3"/>
          <p:cNvPicPr/>
          <p:nvPr/>
        </p:nvPicPr>
        <p:blipFill>
          <a:blip r:embed="rId1"/>
          <a:stretch/>
        </p:blipFill>
        <p:spPr>
          <a:xfrm>
            <a:off x="728640" y="2459160"/>
            <a:ext cx="485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85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ДЕЛАТЬ ЕСЛИ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4" descr="2str3"/>
          <p:cNvPicPr/>
          <p:nvPr/>
        </p:nvPicPr>
        <p:blipFill>
          <a:blip r:embed="rId1"/>
          <a:stretch/>
        </p:blipFill>
        <p:spPr>
          <a:xfrm>
            <a:off x="836640" y="1884240"/>
            <a:ext cx="466560" cy="482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60640" y="2076480"/>
            <a:ext cx="523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ы ошиб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ы знаете как исправить ошибку, сделайте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ашу ошибку никто не заметил, продолжайте свой ответ без испр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ам снизили оцен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ступайте в спор и не доказывайте (преподаватель всегда может «засадить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итесь к экзаменатору: «Простите, спросите меня еще дополните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2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25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500"/>
                            </p:stCondLst>
                            <p:childTnLst>
                              <p:par>
                                <p:cTn id="5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7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8" dur="25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Режим дн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2076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orosh-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94080" y="6299280"/>
            <a:ext cx="1619280" cy="20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13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65720" y="635040"/>
            <a:ext cx="1266840" cy="336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school-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7920" y="2484360"/>
            <a:ext cx="1243080" cy="2833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4"/>
          <p:cNvSpPr/>
          <p:nvPr/>
        </p:nvSpPr>
        <p:spPr>
          <a:xfrm>
            <a:off x="1646280" y="5916600"/>
            <a:ext cx="2052720" cy="2495520"/>
          </a:xfrm>
          <a:prstGeom prst="cloudCallout">
            <a:avLst>
              <a:gd name="adj1" fmla="val 73953"/>
              <a:gd name="adj2" fmla="val 194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 не менее 8 часов. Есть желание – сделай тихий час после об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2349360" y="1789200"/>
            <a:ext cx="2159280" cy="2206440"/>
          </a:xfrm>
          <a:prstGeom prst="cloudCallout">
            <a:avLst>
              <a:gd name="adj1" fmla="val -55810"/>
              <a:gd name="adj2" fmla="val 4453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к экзаменам – 8 часов в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3213000" y="3611520"/>
            <a:ext cx="2160720" cy="2400480"/>
          </a:xfrm>
          <a:prstGeom prst="cloudCallout">
            <a:avLst>
              <a:gd name="adj1" fmla="val 68083"/>
              <a:gd name="adj2" fmla="val -2531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йся спортом, гуляй на свежем воздухе – 8 ча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ит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5450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должно быть 3-4-х разовым, калорийным и богатым витами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Употребля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очные прод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ко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foo-apple_drink"/>
          <p:cNvPicPr/>
          <p:nvPr/>
        </p:nvPicPr>
        <p:blipFill>
          <a:blip r:embed="rId1"/>
          <a:stretch/>
        </p:blipFill>
        <p:spPr>
          <a:xfrm>
            <a:off x="1808280" y="444600"/>
            <a:ext cx="6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gif018"/>
          <p:cNvPicPr/>
          <p:nvPr/>
        </p:nvPicPr>
        <p:blipFill>
          <a:blip r:embed="rId2"/>
          <a:stretch/>
        </p:blipFill>
        <p:spPr>
          <a:xfrm>
            <a:off x="4888080" y="3898800"/>
            <a:ext cx="1125360" cy="246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1"/>
          <p:cNvPicPr/>
          <p:nvPr/>
        </p:nvPicPr>
        <p:blipFill>
          <a:blip r:embed="rId3"/>
          <a:stretch/>
        </p:blipFill>
        <p:spPr>
          <a:xfrm>
            <a:off x="944640" y="5916600"/>
            <a:ext cx="1225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250" autoRev="1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250" autoRev="1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ланирова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32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лане на каждый день определите, что именно сегодня необходимо изуч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е в какое время Вы наиболее работоспособны, и в зависимости от этого, загружайте  утренние или вечерн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Условия поддержания работоспособ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2750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довать умственный и физический тру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имнастических упражнениях предпочтение следует отдавать кувырку, стойке на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усиливается приток крови к клеткам моз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ум телевизионных пере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чь глаза, делать перерыв каждые 20-30 ми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13"/>
          <p:cNvPicPr/>
          <p:nvPr/>
        </p:nvPicPr>
        <p:blipFill>
          <a:blip r:embed="rId5"/>
          <a:stretch/>
        </p:blipFill>
        <p:spPr>
          <a:xfrm>
            <a:off x="2889360" y="7067520"/>
            <a:ext cx="928440" cy="1397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if024"/>
          <p:cNvPicPr/>
          <p:nvPr/>
        </p:nvPicPr>
        <p:blipFill>
          <a:blip r:embed="rId6"/>
          <a:stretch/>
        </p:blipFill>
        <p:spPr>
          <a:xfrm>
            <a:off x="1322280" y="6877080"/>
            <a:ext cx="80352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01"/>
          <p:cNvPicPr/>
          <p:nvPr/>
        </p:nvPicPr>
        <p:blipFill>
          <a:blip r:embed="rId7"/>
          <a:stretch/>
        </p:blipFill>
        <p:spPr>
          <a:xfrm>
            <a:off x="4726080" y="7164360"/>
            <a:ext cx="720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екоторые закономерности запомин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6640" y="2361960"/>
            <a:ext cx="55087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й отрывок учить полезнее, чем короткое изр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поминается то, что поня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учить с перерывами, чем подряд, лучше понемногу, чем ср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Лучше тратить время на повторение по памяти, чем на простое многократное ч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ботаешь с двумя материалами – большим и поменьше, разумно начинать с боль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книга"/>
          <p:cNvPicPr/>
          <p:nvPr/>
        </p:nvPicPr>
        <p:blipFill>
          <a:blip r:embed="rId6"/>
          <a:stretch/>
        </p:blipFill>
        <p:spPr>
          <a:xfrm>
            <a:off x="2781360" y="7259760"/>
            <a:ext cx="10890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543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день перед экзаменом оставляется, чтобы вновь повторить все планы ответов, а перед устным экзаменом – пересказать их кому-нибудь или самому себе перед зерка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863759_20060620090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99000" y="5313240"/>
            <a:ext cx="143820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-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6160" y="5702400"/>
            <a:ext cx="12747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9920" y="236232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редставить ситуацию экзамена во всех красках, со всеми чувствами, переживаниями, страшными мыслями, так как хотелось бы, чтобы все произошло при успешной сдаче экза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25"/>
          <p:cNvPicPr/>
          <p:nvPr/>
        </p:nvPicPr>
        <p:blipFill>
          <a:blip r:embed="rId1"/>
          <a:stretch/>
        </p:blipFill>
        <p:spPr>
          <a:xfrm>
            <a:off x="4091040" y="2940120"/>
            <a:ext cx="1731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НАКАНУНЕ ЭКЗАМ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79720" y="2747880"/>
            <a:ext cx="316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чень страшно, можно использовать прием «доведение до абсурда», где представляются все са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шные  и немыслимые  подробности и ужасающие послед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е предельное усиление страха приводит человека к мысли, что бояться , в сущности, неч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gif012"/>
          <p:cNvPicPr/>
          <p:nvPr/>
        </p:nvPicPr>
        <p:blipFill>
          <a:blip r:embed="rId1"/>
          <a:stretch/>
        </p:blipFill>
        <p:spPr>
          <a:xfrm>
            <a:off x="728640" y="5435640"/>
            <a:ext cx="1344600" cy="264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31"/>
          <p:cNvPicPr/>
          <p:nvPr/>
        </p:nvPicPr>
        <p:blipFill>
          <a:blip r:embed="rId2"/>
          <a:stretch/>
        </p:blipFill>
        <p:spPr>
          <a:xfrm>
            <a:off x="5157720" y="2363760"/>
            <a:ext cx="1403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9"/>
          <p:cNvGraphicFramePr/>
          <p:nvPr/>
        </p:nvGraphicFramePr>
        <p:xfrm>
          <a:off x="4888080" y="1211400"/>
          <a:ext cx="2857320" cy="26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080" y="1211400"/>
                    <a:ext cx="285732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79829E-006 C -0.00487 0.02799 -0.00712 0.03932 0.00677 0.05552 C 0.01597 0.06639 0.00989 0.06292 0.01683 0.06593 C 0.02673 0.07587 0.02222 0.07333 0.02916 0.07634 C 0.03437 0.08721 0.02725 0.07402 0.04045 0.08698 C 0.05208 0.09831 0.06475 0.09785 0.07864 0.10039 C 0.08541 0.10363 0.09166 0.10502 0.09895 0.10641 C 0.10225 0.1078 0.10555 0.10941 0.10902 0.1108 C 0.21649 0.09438 0.15902 0.10803 0.41128 0.10941 C 0.51024 0.10803 0.48975 0.12006 0.53263 0.10479 C 0.54427 0.09484 0.56562 0.1034 0.57986 0.10479 C 0.58402 0.10433 0.58819 0.10479 0.59218 0.1034 C 0.59548 0.10224 0.59808 0.09901 0.60121 0.09739 C 0.60798 0.09368 0.61302 0.09276 0.62031 0.09137 C 0.62864 0.0879 0.63663 0.08096 0.64496 0.07634 C 0.64791 0.07472 0.65104 0.07333 0.65399 0.07194 C 0.65503 0.07148 0.65729 0.07055 0.65729 0.07055 C 0.66232 0.06384 0.66475 0.05667 0.66857 0.0495 C 0.67569 0.03632 0.68541 0.02591 0.69218 0.01203 C 0.69357 -0.00463 0.69652 -0.02359 0.70225 -0.03886 C 0.70173 -0.05552 0.70312 -0.08004 0.69548 -0.09577 C 0.69409 -0.10386 0.68993 -0.11358 0.68541 -0.11959 C 0.68229 -0.13162 0.68211 -0.14388 0.68645 -0.15568 C 0.68749 -0.16516 0.68524 -0.17974 0.69218 -0.18251 C 0.70069 -0.19385 0.70937 -0.20611 0.71579 -0.21999 C 0.7177 -0.22392 0.71944 -0.22808 0.72135 -0.23201 C 0.72308 -0.23572 0.7269 -0.24242 0.7269 -0.24242 E">
                                      <p:cBhvr>
                                        <p:cTn id="308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51:17Z</dcterms:created>
  <dc:creator>NewUser</dc:creator>
  <dc:description/>
  <dc:language>en-US</dc:language>
  <cp:lastModifiedBy>НАТАША</cp:lastModifiedBy>
  <dcterms:modified xsi:type="dcterms:W3CDTF">2018-01-11T10:46:06Z</dcterms:modified>
  <cp:revision>20</cp:revision>
  <dc:subject/>
  <dc:title>Как подготовиться психологичес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