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gif" ContentType="image/gi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7BA-6186-4CF1-9893-8948A5E8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B96C-4186-4E67-92E5-1505873A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399-5A0F-429C-ACBD-40D192999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07F-220B-402E-A29B-CDB9F93B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2A64-66C3-40DB-AF1A-B5F3EAE3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AC31-563E-41D6-84EE-58918D7C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452-BFBA-4F13-93F0-BDEF8CCE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98C7-A9B6-482D-B2E4-B70A5EF2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E897-58BF-4D94-931A-0BB009C3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DC3E8-4122-47C2-9FB8-F76A4651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62476-3250-42A4-A9AA-F80B769A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A21-2928-4D8A-A6E3-DFE6F8D8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E991-9CF9-4560-A34F-1A6E8568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B5A0-4728-41DA-B2BA-8A64DA32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CA9D-3C76-4255-9D97-E7FFAB7B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4206-D3EB-420E-819C-4BB4A2D4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779B-89BB-49B4-AD63-F90EA5456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9D4-1E28-4B9D-A75B-9171D59F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96E-20BF-433A-9316-1E02B05F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A44-C233-4325-B2C1-0247D96C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0045-B47C-4AB8-8034-CA8740ED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4FE0-818A-43D0-8C03-8FFCD92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5A49-D093-4020-A30E-710ADD4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14DD-F8C2-4CDB-BB59-ABFCD945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9F68-41C7-44BD-92B0-33F6EB9F054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F4FA-197C-45FC-8537-3CE9D35551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рограмма действий. Алгоритм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 flipH="1">
            <a:off x="4495680" y="2743200"/>
            <a:ext cx="3348000" cy="334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Найди значения выражений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3962160"/>
            <a:ext cx="7313400" cy="19810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432+215  О            351+427   Т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987-456   Г             467-346    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728+53    М            524+67     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Verdana"/>
              </a:rPr>
              <a:t>368+120  Л             527+144   Р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474920"/>
            <a:ext cx="3016080" cy="2334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Расположи в порядке возрастани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9360">
            <a:solidFill>
              <a:srgbClr val="cc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Verdana"/>
              </a:rPr>
              <a:t>121 488 531 647 671 691 778 781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r>
              <a:rPr b="0" lang="en-US" sz="3600" spc="-1" strike="noStrike">
                <a:solidFill>
                  <a:srgbClr val="ff5050"/>
                </a:solidFill>
                <a:latin typeface="Verdana"/>
              </a:rPr>
              <a:t>А    Л     Г    О     Р    И     Т   М</a:t>
            </a:r>
            <a:r>
              <a:rPr b="0" lang="en-US" sz="3600" spc="-1" strike="noStrike">
                <a:solidFill>
                  <a:srgbClr val="cc00ff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3276720"/>
            <a:ext cx="45720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i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003480" cy="3124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Составь программу заваривания ча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Ополосну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629400" y="5181480"/>
            <a:ext cx="1836720" cy="1430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Вскипятить вод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риготовить заварку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Сполоснуть кипятком заварной чайник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сыпать в чайник заварк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Залить кипятком заварной чайник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Накрыть чайник специальной грелко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ffffcc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99"/>
                </a:solidFill>
                <a:latin typeface="Verdana"/>
              </a:rPr>
              <a:t>Подождать до полного заваривания 5 минут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629400" y="4800600"/>
            <a:ext cx="19810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Реши задачи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На завтрак Водяной съедает 25 пиявок, а за обедом на 20 больш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пиявок он съедает за обед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25 +20 = 45 (п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 45 пиявок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Утром Змей Горыныч выпивает 32 л чудотворной воды, а вечером 47 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Verdana"/>
              </a:rPr>
              <a:t>Сколько литров выпивает Змей Горыныч утром и вечером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32 + 47 = 59 (л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Ответ:59 литров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В каком порядке выполняются обратные операции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Довольны ли вы своей работой на уроке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133720" y="228600"/>
            <a:ext cx="500040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работу!</a:t>
            </a:r>
            <a:endParaRPr b="0" lang="en-US" sz="1800" spc="1" strike="noStrike">
              <a:ln w="12600">
                <a:solidFill>
                  <a:srgbClr val="ffff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3276720"/>
            <a:ext cx="2206800" cy="3038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Выполни дом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 14.№4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ff33"/>
                </a:solidFill>
                <a:latin typeface="Verdana"/>
              </a:rPr>
              <a:t>С.15.№9 (по выбор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71600" y="3075120"/>
            <a:ext cx="6400800" cy="21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-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тебя всё получится!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4602240"/>
            <a:ext cx="2211120" cy="159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4-27T20:36:3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