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F03-58AC-4807-9FEF-9051CEE9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EFB-0C02-44DC-9E4B-13A5CB82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4D3-CBF7-4B2F-A3F3-D97202F6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256-ED72-4E81-8ECB-2CBFB661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B159-9D8E-4CE1-A2AF-28997BD5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A657-5600-45C4-A7B7-D52ABDE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1E30-FF70-4DA0-8D63-5D152CEC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F450-1291-42DF-814F-C3CB4D85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EB33-E493-43A7-BAB3-EEFB220A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228B-EFE2-42C4-A263-3C72C52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387D-6749-4EE1-91F8-473F4E2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286-B2C7-42D3-BC98-ECB47642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FE84-026E-4EFD-9591-FC09B0AF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46FD-2F62-48BF-92C2-6198335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452-D303-4119-8466-346B964B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B62C-DBBF-453E-91F2-5DB33C0F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2FFD-FDE0-4142-9795-6B7C805E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EDB-00F1-4962-8CE5-D68CE63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3E2-9670-4162-A344-4BB084DD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E94-D865-4C4E-A002-CCA7C811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F3D-B6FE-49C1-8E55-830A468C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83A-8185-4B41-8E9B-D2ED5B9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CB6-463A-4D7C-9FF0-368FE7AF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FEF-E550-4DAB-9372-678A276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F11-8011-43A7-8675-C8E819F534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140B-C0CE-4489-A0CF-C40CEAC988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ограмма действий. Алгоритм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flipH="1">
            <a:off x="4495680" y="274320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Найди значения выражений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3962160"/>
            <a:ext cx="73134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432+215  О            351+427   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987-456   Г             467-346    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728+53    М            524+67     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368+120  Л             527+144   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474920"/>
            <a:ext cx="3016080" cy="2334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Расположи в порядке возраст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1148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121 488 531 647 671 691 778 78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5050"/>
                </a:solidFill>
                <a:latin typeface="Verdana"/>
              </a:rPr>
              <a:t>А    Л     Г    О     Р    И     Т   М</a:t>
            </a:r>
            <a:r>
              <a:rPr b="0" lang="en-US" sz="3600" spc="-1" strike="noStrike">
                <a:solidFill>
                  <a:srgbClr val="cc00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3276720"/>
            <a:ext cx="4572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003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Составь программу заваривания ча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лить кипятком заварной чайни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Вскипятить вод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Накрыть чайник специальной грелко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Ополоснуть кипятком заварной чайни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сыпать в чайник завар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одождать до полного заваривания 5 мину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риготовить завар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5181480"/>
            <a:ext cx="183672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Вскипятить вод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риготовить завар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Сполоснуть кипятком заварной чайник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сыпать в чайник заварк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лить кипятком заварной чайни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Накрыть чайник специальной грелко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одождать до полного заваривания 5 мину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29400" y="4800600"/>
            <a:ext cx="198108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еши задач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На завтрак Водяной съедает 25 пиявок, а за обедом на 20 больш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Сколько пиявок он съедает за обедом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25 +20 = 45 (п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Ответ: 45 пияво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Утром Змей Горыныч выпивает 32 л чудотворной воды, а вечером 47 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Сколько литров выпивает Змей Горыныч утром и вечером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32 + 47 = 59 (л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Ответ:59 литр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В каком порядке выполняются обратные операци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Довольны ли вы своей работой на урок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33720" y="228600"/>
            <a:ext cx="50004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220680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Выполни дом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ff33"/>
                </a:solidFill>
                <a:latin typeface="Verdana"/>
              </a:rPr>
              <a:t>С. 14.№4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ff33"/>
                </a:solidFill>
                <a:latin typeface="Verdana"/>
              </a:rPr>
              <a:t>С.15.№9 (по выбору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075120"/>
            <a:ext cx="6400800" cy="21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тебя всё получится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4602240"/>
            <a:ext cx="2211120" cy="1590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4-27T20:36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