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9CB-A5ED-4D46-AAEF-70F5C0A1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3B3-2F66-4BA3-8475-CC1A18E3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EFD-684F-49A6-A04A-DC7A4970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0E3-69FA-4774-A2F6-149EEBAC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00E-D66F-4BB4-A49F-7D67DDE4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E674-19B3-4948-872C-58949BE1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215F-80B6-4DB0-B499-09CA016B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0E38-FF0F-4148-95E0-7DCB277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EB3-79FC-4790-85DE-68080A85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9C9B-DC65-44BD-AADC-5E43B466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F16E-BD74-4AB1-ADF3-85C7874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C9D-4167-46D5-BCE3-56E5BBF7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9C93-6963-4D6D-B6B0-8DD761C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3E8-E489-41F9-A3E5-AC47912F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253-6040-485B-BB12-3C8D2A40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367D-4773-4E04-B602-EC234282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A197-6F5F-4C0B-827B-6C5D09E9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FF7-1708-426B-944A-1DAF50B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A3B-6703-4934-8EDF-E942CF6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05D-AA76-4878-9584-993B3CB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D26-D750-4337-A22C-64D4FF0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595-A006-4078-94D9-39228B1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ABC-1D70-45DA-9AA1-30CCBBC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45D-6761-434D-B7DD-3C10F74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D93A-489A-4A4B-8A3E-20ED745283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88C-D08C-470A-900C-9045653162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грамма действий. Алгорит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>
            <a:off x="4495680" y="27432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Найди значения выражений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3962160"/>
            <a:ext cx="73134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432+215  О            351+427   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987-456   Г             467-346    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728+53    М            524+67     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368+120  Л             527+144   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474920"/>
            <a:ext cx="3016080" cy="233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сположи в порядке возраст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121 488 531 647 671 691 778 78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5050"/>
                </a:solidFill>
                <a:latin typeface="Verdana"/>
              </a:rPr>
              <a:t>А    Л     Г    О     Р    И     Т   М</a:t>
            </a: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3276720"/>
            <a:ext cx="4572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003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ставь программу заваривания ча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Ополосну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83672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Сполоснуть кипятком заварной чайник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9810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 задач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На завтрак Водяной съедает 25 пиявок, а за обедом на 20 больш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пиявок он съедает за обед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25 +20 = 45 (п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 45 пияв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Утром Змей Горыныч выпивает 32 л чудотворной воды, а вечером 47 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литров выпивает Змей Горыныч утром и вечер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32 + 47 = 59 (л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59 литр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В каком порядке выполняются обратные операци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Довольны ли вы своей работой на урок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3720" y="228600"/>
            <a:ext cx="50004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20680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ыполни до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 14.№4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15.№9 (по выбор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075120"/>
            <a:ext cx="640080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тебя всё получится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4602240"/>
            <a:ext cx="2211120" cy="159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27T20:36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