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AFC-3490-480E-9ED6-C78912D6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98D-29D3-4C78-99BF-C9670D9C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352-3979-479B-8143-6F2782B0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CF55-FD2F-4A06-8D0F-07AF8C54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BE40-6EA3-4D19-9E5C-3E7AA900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563-B99E-4198-9411-6AA66EBC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F8C-9D9B-4B51-8F48-A4F8D821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11D-F62F-4F9D-AABA-547BBCA5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E3E-70C1-4AB8-933E-8DD17609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23E-22F5-48C6-A3F1-8AB7F854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73F-8EC0-4741-8C82-259EFAF2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AD6-9B53-4D34-AC2D-366592DD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4e1"/>
            </a:gs>
            <a:gs pos="100000">
              <a:srgbClr val="e6e8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CF1C-D6F9-450B-BF1E-42C70A5EB1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4" descr="Девиз Олимпиады Сочи 2014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60483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900000" y="4221000"/>
            <a:ext cx="5472360" cy="2087640"/>
          </a:xfrm>
          <a:prstGeom prst="rect">
            <a:avLst/>
          </a:prstGeom>
          <a:solidFill>
            <a:srgbClr val="007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торина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Олимпийский эруд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6 "А"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. руко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.А.Тозля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аркие.Зимние.Твои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10 февраля 2014 года в МБОУ СОШ 4 города Белореченска в рамках акции «Россия, вперёд!», в целях поддержки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XXII Олимпийских зимних игр и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XI Паралимпийских игр 2014 года в городе Соч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В  6 «А» классе (классный руководитель Н.А. Тозлян) проведена викторина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лимпийский эрудит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Логотип Олимпиады 2014 в Сочи"/>
          <p:cNvPicPr/>
          <p:nvPr/>
        </p:nvPicPr>
        <p:blipFill>
          <a:blip r:embed="rId1"/>
          <a:stretch/>
        </p:blipFill>
        <p:spPr>
          <a:xfrm>
            <a:off x="395280" y="404640"/>
            <a:ext cx="1655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Users\Mantazh\Desktop\ОТчёт ежедневный\Урок\6 а класссссс\20140207_111100.jpg"/>
          <p:cNvPicPr/>
          <p:nvPr/>
        </p:nvPicPr>
        <p:blipFill>
          <a:blip r:embed="rId1"/>
          <a:stretch/>
        </p:blipFill>
        <p:spPr>
          <a:xfrm>
            <a:off x="468360" y="549360"/>
            <a:ext cx="8280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Mantazh\Desktop\ОТчёт ежедневный\с 8 по 14\6 а.jpg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Mantazh\Desktop\ОТчёт ежедневный\с 8 по 14\20140207_112639.jpg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1:28:26Z</dcterms:created>
  <dc:creator>1</dc:creator>
  <dc:description/>
  <dc:language>en-US</dc:language>
  <cp:lastModifiedBy>Admin</cp:lastModifiedBy>
  <dcterms:modified xsi:type="dcterms:W3CDTF">2014-02-10T19:26:43Z</dcterms:modified>
  <cp:revision>40</cp:revision>
  <dc:subject/>
  <dc:title>Слайд 1</dc:title>
</cp:coreProperties>
</file>