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8E68-B5A3-4219-B5F2-6576E05DB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EE34-79C2-4C98-B9DD-6329335D5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0EA5-A91A-41B5-A3F8-87F5B51E8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8489-DD1A-4451-B608-CA0EC824A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06AE-593C-4CBD-80D8-40522B9FE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EC0C-8DCE-43C4-9E07-21D906FA6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625D-A934-4694-84CD-11DA2F527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5A95-7AD8-4338-821F-1C25E6B96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EB83-3E33-4A9C-A840-85FB26EB5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1335-E099-44C7-B01E-5269888C8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DCD4-C627-4B00-A3DE-1B7854AF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6977-9B18-44AA-B4F3-85D0A4F3C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4e1"/>
            </a:gs>
            <a:gs pos="100000">
              <a:srgbClr val="e6e8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9AF4B-CA1A-4DFB-B3E4-5B68C0BCA3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Содержимое 4" descr="Девиз Олимпиады Сочи 2014"/>
          <p:cNvPicPr/>
          <p:nvPr/>
        </p:nvPicPr>
        <p:blipFill>
          <a:blip r:embed="rId1"/>
          <a:stretch/>
        </p:blipFill>
        <p:spPr>
          <a:xfrm>
            <a:off x="468360" y="476280"/>
            <a:ext cx="8207280" cy="604836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2"/>
          <p:cNvSpPr/>
          <p:nvPr/>
        </p:nvSpPr>
        <p:spPr>
          <a:xfrm>
            <a:off x="900000" y="4221000"/>
            <a:ext cx="5472360" cy="2087640"/>
          </a:xfrm>
          <a:prstGeom prst="rect">
            <a:avLst/>
          </a:prstGeom>
          <a:solidFill>
            <a:srgbClr val="007f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кторина </a:t>
            </a:r>
            <a:br>
              <a:rPr sz="2800"/>
            </a:b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«Олимпийский эруди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6 "А" клас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. руководи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.А.Тозля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Жаркие.Зимние.Твои»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3300" spc="-1" strike="noStrike">
                <a:solidFill>
                  <a:srgbClr val="000000"/>
                </a:solidFill>
                <a:latin typeface="Calibri"/>
              </a:rPr>
              <a:t>10 февраля 2014 года в МБОУ СОШ 4 города Белореченска в рамках акции «Россия, вперёд!», в целях поддержки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ru-RU" sz="3300" spc="-1" strike="noStrike">
                <a:solidFill>
                  <a:srgbClr val="000000"/>
                </a:solidFill>
                <a:latin typeface="Calibri"/>
              </a:rPr>
              <a:t>XXII Олимпийских зимних игр и 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ru-RU" sz="3300" spc="-1" strike="noStrike">
                <a:solidFill>
                  <a:srgbClr val="000000"/>
                </a:solidFill>
                <a:latin typeface="Calibri"/>
              </a:rPr>
              <a:t>XI Паралимпийских игр 2014 года в городе Сочи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ru-RU" sz="3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3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300" spc="-1" strike="noStrike">
                <a:solidFill>
                  <a:srgbClr val="000000"/>
                </a:solidFill>
                <a:latin typeface="Calibri"/>
              </a:rPr>
              <a:t>В  6 «А» классе (классный руководитель Н.А. Тозлян) проведена викторина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лимпийский эрудит»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Логотип Олимпиады 2014 в Сочи"/>
          <p:cNvPicPr/>
          <p:nvPr/>
        </p:nvPicPr>
        <p:blipFill>
          <a:blip r:embed="rId1"/>
          <a:stretch/>
        </p:blipFill>
        <p:spPr>
          <a:xfrm>
            <a:off x="395280" y="404640"/>
            <a:ext cx="165564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C:\Users\Mantazh\Desktop\ОТчёт ежедневный\Урок\6 а класссссс\20140207_111100.jpg"/>
          <p:cNvPicPr/>
          <p:nvPr/>
        </p:nvPicPr>
        <p:blipFill>
          <a:blip r:embed="rId1"/>
          <a:stretch/>
        </p:blipFill>
        <p:spPr>
          <a:xfrm>
            <a:off x="468360" y="549360"/>
            <a:ext cx="828036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Users\Mantazh\Desktop\ОТчёт ежедневный\с 8 по 14\6 а.jpg"/>
          <p:cNvPicPr/>
          <p:nvPr/>
        </p:nvPicPr>
        <p:blipFill>
          <a:blip r:embed="rId1"/>
          <a:stretch/>
        </p:blipFill>
        <p:spPr>
          <a:xfrm>
            <a:off x="468360" y="404640"/>
            <a:ext cx="8207280" cy="60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Mantazh\Desktop\ОТчёт ежедневный\с 8 по 14\20140207_112639.jpg"/>
          <p:cNvPicPr/>
          <p:nvPr/>
        </p:nvPicPr>
        <p:blipFill>
          <a:blip r:embed="rId1"/>
          <a:stretch/>
        </p:blipFill>
        <p:spPr>
          <a:xfrm>
            <a:off x="539640" y="333360"/>
            <a:ext cx="806472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3T11:28:26Z</dcterms:created>
  <dc:creator>1</dc:creator>
  <dc:description/>
  <dc:language>en-US</dc:language>
  <cp:lastModifiedBy>Admin</cp:lastModifiedBy>
  <dcterms:modified xsi:type="dcterms:W3CDTF">2014-02-10T19:26:43Z</dcterms:modified>
  <cp:revision>40</cp:revision>
  <dc:subject/>
  <dc:title>Слайд 1</dc:title>
</cp:coreProperties>
</file>