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AD3-ECDA-4A0C-9E3A-B9D3E7BD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C48-7A5F-4500-8AA7-D88FA6D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994-855B-4C5B-A363-8DDC1BAA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F4F-0338-47F4-BBAA-30D17CFF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511-21DF-43B1-8CE6-B26625E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4D1-5284-4456-AE2B-9604BF6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53A-8B3D-4465-8AD6-82D8FF09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706-0915-4FF0-92DB-24EF88B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9E9-EAAD-49F2-A7F2-5DEDB8E0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FDB-A789-4B98-9A89-8C39F520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0D-4021-42DE-B961-FFEDD0F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109-4B62-4F7C-99E0-0502235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F2D-8624-44F7-AD40-BC47C6C2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981000"/>
            <a:ext cx="684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рифметический способ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я задач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смеси и сплав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ких пропорциях нужно смешать растворы а %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 кислот, чтобы получить раствор с % кисло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1811160"/>
                <a:gridCol w="2664000"/>
                <a:gridCol w="1871640"/>
                <a:gridCol w="1882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раствора (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кислоты (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771640" y="2995560"/>
            <a:ext cx="1649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4076640"/>
            <a:ext cx="2003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5300640"/>
            <a:ext cx="942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995560"/>
            <a:ext cx="588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4148280"/>
            <a:ext cx="153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5300640"/>
            <a:ext cx="129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 +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3068640"/>
            <a:ext cx="1765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4148280"/>
            <a:ext cx="153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0" y="5300640"/>
            <a:ext cx="25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(x + 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ставим и решим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х + у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+ 0,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(х + у)= ах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x – ax = by – c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( c –a) = y( b – 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: y = ( b – c):( c – 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          b 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        c –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% раствора кислоты –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– c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вора кислоты – (с – а) ч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40000" y="4724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522936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724280"/>
            <a:ext cx="136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635280" y="479700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700360" y="472428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55166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2017800" cy="215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08720" y="333360"/>
            <a:ext cx="185076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35280" y="191628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400536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пропорциях нужно сплавить золото 375 пробы с золотом 750 пробы, чтобы получить золото 500 проб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ких пропорциях нужн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лавить золото 375 пробы с золотом 750 пробы, чтобы получить золото 500 проб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5                 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                   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0                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обы получить золото 500 пробы нужно взя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части золота 375 пробы и 1 часть золота750 про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43280" y="2636640"/>
            <a:ext cx="1008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89360"/>
            <a:ext cx="93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2636640"/>
            <a:ext cx="1944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637000"/>
            <a:ext cx="19429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647120" cy="3225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59280" y="407664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378936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ская вода содержит 5 % соли по массе. Сколько пресной воды нужно добавить к 30 кг морской воды, чтобы концентрация соли составляла 1,5 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ская вода содержит 5 % соли по массе. Скольк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сной воды нужно добавить к 30 кг морской воды, чтобы концентрация соли составляла 1,5 %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                3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                  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взять 7 частей пресной воды  и 3 части морской воды. По услов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ой воды 30 кг и это 3 части, а 7 частей пресной воды – это 7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56536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78936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270828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492280"/>
            <a:ext cx="208764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819000"/>
            <a:ext cx="80755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азывается концентрацией вещества в сме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центрация вещества в смеси – это часть, которую составляет масса вещества в смеси от массы сме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нтрация = масса ве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сса 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центрация раствора 3 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содержит 1,5 % ж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е кольцо имеет 585 проб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сахара содержится в 200 г 10%- го сахарного сироп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514600" cy="359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480" y="1762200"/>
            <a:ext cx="408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7733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одной части сахара прибавили 4 части воды. Какова концентрация полученного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024360" cy="424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105264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илограмм соли растворили в 9 литрах воды. Какова концентрация раств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119" t="37536" r="81775" b="42886"/>
          <a:stretch/>
        </p:blipFill>
        <p:spPr>
          <a:xfrm>
            <a:off x="539640" y="907920"/>
            <a:ext cx="1511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7726" t="30380" r="62665" b="42861"/>
          <a:stretch/>
        </p:blipFill>
        <p:spPr>
          <a:xfrm>
            <a:off x="6659640" y="189000"/>
            <a:ext cx="1944720" cy="2476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335772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их пропорциях нужно смешать раствор 50 % и 70 % кислоты, чтобы получить раствор 65 % кисл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141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55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44916" t="37351" r="34742" b="31807"/>
          <a:stretch/>
        </p:blipFill>
        <p:spPr>
          <a:xfrm>
            <a:off x="3348000" y="62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360" y="1916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аких пропорциях нужн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шать раствор 50 % и 70 % кислоты, чтобы получить раствор 65 % кислоты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1738440"/>
                <a:gridCol w="2592360"/>
                <a:gridCol w="1841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раствора ( г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кислоты     ( г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843280" y="3429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306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820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9440" y="422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213000"/>
            <a:ext cx="9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42210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537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х + 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32130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34000" y="85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22100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65 (х + 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м и решим у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65 (х + у) = 0,5 х + 0,7 у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5х +65у = 50х + 70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65 х – 50 х = 70 у – 65 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х = 5 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х = 1 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=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з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часть раствора 50% кисло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асти раствора 70%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50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твора кислоты-1 часть, 70% раствора кислоты-3 ча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задачи арифметическим спосо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5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87640" y="2492280"/>
            <a:ext cx="1584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3716280"/>
            <a:ext cx="165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19640" y="2492280"/>
            <a:ext cx="1513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42100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756360" y="4941720"/>
            <a:ext cx="1429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35280" y="263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436572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05:01Z</dcterms:created>
  <dc:creator>марипупс</dc:creator>
  <dc:description/>
  <dc:language>en-US</dc:language>
  <cp:lastModifiedBy>марипупс</cp:lastModifiedBy>
  <dcterms:modified xsi:type="dcterms:W3CDTF">2007-01-28T17:12:01Z</dcterms:modified>
  <cp:revision>11</cp:revision>
  <dc:subject/>
  <dc:title>Слайд 1</dc:title>
</cp:coreProperties>
</file>