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452-3C1D-4E60-86F2-B0C87CF8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D6B-5C7A-49FE-8BB4-2FE529FD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44C-0378-4C43-BD5C-D7F4F311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0FA-B1E2-4782-B551-D7EC8C91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9A5-60FB-4692-935E-2AE07EC7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06B-2BFA-46DB-90E3-F4B387C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B8B-AC63-4664-9191-2D38BCC9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971-8F3E-4C3B-AC40-B8B482D6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37C-D450-4597-99A0-AA3808A9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54D-F5E3-47F3-8E74-C8E63F1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71A-E454-4C04-B9CA-D20B80E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B3F-BE24-40B8-B36A-80DB32A9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165E-F5DF-4F44-B6CA-BD37033A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981000"/>
            <a:ext cx="684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рифметический способ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я задач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смеси и сплав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ких пропорциях нужно смешать растворы а %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 кислот, чтобы получить раствор с % кисло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1811160"/>
                <a:gridCol w="2664000"/>
                <a:gridCol w="1871640"/>
                <a:gridCol w="1882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раствора (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кислоты (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771640" y="2995560"/>
            <a:ext cx="1649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4076640"/>
            <a:ext cx="2003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5300640"/>
            <a:ext cx="942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995560"/>
            <a:ext cx="588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4148280"/>
            <a:ext cx="153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5300640"/>
            <a:ext cx="129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 +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3068640"/>
            <a:ext cx="1765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0,0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4148280"/>
            <a:ext cx="153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0,0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·b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04000" y="5300640"/>
            <a:ext cx="25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(x + 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ставим и решим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х + у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+ 0,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(х + у)= ах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x – ax = by – c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( c –a) = y( b – 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: y = ( b – c):( c – a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           b 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     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        c –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% раствора кислоты –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– c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вора кислоты – (с – а) ч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340000" y="472428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522936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724280"/>
            <a:ext cx="1368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635280" y="479700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700360" y="472428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551664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2017800" cy="215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08720" y="333360"/>
            <a:ext cx="185076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635280" y="191628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3280" y="400536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пропорциях нужно сплавить золото 375 пробы с золотом 750 пробы, чтобы получить золото 500 проб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ких пропорциях нужн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лавить золото 375 пробы с золотом 750 пробы, чтобы получить золото 500 проб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5                 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                             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0                 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тобы получить золото 500 пробы нужно взя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части золота 375 пробы и 1 часть золота750 про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43280" y="2636640"/>
            <a:ext cx="1008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3789360"/>
            <a:ext cx="934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00720" y="2636640"/>
            <a:ext cx="1944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637000"/>
            <a:ext cx="194292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647120" cy="3225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59280" y="407664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378936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рская вода содержит 5 % соли по массе. Сколько пресной воды нужно добавить к 30 кг морской воды, чтобы концентрация соли составляла 1,5 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ская вода содержит 5 % соли по массе. Скольк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сной воды нужно добавить к 30 кг морской воды, чтобы концентрация соли составляла 1,5 %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                 3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                  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взять 7 частей пресной воды  и 3 части морской воды. По услов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ой воды 30 кг и это 3 части, а 7 частей пресной воды – это 7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256536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78936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270828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492280"/>
            <a:ext cx="208764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819000"/>
            <a:ext cx="80755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азывается концентрацией вещества в сме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центрация вещества в смеси – это часть, которую составляет масса вещества в смеси от массы сме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нтрация = масса ве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сса с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зна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центрация раствора 3 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 содержит 1,5 % ж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ое кольцо имеет 585 проб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сахара содержится в 200 г 10%- го сахарного сироп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514600" cy="359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480" y="1762200"/>
            <a:ext cx="408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77336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одной части сахара прибавили 4 части воды. Какова концентрация полученного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024360" cy="424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1052640"/>
            <a:ext cx="49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илограмм соли растворили в 9 литрах воды. Какова концентрация раств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119" t="37536" r="81775" b="42886"/>
          <a:stretch/>
        </p:blipFill>
        <p:spPr>
          <a:xfrm>
            <a:off x="539640" y="907920"/>
            <a:ext cx="151128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7726" t="30380" r="62665" b="42861"/>
          <a:stretch/>
        </p:blipFill>
        <p:spPr>
          <a:xfrm>
            <a:off x="6659640" y="189000"/>
            <a:ext cx="1944720" cy="2476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335772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ких пропорциях нужно смешать раствор 50 % и 70 % кислоты, чтобы получить раствор 65 % кисл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141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55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44916" t="37351" r="34742" b="31807"/>
          <a:stretch/>
        </p:blipFill>
        <p:spPr>
          <a:xfrm>
            <a:off x="3348000" y="62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40360" y="1916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аких пропорциях нужн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шать раствор 50 % и 70 % кислоты, чтобы получить раствор 65 % кислоты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1738440"/>
                <a:gridCol w="2592360"/>
                <a:gridCol w="1841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раствора ( г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кислоты     ( г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843280" y="3429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306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820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9440" y="422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54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213000"/>
            <a:ext cx="9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42210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537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х + 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32130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5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34000" y="85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22100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7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65 (х + 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м и решим урав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65 (х + у) = 0,5 х + 0,7 у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5х +65у = 50х + 70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65 х – 50 х = 70 у – 65 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х = 5 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х = 1 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 =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взя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часть раствора 50% кислот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асти раствора 70%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50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твора кислоты-1 часть, 70% раствора кислоты-3 ча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задачи арифметическим способ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5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      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87640" y="2492280"/>
            <a:ext cx="1584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3716280"/>
            <a:ext cx="1655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19640" y="2492280"/>
            <a:ext cx="1513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42100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756360" y="4941720"/>
            <a:ext cx="1429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35280" y="2636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436572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8:05:01Z</dcterms:created>
  <dc:creator>марипупс</dc:creator>
  <dc:description/>
  <dc:language>en-US</dc:language>
  <cp:lastModifiedBy>марипупс</cp:lastModifiedBy>
  <dcterms:modified xsi:type="dcterms:W3CDTF">2007-01-28T17:12:01Z</dcterms:modified>
  <cp:revision>11</cp:revision>
  <dc:subject/>
  <dc:title>Слайд 1</dc:title>
</cp:coreProperties>
</file>