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1BC-112E-4A23-8CF5-30E237CC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D1A-4986-43C6-B662-897D050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055-CB17-4776-BE5A-3653628C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64B-1689-4766-B10F-A8457278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FA9-5342-4BE8-9587-1F36D84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B83-FB54-4ACC-A1CE-2BCB5021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E45-A568-4237-9006-55FF03E5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040-DEDB-4AE4-80A0-CEC216AC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D88-FA75-4AAF-BB3A-8DE5D7B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C6B-3A24-432D-8C58-60FB7079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A8F-F266-4B2A-AF97-255B687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1C7-BC1D-48AF-A2CF-2D14911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828-E0F5-4AE4-9992-6A16382A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&#1057;&#1054;&#1044;&#1045;&#1056;&#1046;&#1040;&#1053;&#1048;&#1045;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844640"/>
            <a:ext cx="691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металл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067280" y="6093000"/>
            <a:ext cx="792000" cy="288720"/>
          </a:xfrm>
          <a:custGeom>
            <a:avLst/>
            <a:gdLst>
              <a:gd name="textAreaLeft" fmla="*/ 105840 w 792000"/>
              <a:gd name="textAreaRight" fmla="*/ 686160 w 792000"/>
              <a:gd name="textAreaTop" fmla="*/ 50400 h 288720"/>
              <a:gd name="textAreaBottom" fmla="*/ 209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61657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ный фос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17360"/>
            <a:ext cx="871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сфор был открыт в 1669 году в Гамбурге алхимиком Хеннигом Бран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1688 году другой ученый, Б. Альбинус, получил фосфор из золы водяного кресса и белой горчицы; в 1771 году фосфор упоминается в качестве компонента костей животных ученым К. Шее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Л. Лавуазье был первым, кто признал, что фосфор является химическим элемен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 Р, образованный от латинского назва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phosphorou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был введен Йенсом Берцелиу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177804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63752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 Я.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лерод (уг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27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856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нство неметаллов нерастворимы или малорастворимы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381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6381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6308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 не смачивается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5252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небольшая группа встречающих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ироде элементов, называемы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алло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о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 – 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мний – 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маний – 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 – 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лур – 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ьма –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обладают промежуточными между металлами и неметаллами свойствами. В одних условиях они проявляют свойства, характерные для металлов, в других – для не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простые вещества деля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металлы и неметал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ы неметаллов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з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метал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химические элементы, которые образуют простые вещества, не обладающие свойствами, характерными для 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еметаллов характерны небольшие радиусы атомов и большое число внешних электронов. Поэтому они с трудом отдают свои валентные электроны и чаще принимают недостающие до завершения внешнего уровня электроны, проявляя свойства окисл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20976" r="0" b="0"/>
          <a:stretch/>
        </p:blipFill>
        <p:spPr>
          <a:xfrm>
            <a:off x="2700360" y="2997360"/>
            <a:ext cx="640872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-27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80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, водород – пример газообразных бесцветных не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95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 и фтор – окрашенные газообразные неме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6021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створении хлора в воде получае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6021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м – жидкость красно-бур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909" t="0" r="0" b="0"/>
          <a:stretch/>
        </p:blipFill>
        <p:spPr>
          <a:xfrm>
            <a:off x="1763640" y="549360"/>
            <a:ext cx="532764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15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60" y="606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створении брома в воде получается бром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96120" cy="511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нство неметаллов имею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ёрдое агрегатн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237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 – кристаллическое вещество жёл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0:51:36Z</dcterms:created>
  <dc:creator>Наталья</dc:creator>
  <dc:description/>
  <dc:language>en-US</dc:language>
  <cp:lastModifiedBy>Оля</cp:lastModifiedBy>
  <dcterms:modified xsi:type="dcterms:W3CDTF">2009-09-14T06:47:59Z</dcterms:modified>
  <cp:revision>15</cp:revision>
  <dc:subject/>
  <dc:title>Слайд 1</dc:title>
</cp:coreProperties>
</file>