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0B0-7949-4ECC-AEF0-67124DD8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B47-E06E-408C-A39C-F4A5CADA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E83-C456-445A-AAB2-FA856F8D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2A2-B3CF-4604-BEE8-69D8CAC3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1978-D8A4-4CBE-94FC-F5109123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012-34D8-4E4A-9B06-42166960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FD9-E417-4339-AD42-FA4F4315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692-62AB-40EB-9D47-F8F76A89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7FCB-20EC-408F-93BA-706F32F7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F2C-512B-4ECB-96EC-B2650812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586-04D1-489F-B569-7598C62E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875-A950-477B-8671-EDE81ADD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5ECD-DD77-4DB0-8D74-3B1A2A7A9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&#1057;&#1054;&#1044;&#1045;&#1056;&#1046;&#1040;&#1053;&#1048;&#1045;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1844640"/>
            <a:ext cx="6913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металлы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4067280" y="6093000"/>
            <a:ext cx="792000" cy="288720"/>
          </a:xfrm>
          <a:custGeom>
            <a:avLst/>
            <a:gdLst>
              <a:gd name="textAreaLeft" fmla="*/ 105840 w 792000"/>
              <a:gd name="textAreaRight" fmla="*/ 686160 w 792000"/>
              <a:gd name="textAreaTop" fmla="*/ 50400 h 288720"/>
              <a:gd name="textAreaBottom" fmla="*/ 209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333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61657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асный фосф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117360"/>
            <a:ext cx="871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сфор был открыт в 1669 году в Гамбурге алхимиком Хеннигом Бранд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1688 году другой ученый, Б. Альбинус, получил фосфор из золы водяного кресса и белой горчицы; в 1771 году фосфор упоминается в качестве компонента костей животных ученым К. Шее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. Л. Лавуазье был первым, кто признал, что фосфор является химическим элемен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мвол Р, образованный от латинского названи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phosphorous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 был введен Йенсом Берцелиус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08360" y="3716280"/>
            <a:ext cx="1778040" cy="2590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35280" y="63752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. Я. Берцел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333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6237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лерод (уго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0270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856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инство неметаллов нерастворимы или малорастворимы в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6381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о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63817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сф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1280" y="6308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а не смачивается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452520"/>
            <a:ext cx="84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ет небольшая группа встречающихс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ироде элементов, называемых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аллои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ои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 – 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мний – 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маний – 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ьяк – 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лур – 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ьма – S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обладают промежуточными между металлами и неметаллами свойствами. В одних условиях они проявляют свойства, характерные для металлов, в других – для немет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260280"/>
            <a:ext cx="8642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 простые вещества делятся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металлы и неметал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ы неметаллов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р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лор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зо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сф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лер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л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еметалл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это химические элементы, которые образуют простые вещества, не обладающие свойствами, характерными для мет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476280"/>
            <a:ext cx="83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неметаллов характерны небольшие радиусы атомов и большое число внешних электронов. Поэтому они с трудом отдают свои валентные электроны и чаще принимают недостающие до завершения внешнего уровня электроны, проявляя свойства окисл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20976" r="0" b="0"/>
          <a:stretch/>
        </p:blipFill>
        <p:spPr>
          <a:xfrm>
            <a:off x="2700360" y="2997360"/>
            <a:ext cx="6408720" cy="3798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-27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5805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лород, водород – пример газообразных бесцветных немет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89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59500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лор и фтор – окрашенные газообразные неметал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6021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растворении хлора в воде получается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лорная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2602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6021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ом – жидкость красно-бур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5909" t="0" r="0" b="0"/>
          <a:stretch/>
        </p:blipFill>
        <p:spPr>
          <a:xfrm>
            <a:off x="1763640" y="549360"/>
            <a:ext cx="5327640" cy="47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159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360" y="6067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растворении брома в воде получается бромная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5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396120" cy="5113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инство неметаллов имею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ёрдое агрегатное состоя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6237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а – кристаллическое вещество жёлт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0:51:36Z</dcterms:created>
  <dc:creator>Наталья</dc:creator>
  <dc:description/>
  <dc:language>en-US</dc:language>
  <cp:lastModifiedBy>Оля</cp:lastModifiedBy>
  <dcterms:modified xsi:type="dcterms:W3CDTF">2009-09-14T06:47:59Z</dcterms:modified>
  <cp:revision>15</cp:revision>
  <dc:subject/>
  <dc:title>Слайд 1</dc:title>
</cp:coreProperties>
</file>