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E6FE-42D8-4B86-B527-C971EC954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0F7D-88BB-4DA7-85BD-2F9A9B31C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CE2A-2065-479E-BA94-EDA70F52D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2603-3AE6-4D86-8650-288C8209C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76E0-3680-4DBB-9A20-EF121A37C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1CA5-9EBA-46C8-B0B6-3DF688039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CE06-E155-43E1-A92E-B17DB69EC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42BE-0935-43AF-A61E-5C3FA785E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165F-7F08-496F-B199-ADDACBAA7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A045-7CE9-4100-959A-5A474768F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EA0F-21F0-44F3-BD93-91D7219F4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2679-2083-443A-9FA8-8228FCA44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e5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294ED-854A-44DD-A2E6-229EB407A3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../&#1057;&#1054;&#1044;&#1045;&#1056;&#1046;&#1040;&#1053;&#1048;&#1045;.ppt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e5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116000" y="1844640"/>
            <a:ext cx="691344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еметаллы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" name="">
            <a:hlinkClick r:id="rId1"/>
          </p:cNvPr>
          <p:cNvSpPr/>
          <p:nvPr/>
        </p:nvSpPr>
        <p:spPr>
          <a:xfrm>
            <a:off x="4067280" y="6093000"/>
            <a:ext cx="792000" cy="288720"/>
          </a:xfrm>
          <a:custGeom>
            <a:avLst/>
            <a:gdLst>
              <a:gd name="textAreaLeft" fmla="*/ 105840 w 792000"/>
              <a:gd name="textAreaRight" fmla="*/ 686160 w 792000"/>
              <a:gd name="textAreaTop" fmla="*/ 50400 h 288720"/>
              <a:gd name="textAreaBottom" fmla="*/ 20952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e5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762120" y="33336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39640" y="6165720"/>
            <a:ext cx="842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расный фосф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e5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79280" y="117360"/>
            <a:ext cx="87138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Фосфор был открыт в 1669 году в Гамбурге алхимиком Хеннигом Брандо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 1688 году другой ученый, Б. Альбинус, получил фосфор из золы водяного кресса и белой горчицы; в 1771 году фосфор упоминается в качестве компонента костей животных ученым К. Шеел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А. Л. Лавуазье был первым, кто признал, что фосфор является химическим элементо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Символ Р, образованный от латинского названия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phosphorous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, был введен Йенсом Берцелиусо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708360" y="3716280"/>
            <a:ext cx="1778040" cy="25909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635280" y="637524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Е. Я. Берцелиу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e5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762120" y="33336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24000" y="6237360"/>
            <a:ext cx="84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глерод (уголь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e5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762120" y="10270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50920" y="85680"/>
            <a:ext cx="871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ольшинство неметаллов нерастворимы или малорастворимы в вод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580000" y="638172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гол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e5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84360" y="6381720"/>
            <a:ext cx="79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Фосф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e5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611280" y="6308640"/>
            <a:ext cx="79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ера не смачивается вод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e5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24000" y="452520"/>
            <a:ext cx="8497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уществует небольшая группа встречающихся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природе элементов, называемых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металлоид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таллоид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ор – В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ремний – Si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ерманий – G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ышьяк – A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ллур – Т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урьма – S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ни обладают промежуточными между металлами и неметаллами свойствами. В одних условиях они проявляют свойства, характерные для металлов, в других – для неметалл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e5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50920" y="260280"/>
            <a:ext cx="864216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се простые вещества делятся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 металлы и неметалл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Примеры неметаллов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одород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ислород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зо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ер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фосфор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глерод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од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ро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хло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Неметалл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это химические элементы, которые образуют простые вещества, не обладающие свойствами, характерными для металл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e5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95280" y="476280"/>
            <a:ext cx="835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ля неметаллов характерны небольшие радиусы атомов и большое число внешних электронов. Поэтому они с трудом отдают свои валентные электроны и чаще принимают недостающие до завершения внешнего уровня электроны, проявляя свойства окислител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rcRect l="0" t="20976" r="0" b="0"/>
          <a:stretch/>
        </p:blipFill>
        <p:spPr>
          <a:xfrm>
            <a:off x="2700360" y="2997360"/>
            <a:ext cx="6408720" cy="37987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e5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62120" y="-2700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95280" y="580536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ислород, водород – пример газообразных бесцветных неметалл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e5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62120" y="18900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24000" y="5950080"/>
            <a:ext cx="84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Хлор и фтор – окрашенные газообразные неметалл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e5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50920" y="6021360"/>
            <a:ext cx="871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и растворении хлора в воде получается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хлорная в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62120" y="2602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e5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50920" y="6021360"/>
            <a:ext cx="871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ром – жидкость красно-бурого цве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rcRect l="15909" t="0" r="0" b="0"/>
          <a:stretch/>
        </p:blipFill>
        <p:spPr>
          <a:xfrm>
            <a:off x="1763640" y="549360"/>
            <a:ext cx="5327640" cy="47527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e5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762120" y="11592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6360" y="60674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и растворении брома в воде получается бромная в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e5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403280" y="907920"/>
            <a:ext cx="6396120" cy="51134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50920" y="0"/>
            <a:ext cx="871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ольшинство неметаллов имеют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вёрдое агрегатное состоя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623736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ера – кристаллическое вещество жёлтого цве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8T10:51:36Z</dcterms:created>
  <dc:creator>Наталья</dc:creator>
  <dc:description/>
  <dc:language>en-US</dc:language>
  <cp:lastModifiedBy>Оля</cp:lastModifiedBy>
  <dcterms:modified xsi:type="dcterms:W3CDTF">2009-09-14T06:47:59Z</dcterms:modified>
  <cp:revision>15</cp:revision>
  <dc:subject/>
  <dc:title>Слайд 1</dc:title>
</cp:coreProperties>
</file>