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BDFC-2BF4-40EF-86E6-1BBEBC34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0F5E-0E48-49EA-9938-10DCC341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11AF-74F7-4F72-A4E2-0FCEF15D1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7206-22A5-4BAE-9166-316CC224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89E8-5BDA-49A3-B20F-D62A1620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48D7-C7E5-4B39-9E60-E436697E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EF2C-03D1-484D-9D2D-26FF9214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F8BD-00AC-4ED2-AE58-AA9F7232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8DF1-95A9-456B-A5DE-73F53B88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341F-FD50-432A-A037-3C86D809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C4FB-869B-4C3C-A380-8F29B254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7B52-83E6-4FC9-89E0-B366B9D1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295C-0E33-4CE1-9D5D-BB5BF31D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1639-E224-49BF-9D80-8EF97D59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F210-72C7-4134-827E-23CAC7C7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75F1-6362-463E-97EA-77579D329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BE1D-1082-4434-80F0-98BC9CB1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03356-4CA2-4F71-86EC-F85031C4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F7780-1AE8-4519-9606-6B6E2CB6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ED171-ABE8-494E-AD27-94479DB3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45B39-93B2-405E-A56C-C219743B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0AC28-61D1-4A78-B779-F01B8B14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85FB-04FC-4285-976B-05B1B15D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C6580-D862-4F98-9984-3E96F967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FF8A2-8301-4101-9E47-5D9E272D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3157F-1867-4659-9E14-F8F08732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D96B9-6673-4E11-BFE6-E097C28B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64449-80C2-4D35-9133-476013FB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83FB8-32B8-4180-AAE6-FC3D9913A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31D9F-67D4-46A7-A978-31DF4C089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6E722-98FF-410C-BE97-9570CD0EA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6A43C-ECFC-4022-9121-1DE08929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DBE72-B91E-492C-99D7-DFDAF2E5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AEEE-A9F0-4973-AA9B-2066C570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E0D72-58E0-4B70-8E76-EB88F772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91B7D-F398-48D8-ACC4-A7F99682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F944D-F05E-46B9-9A94-B7E3C49A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25533-8387-49AF-98C1-94AA1BCE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111D3-0E82-4CB8-B47B-C3E276DD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BEE9A-B621-4F9E-BFB0-1CA54FB7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F94D0-7B47-4513-9540-DB6327C1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2556F-114D-4C7B-8E63-00309117C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71824-3638-419C-9319-118D641C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3032-593A-4B3B-8CCC-717FF4E8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2694-2D84-4F56-AE68-0623321F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F2E7-0F05-400F-93A1-E029D03E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A9AB-D817-42F8-82F6-60486DFB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49C8-CA95-47E9-934E-6724DA62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50000">
              <a:srgbClr val="ffffff"/>
            </a:gs>
            <a:gs pos="100000">
              <a:srgbClr val="d9d9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D628-2341-4075-9057-6FB95E09D09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4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6239-320D-4DE1-834B-71C5AC50BD2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50000">
              <a:srgbClr val="ffffff"/>
            </a:gs>
            <a:gs pos="100000">
              <a:srgbClr val="d9d9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55A7-19EE-4E21-B76B-D28E2198CD2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32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C3AB-5527-4E07-A682-E2CA3CC9C56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5"/>
          <p:cNvSpPr txBox="1"/>
          <p:nvPr/>
        </p:nvSpPr>
        <p:spPr>
          <a:xfrm>
            <a:off x="684360" y="1384200"/>
            <a:ext cx="7920000" cy="21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оносахариды</a:t>
            </a:r>
            <a:endParaRPr b="0" lang="en-US" sz="4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3419640" y="3860640"/>
            <a:ext cx="5364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7240" y="306360"/>
            <a:ext cx="7769520" cy="76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            </a:t>
            </a:r>
            <a:r>
              <a:rPr b="1" lang="ru-RU" sz="4200" spc="-1" strike="noStrike">
                <a:solidFill>
                  <a:srgbClr val="3b812f"/>
                </a:solidFill>
                <a:latin typeface="Garamond"/>
              </a:rPr>
              <a:t>Моносахарид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глеводы, которые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е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идролизуют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личают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тетрозы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– атомов углерода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пентоз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атомов углерода 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ибоз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1" lang="ru-RU" sz="3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1" lang="ru-RU" sz="3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1" lang="ru-RU" sz="3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(РНК,   АТФ - ассимиляция и   диссимиляц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АДФ + Н</a:t>
            </a:r>
            <a:r>
              <a:rPr b="0" lang="ru-RU" sz="3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РО</a:t>
            </a:r>
            <a:r>
              <a:rPr b="0" lang="ru-RU" sz="3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+ 40 кДж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3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30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3000" spc="-1" strike="noStrike" baseline="-30000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АТФ + Н</a:t>
            </a:r>
            <a:r>
              <a:rPr b="0" lang="ru-RU" sz="3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lang="ru-RU" sz="3000" spc="-1" strike="noStrike" baseline="-30000">
                <a:solidFill>
                  <a:srgbClr val="000000"/>
                </a:solidFill>
                <a:latin typeface="Arial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baseline="-30000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езоксирибоза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1" lang="ru-RU" sz="3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1" lang="ru-RU" sz="3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1" lang="ru-RU" sz="3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(ДН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гексоз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атомов углерода 6 и т. 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05160" y="1371240"/>
            <a:ext cx="3352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4572000" y="40766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"/>
          <p:cNvSpPr/>
          <p:nvPr/>
        </p:nvSpPr>
        <p:spPr>
          <a:xfrm flipH="1">
            <a:off x="4495680" y="43052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8" descr="Эльфы.gif"/>
          <p:cNvPicPr/>
          <p:nvPr/>
        </p:nvPicPr>
        <p:blipFill>
          <a:blip r:embed="rId1"/>
          <a:stretch/>
        </p:blipFill>
        <p:spPr>
          <a:xfrm>
            <a:off x="0" y="0"/>
            <a:ext cx="811080" cy="10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00200" y="322200"/>
            <a:ext cx="775800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b812f"/>
                </a:solidFill>
                <a:latin typeface="Garamond"/>
              </a:rPr>
              <a:t>Глюкоза    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  <a:ea typeface="Times New Roman"/>
              </a:rPr>
              <a:t>С</a:t>
            </a:r>
            <a:r>
              <a:rPr b="1" lang="ru-RU" sz="4200" spc="-1" strike="noStrike" baseline="-30000">
                <a:solidFill>
                  <a:srgbClr val="006633"/>
                </a:solidFill>
                <a:latin typeface="Garamond"/>
                <a:ea typeface="Times New Roman"/>
              </a:rPr>
              <a:t>6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  <a:ea typeface="Times New Roman"/>
              </a:rPr>
              <a:t>Н</a:t>
            </a:r>
            <a:r>
              <a:rPr b="1" lang="ru-RU" sz="4200" spc="-1" strike="noStrike" baseline="-30000">
                <a:solidFill>
                  <a:srgbClr val="006633"/>
                </a:solidFill>
                <a:latin typeface="Garamond"/>
                <a:ea typeface="Times New Roman"/>
              </a:rPr>
              <a:t>12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  <a:ea typeface="Times New Roman"/>
              </a:rPr>
              <a:t>О</a:t>
            </a:r>
            <a:r>
              <a:rPr b="1" lang="ru-RU" sz="4200" spc="-1" strike="noStrike" baseline="-30000">
                <a:solidFill>
                  <a:srgbClr val="006633"/>
                </a:solidFill>
                <a:latin typeface="Garamond"/>
                <a:ea typeface="Times New Roman"/>
              </a:rPr>
              <a:t>6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33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6633"/>
                </a:solidFill>
                <a:latin typeface="Arial"/>
                <a:ea typeface="Times New Roman"/>
              </a:rPr>
              <a:t>•</a:t>
            </a:r>
            <a:r>
              <a:rPr b="1" lang="ru-RU" sz="2200" spc="-1" strike="noStrike">
                <a:solidFill>
                  <a:srgbClr val="006633"/>
                </a:solidFill>
                <a:latin typeface="Arial"/>
              </a:rPr>
              <a:t>структурное звено сахарозы, целлюлозы, крахма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6633"/>
                </a:solidFill>
                <a:latin typeface="Arial"/>
                <a:ea typeface="Times New Roman"/>
              </a:rPr>
              <a:t> •</a:t>
            </a:r>
            <a:r>
              <a:rPr b="1" lang="ru-RU" sz="2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6633"/>
                </a:solidFill>
                <a:latin typeface="Arial"/>
              </a:rPr>
              <a:t>в крови человека – 0,1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33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6633"/>
                </a:solidFill>
                <a:latin typeface="Arial"/>
                <a:ea typeface="Times New Roman"/>
              </a:rPr>
              <a:t>•</a:t>
            </a:r>
            <a:r>
              <a:rPr b="1" lang="ru-RU" sz="2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6633"/>
                </a:solidFill>
                <a:latin typeface="Arial"/>
              </a:rPr>
              <a:t>сладкий вкус, хорошо растворима в воде, белого цвета, кристаллическое веще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6633"/>
                </a:solidFill>
                <a:latin typeface="Arial"/>
                <a:ea typeface="Times New Roman"/>
              </a:rPr>
              <a:t>•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бразуется в процессе фотосинте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6СО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+ 6Н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 свет, хлорофил</a:t>
            </a:r>
            <a:r>
              <a:rPr b="1" lang="ru-RU" sz="2600" spc="-1" strike="noStrike" baseline="30000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600" spc="-1" strike="noStrike" baseline="30000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</a:t>
            </a:r>
            <a:r>
              <a:rPr b="1" lang="ru-RU" sz="2600" spc="-1" strike="noStrike" u="sng" baseline="-30000">
                <a:solidFill>
                  <a:srgbClr val="000000"/>
                </a:solidFill>
                <a:uFillTx/>
                <a:latin typeface="Arial"/>
                <a:ea typeface="Times New Roman"/>
              </a:rPr>
              <a:t>6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Н</a:t>
            </a:r>
            <a:r>
              <a:rPr b="1" lang="ru-RU" sz="2600" spc="-1" strike="noStrike" u="sng" baseline="-30000">
                <a:solidFill>
                  <a:srgbClr val="000000"/>
                </a:solidFill>
                <a:uFillTx/>
                <a:latin typeface="Arial"/>
                <a:ea typeface="Times New Roman"/>
              </a:rPr>
              <a:t>12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</a:t>
            </a:r>
            <a:r>
              <a:rPr b="1" lang="ru-RU" sz="2600" spc="-1" strike="noStrike" u="sng" baseline="-30000">
                <a:solidFill>
                  <a:srgbClr val="000000"/>
                </a:solidFill>
                <a:uFillTx/>
                <a:latin typeface="Arial"/>
                <a:ea typeface="Times New Roman"/>
              </a:rPr>
              <a:t>6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+ 6О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ликонденс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(полисахариды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6633"/>
                </a:solidFill>
                <a:latin typeface="Arial"/>
                <a:ea typeface="Times New Roman"/>
              </a:rPr>
              <a:t>•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иноградный саха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6633"/>
                </a:solidFill>
                <a:latin typeface="Arial"/>
                <a:ea typeface="Times New Roman"/>
              </a:rPr>
              <a:t>•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 химическому строению – альдегидоспирт              (двойственная функци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СН</a:t>
            </a:r>
            <a:r>
              <a:rPr b="1" lang="ru-RU" sz="31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ОН-(СНОН)</a:t>
            </a:r>
            <a:r>
              <a:rPr b="1" lang="ru-RU" sz="31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-С═О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Н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5"/>
          <p:cNvSpPr/>
          <p:nvPr/>
        </p:nvSpPr>
        <p:spPr>
          <a:xfrm>
            <a:off x="2590920" y="32767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4211640" y="5864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9"/>
          <p:cNvSpPr/>
          <p:nvPr/>
        </p:nvSpPr>
        <p:spPr>
          <a:xfrm>
            <a:off x="5562720" y="3886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" descr="Мышки1"/>
          <p:cNvPicPr/>
          <p:nvPr/>
        </p:nvPicPr>
        <p:blipFill>
          <a:blip r:embed="rId1"/>
          <a:stretch/>
        </p:blipFill>
        <p:spPr>
          <a:xfrm>
            <a:off x="7451640" y="5805360"/>
            <a:ext cx="1135080" cy="80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5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00200" y="387000"/>
            <a:ext cx="7758000" cy="59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b812f"/>
                </a:solidFill>
                <a:latin typeface="Garamond"/>
              </a:rPr>
              <a:t>Качественная реакция на глюкозу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взаимодействие со свежеполученным осадком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ru-RU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-(СНОН)</a:t>
            </a:r>
            <a:r>
              <a:rPr b="1" lang="ru-RU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═О + 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ru-RU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садок голубого цве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-(СНОН)</a:t>
            </a:r>
            <a:r>
              <a:rPr b="1" lang="ru-RU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1" lang="ru-RU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+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красный цвет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2) Реакция «серебряного зеркала»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-(СНОН)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═О 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-(СНОН)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                                  </a:t>
            </a:r>
            <a:r>
              <a:rPr b="1" lang="ru-RU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глюконовая кислота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"/>
          <p:cNvSpPr/>
          <p:nvPr/>
        </p:nvSpPr>
        <p:spPr>
          <a:xfrm>
            <a:off x="2771640" y="2060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"/>
          <p:cNvSpPr/>
          <p:nvPr/>
        </p:nvSpPr>
        <p:spPr>
          <a:xfrm>
            <a:off x="5219640" y="1916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324000" y="28526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4284720" y="486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8"/>
          <p:cNvSpPr/>
          <p:nvPr/>
        </p:nvSpPr>
        <p:spPr>
          <a:xfrm>
            <a:off x="2700360" y="49417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0" descr="Рисунок6"/>
          <p:cNvPicPr/>
          <p:nvPr/>
        </p:nvPicPr>
        <p:blipFill>
          <a:blip r:embed="rId1"/>
          <a:stretch/>
        </p:blipFill>
        <p:spPr>
          <a:xfrm>
            <a:off x="7885080" y="189000"/>
            <a:ext cx="851040" cy="12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00200" y="321840"/>
            <a:ext cx="7758000" cy="59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          </a:t>
            </a:r>
            <a:r>
              <a:rPr b="1" lang="ru-RU" sz="3400" spc="-1" strike="noStrike">
                <a:solidFill>
                  <a:srgbClr val="3b812f"/>
                </a:solidFill>
                <a:latin typeface="Garamond"/>
              </a:rPr>
              <a:t>Химические свойства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76360" y="1066680"/>
            <a:ext cx="8316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) Гидрирование (как альдеги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-(СНОН)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═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-(СНОН)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спирт сорби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 Реакции бр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молочнокислые бактерии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С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чная 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</a:rPr>
              <a:t>дрожжи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С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+ 2СО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ловый спир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4356000" y="1628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3276720" y="1773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2052720" y="328464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1979640" y="4508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9" descr="Думы"/>
          <p:cNvPicPr/>
          <p:nvPr/>
        </p:nvPicPr>
        <p:blipFill>
          <a:blip r:embed="rId1"/>
          <a:stretch/>
        </p:blipFill>
        <p:spPr>
          <a:xfrm>
            <a:off x="7667640" y="333360"/>
            <a:ext cx="569880" cy="59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3000" spc="-1" strike="noStrike">
                <a:solidFill>
                  <a:srgbClr val="3b812f"/>
                </a:solidFill>
                <a:latin typeface="Arial"/>
              </a:rPr>
              <a:t>Применение глюкоз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едицина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введение раствор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ырье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этиловый спирт, молочная кислот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ищевая промышленност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 сорбит – заменитель сахара при диабет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ондитерская промышленность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заменитель сахарозы, карамель, мармелад, помадк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3b812f"/>
                </a:solidFill>
                <a:latin typeface="Arial"/>
              </a:rPr>
              <a:t>Фруктоза – изомер глюкозы, кетоноспир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СН</a:t>
            </a:r>
            <a:r>
              <a:rPr b="1" lang="ru-RU" sz="2600" spc="-1" strike="noStrike" baseline="-30000">
                <a:solidFill>
                  <a:srgbClr val="006633"/>
                </a:solidFill>
                <a:latin typeface="Arial"/>
                <a:ea typeface="Times New Roman"/>
              </a:rPr>
              <a:t>2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ОН-(СНОН)</a:t>
            </a:r>
            <a:r>
              <a:rPr b="1" lang="ru-RU" sz="2600" spc="-1" strike="noStrike" baseline="-30000">
                <a:solidFill>
                  <a:srgbClr val="006633"/>
                </a:solidFill>
                <a:latin typeface="Arial"/>
                <a:ea typeface="Times New Roman"/>
              </a:rPr>
              <a:t>3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-С-СН</a:t>
            </a:r>
            <a:r>
              <a:rPr b="1" lang="ru-RU" sz="2600" spc="-1" strike="noStrike" baseline="-30000">
                <a:solidFill>
                  <a:srgbClr val="006633"/>
                </a:solidFill>
                <a:latin typeface="Arial"/>
                <a:ea typeface="Times New Roman"/>
              </a:rPr>
              <a:t>2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ОН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       фруктоз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                             </a:t>
            </a:r>
            <a:r>
              <a:rPr b="1" lang="he-IL" sz="2600" spc="-1" strike="noStrike">
                <a:solidFill>
                  <a:srgbClr val="006633"/>
                </a:solidFill>
                <a:latin typeface="Arial"/>
                <a:cs typeface="Times New Roman (Hebrew)"/>
              </a:rPr>
              <a:t>׀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                            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                                              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СН</a:t>
            </a:r>
            <a:r>
              <a:rPr b="1" lang="ru-RU" sz="2600" spc="-1" strike="noStrike" baseline="-30000">
                <a:solidFill>
                  <a:srgbClr val="006633"/>
                </a:solidFill>
                <a:latin typeface="Arial"/>
                <a:ea typeface="Times New Roman"/>
              </a:rPr>
              <a:t>2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ОН-(СНОН)</a:t>
            </a:r>
            <a:r>
              <a:rPr b="1" lang="ru-RU" sz="2600" spc="-1" strike="noStrike" baseline="-30000">
                <a:solidFill>
                  <a:srgbClr val="006633"/>
                </a:solidFill>
                <a:latin typeface="Arial"/>
                <a:ea typeface="Times New Roman"/>
              </a:rPr>
              <a:t>4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-С═О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   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                                 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               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глюкоза       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Н</a:t>
            </a:r>
            <a:r>
              <a:rPr b="1" lang="ru-RU" sz="2600" spc="-1" strike="noStrike">
                <a:solidFill>
                  <a:srgbClr val="3b812f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>
            <a:off x="7380360" y="5445000"/>
            <a:ext cx="0" cy="152640"/>
          </a:xfrm>
          <a:prstGeom prst="line">
            <a:avLst/>
          </a:prstGeom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 flipH="1">
            <a:off x="4500720" y="4221000"/>
            <a:ext cx="380880" cy="0"/>
          </a:xfrm>
          <a:prstGeom prst="line">
            <a:avLst/>
          </a:prstGeom>
          <a:ln w="936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Внимание (9)"/>
          <p:cNvPicPr/>
          <p:nvPr/>
        </p:nvPicPr>
        <p:blipFill>
          <a:blip r:embed="rId1"/>
          <a:stretch/>
        </p:blipFill>
        <p:spPr>
          <a:xfrm>
            <a:off x="755640" y="260280"/>
            <a:ext cx="719280" cy="5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58000" cy="5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b812f"/>
                </a:solidFill>
                <a:latin typeface="Garamond"/>
              </a:rPr>
              <a:t>Лабораторный опыт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1. В пробирку с 2-3 каплями раствора медного купороса прилейте 2-3 мл раствора щелочи. Что наблюдаете? Затем добавьте в пробирку 2 мл раствора глюкозы и смесь перемешайте. Что наблюдаете? О чем говорит этот опыт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2. Нагрейте содержимое пробирки. Что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наблюдаете?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О чем говорит этот опыт? Запишите уравнение проведенной реакции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3. К 2-3 мл аммиачного раствора оксида серебра добавьте 1-2мл раствора глюкозы и нагрейте смесь. Старайтесь нагревать содержимое пробирки равномерно и медленно. Что наблюдаете? О чем говорит этот опыт? Запишите уравнение проведенной реакции.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5:50:44Z</dcterms:created>
  <dc:creator>Елена</dc:creator>
  <dc:description/>
  <dc:language>en-US</dc:language>
  <cp:lastModifiedBy>777</cp:lastModifiedBy>
  <dcterms:modified xsi:type="dcterms:W3CDTF">2014-03-19T19:15:20Z</dcterms:modified>
  <cp:revision>20</cp:revision>
  <dc:subject/>
  <dc:title>             Моносахариды</dc:title>
</cp:coreProperties>
</file>