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B8F-734C-417B-91B6-E0FA05FE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91D-3ACD-4F05-AF9C-6BBCB881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566-42D0-48B4-BE18-2CB8DD7F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6FC-0E37-442F-A5E1-2EEB1B88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A2BB-0109-4C1B-8D27-117EBBB1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A014-E44A-4D3E-9017-42F2DB4E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C53D-50C7-4656-94B8-169B4D6F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FAEC-5A5D-491D-9D4B-825D9546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5E96-2661-4CD4-AB75-27B4AFF7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A97F-B7C9-4C67-9B82-316C2AE0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6801-A522-472F-A185-D44D95CD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9FC-557A-43DB-8500-903C4D01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F59A-8BC0-4989-9004-5B179086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9FB4-E562-4E3A-9D27-E1CA9E59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4A43-79A5-42E1-ADAF-2DCD3778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7E5A-C702-4A81-A72C-FEA3C074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A5FE-0912-4D15-ADBD-C9F3297F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C320-D0DD-425D-AD63-7DE415FF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F0E4A-7960-45A7-BFD8-0CF8A407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48928-4D74-4ED3-A424-AC306C38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04BB-763D-40FF-BD9C-F986363A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0B2C7-1DE9-486D-B7EF-B22FE5ED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9AB-EC4A-47B4-9FB1-05A54450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D830-D99A-4E32-AB6D-0521A606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E912-2472-49C3-80CA-E3BD60C1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98126-46F1-4260-AB59-9AF3BAF8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5E2A-25A6-403A-92ED-05B8014E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E3D7-A0B1-48E3-8A08-FDD0EFF8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57A67-D4C1-437F-91B7-C679A97C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04C4-5D48-4DCD-BB5B-97367EC8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EDD9E-1DA5-4A15-A8B2-2250F727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51BA7-EB76-49FD-9FA7-D9FD4ECF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3D553-53EC-4922-A9A3-1C70C807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C0F-8BB7-4551-8540-A353ED8E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85F6-EB39-4BD2-85F9-0E124D5A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9383-65C9-4F8D-AC90-18688B52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500F-D2D8-4FFC-B392-8A6D9C9B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ACBF-93B7-4D9F-8155-B8AD179B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AC5CB-3D82-4906-8798-800E366E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206AF-D1F8-4177-9FA5-CB89A2BD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B8815-9A80-4B6C-B26F-1F31DE98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47428-A765-4ABB-8548-452D06D2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0E2CC-DBC2-45CE-8179-BE79C50D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B40-B219-49C7-95D8-C436A69A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9D7-0981-4E42-B7B5-5E3C5F76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733-18B3-48AF-A1EA-DFBE97D5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509-5A0B-4C5E-8E64-245CD154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33D-1E93-4E70-A562-A55B0331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5000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ACAB-67B5-4826-857A-A54C1ECA354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AFCB-E526-47FE-946A-25965EED7C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5000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7B32-528E-4199-82CB-97CE9877EE5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61E1-6159-4F11-B6B1-16C78A2365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5"/>
          <p:cNvSpPr txBox="1"/>
          <p:nvPr/>
        </p:nvSpPr>
        <p:spPr>
          <a:xfrm>
            <a:off x="684360" y="1384200"/>
            <a:ext cx="7920000" cy="21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носахариды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419640" y="3860640"/>
            <a:ext cx="536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7240" y="306360"/>
            <a:ext cx="7769520" cy="7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         </a:t>
            </a:r>
            <a:r>
              <a:rPr b="1" lang="ru-RU" sz="4200" spc="-1" strike="noStrike">
                <a:solidFill>
                  <a:srgbClr val="3b812f"/>
                </a:solidFill>
                <a:latin typeface="Garamond"/>
              </a:rPr>
              <a:t>Моно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глеводы, которые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идролизуют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личают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тетрозы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атомов углерода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ентоз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атомов углерода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боз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(РНК,   АТФ - ассимиляция и   диссимиляц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АДФ + Н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РО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+ 40 кДж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АТФ + Н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baseline="-30000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зоксирибоза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(ДН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гексоз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атомов углерода 6 и т. 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05160" y="1371240"/>
            <a:ext cx="3352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572000" y="40766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 flipH="1">
            <a:off x="4495680" y="43052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Эльфы.gif"/>
          <p:cNvPicPr/>
          <p:nvPr/>
        </p:nvPicPr>
        <p:blipFill>
          <a:blip r:embed="rId1"/>
          <a:stretch/>
        </p:blipFill>
        <p:spPr>
          <a:xfrm>
            <a:off x="0" y="0"/>
            <a:ext cx="81108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0200" y="322200"/>
            <a:ext cx="77580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b812f"/>
                </a:solidFill>
                <a:latin typeface="Garamond"/>
              </a:rPr>
              <a:t>Глюкоза  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С</a:t>
            </a:r>
            <a:r>
              <a:rPr b="1" lang="ru-RU" sz="4200" spc="-1" strike="noStrike" baseline="-30000">
                <a:solidFill>
                  <a:srgbClr val="006633"/>
                </a:solidFill>
                <a:latin typeface="Garamond"/>
                <a:ea typeface="Times New Roman"/>
              </a:rPr>
              <a:t>6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Н</a:t>
            </a:r>
            <a:r>
              <a:rPr b="1" lang="ru-RU" sz="4200" spc="-1" strike="noStrike" baseline="-30000">
                <a:solidFill>
                  <a:srgbClr val="006633"/>
                </a:solidFill>
                <a:latin typeface="Garamond"/>
                <a:ea typeface="Times New Roman"/>
              </a:rPr>
              <a:t>12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О</a:t>
            </a:r>
            <a:r>
              <a:rPr b="1" lang="ru-RU" sz="4200" spc="-1" strike="noStrike" baseline="-30000">
                <a:solidFill>
                  <a:srgbClr val="006633"/>
                </a:solidFill>
                <a:latin typeface="Garamond"/>
                <a:ea typeface="Times New Roman"/>
              </a:rPr>
              <a:t>6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структурное звено сахарозы, целлюлозы, крахм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  <a:ea typeface="Times New Roman"/>
              </a:rPr>
              <a:t> •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в крови человека – 0,1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сладкий вкус, хорошо растворима в воде, белого цвета, кристаллическое вещ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разуется в процессе фотосинте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6СО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+ 6Н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свет, хлорофил</a:t>
            </a:r>
            <a:r>
              <a:rPr b="1" lang="ru-RU" sz="2600" spc="-1" strike="noStrike" baseline="30000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 baseline="30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</a:t>
            </a:r>
            <a:r>
              <a:rPr b="1" lang="ru-RU" sz="2600" spc="-1" strike="noStrike" u="sng" baseline="-30000">
                <a:solidFill>
                  <a:srgbClr val="000000"/>
                </a:solidFill>
                <a:uFillTx/>
                <a:latin typeface="Arial"/>
                <a:ea typeface="Times New Roman"/>
              </a:rPr>
              <a:t>6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1" lang="ru-RU" sz="2600" spc="-1" strike="noStrike" u="sng" baseline="-30000">
                <a:solidFill>
                  <a:srgbClr val="000000"/>
                </a:solidFill>
                <a:uFillTx/>
                <a:latin typeface="Arial"/>
                <a:ea typeface="Times New Roman"/>
              </a:rPr>
              <a:t>12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</a:t>
            </a:r>
            <a:r>
              <a:rPr b="1" lang="ru-RU" sz="2600" spc="-1" strike="noStrike" u="sng" baseline="-30000">
                <a:solidFill>
                  <a:srgbClr val="000000"/>
                </a:solidFill>
                <a:uFillTx/>
                <a:latin typeface="Arial"/>
                <a:ea typeface="Times New Roman"/>
              </a:rPr>
              <a:t>6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+ 6О</a:t>
            </a:r>
            <a:r>
              <a:rPr b="1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иконденс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полисахарид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ноградный сах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химическому строению – альдегидоспирт              (двойственная функц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31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ОН-(СНОН)</a:t>
            </a:r>
            <a:r>
              <a:rPr b="1" lang="ru-RU" sz="31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-С═О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Н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2590920" y="3276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4211640" y="586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5562720" y="3886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Мышки1"/>
          <p:cNvPicPr/>
          <p:nvPr/>
        </p:nvPicPr>
        <p:blipFill>
          <a:blip r:embed="rId1"/>
          <a:stretch/>
        </p:blipFill>
        <p:spPr>
          <a:xfrm>
            <a:off x="7451640" y="5805360"/>
            <a:ext cx="1135080" cy="8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0200" y="387000"/>
            <a:ext cx="77580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b812f"/>
                </a:solidFill>
                <a:latin typeface="Garamond"/>
              </a:rPr>
              <a:t>Качественная реакция на глюкозу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заимодействие со свежеполученным осадком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-(СНОН)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═О + 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садок голубого цве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-(СНОН)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расный цвет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2) Реакция «серебряного зеркала»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-(СНОН)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═О 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-(СНОН)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                                  </a:t>
            </a:r>
            <a:r>
              <a:rPr b="1" lang="ru-RU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глюконовая кислот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2771640" y="2060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5219640" y="1916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324000" y="28526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4284720" y="486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2700360" y="4941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Рисунок6"/>
          <p:cNvPicPr/>
          <p:nvPr/>
        </p:nvPicPr>
        <p:blipFill>
          <a:blip r:embed="rId1"/>
          <a:stretch/>
        </p:blipFill>
        <p:spPr>
          <a:xfrm>
            <a:off x="7885080" y="189000"/>
            <a:ext cx="851040" cy="12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00200" y="321840"/>
            <a:ext cx="77580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          </a:t>
            </a:r>
            <a:r>
              <a:rPr b="1" lang="ru-RU" sz="3400" spc="-1" strike="noStrike">
                <a:solidFill>
                  <a:srgbClr val="3b812f"/>
                </a:solidFill>
                <a:latin typeface="Garamond"/>
              </a:rPr>
              <a:t>Химические свойств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6360" y="1066680"/>
            <a:ext cx="8316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Гидрирование (как альдег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-(СНОН)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═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-(СНОН)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спирт сорб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Реакции бр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молочнокислые бактерии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</a:rPr>
              <a:t>дрожжи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+ 2С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овый спи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356000" y="1628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3276720" y="177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2052720" y="328464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1979640" y="4508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Думы"/>
          <p:cNvPicPr/>
          <p:nvPr/>
        </p:nvPicPr>
        <p:blipFill>
          <a:blip r:embed="rId1"/>
          <a:stretch/>
        </p:blipFill>
        <p:spPr>
          <a:xfrm>
            <a:off x="7667640" y="333360"/>
            <a:ext cx="56988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000" spc="-1" strike="noStrike">
                <a:solidFill>
                  <a:srgbClr val="3b812f"/>
                </a:solidFill>
                <a:latin typeface="Arial"/>
              </a:rPr>
              <a:t>Применение глюко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дицин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введение раств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ырь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этиловый спирт, молочная кислот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ищевая промышлен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 сорбит – заменитель сахара при диабет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ндитерская промышленност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заменитель сахарозы, карамель, мармелад, помад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Фруктоза – изомер глюкозы, кетоноспир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СН</a:t>
            </a:r>
            <a:r>
              <a:rPr b="1" lang="ru-RU" sz="26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ОН-(СНОН)</a:t>
            </a:r>
            <a:r>
              <a:rPr b="1" lang="ru-RU" sz="26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3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-С-СН</a:t>
            </a:r>
            <a:r>
              <a:rPr b="1" lang="ru-RU" sz="26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ОН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       фрукт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                             </a:t>
            </a:r>
            <a:r>
              <a:rPr b="1" lang="he-IL" sz="2600" spc="-1" strike="noStrike">
                <a:solidFill>
                  <a:srgbClr val="006633"/>
                </a:solidFill>
                <a:latin typeface="Arial"/>
                <a:cs typeface="Times New Roman (Hebrew)"/>
              </a:rPr>
              <a:t>׀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                        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                                              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СН</a:t>
            </a:r>
            <a:r>
              <a:rPr b="1" lang="ru-RU" sz="26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ОН-(СНОН)</a:t>
            </a:r>
            <a:r>
              <a:rPr b="1" lang="ru-RU" sz="2600" spc="-1" strike="noStrike" baseline="-30000">
                <a:solidFill>
                  <a:srgbClr val="006633"/>
                </a:solidFill>
                <a:latin typeface="Arial"/>
                <a:ea typeface="Times New Roman"/>
              </a:rPr>
              <a:t>4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-С═О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                             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               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глюкоза       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Н</a:t>
            </a:r>
            <a:r>
              <a:rPr b="1" lang="ru-RU" sz="2600" spc="-1" strike="noStrike">
                <a:solidFill>
                  <a:srgbClr val="3b812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7380360" y="5445000"/>
            <a:ext cx="0" cy="152640"/>
          </a:xfrm>
          <a:prstGeom prst="line">
            <a:avLst/>
          </a:prstGeom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 flipH="1">
            <a:off x="4500720" y="4221000"/>
            <a:ext cx="380880" cy="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Внимание (9)"/>
          <p:cNvPicPr/>
          <p:nvPr/>
        </p:nvPicPr>
        <p:blipFill>
          <a:blip r:embed="rId1"/>
          <a:stretch/>
        </p:blipFill>
        <p:spPr>
          <a:xfrm>
            <a:off x="755640" y="260280"/>
            <a:ext cx="719280" cy="5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58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Лабораторный опы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1. В пробирку с 2-3 каплями раствора медного купороса прилейте 2-3 мл раствора щелочи. Что наблюдаете? Затем добавьте в пробирку 2 мл раствора глюкозы и смесь перемешайте. Что наблюдаете? О чем говорит этот опыт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2. Нагрейте содержимое пробирки. Чт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аблюдаете?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О чем говорит этот опыт? Запишите уравнение проведенной реакци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3. К 2-3 мл аммиачного раствора оксида серебра добавьте 1-2мл раствора глюкозы и нагрейте смесь. Старайтесь нагревать содержимое пробирки равномерно и медленно. Что наблюдаете? О чем говорит этот опыт? Запишите уравнение проведенной реакции.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5:50:44Z</dcterms:created>
  <dc:creator>Елена</dc:creator>
  <dc:description/>
  <dc:language>en-US</dc:language>
  <cp:lastModifiedBy>777</cp:lastModifiedBy>
  <dcterms:modified xsi:type="dcterms:W3CDTF">2014-03-19T19:15:20Z</dcterms:modified>
  <cp:revision>20</cp:revision>
  <dc:subject/>
  <dc:title>             Моносахариды</dc:title>
</cp:coreProperties>
</file>