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6.png" ContentType="image/png"/>
  <Override PartName="/ppt/media/image3.png" ContentType="image/png"/>
  <Override PartName="/ppt/media/image4.gif" ContentType="image/gif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05E2-8974-4112-9740-05E01486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1527-C91A-42CF-A2C2-3F0B977A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2EA3-F40C-4EC5-829E-C20082AA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D532-DD75-453B-80D6-AFA09D4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ED2E-6F2F-4235-852D-F4126C17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71DB-33CA-4994-A631-D7B2034E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DA2-DAAE-4691-98D8-9F4F3E2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68D-ED04-4075-A50E-A20D5B2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E6E8-4326-476B-BF68-ABA74AE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2DC-EEE6-4B94-9FB6-6ECA5EFD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0C05-009C-4D19-A1FA-12278C5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E04D-B615-465E-98C6-27B5231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8D6F-B992-46DC-AB59-745CD41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8455-F6EC-41BD-9872-CB2B4A1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6825-D5FC-4049-AD11-252782A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484-C938-498B-8AFA-B2FDC64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65E-3332-4E7C-A220-0AC6D942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49A0-BC0F-467C-A52A-E490DB72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C48C-1FC3-4A56-95F5-CF83E1B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92B9-A8E7-4730-BEB2-532B6BE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14F2-B19C-49E0-A1D4-2DDFB53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11C2-2401-4C6A-B677-AC23D29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5A12-C596-4117-853A-64E4F35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50C6-7B98-4025-9BDD-702A50D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C9D363-4C52-41AD-B16D-21208748BD7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8BA8-8B69-4FC3-8AC0-050AD077565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&#1047;&#1072;&#1076;&#1072;&#1095;&#1072;%204.doc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1047;&#1072;&#1076;&#1072;&#1095;&#1072;%205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&#1047;&#1072;&#1076;&#1072;&#1095;&#1072;%201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1047;&#1072;&#1076;&#1072;&#1095;&#1072;%202.doc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47;&#1072;&#1076;&#1072;&#1095;&#1072;%203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1828800"/>
            <a:ext cx="787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Arial"/>
              </a:rPr>
              <a:t>Нестандартные задачи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Arial"/>
              </a:rPr>
              <a:t> в 1 классе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Arial"/>
              </a:rPr>
              <a:t> по математик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4266720"/>
            <a:ext cx="4105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Книга Г.Г. Левит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«Нестандартные задачи на уроках  математики в перво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«Илек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4797360"/>
            <a:ext cx="32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асько Л.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У СОШ №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од Монче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адача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Часы отразились в зеркале та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Который час они показыва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068640"/>
            <a:ext cx="1726920" cy="158436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74920" y="3789360"/>
            <a:ext cx="86832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40360" y="3067200"/>
            <a:ext cx="1440" cy="723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ешен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ba"/>
            </a:gs>
            <a:gs pos="100000">
              <a:srgbClr val="f2f8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92360" y="1125360"/>
            <a:ext cx="6048360" cy="55454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1125360"/>
            <a:ext cx="1800" cy="36072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645000"/>
            <a:ext cx="358920" cy="144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8720" y="3645000"/>
            <a:ext cx="432000" cy="144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6237360"/>
            <a:ext cx="1800" cy="36036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09840" y="1557360"/>
            <a:ext cx="219240" cy="28728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77080" y="2563560"/>
            <a:ext cx="431640" cy="14580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869000"/>
            <a:ext cx="287280" cy="21564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805360"/>
            <a:ext cx="216000" cy="36036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86200" y="5877000"/>
            <a:ext cx="363600" cy="28728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78200" y="4797360"/>
            <a:ext cx="436320" cy="14436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2492280"/>
            <a:ext cx="360360" cy="21600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1484280"/>
            <a:ext cx="216000" cy="28908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66560" y="3645000"/>
            <a:ext cx="2451240" cy="1440"/>
          </a:xfrm>
          <a:prstGeom prst="line">
            <a:avLst/>
          </a:prstGeom>
          <a:ln cap="sq"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16360" y="1771560"/>
            <a:ext cx="1800" cy="1874880"/>
          </a:xfrm>
          <a:prstGeom prst="line">
            <a:avLst/>
          </a:prstGeom>
          <a:ln cap="sq"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27640" y="371628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0920" y="479736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1762200" y="322488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адача №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аким этажом сверху будет  шестой этаж девятиэтажного до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132000" y="2133720"/>
            <a:ext cx="3672000" cy="4390920"/>
          </a:xfrm>
          <a:prstGeom prst="rect">
            <a:avLst/>
          </a:prstGeom>
          <a:solidFill>
            <a:srgbClr val="ffcc6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7980000">
            <a:off x="3601080" y="513360"/>
            <a:ext cx="2760840" cy="2975040"/>
          </a:xfrm>
          <a:prstGeom prst="rtTriangle">
            <a:avLst/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6093000"/>
            <a:ext cx="367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5661000"/>
            <a:ext cx="367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5157720"/>
            <a:ext cx="367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581360"/>
            <a:ext cx="367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4076640"/>
            <a:ext cx="367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3573360"/>
            <a:ext cx="367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3068640"/>
            <a:ext cx="36720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2565360"/>
            <a:ext cx="367200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7080" y="3645000"/>
            <a:ext cx="504720" cy="4316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6093000"/>
            <a:ext cx="504720" cy="43308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7080" y="4149720"/>
            <a:ext cx="504720" cy="4334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77080" y="5229360"/>
            <a:ext cx="504720" cy="36036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77080" y="4653000"/>
            <a:ext cx="504720" cy="50472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7080" y="5661000"/>
            <a:ext cx="504720" cy="36036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45813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06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060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551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ешен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8316E-006 L -0.20087 -2.18316E-006 E">
                                      <p:cBhvr>
                                        <p:cTn id="221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38298E-007 L 0.21268 0.00393 E">
                                      <p:cBhvr>
                                        <p:cTn id="225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476280"/>
            <a:ext cx="43196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Вы работали очень 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о встречи на следующих урок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3961080" cy="547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rot="540000">
            <a:off x="6302520" y="763560"/>
            <a:ext cx="5461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4824360" cy="5616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Вопросы царицы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540000">
            <a:off x="4068720" y="906480"/>
            <a:ext cx="5461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адач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ртфель Коли помещается в портфеле Васи, а портфель Васи можно спрятать в портфеле Севы. Какой из этих портфелей самый больш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80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Три ступени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125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565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Ва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422100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1700280"/>
            <a:ext cx="2521080" cy="144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797360"/>
            <a:ext cx="5113080" cy="18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141720"/>
            <a:ext cx="3456000" cy="1440"/>
          </a:xfrm>
          <a:prstGeom prst="line">
            <a:avLst/>
          </a:prstGeom>
          <a:ln cap="sq"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765000"/>
            <a:ext cx="1079640" cy="114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1512720" cy="136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093080" y="3645000"/>
            <a:ext cx="155736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 rot="12660000">
            <a:off x="6804000" y="2566440"/>
            <a:ext cx="60336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68360" y="544500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26920" y="5445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23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Ко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49228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Ва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22100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7d"/>
                </a:solidFill>
                <a:latin typeface="Arial"/>
              </a:rPr>
              <a:t>С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13020000">
            <a:off x="3421080" y="469440"/>
            <a:ext cx="2232000" cy="1938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12780000">
            <a:off x="3635280" y="2060280"/>
            <a:ext cx="29908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12420000">
            <a:off x="3419640" y="3715920"/>
            <a:ext cx="428616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0.01851 L 0.07292 0.24445 E">
                                      <p:cBhvr>
                                        <p:cTn id="1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9 0.00254 L 0.02726 0.2463 E">
                                      <p:cBhvr>
                                        <p:cTn id="2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dur="indefinite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Как с помощью сосудов ёмк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4 л и 6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алить из водопроводного к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2 л в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938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ешен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435640" y="2133720"/>
            <a:ext cx="2881440" cy="3166920"/>
          </a:xfrm>
          <a:prstGeom prst="flowChartMagneticDisk">
            <a:avLst/>
          </a:prstGeom>
          <a:solidFill>
            <a:srgbClr val="cccce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480000">
            <a:off x="3663720" y="449280"/>
            <a:ext cx="2415960" cy="2201760"/>
          </a:xfrm>
          <a:custGeom>
            <a:avLst/>
            <a:gdLst>
              <a:gd name="textAreaLeft" fmla="*/ 477360 w 2415960"/>
              <a:gd name="textAreaRight" fmla="*/ 1697040 w 2415960"/>
              <a:gd name="textAreaTop" fmla="*/ 294840 h 2201760"/>
              <a:gd name="textAreaBottom" fmla="*/ 1906920 h 220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6" hR="21600" stAng="10800000" swAng="5400000"/>
                <a:lnTo>
                  <a:pt x="10904" y="0"/>
                </a:lnTo>
                <a:arcTo wR="8536" hR="21600" stAng="-5400000" swAng="2890951"/>
                <a:lnTo>
                  <a:pt x="21112" y="14400"/>
                </a:lnTo>
                <a:lnTo>
                  <a:pt x="18256" y="21600"/>
                </a:lnTo>
                <a:lnTo>
                  <a:pt x="14424" y="14400"/>
                </a:lnTo>
                <a:lnTo>
                  <a:pt x="16584" y="14400"/>
                </a:lnTo>
                <a:arcTo wR="8536" hR="21600" stAng="-2509049" swAng="-2700866"/>
                <a:lnTo>
                  <a:pt x="9720" y="209"/>
                </a:lnTo>
                <a:arcTo wR="8536" hR="21600" stAng="-5590085" swAng="-5209915"/>
                <a:close/>
              </a:path>
              <a:path fill="darkenLess" w="21600" h="21600">
                <a:moveTo>
                  <a:pt x="0" y="21600"/>
                </a:moveTo>
                <a:arcTo wR="8536" hR="21600" stAng="10800000" swAng="5400000"/>
                <a:lnTo>
                  <a:pt x="8536" y="0"/>
                </a:lnTo>
                <a:arcTo wR="8536" hR="21600" stAng="-5400000" swAng="190085"/>
                <a:lnTo>
                  <a:pt x="9720" y="209"/>
                </a:lnTo>
                <a:arcTo wR="8536" hR="21600" stAng="-5590085" swAng="-5209915"/>
                <a:close/>
              </a:path>
            </a:pathLst>
          </a:custGeom>
          <a:solidFill>
            <a:srgbClr val="ff33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292640"/>
            <a:ext cx="2881440" cy="100800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981000"/>
            <a:ext cx="3456000" cy="4538880"/>
          </a:xfrm>
          <a:prstGeom prst="flowChartMagneticDisk">
            <a:avLst/>
          </a:prstGeom>
          <a:solidFill>
            <a:srgbClr val="cccce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3456000" cy="136692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981000"/>
            <a:ext cx="3456000" cy="1440000"/>
          </a:xfrm>
          <a:prstGeom prst="ellipse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155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2276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342900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31708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fill="hold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9182 L -2.5E-006 -0.45629 E">
                                      <p:cBhvr>
                                        <p:cTn id="3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3506E-006 L 0.00017 -0.31452 E">
                                      <p:cBhvr>
                                        <p:cTn id="8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67345E-006 L 0.00018 0.2833 E">
                                      <p:cBhvr>
                                        <p:cTn id="8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Улитка от точки А проползла 2 см на север, потом 3 см на восток, потом 2 см на юг, а потом 3 см на зап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Где она оказалась в результа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02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ешен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16200000">
            <a:off x="-592560" y="2259360"/>
            <a:ext cx="3786120" cy="1952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4753080" cy="1460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 rot="5400000">
            <a:off x="6033240" y="283428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4581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465300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500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2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1125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3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8360" y="342900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2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67280" y="5516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3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457956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373720"/>
            <a:ext cx="4105440" cy="1440"/>
          </a:xfrm>
          <a:prstGeom prst="line">
            <a:avLst/>
          </a:prstGeom>
          <a:ln cap="rnd" w="57240">
            <a:solidFill>
              <a:srgbClr val="0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195640" y="2852640"/>
            <a:ext cx="244764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5:33:12Z</dcterms:created>
  <dc:creator>Масько Л.Г.</dc:creator>
  <dc:description/>
  <dc:language>en-US</dc:language>
  <cp:lastModifiedBy>Масько Л.Г.</cp:lastModifiedBy>
  <dcterms:modified xsi:type="dcterms:W3CDTF">2007-04-20T19:46:26Z</dcterms:modified>
  <cp:revision>8</cp:revision>
  <dc:subject/>
  <dc:title>Нестандартные задачи  в 1 классе  по математике</dc:title>
</cp:coreProperties>
</file>