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3400"/>
            <a:ext cx="5481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26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9332A-103D-4E9D-AB57-4E07684A5A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3786-846B-4DCF-9776-45C17735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6BA39-69C6-4321-AAC9-4A2402F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7CAA-E2A4-40F9-B7D2-5BA47AAD4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2C8A2-B85C-44F0-BCEB-EFD89C0E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43C97-F7BC-4E93-BC7C-F252DE7C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5521E-D05E-4C4D-8D8D-590BE043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AAC27-AAD4-4656-B956-BBA16573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D3FAA-7FF7-4E3A-A990-CA28B6E9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AE755-999E-4EF9-802D-3123F4F2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F2AC1-E821-4167-BFEC-F61853B2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0E10-78D2-4EC2-A3B2-5561306B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0CE72-5050-45A9-92F3-DA2F4DF9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48FB-4345-4D0B-8739-C0242F2E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FABB-616B-4C49-A689-CB857F9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59D42-0557-427C-9408-A65FE2B5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7E728-5C41-40E1-8EAD-46BA84A0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FFE98-8D7C-4493-9227-F72CFEB2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82532-5F60-4AA2-AC42-9DD44B7A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82DE3F-2633-4BB8-9B98-3FDC591D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BAD1A-19F2-4F97-A5A5-3A0D330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54FE7D-89C6-41C4-BEB7-3EEBF3D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6878-8DCE-4FC6-A287-3B7C9314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F7331-A700-45AA-B634-8427A705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A0636-5B23-43FA-B668-7A963F2A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13D7E-3514-41E2-AA03-323A183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6A0CF-A828-4434-8806-D1F0BD9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60DDA-10AC-4D0F-B1B5-69322EE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6186D2-2898-4760-BDBF-D8068853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DA253-1CF0-4792-BA3C-5DE21471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787A-EDF0-48D4-A94C-CDD23254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2A3F-5D04-42E8-96F4-E83331F8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87E6-D930-4A7C-873E-CBF14596A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BE8A-A0BE-4BCA-9A2F-E48842CB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4DE0F-7272-4217-8093-FBF63330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CE5A-1298-47F4-BAC5-D1AA1A90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E0B6B-397C-47BC-8C6A-4CD83835ADB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CF5F1-131B-49A7-A213-787C6DA453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2000"/>
          </a:bodyPr>
          <a:p>
            <a:pPr marL="31536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6"/>
          </p:nvPr>
        </p:nvSpPr>
        <p:spPr>
          <a:xfrm>
            <a:off x="45720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7"/>
          </p:nvPr>
        </p:nvSpPr>
        <p:spPr>
          <a:xfrm>
            <a:off x="3127320" y="6246720"/>
            <a:ext cx="289080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8"/>
          </p:nvPr>
        </p:nvSpPr>
        <p:spPr>
          <a:xfrm>
            <a:off x="6556320" y="6246720"/>
            <a:ext cx="21225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AF952-C6DC-4A4B-BA4C-69B9BE226DE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C:/Documents and Settings/&#1064;&#1082;&#1086;&#1083;&#1072;/&#1056;&#1072;&#1073;&#1086;&#1095;&#1080;&#1081; &#1089;&#1090;&#1086;&#1083;/&#1042;&#1080;&#1076;&#1077;&#1086; &#1040;&#1074;&#1074;&#1072;&#1082;&#1091;&#1084;.mp4" TargetMode="External"/><Relationship Id="rId2" Type="http://schemas.microsoft.com/office/2007/relationships/media" Target="file:///C:/Documents and Settings/&#1064;&#1082;&#1086;&#1083;&#1072;/&#1056;&#1072;&#1073;&#1086;&#1095;&#1080;&#1081; &#1089;&#1090;&#1086;&#1083;/&#1042;&#1080;&#1076;&#1077;&#1086; &#1040;&#1074;&#1074;&#1072;&#1082;&#1091;&#1084;.mp4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C:/Documents and Settings/&#1064;&#1082;&#1086;&#1083;&#1072;/&#1056;&#1072;&#1073;&#1086;&#1095;&#1080;&#1081; &#1089;&#1090;&#1086;&#1083;/&#1042;&#1080;&#1076;&#1077;&#1086;.&#1053;&#1080;&#1082;&#1086;&#1085;.flv" TargetMode="External"/><Relationship Id="rId2" Type="http://schemas.microsoft.com/office/2007/relationships/media" Target="file:///C:/Documents and Settings/&#1064;&#1082;&#1086;&#1083;&#1072;/&#1056;&#1072;&#1073;&#1086;&#1095;&#1080;&#1081; &#1089;&#1090;&#1086;&#1083;/&#1042;&#1080;&#1076;&#1077;&#1086;.&#1053;&#1080;&#1082;&#1086;&#1085;.flv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26920" y="1844640"/>
            <a:ext cx="7772400" cy="25923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Раскол в русской православной церкв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5300640"/>
            <a:ext cx="8928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27468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320" y="30240"/>
          <a:ext cx="8230680" cy="6589440"/>
        </p:xfrm>
        <a:graphic>
          <a:graphicData uri="http://schemas.openxmlformats.org/drawingml/2006/table">
            <a:tbl>
              <a:tblPr/>
              <a:tblGrid>
                <a:gridCol w="4115160"/>
                <a:gridCol w="41155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60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реформ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ле ре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ещение двумя перст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мной покл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вукратное пение "аллилуйя"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464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вижение верующих в церкви вокруг алтаря по солнц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60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писание имени Христа Ису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ужение литургии  на семи  просфо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4103640" y="576360"/>
            <a:ext cx="4200480" cy="577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320" y="30240"/>
          <a:ext cx="8230680" cy="6589440"/>
        </p:xfrm>
        <a:graphic>
          <a:graphicData uri="http://schemas.openxmlformats.org/drawingml/2006/table">
            <a:tbl>
              <a:tblPr/>
              <a:tblGrid>
                <a:gridCol w="4115160"/>
                <a:gridCol w="4115520"/>
              </a:tblGrid>
              <a:tr h="549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60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реформы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ле рефор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ещение двумя перст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ещение тремя перстам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Земной покл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ясной покл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вукратное пение "аллилуйя"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Троекратное пение "аллилуйя"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4641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вижение верующих в церкви вокруг алтаря по солнцу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вижение верующих в церкви вокруг алтаря против солнц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2660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писание имени Христа Ису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писание имени Христа: Иис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ужение литургии  на семи  просфо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лужение литургии  на пяти просфор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8000" y="115920"/>
            <a:ext cx="8928000" cy="5763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836640"/>
            <a:ext cx="8928000" cy="34131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ещение тремя паль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оясные поклоны вместо зе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правление по греческим образцам икон и церковных книг (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ы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 уничтож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ть)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иногласие во время церковной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ллилуйя» во время богослужения произносить три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не дважд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рестные ходы против солнца, а не навстре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79280" y="4444920"/>
            <a:ext cx="1725840" cy="23036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2124000" y="4724280"/>
            <a:ext cx="6912000" cy="19749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4 го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– церковный собор одобрил реформу, но предложил провести действующие обряды в соответствии не только с греческой, но и с русской тради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>
            <a:off x="4572000" y="4249440"/>
            <a:ext cx="2160" cy="477000"/>
          </a:xfrm>
          <a:prstGeom prst="straightConnector1">
            <a:avLst/>
          </a:prstGeom>
          <a:ln cap="sq" w="38160">
            <a:solidFill>
              <a:srgbClr val="c00000"/>
            </a:solidFill>
            <a:miter/>
            <a:tailEnd len="med" type="triangle" w="med"/>
          </a:ln>
        </p:spPr>
      </p:cxn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0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Церковный Собор 1654 год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Патриарх Никон представляет новые богослужебные тексты) А. Д. Кившенко, 1880 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0360" y="6237360"/>
            <a:ext cx="46260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Суд над патриархом Никоном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(С. Д. Милорадович, 1885 г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2400" y="2817720"/>
            <a:ext cx="4500360" cy="326232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22400" y="549360"/>
            <a:ext cx="8913600" cy="20160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судил Никона, лишил его сана патриарха и отправил на вечное заточение в монасты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оддержал церковную рефор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роклял всех ее противников (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старообрядцев-раскольнико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и протопопа Авваку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32360" y="3068640"/>
            <a:ext cx="4103640" cy="367344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Собор 1666-1667 гг. усугубил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в Русской православной церк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ыбор в качестве образца для правки греческих источников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делал Москву мировым центром правосла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/>
          <p:nvPr/>
        </p:nvCxnSpPr>
        <p:spPr>
          <a:xfrm>
            <a:off x="7164360" y="2565360"/>
            <a:ext cx="2160" cy="504000"/>
          </a:xfrm>
          <a:prstGeom prst="straightConnector1">
            <a:avLst/>
          </a:prstGeom>
          <a:ln cap="sq" w="76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94" name=""/>
          <p:cNvSpPr/>
          <p:nvPr/>
        </p:nvSpPr>
        <p:spPr>
          <a:xfrm>
            <a:off x="179280" y="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66-1667 гг. – церковный со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dur="indefinite" fill="hold">
                      <p:stCondLst>
                        <p:cond delay="0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716360" y="115920"/>
            <a:ext cx="4295880" cy="65530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buClr>
                <a:srgbClr val="c00000"/>
              </a:buClr>
              <a:buFont typeface="Arial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Народное недово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buClr>
                <a:srgbClr val="c00000"/>
              </a:buClr>
              <a:buFont typeface="Arial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Размолвка царя и патриарх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Никон предложил Алексею Михайловичу разделить с ним власть по примеру царя Михаила Федоровича и патриарха Филарета –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rial"/>
              </a:rPr>
              <a:t>“как месяц имеет свет от солнца”, так и царь получает власть от патриарха, представляющего Бог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арь не согласился с таким предло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000" y="115920"/>
            <a:ext cx="4427640" cy="11764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патриарха Ник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8280" y="5589720"/>
            <a:ext cx="4437360" cy="10792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1658 го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– Никон удалился в Воскресенский Новоиерусалимский монасты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1479600"/>
            <a:ext cx="3960720" cy="34322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2560" y="4911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"Царь Алексей Михайлович и Патриарх Никон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dur="indefinite" fill="hold">
                      <p:stCondLst>
                        <p:cond delay="0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dur="indefinite" fill="hold">
                      <p:stCondLst>
                        <p:cond delay="indefinite"/>
                      </p:stCondLst>
                      <p:childTnLst>
                        <p:par>
                          <p:cTn id="3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dur="indefinite" fill="hold">
                      <p:stCondLst>
                        <p:cond delay="indefinite"/>
                      </p:stCondLst>
                      <p:childTnLst>
                        <p:par>
                          <p:cTn id="3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360" y="2205000"/>
            <a:ext cx="280836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авославная це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2205000"/>
            <a:ext cx="2808000" cy="208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тарообряд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27280" y="1295280"/>
            <a:ext cx="1944720" cy="5112000"/>
          </a:xfrm>
          <a:custGeom>
            <a:avLst/>
            <a:gdLst/>
            <a:ahLst/>
            <a:rect l="l" t="t" r="r" b="b"/>
            <a:pathLst>
              <a:path w="258177" h="14201">
                <a:moveTo>
                  <a:pt x="0" y="5510"/>
                </a:moveTo>
                <a:lnTo>
                  <a:pt x="131789" y="5510"/>
                </a:lnTo>
                <a:lnTo>
                  <a:pt x="131789" y="0"/>
                </a:lnTo>
                <a:lnTo>
                  <a:pt x="-126388" y="0"/>
                </a:lnTo>
                <a:lnTo>
                  <a:pt x="-126388" y="5510"/>
                </a:lnTo>
                <a:lnTo>
                  <a:pt x="5401" y="5510"/>
                </a:lnTo>
                <a:lnTo>
                  <a:pt x="2701" y="142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С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333360"/>
            <a:ext cx="741528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Итоги  церковной реформы Ни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384720" y="1871640"/>
            <a:ext cx="1440" cy="3959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72000" y="1800360"/>
            <a:ext cx="1800" cy="40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dur="indefinite" fill="hold">
                      <p:stCondLst>
                        <p:cond delay="0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33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33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out">
                                      <p:cBhvr additive="repl">
                                        <p:cTn id="34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5400" y="44280"/>
            <a:ext cx="8928000" cy="115272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(1620-1682) – руководитель старообрядцев, выступил против реформы Ник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86840" cy="53276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276720" y="981000"/>
            <a:ext cx="5651280" cy="561672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Гла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старообрядцев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стретил реформы отрицательно, считая первоосновой веры русские источ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Б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ыл сослан в 1653 г. в Сибирь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 1663 г. после кратковременного возвращение в Москву был отправлен в Пустозерск, где провел 15 лет  в земляной тюр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В 1682 г. был сожжен вместе со своими соратниками по царскому приказ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928960" cy="48974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684360" y="115920"/>
            <a:ext cx="7805520" cy="70344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Протопоп Авваку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dur="indefinite" fill="hold">
                      <p:stCondLst>
                        <p:cond delay="0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47640"/>
            <a:ext cx="90946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106200"/>
            <a:ext cx="8856720" cy="7066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  <a:ea typeface="Arial"/>
              </a:rPr>
              <a:t>Смутное время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00720" y="2781360"/>
            <a:ext cx="4555800" cy="391140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пал авторитет патриарш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Церкви и монастыри разграблены и сожжены поля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Многие священнослужители уб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268280"/>
            <a:ext cx="4555800" cy="106884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уховный кризис в обществ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6617880" y="2349360"/>
            <a:ext cx="3960" cy="496080"/>
          </a:xfrm>
          <a:prstGeom prst="straightConnector1">
            <a:avLst/>
          </a:prstGeom>
          <a:ln cap="sq" w="76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37" name=""/>
          <p:cNvCxnSpPr/>
          <p:nvPr/>
        </p:nvCxnSpPr>
        <p:spPr>
          <a:xfrm>
            <a:off x="6627600" y="765000"/>
            <a:ext cx="14760" cy="504000"/>
          </a:xfrm>
          <a:prstGeom prst="straightConnector1">
            <a:avLst/>
          </a:prstGeom>
          <a:ln cap="sq"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160880" cy="481032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81000" y="615780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енчание на ца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Марины Мниш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871120" cy="568800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909360" y="6305400"/>
            <a:ext cx="66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Григорий Мясоедов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"Сожжение протопопа Аввакума“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116000" y="549360"/>
            <a:ext cx="69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упления Аввакума и других защитников «старой веры» получили поддержку в различных слоях русского общества, приобрели широкий  размах  и  привёл  к жестокому  противостоянию  двух  сторон  –  защитников  реформ  в  церкви  и защитников старой ве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3225960" cy="4176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5076720" y="2060640"/>
            <a:ext cx="2819520" cy="4581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87280" y="6093000"/>
            <a:ext cx="720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мятник  протопопу Аввакуму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мятный крест  на  месте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жжения  Аввак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19160" y="101520"/>
            <a:ext cx="8916840" cy="26542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buClr>
                <a:srgbClr val="c00000"/>
              </a:buClr>
              <a:buFont typeface="Arial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аскольник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(старообрядцы) 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тказ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ывались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подчиняться государству, которое поддерживало Никон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платить налоги и выполнять государственные повинност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920" indent="-277920">
              <a:buClr>
                <a:srgbClr val="000099"/>
              </a:buClr>
              <a:buFont typeface="Arial"/>
              <a:buChar char="•"/>
              <a:tabLst>
                <a:tab algn="l" pos="277920"/>
                <a:tab algn="l" pos="725400"/>
                <a:tab algn="l" pos="1174680"/>
                <a:tab algn="l" pos="1623960"/>
                <a:tab algn="l" pos="2073240"/>
                <a:tab algn="l" pos="2522520"/>
                <a:tab algn="l" pos="2971800"/>
                <a:tab algn="l" pos="3421080"/>
                <a:tab algn="l" pos="3870360"/>
                <a:tab algn="l" pos="4319640"/>
                <a:tab algn="l" pos="4768920"/>
                <a:tab algn="l" pos="5218200"/>
                <a:tab algn="l" pos="5667480"/>
                <a:tab algn="l" pos="6116760"/>
                <a:tab algn="l" pos="6566040"/>
                <a:tab algn="l" pos="7015320"/>
                <a:tab algn="l" pos="7464600"/>
                <a:tab algn="l" pos="7913520"/>
                <a:tab algn="l" pos="8362800"/>
                <a:tab algn="l" pos="8812080"/>
                <a:tab algn="l" pos="9261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Отказывались выполнять повинности в пользу официальной церкви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963880"/>
            <a:ext cx="6804000" cy="34034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460440" y="63579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уриков В.И. Боярыня Мороз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dur="indefinite" fill="hold">
                      <p:stCondLst>
                        <p:cond delay="0"/>
                      </p:stCondLst>
                      <p:childTnLst>
                        <p:par>
                          <p:cTn id="3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ЛТАЙСКАЯ «ЗАТВОРНИЦА»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АГАФЬЯ КАРПОВНА ЛЫКОВ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340000" y="1052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 1982 году геологическая экспедиция обнаружила в глухой алтайской тайге дом на речке Еринат, где проживала семья Лыковых.. Оказалось, что отшельники являются старообрядцами, ушедшими в тайгу еще в войну  и с тех пор не встречавшиеся с людьми другой веры.Вскоре двое детей умерли и в настоящее время свой век    вдали от цивилизации доживает лишь одна Агафья Карповна. Лык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62680" y="115920"/>
            <a:ext cx="4081320" cy="6494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148360" y="260280"/>
            <a:ext cx="28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1917720"/>
            <a:ext cx="216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573360"/>
            <a:ext cx="28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46160" y="47520"/>
          <a:ext cx="4646160" cy="7725960"/>
        </p:xfrm>
        <a:graphic>
          <a:graphicData uri="http://schemas.openxmlformats.org/drawingml/2006/table">
            <a:tbl>
              <a:tblPr/>
              <a:tblGrid>
                <a:gridCol w="398520"/>
                <a:gridCol w="2135880"/>
                <a:gridCol w="1055880"/>
                <a:gridCol w="1055880"/>
              </a:tblGrid>
              <a:tr h="909360">
                <a:tc>
                  <a:txBody>
                    <a:bodyPr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ле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писание имени Б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ославление Б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естное зна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кл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жжение старых и написание новых религиозных кн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1062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осфоры для церковных обря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608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>
            <a:off x="0" y="115920"/>
            <a:ext cx="500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группируйте  симв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64000" y="936720"/>
            <a:ext cx="2125440" cy="518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54785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in">
                                      <p:cBhvr additive="repl">
                                        <p:cTn id="4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062680" y="115920"/>
            <a:ext cx="4081320" cy="6494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48360" y="260280"/>
            <a:ext cx="28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67280" y="1917720"/>
            <a:ext cx="216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3573360"/>
            <a:ext cx="28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46160" y="47520"/>
          <a:ext cx="4646160" cy="7725960"/>
        </p:xfrm>
        <a:graphic>
          <a:graphicData uri="http://schemas.openxmlformats.org/drawingml/2006/table">
            <a:tbl>
              <a:tblPr/>
              <a:tblGrid>
                <a:gridCol w="398520"/>
                <a:gridCol w="2135880"/>
                <a:gridCol w="1055880"/>
                <a:gridCol w="1055880"/>
              </a:tblGrid>
              <a:tr h="909360">
                <a:tc>
                  <a:txBody>
                    <a:bodyPr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сле рефор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писание имени Б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ославление Б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рестное знам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кл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жжение старых и написание новых религиозных кни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13428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осфоры для церковных обряд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0" y="115920"/>
            <a:ext cx="5003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группируйте  симв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4520" y="0"/>
            <a:ext cx="892512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 звали первого патриарха всея Рус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ов; Б) Гермоген; В) Фила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Лидер старообрядцев XVII в., писатель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Никон; Б) Аввакум; В) Филар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то из царей приказал сжечь протопопа Аввакум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ихаил Фёдорович; Б) Алексей Михайлович; В) Михаил Алексе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В царствование Алексея Михайлови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произошёл церковный раскол ;Б)создан Святейший Синод В)учреждено патриарш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Раскольниками назы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нестяжателей; Б)еретиков, В)противников реформы Ни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Какой монастырь в 17 веке стал центром приверженцев старых обря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Андронников; Б)Троице-Сергиев; В)Антониев-Сийский; Г)Соловец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1341360"/>
            <a:ext cx="8856720" cy="518328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Церковь, укрепившая свои позиции после Смуты, попыталась занять господствующее положение в политической системе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днако в условиях усиления самодержавия это привело к конфликту церковной и светской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Arial"/>
              </a:rPr>
              <a:t>П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Arial"/>
              </a:rPr>
              <a:t>оражение церкви в этом столкновении подготовило почву для превращения ее в придаток государственной в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dur="indefinite" fill="hold">
                      <p:stCondLst>
                        <p:cond delay="0"/>
                      </p:stCondLst>
                      <p:childTnLst>
                        <p:par>
                          <p:cTn id="4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атриарх Филарет, отец ца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43280" y="1700280"/>
            <a:ext cx="40420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ихаил Федорович ром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2276640"/>
            <a:ext cx="3095640" cy="424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3381480" cy="4233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92120" y="185760"/>
            <a:ext cx="7931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мер мирного плодотворного сотрудничеств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уховной и светской власти. Почем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0" y="260280"/>
            <a:ext cx="4467240" cy="640872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1619 г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озвращение митрополита Филарета из польского пл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Избрание Филарета патриархом на церковном собо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У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пил авторитет и власть царя Михаила Федорови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Увеличил роль и значение церкви в жизни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2120" y="404640"/>
            <a:ext cx="4211640" cy="561672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222120" y="62071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 Филар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Алексей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508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атриарх Ни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33480" y="2362320"/>
            <a:ext cx="3085920" cy="3762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219640" y="2362320"/>
            <a:ext cx="287496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11280" y="503280"/>
            <a:ext cx="55846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связывало 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0840" y="189000"/>
            <a:ext cx="2549520" cy="340524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50840" y="3022560"/>
            <a:ext cx="25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триарх Никон (1652-166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189000"/>
            <a:ext cx="6048360" cy="13683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2 г. – избрание Никона новым патрирхом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824280"/>
            <a:ext cx="4330800" cy="288936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2890800" y="2205000"/>
            <a:ext cx="6066000" cy="136836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1656 г. – основание Новоиерусалиского монастыря под Моск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162000" y="3860640"/>
            <a:ext cx="3989160" cy="2853000"/>
          </a:xfrm>
          <a:prstGeom prst="rect">
            <a:avLst/>
          </a:prstGeom>
          <a:ln cap="sq" w="76320">
            <a:solidFill>
              <a:srgbClr val="c00000"/>
            </a:solidFill>
            <a:miter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74680"/>
            <a:ext cx="8713800" cy="114300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Главный вопрос церкви в XVII веке – обновление церковных книг и обряд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600200"/>
            <a:ext cx="8856720" cy="2260440"/>
          </a:xfrm>
          <a:prstGeom prst="rect">
            <a:avLst/>
          </a:prstGeom>
          <a:noFill/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В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 русских церковных книгах накопилось много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В церковной службе был обычай многоголо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Крестились двумя паль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6640" y="4149720"/>
            <a:ext cx="7632720" cy="574560"/>
          </a:xfrm>
          <a:prstGeom prst="rect">
            <a:avLst/>
          </a:prstGeom>
          <a:noFill/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Как исправлять? Каким образцам след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0280" y="5013360"/>
            <a:ext cx="4176720" cy="647640"/>
          </a:xfrm>
          <a:prstGeom prst="rect">
            <a:avLst/>
          </a:prstGeom>
          <a:noFill/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Древнерус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5013360"/>
            <a:ext cx="4105440" cy="647640"/>
          </a:xfrm>
          <a:prstGeom prst="rect">
            <a:avLst/>
          </a:prstGeom>
          <a:noFill/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Греческим образц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/>
          <p:nvPr/>
        </p:nvCxnSpPr>
        <p:spPr>
          <a:xfrm flipH="1">
            <a:off x="3284640" y="4723920"/>
            <a:ext cx="576360" cy="28944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67" name=""/>
          <p:cNvCxnSpPr/>
          <p:nvPr/>
        </p:nvCxnSpPr>
        <p:spPr>
          <a:xfrm>
            <a:off x="5157720" y="4723920"/>
            <a:ext cx="721440" cy="289440"/>
          </a:xfrm>
          <a:prstGeom prst="straightConnector1">
            <a:avLst/>
          </a:prstGeom>
          <a:ln cap="sq" w="572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250920" y="6237360"/>
            <a:ext cx="8569080" cy="50472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  <a:ea typeface="Arial"/>
              </a:rPr>
              <a:t>Ц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арь Алексей Михайлович и патриарх Ни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47040" y="5661000"/>
            <a:ext cx="260280" cy="576360"/>
          </a:xfrm>
          <a:prstGeom prst="upArrow">
            <a:avLst>
              <a:gd name="adj1" fmla="val 50000"/>
              <a:gd name="adj2" fmla="val 50018"/>
            </a:avLst>
          </a:prstGeom>
          <a:noFill/>
          <a:ln cap="sq"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805360"/>
            <a:ext cx="865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nodeType="clickEffect" fill="hold">
                      <p:stCondLst>
                        <p:cond delay="0"/>
                      </p:stCondLst>
                      <p:childTnLst>
                        <p:par>
                          <p:cTn id="1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dur="indefinite" nodeType="click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dur="indefinite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9280" y="4005360"/>
            <a:ext cx="8785440" cy="2692440"/>
          </a:xfrm>
          <a:prstGeom prst="rect">
            <a:avLst/>
          </a:prstGeom>
          <a:noFill/>
          <a:ln cap="sq"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Посмотрите видеофильм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ак относился царь Алексей Михайлович к Нико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Когда Никон был избран патриарх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cap="sq"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1653-1655 гг. – церковная рефор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патриарха Нико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340000" y="1366920"/>
            <a:ext cx="416556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576360"/>
            <a:ext cx="9196560" cy="54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1-18T11:49:47Z</dcterms:modified>
  <cp:revision>26</cp:revision>
  <dc:subject/>
  <dc:title>Презентация PowerPoint</dc:title>
</cp:coreProperties>
</file>