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CA63-DBD4-4B0D-A800-F0001D01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6B70-7027-47E0-B148-80C82325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0B3B-CB3D-40BA-8307-ECB92A7F7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1BBC-D32D-4A2D-BD3D-3BF1E6210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F25F-584A-4B7C-A046-E8F4C201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3C84-DF54-4F9C-BF6A-546D3FAE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87B4-FE74-4B96-BA21-6C554134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ED9B-6845-4589-89EB-87A5731A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D934-D7A9-4C6A-AE08-9F716DAB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D6A3-688C-4F6E-A28E-1B55686F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781E-C121-4D43-AD45-27767E20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021B-2476-4760-97C6-181A31E5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68C5-E0DD-40EB-94FE-0B89BC30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1D21-2D4E-4EE3-9110-DF1360BC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7423-4C4D-447D-A987-EFA7665C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16D4-FB59-4D90-B277-5BD72E13F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AAE9-478D-4966-95B0-AC618C194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4403-E419-4998-87A4-7BB817AE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5A34-4166-4FDE-88C7-F49A1FFD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D34C-D410-4AF7-AFC1-26BEA637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569A-9C46-40FD-B1C5-97C2A035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16D7-DD15-4476-9715-E632DAD7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DFD6-44B0-4CDE-8A35-E8CE9CC7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4FA7-B683-4E16-BEF1-42157F2D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klyaksa.net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klyaksa.net/" TargetMode="Externa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99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8BCF-5ECE-4DC5-85E1-7C588762A9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450720" y="93600"/>
            <a:ext cx="8137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нформатика в школе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Verdana"/>
                <a:hlinkClick r:id="rId2"/>
              </a:rPr>
              <a:t>www.klyaksa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DA38-3627-4437-8626-595287F661C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68360" y="404640"/>
            <a:ext cx="7775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нформатика в школе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1400" spc="-1" strike="noStrike" u="sng">
                <a:solidFill>
                  <a:srgbClr val="000066"/>
                </a:solidFill>
                <a:uFillTx/>
                <a:latin typeface="Verdana"/>
                <a:hlinkClick r:id="rId2"/>
              </a:rPr>
              <a:t>www.klyaksa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9966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Текстовые редактор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граммное обеспе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просы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Что такое текстовый редактор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ие основные функции текстового редактор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Что такое редактирование текст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Что такое форматирование текст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чем отличие форматов текстовых файлов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XT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TF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C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956720" y="692280"/>
            <a:ext cx="5634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09632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09632"/>
              </a:solidFill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Текстовые редакто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62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обработки текстовой информации на компьютере используются текстовые редакторы. Текстовые редакторы позволяют создавать, редактировать,  форматировать,  сохранять и  распечатывать докумен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66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669966"/>
                </a:solidFill>
                <a:latin typeface="Times New Roman"/>
              </a:rPr>
              <a:t>Блокно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669966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669966"/>
                </a:solidFill>
                <a:latin typeface="Times New Roman"/>
              </a:rPr>
              <a:t>Microsoft 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6699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669966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669966"/>
                </a:solidFill>
                <a:latin typeface="Times New Roman"/>
              </a:rPr>
              <a:t>StarOffice Wri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6699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6699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669966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669966"/>
                </a:solidFill>
                <a:latin typeface="Times New Roman"/>
              </a:rPr>
              <a:t>Adobe Page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669966"/>
                </a:solidFill>
                <a:latin typeface="Times New Roman"/>
              </a:rPr>
              <a:t>Microsoft Office Publis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6699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6699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6699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6699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669966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669966"/>
                </a:solidFill>
                <a:latin typeface="Times New Roman"/>
              </a:rPr>
              <a:t>Microsoft FrontPag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659640" y="6116760"/>
          <a:ext cx="6350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6116760"/>
                    <a:ext cx="6350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003640" y="6116760"/>
          <a:ext cx="62244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6116760"/>
                    <a:ext cx="622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776240" y="6116760"/>
          <a:ext cx="635040" cy="62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76240" y="6116760"/>
                    <a:ext cx="6350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3419640" y="6116760"/>
          <a:ext cx="528480" cy="57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19640" y="6116760"/>
                    <a:ext cx="5284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395280" y="6116760"/>
          <a:ext cx="647640" cy="68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5280" y="6116760"/>
                    <a:ext cx="6476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8172360" y="6116760"/>
          <a:ext cx="609840" cy="635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172360" y="6116760"/>
                    <a:ext cx="60984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Текстовые редакто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21844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Текстовые редактор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— это программы для создания, редактирования, форматирования, сохранения и печати документ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ременный документ может содержать, кроме текста, и другие объекты (таблицы, диаграммы, рисунки и т. д.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300720" y="4941720"/>
          <a:ext cx="2540160" cy="184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0720" y="4941720"/>
                    <a:ext cx="2540160" cy="18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Редактирование и форматиров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601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едактирован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— преобразование, обеспечивающее добавление, удаление, перемещение или исправление содержания документа. Редактирование документа обычно производится путем добавления, удаления или перемещения символов или фрагментов текс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just">
              <a:lnSpc>
                <a:spcPct val="80000"/>
              </a:lnSpc>
              <a:spcBef>
                <a:spcPts val="601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Форматирован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— это оформление текста. Кроме текстовых символов форматированный текст содержит специальные невидимые коды, которые сообщают программе, как надо его отображать на экране и печатать на принтере: какой шрифт использовать, каким должно быть начертание и размер символов, как оформляются абзацы и заголов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окументы бумажные и электронны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умажные документы создают и форматируют так, чтобы обеспечить их наилучшее представление при печати на принтере. Электронные документы создают и форматируют с целью наилучшего представления на экране монитор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степенное вытеснение бумажного документооборота электронным — одна из тенденций развития информационных технологий. Сокращение расхода бумаги благотворно сказывается на сбережении природных ресурсов и уменьшении загрязнения окружающей сред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Абсолютное и относительное  форматиров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80000"/>
              </a:lnSpc>
              <a:spcBef>
                <a:spcPts val="601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ля бумажных документов принято так называемое абсолютное форматирование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ечатный документ всегда форматируется под печатный лист известного размера (формата). Форматирование печатного документа всегда требует предварительного выбора листа бумаги с последующей привязкой к этому листу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80000"/>
              </a:lnSpc>
              <a:spcBef>
                <a:spcPts val="499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ля электронных документов принято так называемое относительное форматирование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втор документа не может заранее предсказать, на каком компьютере, с каким размером экрана документ будут просматривать. Более того, даже если бы размеры экранов и были известны заранее, все равно невозможно предсказать, каков будет размер окна, в котором читатель увидит документ. Поэтому электронные документы делают так, чтобы они подстраивались под текущий размер окна и форматировались «на лету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Форматирование абзаце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бзац с литературной точки зрения – это часть текста, представляющая собой законченный по смыслу фрагмент произведения, окончание которого служит естественной паузой для перехода к новой мысл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компьютерных документах абзацем считается любой текст, заканчивающийся управляющим символом конца абзаца. Ввод конца абзаца обеспечивается нажатием клавиши [ВВОД] ([ENTER]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процессе форматирования абзаца задаются параметры его выравнивания (выравнивание отражает расположение текста относительно границ полей страницы), отступы (абзац целиком может иметь отступы слева и справа) и интервалы (расстояние между строк абзаца), отступ красной строки и д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Форматирование шрифта (символов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имволы – это буквы, цифры, пробелы, знаки пунктуации, специальные символы. Символы можно форматировать (изменять их внешний вид). Среди основных свойств символов можно выделить следующие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шриф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разме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начерта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цве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Форматы текстовых фай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828800"/>
            <a:ext cx="878544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 algn="just">
              <a:lnSpc>
                <a:spcPct val="80000"/>
              </a:lnSpc>
              <a:spcBef>
                <a:spcPts val="425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Только текст (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Text Only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TXT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). Наиболее универсальный формат. Сохраняет текст без форматирования, в текст вставляются только управляющие символы конца абзаца. Применяют этот формат для хранения документов, которые должны быть прочитаны в приложениях, работающих в различных операционных системах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 algn="just">
              <a:lnSpc>
                <a:spcPct val="80000"/>
              </a:lnSpc>
              <a:spcBef>
                <a:spcPts val="425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Текст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формате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RTF (Rich Text Format)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RTF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Универсальный формат, который сохраняет все форматирование. Преобразует управляющие коды в команды, которые могут быть прочитаны и интерпретированы многими приложениями, в результате информационный объем файла существенно возрастает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 algn="just">
              <a:lnSpc>
                <a:spcPct val="80000"/>
              </a:lnSpc>
              <a:spcBef>
                <a:spcPts val="425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Документ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Word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OC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). Оригинальный формат используемой в настоящее время версии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. Полностью сохраняет форматирование. Использует 16-битную кодировку символов, что требует использования шрифтов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Unicode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 algn="just">
              <a:lnSpc>
                <a:spcPct val="80000"/>
              </a:lnSpc>
              <a:spcBef>
                <a:spcPts val="425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Документ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Word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2.0,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Word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6.0/95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OC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). Оригинальные форматы предыдущих версий редактора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. При преобра­зовании из формата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Word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97/2000 форматирование сохраняется не полностью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 algn="just">
              <a:lnSpc>
                <a:spcPct val="80000"/>
              </a:lnSpc>
              <a:spcBef>
                <a:spcPts val="425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Works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4.0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для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Windows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). Оригинальный формат интегрированной системы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Works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4.0. При преобразовании из формата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Word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форматирование сохраняется не полностью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 algn="just">
              <a:lnSpc>
                <a:spcPct val="80000"/>
              </a:lnSpc>
              <a:spcBef>
                <a:spcPts val="425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-документ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HTM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Формат хранения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-страниц. Содержит управляющие коды (тэги) языка разметки гипертекста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 algn="just">
              <a:lnSpc>
                <a:spcPct val="80000"/>
              </a:lnSpc>
              <a:spcBef>
                <a:spcPts val="425"/>
              </a:spcBef>
              <a:buClr>
                <a:srgbClr val="66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Формат Лексикон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LX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). Оригинальный формат отечест­венного текстового редактора Лексикон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14:03:19Z</dcterms:created>
  <dc:creator>bas</dc:creator>
  <dc:description/>
  <dc:language>en-US</dc:language>
  <cp:lastModifiedBy>bas</cp:lastModifiedBy>
  <dcterms:modified xsi:type="dcterms:W3CDTF">2005-11-24T17:08:30Z</dcterms:modified>
  <cp:revision>43</cp:revision>
  <dc:subject/>
  <dc:title>Устройство компьютера</dc:title>
</cp:coreProperties>
</file>