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E42-22EF-4EF5-AB74-70D42824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59E-EE56-4D1D-807E-41E7CC3B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235-D35D-46A3-B572-0A3AE8F4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8E2-8D3C-4F32-9391-C8BC4109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CC2-BADC-4337-B41D-D41CA3D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FA1-406F-423D-8C1B-3DBF74F6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851-0FA7-430E-90B1-7D9DB523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11B-BE21-467D-ABD5-28626C8A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13D-2FB5-4EE5-AE37-9BDCC9C8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279-541F-4A99-9150-1AF173D3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6E86-3D2E-47EC-8D09-FD15246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2FD-9364-4FDE-80B6-2507A8E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9C9B30-4CDC-4DF6-950C-280F53E46902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9360"/>
            <a:ext cx="9144000" cy="50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2700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ТЕКСТОВЫЕ  РЕДА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53000"/>
            <a:ext cx="9144000" cy="13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62464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ТЕКСТОВЫЙ РЕДАКТО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ТР) – это прикладная программа, предназначенная для создания и редактирования текстовых документов, просмотра содержимого документов на экране, распечатки документа.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ТЕКСТОВЫЙ ПРОЦЕССО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прикладная программа с широкими возможностями форматирования текста и работы с графическими объект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4200" y="1341360"/>
            <a:ext cx="1441440" cy="11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сп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6000" y="3933720"/>
            <a:ext cx="126036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мв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ро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бза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зд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ра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55640" y="3933720"/>
            <a:ext cx="194472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бочее п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кстовый кур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ню коман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нейки разме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лосы прокрут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трока состо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3429000"/>
            <a:ext cx="251928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АН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нтерфей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менения состоя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мещения по текс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дак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боты со стро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т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. . . . . . . . . . . . . . . . . 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000" y="728640"/>
            <a:ext cx="2916000" cy="504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ППАРАТНЫЕ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4720" y="728640"/>
            <a:ext cx="5580000" cy="100800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КОМПЬЮТЕРНАЯ  ТЕХНОЛОГ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ОБРАБОТКИ  ТЕКСТОВОЙ 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981000"/>
            <a:ext cx="252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6720" y="3284640"/>
            <a:ext cx="244800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олучение спра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вод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едактирование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тирование тек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бота с фрагм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бота с ок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абота с фай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чать доку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5640" y="2023920"/>
            <a:ext cx="6769080" cy="5032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НОЕ  ОБЕСПЕЧЕНИЕ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ТЕКСТОВЫЙ  РЕДАКТО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77080" y="1736640"/>
            <a:ext cx="144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2781360"/>
            <a:ext cx="2448000" cy="396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жимы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6000" y="2779560"/>
            <a:ext cx="6084720" cy="397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 текстового редак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40720" y="2529000"/>
            <a:ext cx="1440" cy="2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76720" y="2529000"/>
            <a:ext cx="1440" cy="2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55640" y="3392640"/>
            <a:ext cx="1979640" cy="396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а 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3392640"/>
            <a:ext cx="682560" cy="396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6000" y="3392640"/>
            <a:ext cx="1260360" cy="3967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176640"/>
            <a:ext cx="180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35280" y="317664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317664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200" y="2700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СРЕДА  ТЕКСТОВОГО  РЕДА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47640" y="673200"/>
            <a:ext cx="7486920" cy="4194000"/>
            <a:chOff x="1547640" y="673200"/>
            <a:chExt cx="7486920" cy="4194000"/>
          </a:xfrm>
        </p:grpSpPr>
        <p:sp>
          <p:nvSpPr>
            <p:cNvPr id="70" name=""/>
            <p:cNvSpPr/>
            <p:nvPr/>
          </p:nvSpPr>
          <p:spPr>
            <a:xfrm>
              <a:off x="1547640" y="673200"/>
              <a:ext cx="7482240" cy="37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ff3300"/>
                  </a:solidFill>
                  <a:latin typeface="Century Gothic"/>
                </a:rPr>
                <a:t>   </a:t>
              </a: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Меню  коман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47640" y="4568760"/>
              <a:ext cx="748224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Строка  состоя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72680" y="1128600"/>
              <a:ext cx="458640" cy="337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47640" y="4149720"/>
              <a:ext cx="696924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47640" y="1542960"/>
              <a:ext cx="6969240" cy="256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47640" y="1128600"/>
              <a:ext cx="6969240" cy="371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14720" y="2122560"/>
              <a:ext cx="0" cy="24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84440" y="1628640"/>
              <a:ext cx="1123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Текстовый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курс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15040" y="1628640"/>
              <a:ext cx="257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Century Gothic"/>
                </a:rPr>
                <a:t>Рабочее  поле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Century Gothic"/>
                </a:rPr>
                <a:t>текстового  редакто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61760" y="1095480"/>
              <a:ext cx="174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Линейка  разме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0504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6064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176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32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288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2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4152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9712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5452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1012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6572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2276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7836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3396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9100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4660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0220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5960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1664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7224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292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848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404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978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534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09080" y="141768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08600" y="755640"/>
              <a:ext cx="1023840" cy="204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4720" y="755640"/>
              <a:ext cx="1023840" cy="204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15120" y="755640"/>
              <a:ext cx="1023840" cy="204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47640" y="4149720"/>
              <a:ext cx="462240" cy="369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55000" y="4149720"/>
              <a:ext cx="461880" cy="369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72680" y="1128600"/>
              <a:ext cx="461880" cy="37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570880" y="4137120"/>
              <a:ext cx="461880" cy="369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62560" y="4149720"/>
              <a:ext cx="1177920" cy="369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572680" y="1844640"/>
              <a:ext cx="458640" cy="654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61160" y="3681360"/>
              <a:ext cx="2305080" cy="0"/>
            </a:xfrm>
            <a:prstGeom prst="line">
              <a:avLst/>
            </a:prstGeom>
            <a:ln w="6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1440" y="2852640"/>
              <a:ext cx="2971800" cy="0"/>
            </a:xfrm>
            <a:prstGeom prst="line">
              <a:avLst/>
            </a:prstGeom>
            <a:ln w="64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50360" y="3200400"/>
              <a:ext cx="1671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Горизонтальная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полоса  прокру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39120" y="2371680"/>
              <a:ext cx="1671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Вертикальная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200" spc="-1" strike="noStrike">
                  <a:solidFill>
                    <a:srgbClr val="ff3300"/>
                  </a:solidFill>
                  <a:latin typeface="Century Gothic"/>
                </a:rPr>
                <a:t>полоса  прокрут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61160" y="3681360"/>
              <a:ext cx="0" cy="682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1640" y="2529000"/>
            <a:ext cx="507708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7155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1079640" y="3600360"/>
            <a:ext cx="7199280" cy="9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penOffice.org Writer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549360"/>
            <a:ext cx="9144000" cy="574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200" y="55440"/>
            <a:ext cx="82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СТРУКТУРНЫЕ  ЕДИНИЦЫ 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873000"/>
            <a:ext cx="8677080" cy="52246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125360"/>
            <a:ext cx="817272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а текстового редак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ираемый пользователем на клавиатуре</a:t>
            </a: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 отображается в рабочем поле редактора на экране. Место воздействия  на рабочем поле отмечается курсором. Курсор имеет вид мигающей черточки или прямо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о текст имеет больший размер, чем тот, что может поместиться на экране. В этом случае в пределах рабочего поля располагается только часть текста. Экран является своеобразным окном, через которое можно просматривать текст. Для перемещения по тексту специальные клавиши клавиатуры или полосы прокрутки в окне доку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ротко о глав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овый редактор (ТР) – это прикладная программа, предназначенная для создания и редактирования текстовых документов, просмотра содержимого документа на экране, изменения формата документа, распечатки текста на бумаге с помощью прин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ными компонентами среды ТР являются: рабочее поле, текстовый курсор, строка состояния, меню команд, линейки разметки, полосы прокр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832200"/>
            <a:ext cx="8317080" cy="1693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2236680"/>
            <a:ext cx="8389800" cy="10479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531800"/>
            <a:ext cx="8207280" cy="250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48000" y="1198440"/>
            <a:ext cx="971640" cy="252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230480"/>
            <a:ext cx="179280" cy="215640"/>
          </a:xfrm>
          <a:prstGeom prst="ellipse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79640" y="1084320"/>
            <a:ext cx="82440" cy="147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62080" y="1085760"/>
            <a:ext cx="792000" cy="1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640" y="841320"/>
            <a:ext cx="7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entury Gothic"/>
              </a:rPr>
              <a:t>симв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70400" y="85716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entury Gothic"/>
              </a:rPr>
              <a:t>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41360" y="1190520"/>
            <a:ext cx="71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entury Gothic"/>
              </a:rPr>
              <a:t>ст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419640" y="1112760"/>
            <a:ext cx="82440" cy="856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3520" y="1114560"/>
            <a:ext cx="630360" cy="1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021200" y="1447920"/>
            <a:ext cx="82440" cy="856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05440" y="1449360"/>
            <a:ext cx="630000" cy="14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39960" y="296244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entury Gothic"/>
              </a:rPr>
              <a:t>абза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69000" y="555480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entury Gothic"/>
              </a:rPr>
              <a:t>разд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26000" y="5526000"/>
            <a:ext cx="272880" cy="27324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03920" y="5800680"/>
            <a:ext cx="630000" cy="18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83440" y="1027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entury Gothic"/>
              </a:rPr>
              <a:t>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8:17:50Z</dcterms:created>
  <dc:creator>user</dc:creator>
  <dc:description/>
  <dc:language>en-US</dc:language>
  <cp:lastModifiedBy>Administrator</cp:lastModifiedBy>
  <dcterms:modified xsi:type="dcterms:W3CDTF">2008-02-19T12:55:59Z</dcterms:modified>
  <cp:revision>26</cp:revision>
  <dc:subject/>
  <dc:title>Слайд 1</dc:title>
</cp:coreProperties>
</file>