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23.wmf" ContentType="image/x-wmf"/>
  <Override PartName="/ppt/media/image72.wmf" ContentType="image/x-wmf"/>
  <Override PartName="/ppt/media/image24.wmf" ContentType="image/x-wmf"/>
  <Override PartName="/ppt/media/image34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58.png" ContentType="image/png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61.jpeg" ContentType="image/jpeg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755-9599-404F-A1D4-E8C0DFD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BCE-8970-49C2-9702-0050C98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CE5-AD10-450E-BE9F-EAA5417B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2C1-5CEB-4F54-A4FF-068BA29B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9E1-5395-4A68-8EB4-4FA4E54A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B87-2881-4998-8180-35A34F2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97E-4D2E-4C12-A7E2-7E93D1D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436-727A-4D0D-BB77-1B63A86C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478-4E1E-4FAF-985D-B9543F2F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2D7-7C76-4905-BE76-22B2915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A92-2997-401E-9B8C-B34A6BC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296-5081-4398-BD22-D83F9AE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06700F-CB94-4964-8E25-09C76624973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thege.ru/" TargetMode="External"/><Relationship Id="rId2" Type="http://schemas.openxmlformats.org/officeDocument/2006/relationships/hyperlink" Target="http://ru.wikipedia.org/wiki/&#1053;&#1072;&#1090;&#1091;&#1088;&#1072;&#1083;&#1100;&#1085;&#1099;&#1081;_&#1083;&#1086;&#1075;&#1072;&#1088;&#1080;&#1092;&#1084;" TargetMode="External"/><Relationship Id="rId3" Type="http://schemas.openxmlformats.org/officeDocument/2006/relationships/hyperlink" Target="http://ru.wikipedia.org/wiki/E_(&#1095;&#1080;&#1089;&#1083;&#1086;)" TargetMode="External"/><Relationship Id="rId4" Type="http://schemas.openxmlformats.org/officeDocument/2006/relationships/hyperlink" Target="http://ru.wikipedia.org/wiki/&#1069;&#1081;&#1083;&#1077;&#1088;,_&#1051;&#1077;&#1086;&#1085;&#1072;&#1088;&#1076;" TargetMode="External"/><Relationship Id="rId5" Type="http://schemas.openxmlformats.org/officeDocument/2006/relationships/hyperlink" Target="http://ru.wikipedia.org/wiki/&#1041;&#1077;&#1088;&#1085;&#1091;&#1083;&#1083;&#1080;,_&#1071;&#1082;&#1086;&#1073;" TargetMode="External"/><Relationship Id="rId6" Type="http://schemas.openxmlformats.org/officeDocument/2006/relationships/hyperlink" Target="http://a-nomalia.narod.ru/100otkr/45.htm" TargetMode="External"/><Relationship Id="rId7" Type="http://schemas.openxmlformats.org/officeDocument/2006/relationships/hyperlink" Target="http://tatyana-chulan.ucoz.ru/forum/8-13-2" TargetMode="External"/><Relationship Id="rId8" Type="http://schemas.openxmlformats.org/officeDocument/2006/relationships/hyperlink" Target="http://www.moi-mummi.ru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Свойства логарифмов.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(а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&gt;0,a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</a:rPr>
              <a:t>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1,b&gt;0,c&gt;0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</a:rPr>
              <a:t>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0 )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31880" y="-181080"/>
            <a:ext cx="47988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1568520" y="1285920"/>
          <a:ext cx="1720440" cy="491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285920"/>
                    <a:ext cx="1720440" cy="4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3"/>
          <p:cNvGraphicFramePr/>
          <p:nvPr/>
        </p:nvGraphicFramePr>
        <p:xfrm>
          <a:off x="5929200" y="2214720"/>
          <a:ext cx="2356920" cy="5630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2214720"/>
                    <a:ext cx="2356920" cy="5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1714680" y="1643040"/>
          <a:ext cx="1142640" cy="696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1643040"/>
                    <a:ext cx="1142640" cy="69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5"/>
          <p:cNvGraphicFramePr/>
          <p:nvPr/>
        </p:nvGraphicFramePr>
        <p:xfrm>
          <a:off x="1714680" y="2357280"/>
          <a:ext cx="1142640" cy="5616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14680" y="2357280"/>
                    <a:ext cx="1142640" cy="56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1714680" y="2928960"/>
          <a:ext cx="1285560" cy="6598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14680" y="2928960"/>
                    <a:ext cx="1285560" cy="6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7"/>
          <p:cNvGraphicFramePr/>
          <p:nvPr/>
        </p:nvGraphicFramePr>
        <p:xfrm>
          <a:off x="1714680" y="3643200"/>
          <a:ext cx="1142640" cy="4964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4680" y="3643200"/>
                    <a:ext cx="1142640" cy="49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8"/>
          <p:cNvGraphicFramePr/>
          <p:nvPr/>
        </p:nvGraphicFramePr>
        <p:xfrm>
          <a:off x="1785960" y="4143240"/>
          <a:ext cx="1213920" cy="6552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85960" y="4143240"/>
                    <a:ext cx="1213920" cy="65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9"/>
          <p:cNvGraphicFramePr/>
          <p:nvPr/>
        </p:nvGraphicFramePr>
        <p:xfrm>
          <a:off x="1714680" y="4786200"/>
          <a:ext cx="1142640" cy="5569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14680" y="4786200"/>
                    <a:ext cx="11426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0"/>
          <p:cNvGraphicFramePr/>
          <p:nvPr/>
        </p:nvGraphicFramePr>
        <p:xfrm>
          <a:off x="5929200" y="4429080"/>
          <a:ext cx="2669760" cy="59796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9200" y="4429080"/>
                    <a:ext cx="266976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5929200" y="3286080"/>
          <a:ext cx="1356840" cy="5266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29200" y="3286080"/>
                    <a:ext cx="1356840" cy="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6072120" y="5214960"/>
          <a:ext cx="1512360" cy="77292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72120" y="5214960"/>
                    <a:ext cx="15123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6286680" y="1785960"/>
          <a:ext cx="391680" cy="4694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86680" y="1785960"/>
                    <a:ext cx="391680" cy="46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4"/>
          <p:cNvGraphicFramePr/>
          <p:nvPr/>
        </p:nvGraphicFramePr>
        <p:xfrm>
          <a:off x="5929200" y="1357200"/>
          <a:ext cx="1071360" cy="49968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6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29200" y="1357200"/>
                    <a:ext cx="107136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5"/>
          <p:cNvGraphicFramePr/>
          <p:nvPr/>
        </p:nvGraphicFramePr>
        <p:xfrm>
          <a:off x="1714680" y="5500800"/>
          <a:ext cx="1071360" cy="57744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14680" y="5500800"/>
                    <a:ext cx="1071360" cy="57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6357960" y="2786040"/>
          <a:ext cx="356760" cy="53604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57960" y="2786040"/>
                    <a:ext cx="356760" cy="5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7"/>
          <p:cNvGraphicFramePr/>
          <p:nvPr/>
        </p:nvGraphicFramePr>
        <p:xfrm>
          <a:off x="6429240" y="3786120"/>
          <a:ext cx="356760" cy="490320"/>
        </p:xfrm>
        <a:graphic>
          <a:graphicData uri="http://schemas.openxmlformats.org/presentationml/2006/ole">
            <p:oleObj progId="Equation.3" r:id="rId31" spid="">
              <p:embed/>
              <p:pic>
                <p:nvPicPr>
                  <p:cNvPr id="74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29240" y="3786120"/>
                    <a:ext cx="356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5" name="Прямая со стрелкой 20"/>
          <p:cNvCxnSpPr/>
          <p:nvPr/>
        </p:nvCxnSpPr>
        <p:spPr>
          <a:xfrm>
            <a:off x="3143160" y="1571400"/>
            <a:ext cx="2572200" cy="92916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Прямая со стрелкой 21"/>
          <p:cNvCxnSpPr/>
          <p:nvPr/>
        </p:nvCxnSpPr>
        <p:spPr>
          <a:xfrm>
            <a:off x="2928600" y="2143080"/>
            <a:ext cx="2858040" cy="257184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7" name="Прямая со стрелкой 23"/>
          <p:cNvCxnSpPr/>
          <p:nvPr/>
        </p:nvCxnSpPr>
        <p:spPr>
          <a:xfrm>
            <a:off x="2786040" y="2786040"/>
            <a:ext cx="3071880" cy="71460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8" name="Прямая со стрелкой 25"/>
          <p:cNvCxnSpPr/>
          <p:nvPr/>
        </p:nvCxnSpPr>
        <p:spPr>
          <a:xfrm>
            <a:off x="2857320" y="3357360"/>
            <a:ext cx="3143520" cy="214344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9" name="Прямая со стрелкой 27"/>
          <p:cNvCxnSpPr/>
          <p:nvPr/>
        </p:nvCxnSpPr>
        <p:spPr>
          <a:xfrm flipV="1">
            <a:off x="2500200" y="2071440"/>
            <a:ext cx="3572280" cy="185796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0" name="Прямая со стрелкой 29"/>
          <p:cNvCxnSpPr/>
          <p:nvPr/>
        </p:nvCxnSpPr>
        <p:spPr>
          <a:xfrm flipV="1">
            <a:off x="2857320" y="1714320"/>
            <a:ext cx="3072240" cy="292932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1" name="Прямая со стрелкой 31"/>
          <p:cNvCxnSpPr/>
          <p:nvPr/>
        </p:nvCxnSpPr>
        <p:spPr>
          <a:xfrm flipV="1">
            <a:off x="2857320" y="3143160"/>
            <a:ext cx="3500640" cy="207180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2" name="Прямая со стрелкой 33"/>
          <p:cNvCxnSpPr/>
          <p:nvPr/>
        </p:nvCxnSpPr>
        <p:spPr>
          <a:xfrm flipV="1">
            <a:off x="2786040" y="4143240"/>
            <a:ext cx="3643560" cy="1643400"/>
          </a:xfrm>
          <a:prstGeom prst="straightConnector1">
            <a:avLst/>
          </a:prstGeom>
          <a:ln w="2857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13"/>
          <p:cNvSpPr/>
          <p:nvPr/>
        </p:nvSpPr>
        <p:spPr>
          <a:xfrm>
            <a:off x="4500720" y="3000240"/>
            <a:ext cx="285480" cy="285480"/>
          </a:xfrm>
          <a:prstGeom prst="ellips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Овал 8"/>
          <p:cNvSpPr/>
          <p:nvPr/>
        </p:nvSpPr>
        <p:spPr>
          <a:xfrm>
            <a:off x="2143080" y="1500120"/>
            <a:ext cx="285480" cy="285480"/>
          </a:xfrm>
          <a:prstGeom prst="ellips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62863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3)Найдите значение выражения 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, если </a:t>
            </a:r>
            <a:br>
              <a:rPr sz="44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22924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3" descr="\log_a (a^{5}b^{2})"/>
          <p:cNvPicPr/>
          <p:nvPr/>
        </p:nvPicPr>
        <p:blipFill>
          <a:blip r:embed="rId1"/>
          <a:stretch/>
        </p:blipFill>
        <p:spPr>
          <a:xfrm>
            <a:off x="6072120" y="642960"/>
            <a:ext cx="1999800" cy="571320"/>
          </a:xfrm>
          <a:prstGeom prst="rect">
            <a:avLst/>
          </a:prstGeom>
          <a:ln w="9525">
            <a:noFill/>
          </a:ln>
        </p:spPr>
      </p:pic>
      <p:pic>
        <p:nvPicPr>
          <p:cNvPr id="201" name="Рисунок 4" descr="\log_b a=\frac{2}{7}"/>
          <p:cNvPicPr/>
          <p:nvPr/>
        </p:nvPicPr>
        <p:blipFill>
          <a:blip r:embed="rId2"/>
          <a:stretch/>
        </p:blipFill>
        <p:spPr>
          <a:xfrm>
            <a:off x="1571760" y="1071720"/>
            <a:ext cx="1856880" cy="8568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02" name="Object 2"/>
          <p:cNvGraphicFramePr/>
          <p:nvPr/>
        </p:nvGraphicFramePr>
        <p:xfrm>
          <a:off x="571680" y="2714760"/>
          <a:ext cx="4968360" cy="577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2714760"/>
                    <a:ext cx="4968360" cy="57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642960" y="3500280"/>
          <a:ext cx="2612520" cy="10364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00280"/>
                    <a:ext cx="26125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3357720" y="3500280"/>
          <a:ext cx="2007720" cy="9457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3500280"/>
                    <a:ext cx="2007720" cy="94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5"/>
          <p:cNvGraphicFramePr/>
          <p:nvPr/>
        </p:nvGraphicFramePr>
        <p:xfrm>
          <a:off x="6572160" y="1785960"/>
          <a:ext cx="2176200" cy="9997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2160" y="1785960"/>
                    <a:ext cx="2176200" cy="9997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Содержимое 2"/>
          <p:cNvSpPr/>
          <p:nvPr/>
        </p:nvSpPr>
        <p:spPr>
          <a:xfrm>
            <a:off x="500040" y="2000160"/>
            <a:ext cx="822924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2"/>
          <p:cNvSpPr/>
          <p:nvPr/>
        </p:nvSpPr>
        <p:spPr>
          <a:xfrm>
            <a:off x="1643040" y="4857840"/>
            <a:ext cx="4571640" cy="43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упоминание натурального логарифма сделал 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Николас Меркато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бот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Logarithmotechni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публикованной в 1668 году, хотя учитель математики 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Джон Спайдел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ё в 1619 году составил таблицу натуральных логарифмов. Ранее его называли гиперболическим логарифмом, поскольку он соответствует площади под гипербол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240" cy="725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Происхождение термина </a:t>
            </a: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натуральный логарифм</a:t>
            </a:r>
            <a:br>
              <a:rPr sz="36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может показаться, что поскольку наша система счисления имеет основание 10, то это основание является более «натуральным», чем основан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 математически число 10 не является особо значимым. Его использование скорее связано с культурой, оно является общим для многих систем счисления, и связано это, вероятно, с числом пальцев у люде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культуры основывали свои системы счисления на других основаниях: 5, 8, 12, 20 и 60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«натуральным» логарифмом, поскольк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возникает автоматически и появляется в математи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част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ff"/>
                </a:solidFill>
                <a:latin typeface="Calibri"/>
              </a:rPr>
              <a:t>е=2,718281828459045235360…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71840" y="1500120"/>
            <a:ext cx="60861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у константу впервые вычислил швейцарский математик Бернулли в ходе решения задачи о предельной величине процентного дохода. Бернулли показал, что процентный доход в случае сложного процента имеет предел:                          и этот предел равен </a:t>
            </a: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2,71828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6357960" y="3357720"/>
            <a:ext cx="1247400" cy="40932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1904760" cy="2133360"/>
          </a:xfrm>
          <a:prstGeom prst="rect">
            <a:avLst/>
          </a:prstGeom>
          <a:ln w="9525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1714680" y="4357800"/>
            <a:ext cx="6500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Экспоненту помнить способ есть про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два и семь десятых, дважды Лев Толстой(18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2,7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1828</a:t>
            </a: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18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6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86040" y="857160"/>
            <a:ext cx="6257520" cy="3828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укву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чал использовать </a:t>
            </a: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Эйл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1727 году, а первой публикацией с этой буквой была его работа «Механика, или Наука о движении, изложенная аналитически» 1736 год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была выбрана именно букв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чно неизвестно. Возможно, это связано с тем, что с неё начинается слов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xponentia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«показательный», «экспоненциальный»). Другое предположение заключается в том, что букв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же довольно широко использовались в иных целях,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ыла первой «свободной» букво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2085480" cy="260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Таблицы логарифмов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0200" y="1214280"/>
            <a:ext cx="6500520" cy="271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таблицы логарифмов были составлены швейцарским математиком </a:t>
            </a: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Бюрги в 1590 год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емного позднее таблицы логарифмов также составил </a:t>
            </a: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шотландский ученый Неп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епер брал за основание логарифма число, очень близкое к единице но меньшее, чем единица. Непер опубликовал свои таблицы в 1614, а Бюрги в 1620 году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NEPER-P"/>
          <p:cNvPicPr/>
          <p:nvPr/>
        </p:nvPicPr>
        <p:blipFill>
          <a:blip r:embed="rId1"/>
          <a:srcRect l="12694" t="12742" r="13657" b="12934"/>
          <a:stretch/>
        </p:blipFill>
        <p:spPr>
          <a:xfrm>
            <a:off x="500040" y="1143000"/>
            <a:ext cx="2071440" cy="2499840"/>
          </a:xfrm>
          <a:prstGeom prst="rect">
            <a:avLst/>
          </a:prstGeom>
          <a:ln w="9525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1714680" y="4000680"/>
            <a:ext cx="72147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днее Непер и его сотрудник </a:t>
            </a: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Бриг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евели первые таблицы Непера на новое основание — 10.  Таблицы десятичных логарифмов были впервые опубликованы в 1624 году. Именно поэтому они также носят название Бригг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первые таблицы логарифмов были изданы в 170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3114360" cy="725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1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рупп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Содержимое 3"/>
          <p:cNvGraphicFramePr/>
          <p:nvPr/>
        </p:nvGraphicFramePr>
        <p:xfrm>
          <a:off x="5643720" y="1785960"/>
          <a:ext cx="2466720" cy="528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3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1785960"/>
                    <a:ext cx="2466720" cy="5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Заголовок 1"/>
          <p:cNvSpPr/>
          <p:nvPr/>
        </p:nvSpPr>
        <p:spPr>
          <a:xfrm>
            <a:off x="5500800" y="1071720"/>
            <a:ext cx="3114360" cy="72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0"/>
          <p:cNvGraphicFramePr/>
          <p:nvPr/>
        </p:nvGraphicFramePr>
        <p:xfrm>
          <a:off x="428760" y="1906560"/>
          <a:ext cx="4571640" cy="550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1906560"/>
                    <a:ext cx="4571640" cy="55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1"/>
          <p:cNvGraphicFramePr/>
          <p:nvPr/>
        </p:nvGraphicFramePr>
        <p:xfrm>
          <a:off x="428760" y="2357280"/>
          <a:ext cx="2366640" cy="933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2357280"/>
                    <a:ext cx="236664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2"/>
          <p:cNvGraphicFramePr/>
          <p:nvPr/>
        </p:nvGraphicFramePr>
        <p:xfrm>
          <a:off x="5643720" y="2571840"/>
          <a:ext cx="2199960" cy="59976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3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3720" y="2571840"/>
                    <a:ext cx="21999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3"/>
          <p:cNvGraphicFramePr/>
          <p:nvPr/>
        </p:nvGraphicFramePr>
        <p:xfrm>
          <a:off x="5643720" y="3429000"/>
          <a:ext cx="3065040" cy="11743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3720" y="3429000"/>
                    <a:ext cx="3065040" cy="11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4"/>
          <p:cNvGraphicFramePr/>
          <p:nvPr/>
        </p:nvGraphicFramePr>
        <p:xfrm>
          <a:off x="428760" y="3214800"/>
          <a:ext cx="3936600" cy="163152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4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3214800"/>
                    <a:ext cx="3936600" cy="16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459680" y="769680"/>
            <a:ext cx="223920" cy="27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428760" y="571680"/>
            <a:ext cx="8357760" cy="72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Задания для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Домашнее зада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8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йдит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числите: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2786040" y="1285920"/>
          <a:ext cx="4654080" cy="761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285920"/>
                    <a:ext cx="465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3151080" y="1987560"/>
          <a:ext cx="1841040" cy="812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1987560"/>
                    <a:ext cx="18410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3086280" y="2962440"/>
          <a:ext cx="2758680" cy="7585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2962440"/>
                    <a:ext cx="275868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3143160" y="3786120"/>
          <a:ext cx="2844360" cy="8791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3786120"/>
                    <a:ext cx="284436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3214800" y="4786200"/>
          <a:ext cx="4708080" cy="7855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14800" y="4786200"/>
                    <a:ext cx="47080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лгебра и начала анализа: учеб. для 10-11 кл. общеобразоват. учреждений/[Ш.А. Алимов, Ю.М. Колягин];   – М.: Просвещение, 2007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крытый банк заданий для подготовки к ЕГЭ по математике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athege.ru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кипедия. Натуральный логарифм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0%9D%D0%B0%D1%82%D1%83%D1%80%D0%B0%D0%BB%D1%8C%D0%BD%D1%8B%D0%B9_%D0%BB%D0%BE%D0%B3%D0%B0%D1%80%D0%B8%D1%84%D0%BC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кипедиЯ. е(число)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.wikipedia.org/wiki/E_%28%D1%87%D0%B8%D1%81%D0%BB%D0%BE%29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йлер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/%D0%AD%D0%B9%D0%BB%D0%B5%D1%80,_%D0%9B%D0%B5%D0%BE%D0%BD%D0%B0%D1%80%D0%B4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нулли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u.wikipedia.org/wiki/%D0%91%D0%B5%D1%80%D0%BD%D1%83%D0%BB%D0%BB%D0%B8,_%D0%AF%D0%BA%D0%BE%D0%B1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пер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-nomalia.narod.ru/100otkr/45.htm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н презентации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tatyana-chulan.ucoz.ru/forum/8-13-2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4"/>
          </p:nvPr>
        </p:nvSpPr>
        <p:spPr>
          <a:xfrm>
            <a:off x="3286080" y="57862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 университет – </a:t>
            </a:r>
            <a:r>
              <a:rPr b="0" lang="ru-RU" sz="1200" spc="-1" strike="noStrike" u="sng">
                <a:solidFill>
                  <a:srgbClr val="8b8bff"/>
                </a:solidFill>
                <a:uFillTx/>
                <a:latin typeface="Calibri"/>
                <a:hlinkClick r:id="rId8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Найдите значение выражени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Содержимое 3"/>
          <p:cNvGraphicFramePr/>
          <p:nvPr/>
        </p:nvGraphicFramePr>
        <p:xfrm>
          <a:off x="642960" y="1214280"/>
          <a:ext cx="1393560" cy="5140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8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214280"/>
                    <a:ext cx="13935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642960" y="2643120"/>
          <a:ext cx="1690200" cy="785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643120"/>
                    <a:ext cx="16902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642960" y="3500280"/>
          <a:ext cx="1644120" cy="5472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00280"/>
                    <a:ext cx="1644120" cy="54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"/>
          <p:cNvGraphicFramePr/>
          <p:nvPr/>
        </p:nvGraphicFramePr>
        <p:xfrm>
          <a:off x="593640" y="1784520"/>
          <a:ext cx="1334880" cy="899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3640" y="1784520"/>
                    <a:ext cx="1334880" cy="89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6"/>
          <p:cNvGraphicFramePr/>
          <p:nvPr/>
        </p:nvGraphicFramePr>
        <p:xfrm>
          <a:off x="571680" y="4214880"/>
          <a:ext cx="1642680" cy="6426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214880"/>
                    <a:ext cx="164268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7"/>
          <p:cNvGraphicFramePr/>
          <p:nvPr/>
        </p:nvGraphicFramePr>
        <p:xfrm>
          <a:off x="4071960" y="1214280"/>
          <a:ext cx="1855440" cy="57132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71960" y="1214280"/>
                    <a:ext cx="18554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8"/>
          <p:cNvGraphicFramePr/>
          <p:nvPr/>
        </p:nvGraphicFramePr>
        <p:xfrm>
          <a:off x="4071960" y="1857240"/>
          <a:ext cx="1593360" cy="6426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71960" y="1857240"/>
                    <a:ext cx="159336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9"/>
          <p:cNvGraphicFramePr/>
          <p:nvPr/>
        </p:nvGraphicFramePr>
        <p:xfrm>
          <a:off x="4071960" y="2571840"/>
          <a:ext cx="1757160" cy="64260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71960" y="2571840"/>
                    <a:ext cx="175716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0"/>
          <p:cNvGraphicFramePr/>
          <p:nvPr/>
        </p:nvGraphicFramePr>
        <p:xfrm>
          <a:off x="4071960" y="3214800"/>
          <a:ext cx="2795400" cy="45216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0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71960" y="3214800"/>
                    <a:ext cx="279540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1"/>
          <p:cNvGraphicFramePr/>
          <p:nvPr/>
        </p:nvGraphicFramePr>
        <p:xfrm>
          <a:off x="4071960" y="3786120"/>
          <a:ext cx="2731680" cy="9396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0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71960" y="3786120"/>
                    <a:ext cx="273168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2"/>
          <p:cNvGraphicFramePr/>
          <p:nvPr/>
        </p:nvGraphicFramePr>
        <p:xfrm>
          <a:off x="3975120" y="4857840"/>
          <a:ext cx="3018960" cy="6980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0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75120" y="4857840"/>
                    <a:ext cx="3018960" cy="69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3"/>
          <p:cNvGraphicFramePr/>
          <p:nvPr/>
        </p:nvGraphicFramePr>
        <p:xfrm>
          <a:off x="4000680" y="5643720"/>
          <a:ext cx="3169800" cy="52668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107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00680" y="5643720"/>
                    <a:ext cx="3169800" cy="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Прямоугольник 14"/>
          <p:cNvSpPr/>
          <p:nvPr/>
        </p:nvSpPr>
        <p:spPr>
          <a:xfrm>
            <a:off x="2286000" y="121428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2286000" y="200016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 0,5</a:t>
            </a:r>
            <a:r>
              <a:rPr b="0" lang="ru-RU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8"/>
          <p:cNvSpPr/>
          <p:nvPr/>
        </p:nvSpPr>
        <p:spPr>
          <a:xfrm>
            <a:off x="2286000" y="278604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9"/>
          <p:cNvSpPr/>
          <p:nvPr/>
        </p:nvSpPr>
        <p:spPr>
          <a:xfrm>
            <a:off x="2286000" y="350028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0"/>
          <p:cNvSpPr/>
          <p:nvPr/>
        </p:nvSpPr>
        <p:spPr>
          <a:xfrm>
            <a:off x="2286000" y="428616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"/>
          <p:cNvSpPr/>
          <p:nvPr/>
        </p:nvSpPr>
        <p:spPr>
          <a:xfrm>
            <a:off x="7215120" y="121428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2"/>
          <p:cNvSpPr/>
          <p:nvPr/>
        </p:nvSpPr>
        <p:spPr>
          <a:xfrm>
            <a:off x="7215120" y="200016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3"/>
          <p:cNvSpPr/>
          <p:nvPr/>
        </p:nvSpPr>
        <p:spPr>
          <a:xfrm>
            <a:off x="7215120" y="264312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4"/>
          <p:cNvSpPr/>
          <p:nvPr/>
        </p:nvSpPr>
        <p:spPr>
          <a:xfrm>
            <a:off x="7215120" y="321480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5"/>
          <p:cNvSpPr/>
          <p:nvPr/>
        </p:nvSpPr>
        <p:spPr>
          <a:xfrm>
            <a:off x="7215120" y="400068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6"/>
          <p:cNvSpPr/>
          <p:nvPr/>
        </p:nvSpPr>
        <p:spPr>
          <a:xfrm>
            <a:off x="7215120" y="478620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7"/>
          <p:cNvSpPr/>
          <p:nvPr/>
        </p:nvSpPr>
        <p:spPr>
          <a:xfrm>
            <a:off x="7215120" y="5715000"/>
            <a:ext cx="1285560" cy="499680"/>
          </a:xfrm>
          <a:prstGeom prst="rec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Решите уравн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Содержимое 3"/>
          <p:cNvGraphicFramePr/>
          <p:nvPr/>
        </p:nvGraphicFramePr>
        <p:xfrm>
          <a:off x="2857680" y="1571760"/>
          <a:ext cx="2714400" cy="9284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2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1571760"/>
                    <a:ext cx="27144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"/>
          <p:cNvGraphicFramePr/>
          <p:nvPr/>
        </p:nvGraphicFramePr>
        <p:xfrm>
          <a:off x="3071880" y="1643040"/>
          <a:ext cx="2499840" cy="828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1643040"/>
                    <a:ext cx="249984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8"/>
          <p:cNvGraphicFramePr/>
          <p:nvPr/>
        </p:nvGraphicFramePr>
        <p:xfrm>
          <a:off x="3071880" y="1643040"/>
          <a:ext cx="2552400" cy="8838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643040"/>
                    <a:ext cx="2552400" cy="88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9"/>
          <p:cNvGraphicFramePr/>
          <p:nvPr/>
        </p:nvGraphicFramePr>
        <p:xfrm>
          <a:off x="2428920" y="1643040"/>
          <a:ext cx="4019040" cy="928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1643040"/>
                    <a:ext cx="40190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0"/>
          <p:cNvGraphicFramePr/>
          <p:nvPr/>
        </p:nvGraphicFramePr>
        <p:xfrm>
          <a:off x="2714760" y="1643040"/>
          <a:ext cx="3428640" cy="13568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3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1643040"/>
                    <a:ext cx="3428640" cy="1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1"/>
          <p:cNvGraphicFramePr/>
          <p:nvPr/>
        </p:nvGraphicFramePr>
        <p:xfrm>
          <a:off x="2571840" y="1714680"/>
          <a:ext cx="3733560" cy="78552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1840" y="1714680"/>
                    <a:ext cx="37335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2"/>
          <p:cNvGraphicFramePr/>
          <p:nvPr/>
        </p:nvGraphicFramePr>
        <p:xfrm>
          <a:off x="2214720" y="1785960"/>
          <a:ext cx="4642920" cy="9284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14720" y="1785960"/>
                    <a:ext cx="46429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3"/>
          <p:cNvGraphicFramePr/>
          <p:nvPr/>
        </p:nvGraphicFramePr>
        <p:xfrm>
          <a:off x="2643120" y="1857240"/>
          <a:ext cx="3785760" cy="7855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43120" y="1857240"/>
                    <a:ext cx="37857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Таблица 25"/>
          <p:cNvGraphicFramePr/>
          <p:nvPr/>
        </p:nvGraphicFramePr>
        <p:xfrm>
          <a:off x="357120" y="3357720"/>
          <a:ext cx="8357760" cy="1356840"/>
        </p:xfrm>
        <a:graphic>
          <a:graphicData uri="http://schemas.openxmlformats.org/drawingml/2006/table">
            <a:tbl>
              <a:tblPr/>
              <a:tblGrid>
                <a:gridCol w="1044720"/>
                <a:gridCol w="1169640"/>
                <a:gridCol w="1857240"/>
                <a:gridCol w="785520"/>
                <a:gridCol w="928440"/>
                <a:gridCol w="928440"/>
                <a:gridCol w="857160"/>
                <a:gridCol w="785520"/>
              </a:tblGrid>
              <a:tr h="6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2520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solidFill>
                      <a:schemeClr val="accent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428760" y="4071960"/>
          <a:ext cx="1012320" cy="49968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39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760" y="4071960"/>
                    <a:ext cx="101232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5"/>
          <p:cNvGraphicFramePr/>
          <p:nvPr/>
        </p:nvGraphicFramePr>
        <p:xfrm>
          <a:off x="1500120" y="4071960"/>
          <a:ext cx="1020240" cy="51084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41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00120" y="4071960"/>
                    <a:ext cx="10202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6"/>
          <p:cNvGraphicFramePr/>
          <p:nvPr/>
        </p:nvGraphicFramePr>
        <p:xfrm>
          <a:off x="2714760" y="4071960"/>
          <a:ext cx="1633320" cy="4996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43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14760" y="4071960"/>
                    <a:ext cx="163332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7"/>
          <p:cNvGraphicFramePr/>
          <p:nvPr/>
        </p:nvGraphicFramePr>
        <p:xfrm>
          <a:off x="5357880" y="4000680"/>
          <a:ext cx="785520" cy="51552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145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57880" y="4000680"/>
                    <a:ext cx="785520" cy="51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Овал 8"/>
          <p:cNvSpPr/>
          <p:nvPr/>
        </p:nvSpPr>
        <p:spPr>
          <a:xfrm>
            <a:off x="4572000" y="1500120"/>
            <a:ext cx="1142640" cy="49968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Овал 7"/>
          <p:cNvSpPr/>
          <p:nvPr/>
        </p:nvSpPr>
        <p:spPr>
          <a:xfrm>
            <a:off x="2928960" y="5500800"/>
            <a:ext cx="1213920" cy="57132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Овал 6"/>
          <p:cNvSpPr/>
          <p:nvPr/>
        </p:nvSpPr>
        <p:spPr>
          <a:xfrm>
            <a:off x="1143000" y="4500720"/>
            <a:ext cx="1356840" cy="57132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1071720" y="3500280"/>
            <a:ext cx="1142640" cy="49968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Овал 4"/>
          <p:cNvSpPr/>
          <p:nvPr/>
        </p:nvSpPr>
        <p:spPr>
          <a:xfrm>
            <a:off x="2571840" y="2500200"/>
            <a:ext cx="1142640" cy="49968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Тренировочный тест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8652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ычислить: 0,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0,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5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,91;          2) – 4,7;         3) – 3;         4) 2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. Найдите значение выражения: log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16 + log</a:t>
            </a:r>
            <a:r>
              <a:rPr b="0" lang="ru-RU" sz="3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1) 4;         2) 5;          3) 6;           4) 4,5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Найдите значение выражения :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0,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-2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0,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2;           2) 1;             3) – 2;           4) 90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4. Найдите 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:    lg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1/2lg9 – 2/3lg8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1) 3/4;        2) 4/3;            3) 3/2;           4) 6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простите выражение: 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+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17;       2) 135;       3) 225;          4) 30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Проблем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ите внимание - действия с </a:t>
            </a:r>
            <a:r>
              <a:rPr b="0" lang="ru-RU" sz="3200" spc="-1" strike="noStrike">
                <a:solidFill>
                  <a:schemeClr val="accent2"/>
                </a:solidFill>
                <a:latin typeface="Calibri"/>
              </a:rPr>
              <a:t>логарифмами  </a:t>
            </a:r>
            <a:r>
              <a:rPr b="0" i="1" lang="ru-RU" sz="3200" spc="-1" strike="noStrike">
                <a:solidFill>
                  <a:schemeClr val="accent2"/>
                </a:solidFill>
                <a:latin typeface="Calibri"/>
              </a:rPr>
              <a:t>возможны только при одинаковых основания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 А если основания разные!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Содержимое 3"/>
          <p:cNvGraphicFramePr/>
          <p:nvPr/>
        </p:nvGraphicFramePr>
        <p:xfrm>
          <a:off x="2709720" y="3643200"/>
          <a:ext cx="3558960" cy="842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5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9720" y="3643200"/>
                    <a:ext cx="3558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Переход к другому основанию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240" cy="2971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м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ь дан логарифм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огда для любого числа c такого, что c &gt; 0 и c ≠ 1, верно равенств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 частности, если положить c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4071960" y="2928960"/>
          <a:ext cx="1898280" cy="872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2928960"/>
                    <a:ext cx="1898280" cy="872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3857760" y="4714920"/>
          <a:ext cx="2331720" cy="1071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4714920"/>
                    <a:ext cx="2331720" cy="10713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9288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Десятичным логарифмо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 логарифм по основанию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Он обозначается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l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, т.е.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lg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ff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Натуральным логарифмо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 логарифм по основанию  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Он обозначается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, т.е. log 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l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Числ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яется иррациональным, его приближённое значение 2.718281828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Содержимое 3"/>
          <p:cNvGraphicFramePr/>
          <p:nvPr/>
        </p:nvGraphicFramePr>
        <p:xfrm>
          <a:off x="571680" y="1106640"/>
          <a:ext cx="2968200" cy="5569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6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106640"/>
                    <a:ext cx="29682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358920" y="2643120"/>
          <a:ext cx="6391080" cy="6631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" y="2643120"/>
                    <a:ext cx="6391080" cy="66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Заголовок 1"/>
          <p:cNvSpPr/>
          <p:nvPr/>
        </p:nvSpPr>
        <p:spPr>
          <a:xfrm>
            <a:off x="428760" y="1857240"/>
            <a:ext cx="8071920" cy="642600"/>
          </a:xfrm>
          <a:prstGeom prst="rect">
            <a:avLst/>
          </a:prstGeom>
          <a:noFill/>
          <a:ln w="28575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оспользуемся сначала свой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5429160" y="1928880"/>
          <a:ext cx="2058480" cy="4712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1928880"/>
                    <a:ext cx="20584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Заголовок 1"/>
          <p:cNvSpPr/>
          <p:nvPr/>
        </p:nvSpPr>
        <p:spPr>
          <a:xfrm>
            <a:off x="428760" y="3500280"/>
            <a:ext cx="8071920" cy="642600"/>
          </a:xfrm>
          <a:prstGeom prst="rect">
            <a:avLst/>
          </a:prstGeom>
          <a:noFill/>
          <a:ln w="28575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перь перейдем к основанию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357880" y="3500280"/>
          <a:ext cx="1785600" cy="6426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7880" y="3500280"/>
                    <a:ext cx="1785600" cy="6426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Object 8"/>
          <p:cNvGraphicFramePr/>
          <p:nvPr/>
        </p:nvGraphicFramePr>
        <p:xfrm>
          <a:off x="1449360" y="4214880"/>
          <a:ext cx="3631680" cy="1186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9360" y="4214880"/>
                    <a:ext cx="3631680" cy="118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Овал 10"/>
          <p:cNvSpPr/>
          <p:nvPr/>
        </p:nvSpPr>
        <p:spPr>
          <a:xfrm>
            <a:off x="4572000" y="1357200"/>
            <a:ext cx="785520" cy="42840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6072120" y="1357200"/>
            <a:ext cx="785520" cy="428400"/>
          </a:xfrm>
          <a:prstGeom prst="ellipse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Овал 8"/>
          <p:cNvSpPr/>
          <p:nvPr/>
        </p:nvSpPr>
        <p:spPr>
          <a:xfrm>
            <a:off x="2428920" y="1143000"/>
            <a:ext cx="785520" cy="785520"/>
          </a:xfrm>
          <a:prstGeom prst="ellipse">
            <a:avLst/>
          </a:prstGeom>
          <a:solidFill>
            <a:srgbClr val="ffc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Овал 9"/>
          <p:cNvSpPr/>
          <p:nvPr/>
        </p:nvSpPr>
        <p:spPr>
          <a:xfrm>
            <a:off x="928800" y="1143000"/>
            <a:ext cx="785520" cy="785520"/>
          </a:xfrm>
          <a:prstGeom prst="ellipse">
            <a:avLst/>
          </a:prstGeom>
          <a:solidFill>
            <a:srgbClr val="ffc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24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2) Найдите значение выраж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Содержимое 3"/>
          <p:cNvGraphicFramePr/>
          <p:nvPr/>
        </p:nvGraphicFramePr>
        <p:xfrm>
          <a:off x="4071960" y="1428840"/>
          <a:ext cx="2999880" cy="526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8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428840"/>
                    <a:ext cx="2999880" cy="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"/>
          <p:cNvGraphicFramePr/>
          <p:nvPr/>
        </p:nvGraphicFramePr>
        <p:xfrm>
          <a:off x="500040" y="1214280"/>
          <a:ext cx="2999880" cy="791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214280"/>
                    <a:ext cx="2999880" cy="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3"/>
          <p:cNvGraphicFramePr/>
          <p:nvPr/>
        </p:nvGraphicFramePr>
        <p:xfrm>
          <a:off x="500040" y="2786040"/>
          <a:ext cx="2174400" cy="9997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2786040"/>
                    <a:ext cx="2174400" cy="9997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3500280" y="2786040"/>
          <a:ext cx="2176200" cy="9997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0280" y="2786040"/>
                    <a:ext cx="2176200" cy="9997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Стрелка вниз 12"/>
          <p:cNvSpPr/>
          <p:nvPr/>
        </p:nvSpPr>
        <p:spPr>
          <a:xfrm rot="19705200">
            <a:off x="2938320" y="1947960"/>
            <a:ext cx="480600" cy="837720"/>
          </a:xfrm>
          <a:prstGeom prst="downArrow">
            <a:avLst>
              <a:gd name="adj1" fmla="val 29683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Стрелка вниз 14"/>
          <p:cNvSpPr/>
          <p:nvPr/>
        </p:nvSpPr>
        <p:spPr>
          <a:xfrm>
            <a:off x="1071720" y="2000160"/>
            <a:ext cx="499680" cy="713880"/>
          </a:xfrm>
          <a:prstGeom prst="downArrow">
            <a:avLst>
              <a:gd name="adj1" fmla="val 29683"/>
              <a:gd name="adj2" fmla="val 63545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1928880" y="4071960"/>
          <a:ext cx="3593880" cy="5266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28880" y="4071960"/>
                    <a:ext cx="3593880" cy="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1928880" y="4714920"/>
          <a:ext cx="5408280" cy="5266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28880" y="4714920"/>
                    <a:ext cx="5408280" cy="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  <Words>73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0:27:06Z</dcterms:created>
  <dc:creator>admin</dc:creator>
  <dc:description/>
  <dc:language>en-US</dc:language>
  <cp:lastModifiedBy>User</cp:lastModifiedBy>
  <dcterms:modified xsi:type="dcterms:W3CDTF">2015-06-17T17:23:48Z</dcterms:modified>
  <cp:revision>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