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A93B3-297C-4256-A822-DDFD0736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2EAFB-0BA2-4749-8DAE-A32E2749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32672-3E43-433D-8511-3ED4FF59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5E592-9062-47C2-A423-EA586AA8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5961-75CD-456F-96F5-500FCD0A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E0B9-5A85-42F0-BFE3-147D1277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EB51-96F9-45F3-A6C4-FC6399D2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FF96-F7B9-4925-8A58-6F76AEA5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5F0D-1197-4D2A-A377-D51ADC87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EB73-CB27-4E7E-8B8D-CC75474A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3AF7-51B9-47E4-A9E7-BA60E28A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5CAE3-FE15-4620-8B0E-0294734E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D4B5-9937-4330-B82D-B6A67A4B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AA72-4CC0-45A7-B190-A98BF56F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6F7E-EA17-41F9-88FF-85F08F61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07ED-A4BB-43D8-94EB-B98EFB14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17ED-53BC-4522-A9CC-4C6CFD5A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5D38B-48E5-41C3-A0C8-0C77A135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9C409-B378-48C4-AAD2-7DFA8FE9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D8CCE-EA79-4807-981B-B742DBE0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92A96-F974-45F5-88C9-F3D7492D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3118F-BA4D-49F1-8A24-E88822BD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0F34B-A172-459F-A93B-FCF57550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DD08-E795-4AC7-97AA-94A79D08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960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7A6833-BD4A-4E83-8E7A-4A1B7AA0855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3" name="Group 4"/>
            <p:cNvGrpSpPr/>
            <p:nvPr/>
          </p:nvGrpSpPr>
          <p:grpSpPr>
            <a:xfrm>
              <a:off x="2742480" y="3540240"/>
              <a:ext cx="6390000" cy="3308400"/>
              <a:chOff x="2742480" y="3540240"/>
              <a:chExt cx="6390000" cy="330840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2480" y="4196880"/>
                <a:ext cx="4573080" cy="2651400"/>
              </a:xfrm>
              <a:prstGeom prst="pie">
                <a:avLst/>
              </a:pr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17520" y="4239720"/>
                <a:ext cx="1997280" cy="1287000"/>
              </a:xfrm>
              <a:prstGeom prst="pie">
                <a:avLst/>
              </a:pr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1880" y="5310720"/>
                <a:ext cx="4520880" cy="1537560"/>
              </a:xfrm>
              <a:prstGeom prst="pie">
                <a:avLst/>
              </a:pr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1040" y="3540240"/>
                <a:ext cx="4771440" cy="330840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2760" y="3677760"/>
                <a:ext cx="1980000" cy="85500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2560" y="2128680"/>
              <a:ext cx="289656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0" y="0"/>
              <a:ext cx="913932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24852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51" name="Group 2"/>
            <p:cNvGrpSpPr/>
            <p:nvPr/>
          </p:nvGrpSpPr>
          <p:grpSpPr>
            <a:xfrm>
              <a:off x="2742480" y="3540240"/>
              <a:ext cx="6390000" cy="3308400"/>
              <a:chOff x="2742480" y="3540240"/>
              <a:chExt cx="6390000" cy="3308400"/>
            </a:xfrm>
          </p:grpSpPr>
          <p:sp>
            <p:nvSpPr>
              <p:cNvPr id="52" name="Freeform 3"/>
              <p:cNvSpPr/>
              <p:nvPr/>
            </p:nvSpPr>
            <p:spPr>
              <a:xfrm>
                <a:off x="2742480" y="4196880"/>
                <a:ext cx="4573080" cy="2651400"/>
              </a:xfrm>
              <a:prstGeom prst="pie">
                <a:avLst/>
              </a:pr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4"/>
              <p:cNvSpPr/>
              <p:nvPr/>
            </p:nvSpPr>
            <p:spPr>
              <a:xfrm>
                <a:off x="6617520" y="4239720"/>
                <a:ext cx="1997280" cy="1287000"/>
              </a:xfrm>
              <a:prstGeom prst="pie">
                <a:avLst/>
              </a:pr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"/>
              <p:cNvSpPr/>
              <p:nvPr/>
            </p:nvSpPr>
            <p:spPr>
              <a:xfrm>
                <a:off x="4601880" y="5310720"/>
                <a:ext cx="4520880" cy="1537560"/>
              </a:xfrm>
              <a:prstGeom prst="pie">
                <a:avLst/>
              </a:pr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>
                <a:off x="4361040" y="3540240"/>
                <a:ext cx="4771440" cy="330840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>
                <a:off x="7142760" y="3677760"/>
                <a:ext cx="1980000" cy="85500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8"/>
            <p:cNvSpPr/>
            <p:nvPr/>
          </p:nvSpPr>
          <p:spPr>
            <a:xfrm>
              <a:off x="5272560" y="2128680"/>
              <a:ext cx="289656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0"/>
              <a:ext cx="913932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09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960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320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4B1ED9-4795-4F20-94CF-9B41B9BF33F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e5e5ff"/>
                </a:solidFill>
                <a:latin typeface="Garamond"/>
              </a:rPr>
              <a:t>Традиции и инновации в школьном образовательном пространстве по физической культуре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56760" y="550044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работал у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читель физической культур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МБОУ СОШ №10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А.Н. Макар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aramond"/>
              </a:rPr>
              <a:t>6. Уметь подготовить место проведения занятия: выбрать место занятия (дома, на спортивной площадке, на необорудованной площадке, в парке, в рекреационном помещении школы); обеспечить безопасность занятия (отсутствие опасных предметов – выступов, повреждений пола, ям, движения автомобилей и др.); подобрать необходимое оборудование (спортивный инвентарь, спортивную одежду и обувь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aramond"/>
              </a:rPr>
              <a:t>7. Уметь провести занятие физическими упражнениями: выполнение разминки; выполнение основной части занятия (общеразвивающие физические упражнения, подвижные игры в соответствии с целью занятия; лыжные прогулки; оздоровительный бег; контроль над функциональным состоянием организма, соблюдение гигиенических требований к занятиям физической культурой, выполнение норм межличностного общения); выполнение заключительной части занятия (выполнение упражнений на расслабление и дыхательных упражнений, контроль самочувствия, подведение итогов занятия – что выполнено и что не выполнено из запланированного, почему)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aramond"/>
              </a:rPr>
              <a:t>8. Уметь выполнять гигиенические мероприятия (утреннюю гигиеническую гимнастику, закаливающие процедуры, прогулки на свежем воздухе, физкультминутки, самомассаж, дыхательные упражнения), оценку функционального состояния (по ЧСС, частоте дыхания), восстановительные процедуры, основные компоненты режима дн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aramond"/>
              </a:rPr>
              <a:t>9. Уметь работать в группах, распределяя права и обязанности, то есть быть социально адаптированны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5e5ff"/>
                </a:solidFill>
                <a:latin typeface="Garamond"/>
              </a:rPr>
              <a:t>Анализ образовательного процесса в области физического воспитания школьников показал, что: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– 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необходимо полнее учитывать индивидуальные физиологические возрастно-половые характеристики, потребности и личностные качества школьник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– 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приоритетное формирование лишь физических качеств отрицательно сказывается на совершенствовании личности учащихся и искажает истинные идеи физического воспитани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– 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большое значение для эффективного физического воспитания школьников имеет не только двигательная деятельность, но и воспитание нравственности, интеллекта и общей культур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– 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необходимо учитывать, что физическая культура является составной частью общей культуры общества, ее важным компонентом и не сводится только к совершенствованию телеснос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e5e5ff"/>
                </a:solidFill>
                <a:latin typeface="Garamond"/>
              </a:rPr>
              <a:t>Следующим шагом на пути модернизации должно стать определение приоритетных задач физического воспитания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3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1. Формирование у школьников интереса к занятиям физической культурой. Без этого компонента все усилия по модернизации физического воспитания бессмысленн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3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2. Обучение школьников навыкам и умениям использования средств физической культуры в повседневной деятельности. Подразумевается обучение следующим компонентам: самостоятельного формулирования цели занятий; выбора адекватных средств и методов достижения цели; самостоятельной организации и проведения занятия, осуществления контроля и оценки реакций организма на физическую нагрузк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3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3. Формирование у школьников понимания смысла занятий физической культурой. Подразумевается понимание физиологических и психических процессов, лежащих в основе выполняемого двигательного действия; знание закономерностей развития двигательных качеств и формирования техники двигательных действий. В существующей практике физического воспитания дается некоторый набор сведений в данной области, но понимания закономерностей и связей между этими сведениями не формируетс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3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4. Обучение школьников навыкам рациональной двигательной деятельности; кондиционная и координационная тренировк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5e5ff"/>
                </a:solidFill>
                <a:latin typeface="Garamond"/>
              </a:rPr>
              <a:t>Внедрение третьего урока физической культуры продиктовано следующими соображениями.</a:t>
            </a: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Во-первых, совершенствование содержания и методики проведения уроков физической культуры дошло до своего логического завершения, и дальнейшее улучшение в этом направлении представляется сомнительным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4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Во-вторых, учебная перегрузка школьников, нарушение здоровья в различных формах требуют проведения реабилитационных мероприятий, чего невозможно добиться в полной мере на стандартном уроке физической культуры (который и без того перегружен своими задачами) или в системе физкультурно-оздоровительной деятельности (гимнастика до занятий, физкультминутки, подвижные перемены, занятия физическими упражнениями в группах продленного дня). Это диктует необходимость введения третьего часа для урочных занятий физической культурой. Внедрение в учебный процесс третьего урока физической культуры требует специальной разработки его научно-методического обеспечения – структуры и содержания урока, методики обучения учащихся оздоровительно-реабилитационным упражнениям, системы контроля за успешностью учебного процесса (с реализацией идеи «безоценочного» учебного процесса), регламентации нагрузок.</a:t>
            </a: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Таким образом, подводя итог сказанному, можно заключи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468360" y="1817280"/>
            <a:ext cx="828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Важнейшей составляющей модернизации физического воспитания учащихся общеобразовательной школы является переориентация подготовки учителей физического воспитания. Проведенные исследования показали, что школьники ставят уважение к учителю на одно из последних мест в числе приоритетов, определяющих притягательность учебного предмета «Физическая культура». Вероятно, этот факт корреспондирует с недостаточной профессиональной подготовкой учителя физической культуры. Совершенствование подготовки современного учителя физической культуры должно быть ориентировано на владение различными системами оздоровления и физического воспитания, углубленное изучение возрастной физиологии и психологии, современных педагогических технолог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11640" y="6040080"/>
            <a:ext cx="2879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5e5ff"/>
                </a:solidFill>
                <a:latin typeface="Times New Roman"/>
              </a:rPr>
              <a:t>Губернатор </a:t>
            </a:r>
            <a:br>
              <a:rPr sz="2400"/>
            </a:br>
            <a:r>
              <a:rPr b="1" lang="en-GB" sz="2400" spc="-1" strike="noStrike">
                <a:solidFill>
                  <a:srgbClr val="e5e5ff"/>
                </a:solidFill>
                <a:latin typeface="Times New Roman"/>
              </a:rPr>
              <a:t> А.Н. Ткачев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468360" y="190800"/>
            <a:ext cx="8028000" cy="59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«Здоровая» динам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На расширенном совещании с участием глав муниципальных образований и их заместителей, кубанских спортсменов, тренеров, директоров спортшкол и вузов края министр спорта РФ Виталий Мутко и губернатор Кубани Александр Ткачев говорили об итогах и перспективах развития физкультуры и спорта в масштабе страны и кра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Два года назад власти края поставили стратегическую задач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создать настоящий культ спорта и здорового образа жизни, вовлечь в это движение как можно больше кубанце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За это время, говорит губернатор, удалось сделать много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Настоящий спортивный бум, который переживает сейчас Кубань, я считаю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главный показатель того, что мы на правильном пу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Финансирование отрасли увеличилось 3,5 раза и превысило 5,5 миллиардов рублей в год. Это позволило в целом развивать больше видов спорта — с 64 до 81. А в частности, в городских и сельских поселениях края ввести 3 тысячи ставок инструкторов по физической культуре и спорту для работы с населением, и прежде всего, с детьм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Из небытия возвращены спартакиады трудовых коллективов и запущены новые детские турниры по игровых видам спорта среди дворовых коман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Ежемесячные доплаты молодым тренерам, учителям физкультуры в общеобразовательных и спортивных школах позволили сохранить кадровый потенциал и привлечь новых специалистов. В учебную программу каждой пятой кубанской школы был включен третий час физкультур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В течение трех лет были построены свыше 300 детских спортивных площадок и 24 современных футбольных поля. В стадии строительства 54 современных спортивных комплекса, в том числе, 8 ледовых арен и 7 больших плавательных бассейнов. Одиннадцать комплексов уже сданы в эксплуатаци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Таких объемов спортивного строительства на Кубани не было никогда! — подчеркнул глава кра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традиционное направление образования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686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Направленность на развитие и самореализацию человека и определяет содержание физической культуры, ее ценностные ориентации - человек и его физическое, психическое и нравственное здоровье как первейшая и наиболее значимая ценность для самого человека (ребенка, .., взрослого), семьи, общества и государства; её содержание - деятельность, обеспечивающая достаточно высокую двигательную активность, соматическое и психическое здоровье, нормальное физическое развитие и одновременно развивающая самостоятельность, инициативу, волю, мыслительные способности, нравственные качества; традиции - приверженность здоровому образу жизни, двигательной активности, состязательности, физическому труду; инновации - современные способы организации и психофизические средства тренировки, диагностики, медицинского и педагогического контроля, но главное - возрождение традиций здорового образа жизни и отказ от вредных привычек, здоровьеразрушающего поведени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3480" indent="-303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Физическая культура, таким образом, не только название, но и традиционное направление образования. Мы видим основное различие в том, что физическая культура направлена на развитие человека, а её идеалом является физически, нравственно и психически здоровая личность, способная реализовать свой потенциал и приносить пользу людям, а спортивное совершенствование направлено на достижение высоких спортивных результатов (конечно, тоже через развитие и совершенствование человеческого потенциала, личности спортсмена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Деятельность ФК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62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Перед нами стоят четко сформулированы  реально достижимые цели: за счет совершенствования организации и увеличения объема часов занятий "физической культурой", разнообразия спортивных секций, валеологического просвещения и медицинской профилактики, а также нормирования общей учебной нагрузки добиться увеличения адаптационных возможностей и неспецифической устойчивости детского организма, свести заболеваемость до генетически детерминированного минимума, обеспечить высокую умственную и физическую работоспособность и гармоничное нервно-психическое, физическое и эстетическое развитие субъектов учебно-воспитательного процесса. Выпускник школы, как предполагается, должен быть физически, психически и нравственно здоровой личностью, способной формировать своё здоровье, управлять им в будущем, привлекать к здоровьесозидающей деятельности свое ближайшее окружени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5e5ff"/>
                </a:solidFill>
                <a:latin typeface="Garamond"/>
              </a:rPr>
              <a:t>Анализ заболеваемости детей </a:t>
            </a:r>
            <a:br>
              <a:rPr sz="2400"/>
            </a:br>
            <a:r>
              <a:rPr b="1" lang="en-GB" sz="2400" spc="-1" strike="noStrike">
                <a:solidFill>
                  <a:srgbClr val="e5e5ff"/>
                </a:solidFill>
                <a:latin typeface="Garamond"/>
              </a:rPr>
              <a:t>до 14 лет по врачебному участку</a:t>
            </a:r>
            <a:br>
              <a:rPr sz="2400"/>
            </a:br>
            <a:r>
              <a:rPr b="1" lang="en-GB" sz="2400" spc="-1" strike="noStrike">
                <a:solidFill>
                  <a:srgbClr val="e5e5ff"/>
                </a:solidFill>
                <a:latin typeface="Garamond"/>
              </a:rPr>
              <a:t>одной из гимназий г. Москв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Анализ показателей состояния здоровья школьников Гатчинского района, по данным углубленного осмотра (ГЦСЭН), выявил рост патологической поражённости по всем параметрам, кроме показателей снижения остроты зрения и слуха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4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Среди школьников наблюдается увеличение числа учащихся с хроническими заболеваниями желудочно-кишечного тракта, с заболеваниями нервной системы, с нарушениями осанки, с хроническими заболеваниями ЛОР-органов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4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Наибольший удельный вес имеют нарушения осанки (111,6 %0), оттеснив на второе место снижение остроты зрения (101,2 %0)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4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Анализ распространения детей по группам здоровья выявил стойкое снижение количества детей, относящихся к первой группе. Анализ физического развития детей показал снижение количества детей в группе среднего физического развития с 94 % до 89,7%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4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Результаты углубленного осмотра учащихся Войсковицкой гимназии [6]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4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В школе обучается 556 человек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Снижение остроты зрения — 66 человек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Снижение слуха — 4 человека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Нарушение осанки — 48 человек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Сколиоз — 8 человек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Врожденные пороки сердца — 2 человека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Функциональные систолические шумы сердца (Ф.Ш.С) — 23 человека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Заболевания желудочно-кишечного тракта (ЖКТ) — 7 человек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Заболевание нервной системы — 37 человек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Задержка психического развития — 6 человек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Хронический тонзиллит — 7 человек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4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4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Физическое развитие: среднее — 498 чел. ниже среднего — 10 чел. выше среднего - 48 чел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Группы здоровья: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I — 339 чел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II — 200 чел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III — 9 чел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IV — 8 чел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Пути решения проблем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Базируясь на возрастных особенностях развития физического потенциала ребенка и формирования основ здорового образа жизни, предлагаю  решить наиболее актуальную в настоящее время проблему физического развития и укрепления здоровья учащих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860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Работа с начальным звеном общеобразовательной школ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62800" cy="54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0240" indent="-300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В младшем школьном возрасте закладываются основы физической культуры человека, формируются интересы, мотивации и потребности в систематической физической активности. Этот возраст особенно благоприятен для овладения базовыми компонентами культуры движения, освоения обширного арсенала двигательных координаций, техники разнообразных физических упражнений. При этом надо иметь в виду, что ритмический, силовой и пространственный образы движений младшие школьники воспринимают прежде всего в ощущениях и обобщениях впечатлений и в меньшей степени - путем осознания, продуманного освоения технического действия. Поэтому обучение целостному упражнению будет иметь в этом возрасте больший успех, чем разучивание его по деталям. Дети этого возраста почти самостоятельно, только понаблюдав за тем, как это делается, могут освоить различные движения, научиться обращаться с мячом, проявлять спортивно-игровую смекалк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О модернизации школьного физического воспитания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Анализ вектора развития образования по учебному предмету «Физическая культура» показал, что до настоящего времени учащиеся овладевали «спортизированными» навыками и умениями в двигательной сфере, и это была преимущественная конечная цель и практически единственный критерий эффективности физического воспитания. Сейчас обнаруживается другой ориентир. Школьники должны не заучивать готовые образцы движений, а, творчески осмыслив их, дополнить в соответствии со своими индивидуальными особенностями с целью решения двигательных задач в различных нестандартных ситуация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Учащиеся должны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Garamond"/>
              </a:rPr>
              <a:t>Для модернизации системы физического воспитания учащихся </a:t>
            </a: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формулируются разные задачи, которые можно объединить в две группы: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0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1. Развитие индивидуальных способностей ребенка и создание условий для их самосовершенствования средствами физической культуры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0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2. Обучение способам самостоятельного поиска необходимой информации, освоение новых двигательных действий путем переосмысления уже изученных движений, исследовательской и конструктивной деятельности, нахождение своих способов решения проблемных ситуаций в двигательной деятельности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0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В этой связи необходимо предъявить следующие требования к учащимся</a:t>
            </a:r>
            <a:r>
              <a:rPr b="1" lang="en-GB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общеобразовательной школы. Учащиеся должны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0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1. Иметь представление о своих физических возможностях (уровень двигательной подготовленности, реакция организма на физическую нагрузку)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0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2. Знать правила поведения на спортивных сооружениях и рекреационных площадках (принципы межличностногообщения, навыки управления вниманием), выполнения физических упражнений разной направленности, методы контроля за функциональным состоянием организма, методику проведения занятий физической культурой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0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3. Знать методику развития двигательных качеств, правила проведения спортивных и подвижных игр, правила режима дня, правила межличностного общения, методику проведения восстановительных процедур, методику выполнения оздоровительных упражнений – для зрения, осанки, стопы, дыхания, правила составления утренней гигиенической гимнастики, правила профилактики травматизма на занятиях физическими упражнениями и правила оказания элементарной доврачебной помощи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0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4. Уметь провести планирование занятия – поставить цель и задачи; выбрать время в режиме дня; отобрать необходимые физические упражнения (в соответствии с целью и задачами занятия или цикла) и частоту занятий в неделю; продолжительность занятия, дозировку нагрузки при выполнении разных физических упражнений, средства контроля за состоянием организма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0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5. Уметь выполнять доступные (возрасту и подготовленности) физические упражнения (оздоровительные – для коррекции функционального состояния опорно-двигательного аппарата, сердечно-сосудистой и дыхательной систем, профилактики простудных заболеваний, для развития двигательных качеств (силы, быстроты, координации, гибкости и выносливости) и коррекции индивидуальных особенностей фигуры (осанки); развивающие; рекреационные, для профилактики нарушений зрения)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+Л=Арина</dc:creator>
  <dc:description/>
  <dc:language>en-US</dc:language>
  <cp:lastModifiedBy>admin</cp:lastModifiedBy>
  <dcterms:modified xsi:type="dcterms:W3CDTF">2012-04-24T08:22:35Z</dcterms:modified>
  <cp:revision>1</cp:revision>
  <dc:subject/>
  <dc:title>Традиции и инновации в школьном образовательном пространстве по</dc:title>
</cp:coreProperties>
</file>