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36.wmf" ContentType="image/x-wmf"/>
  <Override PartName="/ppt/media/image16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8D87-0A73-4FF6-81FD-0DCD9F8B68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5383-85CC-4730-B630-A80160E5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11BC-FA16-43AF-88BF-D9371980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393A-0849-4E42-9232-F40AEC8C5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D45B-55C8-4E6F-8E04-E36D112E0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A7664-7B80-4181-8919-F8205DB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7FC89-A69E-459C-960E-678A858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52066-C680-414F-95A4-C669BA7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32C6-5E98-4FF8-8FE6-20D9148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AEBE5-69E6-4D90-949C-4E2426F7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08A75-DAAD-4577-A677-AE180C2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E7B5-8363-4192-B604-7674BEE7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C6AD1-7557-4496-B671-81C0167F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852A9-6EA8-41D3-B672-9988F768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EB8BA-0C8D-4734-9CC8-804CD803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6BB8-C002-4561-B852-C470BF8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52C1C-E0CF-4564-8C98-D6CA2D3B9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14FC-90AF-43B7-BBE2-7078AFBB2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A41-A740-4B00-9769-EED0C5B6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44F1-9F91-42A7-9173-E99F9DA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0FF-1C71-4345-A33A-F02FEC96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764-BCBF-4C8C-8920-B8E4957B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56B5-C4C1-4D77-AD9D-6D12B1A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4D99-F954-436D-A621-28E955FB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58A2-DE04-48CB-A66A-C4E91C3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A87-CD97-474D-9334-96305B66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D987-82C5-4F24-8427-B09B8DAD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AE78-EE0E-42E1-A1F7-CE308BBE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64E3-F7EB-4DAC-8D43-A9A58A3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0C0A-2F58-450E-89D7-31C193D60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12D3-65E3-4601-A07C-3E8A706B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9379-DBE4-4723-88DF-BB6B066D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1F31-BCFB-4C67-8BDB-E68EB68E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6BD4-0CDD-41E9-B46B-F59FE401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89D9-D531-41AE-A6DF-ACBCFAA7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D6AC-EE52-45F8-B0B7-AA9F6F6B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8152920" y="0"/>
              <a:ext cx="98892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4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912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708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332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800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8000" indent="-22860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8000" indent="-22860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19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D2F91B-6702-4C53-B993-8B5167FBEF6E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666520" y="0"/>
              <a:ext cx="647532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7" name="Line 4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4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912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708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332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800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8000" indent="-22860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8000" indent="-22860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19520" y="6419880"/>
            <a:ext cx="29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05EFBF-7ABB-4C13-B073-8D31461E27D4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Rectangle 2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4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1912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708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332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8000" indent="-228600">
              <a:lnSpc>
                <a:spcPct val="104000"/>
              </a:lnSpc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8000" indent="-22860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8000" indent="-22860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419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52491C-F667-42DF-A67E-91F2C6E8F76D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219640" y="1266840"/>
            <a:ext cx="3429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Макаров Андрей Николаевич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5329080" y="3645000"/>
            <a:ext cx="3489480" cy="1792080"/>
            <a:chOff x="5329080" y="3645000"/>
            <a:chExt cx="3489480" cy="1792080"/>
          </a:xfrm>
        </p:grpSpPr>
        <p:pic>
          <p:nvPicPr>
            <p:cNvPr id="134" name="Picture 3" descr=""/>
            <p:cNvPicPr/>
            <p:nvPr/>
          </p:nvPicPr>
          <p:blipFill>
            <a:blip r:embed="rId2"/>
            <a:stretch/>
          </p:blipFill>
          <p:spPr>
            <a:xfrm>
              <a:off x="5329080" y="3645000"/>
              <a:ext cx="348948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4"/>
            <p:cNvSpPr/>
            <p:nvPr/>
          </p:nvSpPr>
          <p:spPr>
            <a:xfrm>
              <a:off x="5329080" y="3645000"/>
              <a:ext cx="3489480" cy="17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549360" y="927000"/>
            <a:ext cx="4429080" cy="4435560"/>
            <a:chOff x="549360" y="927000"/>
            <a:chExt cx="4429080" cy="4435560"/>
          </a:xfrm>
        </p:grpSpPr>
        <p:pic>
          <p:nvPicPr>
            <p:cNvPr id="137" name="Picture 6" descr=""/>
            <p:cNvPicPr/>
            <p:nvPr/>
          </p:nvPicPr>
          <p:blipFill>
            <a:blip r:embed="rId3"/>
            <a:stretch/>
          </p:blipFill>
          <p:spPr>
            <a:xfrm>
              <a:off x="549360" y="927000"/>
              <a:ext cx="4429080" cy="44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7"/>
            <p:cNvSpPr/>
            <p:nvPr/>
          </p:nvSpPr>
          <p:spPr>
            <a:xfrm>
              <a:off x="663120" y="1041120"/>
              <a:ext cx="420552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1403280" y="1125360"/>
            <a:ext cx="27655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2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"/>
          <p:cNvGrpSpPr/>
          <p:nvPr/>
        </p:nvGrpSpPr>
        <p:grpSpPr>
          <a:xfrm>
            <a:off x="285840" y="311040"/>
            <a:ext cx="7461000" cy="1692360"/>
            <a:chOff x="285840" y="311040"/>
            <a:chExt cx="7461000" cy="169236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311040"/>
              <a:ext cx="7461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"/>
            <p:cNvSpPr/>
            <p:nvPr/>
          </p:nvSpPr>
          <p:spPr>
            <a:xfrm>
              <a:off x="285840" y="311040"/>
              <a:ext cx="746100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1" name="Text Box 4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Наши дети, не секрет, не очень охотно занимаются физкультурой. Мои ученики посещают уроки физкультуры в полной мере и практически их не пропускают. Я горжусь этим. Не правда, что уроки физкультуры менее значимы, чем уроки русского языка и математики. Ведь внешнюю и внутреннюю политику государства могут строить только здоровые, грамотные, культурные и защищенные люди. Физическая культура — неотъемлемая часть образовательного процесса, и я хочу раскрыть всю глубину и полноту своего предмета именно с точки зрения культуры. Я учу ребенка выполнять упражнения не механически, а осознанно, точно зная, для чего он их выполняет, чтобы он в какой-то момент осознал, как важно самому научиться быть здоровым и научить этому других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285840" y="4929120"/>
            <a:ext cx="1797120" cy="1338480"/>
            <a:chOff x="285840" y="4929120"/>
            <a:chExt cx="1797120" cy="1338480"/>
          </a:xfrm>
        </p:grpSpPr>
        <p:pic>
          <p:nvPicPr>
            <p:cNvPr id="184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4929120"/>
              <a:ext cx="1797120" cy="13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4"/>
            <p:cNvSpPr/>
            <p:nvPr/>
          </p:nvSpPr>
          <p:spPr>
            <a:xfrm>
              <a:off x="285840" y="4929120"/>
              <a:ext cx="1797120" cy="13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667224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3924360" y="403200"/>
            <a:ext cx="468000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354480" y="3540240"/>
            <a:ext cx="5114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в 1999 году закончил Кропоткинское мед.училище по специальности фельдшер скорой помощи. Далее поступил Академию физической культуры на специальность адаптивная физическая культура и закончил его в 2004г. С 2004г. начал преподавать физкультуру и ОБЖ в СОШ № 10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3995640" y="476280"/>
            <a:ext cx="156060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285840" y="384120"/>
            <a:ext cx="7461000" cy="1692360"/>
            <a:chOff x="285840" y="384120"/>
            <a:chExt cx="7461000" cy="1692360"/>
          </a:xfrm>
        </p:grpSpPr>
        <p:pic>
          <p:nvPicPr>
            <p:cNvPr id="145" name="Picture 2" descr=""/>
            <p:cNvPicPr/>
            <p:nvPr/>
          </p:nvPicPr>
          <p:blipFill>
            <a:blip r:embed="rId2"/>
            <a:stretch/>
          </p:blipFill>
          <p:spPr>
            <a:xfrm>
              <a:off x="285840" y="384120"/>
              <a:ext cx="746100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285840" y="384120"/>
              <a:ext cx="746100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457200" y="2928960"/>
            <a:ext cx="72388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В своей работе я всегда придерживаюсь морали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2060"/>
                </a:solidFill>
                <a:latin typeface="Trebuchet MS"/>
              </a:rPr>
              <a:t>Здоровый дух – в здоровом теле,  – вот краткое, но полное описание</a:t>
            </a:r>
            <a:br>
              <a:rPr sz="2600"/>
            </a:br>
            <a:r>
              <a:rPr b="0" lang="en-GB" sz="2600" spc="-1" strike="noStrike">
                <a:solidFill>
                  <a:srgbClr val="002060"/>
                </a:solidFill>
                <a:latin typeface="Trebuchet MS"/>
              </a:rPr>
              <a:t>счастливого состояния в этом мире…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Д. Локк «Мысли о воспоминании» 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1b1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428760" y="42876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На уроках физической культуры я учу детей преодолевать себя, быть дисциплинированными. Помогаю им впервые задуматься над своим отношением к тому, что ему «хочется», и к тому, что «надо» для здоровья, а, следовательно, для себя. А какое это счастье - открытие в себе чувства победы над собой?! Суметь заставить себя сделать чуть-чуть больше, чем ты можешь, преодолеть свою слабость – этому учит только физкультура, только таких принципов придерживаюсь на своих уроках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1120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 rot="10800000">
            <a:off x="5389200" y="1098360"/>
            <a:ext cx="34290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549360" y="927000"/>
            <a:ext cx="4429080" cy="4435560"/>
            <a:chOff x="549360" y="927000"/>
            <a:chExt cx="4429080" cy="4435560"/>
          </a:xfrm>
        </p:grpSpPr>
        <p:pic>
          <p:nvPicPr>
            <p:cNvPr id="152" name="Picture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29080" cy="44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4"/>
            <p:cNvSpPr/>
            <p:nvPr/>
          </p:nvSpPr>
          <p:spPr>
            <a:xfrm>
              <a:off x="663120" y="1041120"/>
              <a:ext cx="420552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54" name="Text Box 5"/>
          <p:cNvSpPr/>
          <p:nvPr/>
        </p:nvSpPr>
        <p:spPr>
          <a:xfrm>
            <a:off x="5429160" y="1571760"/>
            <a:ext cx="34290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Физическая культура, обращение к Внутренней силе собственного тела помогает человеку обрести себя, свою индивидуальность, обеспечивает реализацию главной цели работы учителя – воспитание не только и не столько тела, сколько души человека через преобразующую силу занятия спортом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785880" y="57168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rebuchet MS"/>
              </a:rPr>
              <a:t>Быть вместе с детьми, вместе творить и обретать – вот моя философия сотрудничества, сотворчества, основанная на неравнодушии и любви, любви к детям, к профессии, к жизни. Дети мне отвечают тем ж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40872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281160" y="182520"/>
            <a:ext cx="7661160" cy="1517760"/>
            <a:chOff x="281160" y="182520"/>
            <a:chExt cx="7661160" cy="1517760"/>
          </a:xfrm>
        </p:grpSpPr>
        <p:pic>
          <p:nvPicPr>
            <p:cNvPr id="159" name="Picture 2" descr=""/>
            <p:cNvPicPr/>
            <p:nvPr/>
          </p:nvPicPr>
          <p:blipFill>
            <a:blip r:embed="rId2"/>
            <a:stretch/>
          </p:blipFill>
          <p:spPr>
            <a:xfrm>
              <a:off x="281160" y="182520"/>
              <a:ext cx="766116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3"/>
            <p:cNvSpPr/>
            <p:nvPr/>
          </p:nvSpPr>
          <p:spPr>
            <a:xfrm>
              <a:off x="281160" y="182520"/>
              <a:ext cx="7661160" cy="15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1" name="Text Box 4"/>
          <p:cNvSpPr/>
          <p:nvPr/>
        </p:nvSpPr>
        <p:spPr>
          <a:xfrm>
            <a:off x="500040" y="2143080"/>
            <a:ext cx="69818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цели и задачи физической культуры; 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общую концепцию научного содержания предмета; 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современное состояние физической культуры в городе, области,  России и за рубежом; 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место и роль предмета «Физическая культура»среди других  предметов школьной программы; 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межпредметные связи;  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передовой педагогический опыт и уметь внедрять его в свою  работу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72080" y="719640"/>
            <a:ext cx="67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За время работы в спортивной секции  школы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моими учениками были достигнуты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ледующие показатели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6659640" y="1268280"/>
            <a:ext cx="1141200" cy="15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1225440" cy="165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1231920" cy="172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5"/>
          <a:stretch/>
        </p:blipFill>
        <p:spPr>
          <a:xfrm>
            <a:off x="3708360" y="3213000"/>
            <a:ext cx="130500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6"/>
          <a:stretch/>
        </p:blipFill>
        <p:spPr>
          <a:xfrm>
            <a:off x="2782800" y="4076640"/>
            <a:ext cx="125748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7"/>
          <a:stretch/>
        </p:blipFill>
        <p:spPr>
          <a:xfrm>
            <a:off x="1693800" y="4941720"/>
            <a:ext cx="122076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8"/>
          <a:stretch/>
        </p:blipFill>
        <p:spPr>
          <a:xfrm>
            <a:off x="590400" y="1989000"/>
            <a:ext cx="2033640" cy="283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9"/>
          <a:stretch/>
        </p:blipFill>
        <p:spPr>
          <a:xfrm>
            <a:off x="6227640" y="4365720"/>
            <a:ext cx="165924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10"/>
          <a:stretch/>
        </p:blipFill>
        <p:spPr>
          <a:xfrm>
            <a:off x="2627280" y="1989000"/>
            <a:ext cx="5257800" cy="394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244440" y="36360"/>
            <a:ext cx="7354800" cy="1827360"/>
            <a:chOff x="244440" y="36360"/>
            <a:chExt cx="7354800" cy="1827360"/>
          </a:xfrm>
        </p:grpSpPr>
        <p:pic>
          <p:nvPicPr>
            <p:cNvPr id="173" name="Picture 2" descr=""/>
            <p:cNvPicPr/>
            <p:nvPr/>
          </p:nvPicPr>
          <p:blipFill>
            <a:blip r:embed="rId2"/>
            <a:stretch/>
          </p:blipFill>
          <p:spPr>
            <a:xfrm>
              <a:off x="244440" y="36360"/>
              <a:ext cx="735480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"/>
            <p:cNvSpPr/>
            <p:nvPr/>
          </p:nvSpPr>
          <p:spPr>
            <a:xfrm>
              <a:off x="244440" y="36360"/>
              <a:ext cx="7354800" cy="18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5" name="Text Box 4"/>
          <p:cNvSpPr/>
          <p:nvPr/>
        </p:nvSpPr>
        <p:spPr>
          <a:xfrm>
            <a:off x="285840" y="1500120"/>
            <a:ext cx="723888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«Лечебная физическая культура для 9-11 классов»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«Человек и его здоровье» для 9 классов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-«Основы медицинских знаний» для 10 классов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-«Основы медицинских знаний» для 11 классов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929120" y="457200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1143000" y="4572000"/>
            <a:ext cx="2809800" cy="20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</dc:creator>
  <dc:description/>
  <dc:language>en-US</dc:language>
  <cp:lastModifiedBy>1</cp:lastModifiedBy>
  <dcterms:modified xsi:type="dcterms:W3CDTF">2009-03-24T05:57:28Z</dcterms:modified>
  <cp:revision>2</cp:revision>
  <dc:subject/>
  <dc:title>Слайд 1</dc:title>
</cp:coreProperties>
</file>