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07B7F-CBBF-4590-A9E4-E175F3EC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FB1AD-4C6B-4938-A4D3-A7478A6F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CF6CD-AB55-4599-AF78-0646A4EC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92D00-A478-44C7-A614-3C581B5F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B91D-E970-467A-923E-4C4FFFF3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D3DF-9A12-4E56-BE65-C1A5F148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94F1-3C18-41C6-81B3-97CC8918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4F86-9BEC-47F3-AEC3-9FB33DCA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D8E2-18CA-495C-8B1B-A194FF31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3C52-B426-484D-A961-BD5AA35C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8660-427E-49C7-9B1A-B1623937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CCFE1-3995-4A7A-AC60-97404AF2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D232-D6F0-4CAF-9BE1-8D771839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EAA1-00B5-471B-ACEB-E6179D7C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9EB3-FBC4-4A4D-B687-5321AEFD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3DDD-23F4-4DA7-9785-75ED4755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B05F-D6D8-4429-8541-CC13C56C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CBF9F-A97C-4566-91B9-43A99145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65073-B45A-43AB-A79C-FD3BE9A0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D6F67-199F-4A77-BD8B-DE837FC7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A3252-758E-448B-850A-08E1C1C1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C3AB0-3AA6-434F-ABD3-7E540870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5841D-5AD4-43EF-8F4A-A4943703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A49EF-1CB5-4803-817D-5BD7D60C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402F-E43C-403A-8A56-3F7C9DBC9A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C3C6-24B5-4108-8BFD-EC40643E25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Times New Roman"/>
              </a:rPr>
              <a:t>Автор программы: учитель физической культуры Макаров А.Н.</a:t>
            </a: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6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5280" y="31680"/>
            <a:ext cx="853272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3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3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20:41:10Z</dcterms:created>
  <dc:creator>А+Л=Арина</dc:creator>
  <dc:description/>
  <dc:language>en-US</dc:language>
  <cp:lastModifiedBy>А+Л=Арина</cp:lastModifiedBy>
  <dcterms:modified xsi:type="dcterms:W3CDTF">2009-03-23T20:56:44Z</dcterms:modified>
  <cp:revision>2</cp:revision>
  <dc:subject/>
  <dc:title>Автор программы: учитель физической культуры Макаров А.Н. </dc:title>
</cp:coreProperties>
</file>